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147-1124-45EE-8379-01F735E7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289-EB93-453E-BBD9-5462BD4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9B3-3172-49F3-B271-107096A5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4DE-C615-4599-BCB9-A7650DDA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CAF-EC69-4BA0-95BE-8E025D1F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55B-3118-466C-9227-B44496D3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202-04A0-435B-965E-53B3647F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07E-35D0-4DCD-916B-28ED0A49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204-2F66-485C-B176-DFDBB725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1C4-413F-48A7-BE0B-1096EFD8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161-1899-4B80-8912-ADF9B67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E4B-5FC6-42DF-A514-CD8749C9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5C4A-9011-4961-8893-8BB1C835B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0080" y="1214280"/>
            <a:ext cx="7407360" cy="16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11488b"/>
                </a:solidFill>
                <a:latin typeface="Calibri"/>
              </a:rPr>
              <a:t>INTRODUCCION A LA </a:t>
            </a:r>
            <a:br>
              <a:rPr sz="4400"/>
            </a:br>
            <a:r>
              <a:rPr b="0" lang="es-MX" sz="4400" spc="-1" strike="noStrike">
                <a:solidFill>
                  <a:srgbClr val="11488b"/>
                </a:solidFill>
                <a:latin typeface="Calibri"/>
              </a:rPr>
              <a:t>ECONOMIA (IN2C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213840"/>
            <a:ext cx="72723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98989"/>
                </a:solidFill>
                <a:latin typeface="Calibri"/>
              </a:rPr>
              <a:t>Departamento de Ingeniería Indust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85880" y="550080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rofesora: Pilar Romag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emestre: Primavera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26BD-E3CA-4DC2-ADE6-01F2A612876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785880" y="385776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E  - 13 de Novi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ia: Manki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. 24: La Producción y 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política de estabiliz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Acomodación de un desplazamiento adverso de la oferta agreg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3f6f9"/>
          </a:solidFill>
          <a:ln w="19512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2f4f8"/>
          </a:solidFill>
          <a:ln w="1760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1f4f7"/>
          </a:solidFill>
          <a:ln w="15876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0f2f5"/>
          </a:solidFill>
          <a:ln w="14112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ef1f4"/>
          </a:solidFill>
          <a:ln w="1238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deff3"/>
          </a:solidFill>
          <a:ln w="10620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beef2"/>
          </a:solidFill>
          <a:ln w="8892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aecf1"/>
          </a:solidFill>
          <a:ln w="712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9ebf0"/>
          </a:solidFill>
          <a:ln w="5256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7eaef"/>
          </a:solidFill>
          <a:ln w="3492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1835280" y="1754280"/>
            <a:ext cx="6261120" cy="41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4417920" y="2357280"/>
            <a:ext cx="1800" cy="3503880"/>
          </a:xfrm>
          <a:prstGeom prst="line">
            <a:avLst/>
          </a:prstGeom>
          <a:ln w="52560">
            <a:solidFill>
              <a:srgbClr val="009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 flipH="1" flipV="1">
            <a:off x="2595240" y="3011400"/>
            <a:ext cx="3112920" cy="2619360"/>
          </a:xfrm>
          <a:prstGeom prst="line">
            <a:avLst/>
          </a:prstGeom>
          <a:ln w="52560">
            <a:solidFill>
              <a:srgbClr val="003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4417920" y="6321600"/>
            <a:ext cx="1800" cy="1440"/>
          </a:xfrm>
          <a:prstGeom prst="line">
            <a:avLst/>
          </a:prstGeom>
          <a:ln w="17640">
            <a:solidFill>
              <a:srgbClr val="602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9"/>
          <p:cNvSpPr/>
          <p:nvPr/>
        </p:nvSpPr>
        <p:spPr>
          <a:xfrm>
            <a:off x="1835280" y="1754280"/>
            <a:ext cx="6261120" cy="410688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 flipH="1">
            <a:off x="5567400" y="3313080"/>
            <a:ext cx="760320" cy="180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5178600" y="5046840"/>
            <a:ext cx="47772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2"/>
          <p:cNvSpPr/>
          <p:nvPr/>
        </p:nvSpPr>
        <p:spPr>
          <a:xfrm flipV="1">
            <a:off x="1639800" y="4265640"/>
            <a:ext cx="1800" cy="20952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3"/>
          <p:cNvSpPr/>
          <p:nvPr/>
        </p:nvSpPr>
        <p:spPr>
          <a:xfrm flipV="1">
            <a:off x="1627200" y="3857760"/>
            <a:ext cx="1440" cy="18072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6659640" y="5937120"/>
            <a:ext cx="263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3911040" y="5942160"/>
            <a:ext cx="112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asa natu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3924360" y="6180120"/>
            <a:ext cx="131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7"/>
          <p:cNvSpPr/>
          <p:nvPr/>
        </p:nvSpPr>
        <p:spPr>
          <a:xfrm>
            <a:off x="1235520" y="170352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8"/>
          <p:cNvSpPr/>
          <p:nvPr/>
        </p:nvSpPr>
        <p:spPr>
          <a:xfrm>
            <a:off x="1042920" y="1916280"/>
            <a:ext cx="84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1635480" y="5942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0"/>
          <p:cNvGrpSpPr/>
          <p:nvPr/>
        </p:nvGrpSpPr>
        <p:grpSpPr>
          <a:xfrm>
            <a:off x="3444840" y="2373480"/>
            <a:ext cx="4871160" cy="2744640"/>
            <a:chOff x="3444840" y="2373480"/>
            <a:chExt cx="4871160" cy="2744640"/>
          </a:xfrm>
        </p:grpSpPr>
        <p:sp>
          <p:nvSpPr>
            <p:cNvPr id="306" name="Line 31"/>
            <p:cNvSpPr/>
            <p:nvPr/>
          </p:nvSpPr>
          <p:spPr>
            <a:xfrm flipV="1">
              <a:off x="3444840" y="3135240"/>
              <a:ext cx="3395520" cy="1982880"/>
            </a:xfrm>
            <a:prstGeom prst="line">
              <a:avLst/>
            </a:prstGeom>
            <a:ln w="5256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6849360" y="2373480"/>
              <a:ext cx="146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erta agrega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3"/>
            <p:cNvSpPr/>
            <p:nvPr/>
          </p:nvSpPr>
          <p:spPr>
            <a:xfrm>
              <a:off x="6818400" y="2611440"/>
              <a:ext cx="123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 corto plaz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4"/>
            <p:cNvSpPr/>
            <p:nvPr/>
          </p:nvSpPr>
          <p:spPr>
            <a:xfrm>
              <a:off x="6756480" y="28494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5"/>
            <p:cNvSpPr/>
            <p:nvPr/>
          </p:nvSpPr>
          <p:spPr>
            <a:xfrm>
              <a:off x="7410600" y="2849400"/>
              <a:ext cx="28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7677000" y="2968560"/>
              <a:ext cx="367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37"/>
          <p:cNvSpPr/>
          <p:nvPr/>
        </p:nvSpPr>
        <p:spPr>
          <a:xfrm>
            <a:off x="4512600" y="2314440"/>
            <a:ext cx="146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8"/>
          <p:cNvSpPr/>
          <p:nvPr/>
        </p:nvSpPr>
        <p:spPr>
          <a:xfrm>
            <a:off x="4463640" y="2552760"/>
            <a:ext cx="122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largo plaz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9"/>
          <p:cNvSpPr/>
          <p:nvPr/>
        </p:nvSpPr>
        <p:spPr>
          <a:xfrm>
            <a:off x="5733000" y="5548320"/>
            <a:ext cx="176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7462080" y="5548320"/>
            <a:ext cx="442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i="1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1"/>
          <p:cNvSpPr/>
          <p:nvPr/>
        </p:nvSpPr>
        <p:spPr>
          <a:xfrm>
            <a:off x="7737480" y="5668920"/>
            <a:ext cx="34920" cy="88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42"/>
          <p:cNvGrpSpPr/>
          <p:nvPr/>
        </p:nvGrpSpPr>
        <p:grpSpPr>
          <a:xfrm>
            <a:off x="1522080" y="4003560"/>
            <a:ext cx="2346480" cy="259920"/>
            <a:chOff x="1522080" y="4003560"/>
            <a:chExt cx="2346480" cy="259920"/>
          </a:xfrm>
        </p:grpSpPr>
        <p:sp>
          <p:nvSpPr>
            <p:cNvPr id="318" name="Line 43"/>
            <p:cNvSpPr/>
            <p:nvPr/>
          </p:nvSpPr>
          <p:spPr>
            <a:xfrm>
              <a:off x="1835280" y="4091040"/>
              <a:ext cx="203328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1522080" y="400356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5"/>
          <p:cNvGrpSpPr/>
          <p:nvPr/>
        </p:nvGrpSpPr>
        <p:grpSpPr>
          <a:xfrm>
            <a:off x="1517760" y="4235400"/>
            <a:ext cx="3074760" cy="453960"/>
            <a:chOff x="1517760" y="4235400"/>
            <a:chExt cx="3074760" cy="453960"/>
          </a:xfrm>
        </p:grpSpPr>
        <p:sp>
          <p:nvSpPr>
            <p:cNvPr id="321" name="Oval 46"/>
            <p:cNvSpPr/>
            <p:nvPr/>
          </p:nvSpPr>
          <p:spPr>
            <a:xfrm>
              <a:off x="4363920" y="4498920"/>
              <a:ext cx="106560" cy="10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1835280" y="4551480"/>
              <a:ext cx="258264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8"/>
            <p:cNvSpPr/>
            <p:nvPr/>
          </p:nvSpPr>
          <p:spPr>
            <a:xfrm>
              <a:off x="4454640" y="42354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9"/>
            <p:cNvSpPr/>
            <p:nvPr/>
          </p:nvSpPr>
          <p:spPr>
            <a:xfrm>
              <a:off x="1517760" y="44607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0"/>
            <p:cNvSpPr/>
            <p:nvPr/>
          </p:nvSpPr>
          <p:spPr>
            <a:xfrm>
              <a:off x="1647720" y="4579920"/>
              <a:ext cx="3492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51"/>
          <p:cNvGrpSpPr/>
          <p:nvPr/>
        </p:nvGrpSpPr>
        <p:grpSpPr>
          <a:xfrm>
            <a:off x="2595600" y="2557440"/>
            <a:ext cx="3691080" cy="2276280"/>
            <a:chOff x="2595600" y="2557440"/>
            <a:chExt cx="3691080" cy="2276280"/>
          </a:xfrm>
        </p:grpSpPr>
        <p:sp>
          <p:nvSpPr>
            <p:cNvPr id="327" name="Line 52"/>
            <p:cNvSpPr/>
            <p:nvPr/>
          </p:nvSpPr>
          <p:spPr>
            <a:xfrm flipV="1">
              <a:off x="2595600" y="2815920"/>
              <a:ext cx="3519360" cy="2017800"/>
            </a:xfrm>
            <a:prstGeom prst="line">
              <a:avLst/>
            </a:prstGeom>
            <a:ln w="5256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3"/>
            <p:cNvSpPr/>
            <p:nvPr/>
          </p:nvSpPr>
          <p:spPr>
            <a:xfrm>
              <a:off x="5940000" y="2557440"/>
              <a:ext cx="346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4"/>
          <p:cNvGrpSpPr/>
          <p:nvPr/>
        </p:nvGrpSpPr>
        <p:grpSpPr>
          <a:xfrm>
            <a:off x="357120" y="3967200"/>
            <a:ext cx="1374840" cy="1628640"/>
            <a:chOff x="357120" y="3967200"/>
            <a:chExt cx="1374840" cy="1628640"/>
          </a:xfrm>
        </p:grpSpPr>
        <p:sp>
          <p:nvSpPr>
            <p:cNvPr id="330" name="Line 55"/>
            <p:cNvSpPr/>
            <p:nvPr/>
          </p:nvSpPr>
          <p:spPr>
            <a:xfrm flipH="1">
              <a:off x="861840" y="3967200"/>
              <a:ext cx="671760" cy="690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56"/>
            <p:cNvSpPr/>
            <p:nvPr/>
          </p:nvSpPr>
          <p:spPr>
            <a:xfrm>
              <a:off x="384120" y="4410000"/>
              <a:ext cx="1114560" cy="1185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428760" y="4425840"/>
              <a:ext cx="96696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 . .lo cu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8"/>
            <p:cNvSpPr/>
            <p:nvPr/>
          </p:nvSpPr>
          <p:spPr>
            <a:xfrm>
              <a:off x="426960" y="4662360"/>
              <a:ext cx="11116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oca un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9"/>
            <p:cNvSpPr/>
            <p:nvPr/>
          </p:nvSpPr>
          <p:spPr>
            <a:xfrm>
              <a:off x="431640" y="4900680"/>
              <a:ext cx="93960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ida a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60"/>
            <p:cNvSpPr/>
            <p:nvPr/>
          </p:nvSpPr>
          <p:spPr>
            <a:xfrm>
              <a:off x="431280" y="5138640"/>
              <a:ext cx="13006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yor del ni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61"/>
            <p:cNvSpPr/>
            <p:nvPr/>
          </p:nvSpPr>
          <p:spPr>
            <a:xfrm>
              <a:off x="357120" y="5357880"/>
              <a:ext cx="10432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precios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62"/>
          <p:cNvGrpSpPr/>
          <p:nvPr/>
        </p:nvGrpSpPr>
        <p:grpSpPr>
          <a:xfrm>
            <a:off x="2189160" y="5153040"/>
            <a:ext cx="2174760" cy="672840"/>
            <a:chOff x="2189160" y="5153040"/>
            <a:chExt cx="2174760" cy="672840"/>
          </a:xfrm>
        </p:grpSpPr>
        <p:sp>
          <p:nvSpPr>
            <p:cNvPr id="338" name="Line 63"/>
            <p:cNvSpPr/>
            <p:nvPr/>
          </p:nvSpPr>
          <p:spPr>
            <a:xfrm flipH="1" flipV="1">
              <a:off x="4046400" y="5382720"/>
              <a:ext cx="317520" cy="443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4"/>
            <p:cNvSpPr/>
            <p:nvPr/>
          </p:nvSpPr>
          <p:spPr>
            <a:xfrm>
              <a:off x="2189160" y="5153040"/>
              <a:ext cx="2050920" cy="495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65"/>
            <p:cNvSpPr/>
            <p:nvPr/>
          </p:nvSpPr>
          <p:spPr>
            <a:xfrm>
              <a:off x="2237040" y="5160960"/>
              <a:ext cx="1818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. . . pero mantiene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66"/>
            <p:cNvSpPr/>
            <p:nvPr/>
          </p:nvSpPr>
          <p:spPr>
            <a:xfrm>
              <a:off x="2239920" y="5398920"/>
              <a:ext cx="1890360" cy="426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ción en su 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67"/>
          <p:cNvGrpSpPr/>
          <p:nvPr/>
        </p:nvGrpSpPr>
        <p:grpSpPr>
          <a:xfrm>
            <a:off x="5408640" y="3736800"/>
            <a:ext cx="3750840" cy="1274760"/>
            <a:chOff x="5408640" y="3736800"/>
            <a:chExt cx="3750840" cy="1274760"/>
          </a:xfrm>
        </p:grpSpPr>
        <p:sp>
          <p:nvSpPr>
            <p:cNvPr id="343" name="Line 68"/>
            <p:cNvSpPr/>
            <p:nvPr/>
          </p:nvSpPr>
          <p:spPr>
            <a:xfrm flipH="1">
              <a:off x="5408640" y="4338720"/>
              <a:ext cx="636480" cy="672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9"/>
            <p:cNvSpPr/>
            <p:nvPr/>
          </p:nvSpPr>
          <p:spPr>
            <a:xfrm>
              <a:off x="5991120" y="3736800"/>
              <a:ext cx="2127240" cy="955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70"/>
            <p:cNvSpPr/>
            <p:nvPr/>
          </p:nvSpPr>
          <p:spPr>
            <a:xfrm>
              <a:off x="6049080" y="3740040"/>
              <a:ext cx="23720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 . . Los responsables de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71"/>
            <p:cNvSpPr/>
            <p:nvPr/>
          </p:nvSpPr>
          <p:spPr>
            <a:xfrm>
              <a:off x="6051960" y="3978360"/>
              <a:ext cx="2286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ítica económica pued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72"/>
            <p:cNvSpPr/>
            <p:nvPr/>
          </p:nvSpPr>
          <p:spPr>
            <a:xfrm>
              <a:off x="6053040" y="4214880"/>
              <a:ext cx="26449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omodar este desplaz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73"/>
            <p:cNvSpPr/>
            <p:nvPr/>
          </p:nvSpPr>
          <p:spPr>
            <a:xfrm>
              <a:off x="6040800" y="4452840"/>
              <a:ext cx="31186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mentando la demanda agregad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4"/>
          <p:cNvGrpSpPr/>
          <p:nvPr/>
        </p:nvGrpSpPr>
        <p:grpSpPr>
          <a:xfrm>
            <a:off x="5956200" y="1171440"/>
            <a:ext cx="2522520" cy="2070000"/>
            <a:chOff x="5956200" y="1171440"/>
            <a:chExt cx="2522520" cy="2070000"/>
          </a:xfrm>
        </p:grpSpPr>
        <p:sp>
          <p:nvSpPr>
            <p:cNvPr id="350" name="Line 75"/>
            <p:cNvSpPr/>
            <p:nvPr/>
          </p:nvSpPr>
          <p:spPr>
            <a:xfrm flipV="1">
              <a:off x="6132600" y="1525320"/>
              <a:ext cx="601560" cy="171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76"/>
            <p:cNvSpPr/>
            <p:nvPr/>
          </p:nvSpPr>
          <p:spPr>
            <a:xfrm>
              <a:off x="5956200" y="1171440"/>
              <a:ext cx="2522520" cy="513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7"/>
            <p:cNvSpPr/>
            <p:nvPr/>
          </p:nvSpPr>
          <p:spPr>
            <a:xfrm>
              <a:off x="6010560" y="1177920"/>
              <a:ext cx="24469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 Cuando la oferta agreg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8"/>
            <p:cNvSpPr/>
            <p:nvPr/>
          </p:nvSpPr>
          <p:spPr>
            <a:xfrm>
              <a:off x="6010560" y="1415880"/>
              <a:ext cx="221040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corto plazo disminuye</a:t>
              </a:r>
              <a:r>
                <a:rPr b="1" lang="en-US" sz="1400" spc="-1" strike="noStrike">
                  <a:solidFill>
                    <a:srgbClr val="c0504d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79"/>
          <p:cNvGrpSpPr/>
          <p:nvPr/>
        </p:nvGrpSpPr>
        <p:grpSpPr>
          <a:xfrm>
            <a:off x="3073320" y="2657160"/>
            <a:ext cx="3547800" cy="2730240"/>
            <a:chOff x="3073320" y="2657160"/>
            <a:chExt cx="3547800" cy="2730240"/>
          </a:xfrm>
        </p:grpSpPr>
        <p:sp>
          <p:nvSpPr>
            <p:cNvPr id="355" name="Line 80"/>
            <p:cNvSpPr/>
            <p:nvPr/>
          </p:nvSpPr>
          <p:spPr>
            <a:xfrm flipH="1" flipV="1">
              <a:off x="3073320" y="2657160"/>
              <a:ext cx="3113280" cy="2601720"/>
            </a:xfrm>
            <a:prstGeom prst="line">
              <a:avLst/>
            </a:prstGeom>
            <a:ln w="52560">
              <a:solidFill>
                <a:srgbClr val="5f1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81"/>
            <p:cNvSpPr/>
            <p:nvPr/>
          </p:nvSpPr>
          <p:spPr>
            <a:xfrm>
              <a:off x="6285240" y="5127480"/>
              <a:ext cx="335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82"/>
          <p:cNvGrpSpPr/>
          <p:nvPr/>
        </p:nvGrpSpPr>
        <p:grpSpPr>
          <a:xfrm>
            <a:off x="1522080" y="3629160"/>
            <a:ext cx="3195720" cy="280800"/>
            <a:chOff x="1522080" y="3629160"/>
            <a:chExt cx="3195720" cy="280800"/>
          </a:xfrm>
        </p:grpSpPr>
        <p:sp>
          <p:nvSpPr>
            <p:cNvPr id="358" name="Line 83"/>
            <p:cNvSpPr/>
            <p:nvPr/>
          </p:nvSpPr>
          <p:spPr>
            <a:xfrm>
              <a:off x="1835280" y="3790800"/>
              <a:ext cx="2563560" cy="180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84"/>
            <p:cNvSpPr/>
            <p:nvPr/>
          </p:nvSpPr>
          <p:spPr>
            <a:xfrm>
              <a:off x="4363920" y="3736800"/>
              <a:ext cx="106560" cy="10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85"/>
            <p:cNvSpPr/>
            <p:nvPr/>
          </p:nvSpPr>
          <p:spPr>
            <a:xfrm>
              <a:off x="4579920" y="36813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6"/>
            <p:cNvSpPr/>
            <p:nvPr/>
          </p:nvSpPr>
          <p:spPr>
            <a:xfrm>
              <a:off x="1522080" y="362916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87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9280" y="285840"/>
            <a:ext cx="89647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de estabi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que intenta estabilizar (corregir) el ciclo económ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política monetaria y la politica fiscal pueden afectar a la demanda agregada (DA) de bienes y serv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 Se deben utilizar estas dos polìticas (instrumentos) para controlar la DA y estabilizar la economì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rgumentos en cont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traso con el que actuan las poli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: politica monetaria y tasas de interè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dicciones impreci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79280" y="285840"/>
            <a:ext cx="89647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de estabi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fisca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política gubernamental que hace referencia a las decisiones sobre el gasto público (G) y los impuestos 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umentos de política fiscal: G y 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fiscal expansiva (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G ,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dere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C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dere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fiscal contractiva (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G ,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izquier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izquier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monetari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política gubernamental que hace referencia al control de la cantidad de dinero en circulación (oferta monetaria = 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trumentos de política monetaria: coeficiente de caja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, operaciones de mercado abierto y los préstamos de regulación monetaria (PR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monetaria expansiva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compra títulos deuda pública,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R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M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tipo interés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I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urva de DA a la dere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monetaria contractiva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venta títulos deuda públic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M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M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tipo interés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I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urva de DA a la izquier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as que plantea la política de estabi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os retardos en la aplicación de la política económica reducen su utilidad como instrumento de estabilización a corto plaz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stabilizadores automát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mbios automáticos de la política fiscal que estimulan la DA cuando la economía entra en una rece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jemplos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stema tributari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esión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actividad económica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mpuestos recaudados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asto público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(si existen políticas compensatoria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esión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desempleo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nº de personas que solicitan prestaciones por desempleo →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G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Nota: Asume no existe presupuesto equilibrado (Ver Mankiw, cap. 3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CION Y CRECI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Los determinantes del PIB de largo plaz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ción y Creci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58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nivel de vida de un país depende de su capacidad para produccion bienes y servic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países experimentan grandes cambios en sus niveles de vida a través del tiem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a cl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ntes a largo plazo del nivel y crecimiento del PIB r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G:\Mankiw\Mankiw PPT\PPT jpegs\purplebuttonmoreyellow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bla 1: El Crecimiento: distintas experi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66760" y="6675480"/>
            <a:ext cx="174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11d72"/>
                </a:solidFill>
                <a:latin typeface="Arial"/>
              </a:rPr>
              <a:t>Copyright©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142920" y="1285920"/>
            <a:ext cx="8435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recimiento Económico en 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niveles de vida, medidos por el PIB per capita, varían significativamente entre los paí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 tasas de crecimiento anual, que parecen pequeñas, son elevadas cuando se computan para muchos añ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paso de Clase Pasada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7120" y="23320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Oferta y Demanda Agre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equilibrio macro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s Políticas de Estabil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f. cap.31 y 3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ducción y Crecimien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nivel de vida de un país está determinado por la productividad de sus trabajad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ductivid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tidad de bienes y servicios producidos en cada hora de trabajo reali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factores de producción determinan directamente la productiv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es de Produc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85480" y="128592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 insumos utilizados para la producción de bienes y servic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428760" y="2928960"/>
            <a:ext cx="718632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Factores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urso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 conocimient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7120" y="642600"/>
            <a:ext cx="8429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Capital Físic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un factor de producción “producid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 un insumo en el proceso de producción que en el pasado fue el producto de un proceso productiv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la cantidad de equipos y estructuras que se utilizan para producir bienes y serv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ramientas y maquinarias para construir y reparar automóv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ramientas y maquinarias para construir mue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ificios industriales, de oficina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57120" y="499680"/>
            <a:ext cx="8429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Capital Hum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el término que utilizan los economistas para referirse a los conocimientos y las calificaciones que los trabajadores adquieren por medio de la educación, la capacitación y la experienc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 igual que el capital físico, el capital humano aumenta la capacidad de un país para producir biene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 igual que el capital fìsico, el capital humano se “deprecia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¿Cómo medimos el capital human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58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25a9a6"/>
                </a:solidFill>
                <a:latin typeface="Calibri"/>
              </a:rPr>
              <a:t>Recursos Natur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umos utilizados en la producción que son provistos por la naturalesa, como la tierra, los rios, los depósitos de minera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ursos renovables, incluye los arboles y bosques (no-nativo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renovables, incluye el petroleo y el carbó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eden ser muy importantes, pero no necesariamente son indispensables para que una economía sea productiv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Los Conocimientos Tecn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nsión de la sociedad de la mejor forma de producir bienes y servic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j: Henry Ford y la producción en cad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ocimiento tecnológico es distinto del capital humano (si bien estan relacionad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0012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utiliza una función de producción para describir la relación entre la cantidad de factores (insumos) usados en la producción y la cantidad de producción obten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 = A F(L, K, H, 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 = A F(L, K, H, N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produc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tecnología de producción exist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trabaj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capital fís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capital human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recursos natur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( 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s una función que muestra cómo se combinan los factores para obtener la producció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 función de producción tiene retornos constantes a escala si, para cualquier número positiv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Y = A F(xL, xK, xH, x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deci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a duplicación de todos los insumos, significa que el producto también aumenta el do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función de producción con retornos constante a escala tiene una propiedad interesa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amo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= 1/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/ L = A F(1, K/ L, H/ L, N/ 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Y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producto 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capital físico 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capital humano 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recursos naturales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040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El equilibrio macroeconómico a largo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3f6f9"/>
          </a:solidFill>
          <a:ln w="21096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2f4f8"/>
          </a:solidFill>
          <a:ln w="1922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1f4f7"/>
          </a:solidFill>
          <a:ln w="17316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0f2f5"/>
          </a:solidFill>
          <a:ln w="15408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ef1f4"/>
          </a:solidFill>
          <a:ln w="1332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deff3"/>
          </a:solidFill>
          <a:ln w="11448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beef2"/>
          </a:solidFill>
          <a:ln w="954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aecf1"/>
          </a:solidFill>
          <a:ln w="7632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9ebf0"/>
          </a:solidFill>
          <a:ln w="5724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7eaef"/>
          </a:solidFill>
          <a:ln w="381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6e9ef"/>
          </a:solidFill>
          <a:ln w="1908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488960" y="1332000"/>
            <a:ext cx="7085160" cy="444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1488960" y="1332000"/>
            <a:ext cx="7085160" cy="4446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7"/>
          <p:cNvGrpSpPr/>
          <p:nvPr/>
        </p:nvGrpSpPr>
        <p:grpSpPr>
          <a:xfrm>
            <a:off x="3555720" y="5861160"/>
            <a:ext cx="1395360" cy="620640"/>
            <a:chOff x="3555720" y="5861160"/>
            <a:chExt cx="1395360" cy="620640"/>
          </a:xfrm>
        </p:grpSpPr>
        <p:sp>
          <p:nvSpPr>
            <p:cNvPr id="64" name="Rectangle 18"/>
            <p:cNvSpPr/>
            <p:nvPr/>
          </p:nvSpPr>
          <p:spPr>
            <a:xfrm>
              <a:off x="3555720" y="5861160"/>
              <a:ext cx="1395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natu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prod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3693960" y="61167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20"/>
          <p:cNvSpPr/>
          <p:nvPr/>
        </p:nvSpPr>
        <p:spPr>
          <a:xfrm>
            <a:off x="6934320" y="5854680"/>
            <a:ext cx="288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892440" y="1328760"/>
            <a:ext cx="48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867240" y="15843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1472040" y="5861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4"/>
          <p:cNvGrpSpPr/>
          <p:nvPr/>
        </p:nvGrpSpPr>
        <p:grpSpPr>
          <a:xfrm>
            <a:off x="2273400" y="2362320"/>
            <a:ext cx="5225760" cy="2668320"/>
            <a:chOff x="2273400" y="2362320"/>
            <a:chExt cx="5225760" cy="2668320"/>
          </a:xfrm>
        </p:grpSpPr>
        <p:sp>
          <p:nvSpPr>
            <p:cNvPr id="71" name="Line 25"/>
            <p:cNvSpPr/>
            <p:nvPr/>
          </p:nvSpPr>
          <p:spPr>
            <a:xfrm flipV="1">
              <a:off x="2273400" y="2481120"/>
              <a:ext cx="3562200" cy="2549520"/>
            </a:xfrm>
            <a:prstGeom prst="line">
              <a:avLst/>
            </a:prstGeom>
            <a:ln w="5724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>
              <a:off x="5889240" y="2362320"/>
              <a:ext cx="160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erta agregad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5856480" y="261792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corto plaz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6019920" y="28717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123000" y="1967040"/>
            <a:ext cx="1091880" cy="3811320"/>
            <a:chOff x="3123000" y="1967040"/>
            <a:chExt cx="1091880" cy="3811320"/>
          </a:xfrm>
        </p:grpSpPr>
        <p:sp>
          <p:nvSpPr>
            <p:cNvPr id="76" name="Line 30"/>
            <p:cNvSpPr/>
            <p:nvPr/>
          </p:nvSpPr>
          <p:spPr>
            <a:xfrm>
              <a:off x="4073400" y="1982880"/>
              <a:ext cx="1800" cy="3795480"/>
            </a:xfrm>
            <a:prstGeom prst="line">
              <a:avLst/>
            </a:prstGeom>
            <a:ln w="57240">
              <a:solidFill>
                <a:srgbClr val="00a4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3175920" y="196704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er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3123000" y="2222640"/>
              <a:ext cx="1091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reg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argo pla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3"/>
            <p:cNvSpPr/>
            <p:nvPr/>
          </p:nvSpPr>
          <p:spPr>
            <a:xfrm>
              <a:off x="3294000" y="24764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2579760" y="2673000"/>
            <a:ext cx="5616720" cy="3151440"/>
            <a:chOff x="2579760" y="2673000"/>
            <a:chExt cx="5616720" cy="3151440"/>
          </a:xfrm>
        </p:grpSpPr>
        <p:sp>
          <p:nvSpPr>
            <p:cNvPr id="81" name="Line 35"/>
            <p:cNvSpPr/>
            <p:nvPr/>
          </p:nvSpPr>
          <p:spPr>
            <a:xfrm flipH="1" flipV="1">
              <a:off x="2579760" y="2673000"/>
              <a:ext cx="3657600" cy="2644920"/>
            </a:xfrm>
            <a:prstGeom prst="line">
              <a:avLst/>
            </a:prstGeom>
            <a:ln w="5724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6"/>
            <p:cNvSpPr/>
            <p:nvPr/>
          </p:nvSpPr>
          <p:spPr>
            <a:xfrm>
              <a:off x="6327360" y="5205240"/>
              <a:ext cx="186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manda agreg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"/>
            <p:cNvSpPr/>
            <p:nvPr/>
          </p:nvSpPr>
          <p:spPr>
            <a:xfrm>
              <a:off x="6427800" y="54594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38"/>
          <p:cNvGrpSpPr/>
          <p:nvPr/>
        </p:nvGrpSpPr>
        <p:grpSpPr>
          <a:xfrm>
            <a:off x="384840" y="3643200"/>
            <a:ext cx="3992400" cy="639720"/>
            <a:chOff x="384840" y="3643200"/>
            <a:chExt cx="3992400" cy="639720"/>
          </a:xfrm>
        </p:grpSpPr>
        <p:sp>
          <p:nvSpPr>
            <p:cNvPr id="85" name="Rectangle 39"/>
            <p:cNvSpPr/>
            <p:nvPr/>
          </p:nvSpPr>
          <p:spPr>
            <a:xfrm>
              <a:off x="4230360" y="3643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40"/>
            <p:cNvGrpSpPr/>
            <p:nvPr/>
          </p:nvGrpSpPr>
          <p:grpSpPr>
            <a:xfrm>
              <a:off x="384840" y="3662280"/>
              <a:ext cx="3764880" cy="620640"/>
              <a:chOff x="384840" y="3662280"/>
              <a:chExt cx="3764880" cy="620640"/>
            </a:xfrm>
          </p:grpSpPr>
          <p:sp>
            <p:nvSpPr>
              <p:cNvPr id="87" name="Line 41"/>
              <p:cNvSpPr/>
              <p:nvPr/>
            </p:nvSpPr>
            <p:spPr>
              <a:xfrm>
                <a:off x="1488960" y="3746520"/>
                <a:ext cx="2584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2"/>
              <p:cNvSpPr/>
              <p:nvPr/>
            </p:nvSpPr>
            <p:spPr>
              <a:xfrm>
                <a:off x="4016520" y="3689280"/>
                <a:ext cx="133200" cy="13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3"/>
              <p:cNvSpPr/>
              <p:nvPr/>
            </p:nvSpPr>
            <p:spPr>
              <a:xfrm>
                <a:off x="384840" y="3662280"/>
                <a:ext cx="9687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eci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quilibrio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44"/>
              <p:cNvSpPr/>
              <p:nvPr/>
            </p:nvSpPr>
            <p:spPr>
              <a:xfrm>
                <a:off x="949320" y="39178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Text Box 45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ecuación previa dice 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productividad (media):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 de: capital físico por trabajador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capital humano por trabajador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recursos naturales por trabajador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y también del estado de la tecnología,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ecimiento Económico y Política Económ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s gobiernos pueden implementar distintas acciones para aumentar la productividad y los niveles de v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¿Qué puede hacer la política económic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¿Qué otros factores influyen en el crecimien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 calidad del “gobierno-governanza” (governa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 calidad de las instituciones polític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 estabilidad polít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……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Flecha derecha"/>
          <p:cNvSpPr/>
          <p:nvPr/>
        </p:nvSpPr>
        <p:spPr>
          <a:xfrm>
            <a:off x="7786800" y="385776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lítica Económ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íticas del Gobierno para aumentar la productividad y los niveles de vi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ar la inversion y el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ar la inversion ex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educación y la capaci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ertura al comercio internacion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ver la investigación y el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Importancia del Ahorro y la Inver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 forma de aumentar la productividad futura es invertir mas recursos en la produccion de ca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fico:  Crecimiento e Invers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563520" y="66801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©2003  Southwestern/Thomson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3f6f9"/>
          </a:solidFill>
          <a:ln w="15228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2f4f8"/>
          </a:solidFill>
          <a:ln w="1382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1f4f7"/>
          </a:solidFill>
          <a:ln w="12528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0f2f5"/>
          </a:solidFill>
          <a:ln w="11124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ef1f4"/>
          </a:solidFill>
          <a:ln w="968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deff3"/>
          </a:solidFill>
          <a:ln w="82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beef2"/>
          </a:solidFill>
          <a:ln w="698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aecf1"/>
          </a:solidFill>
          <a:ln w="5544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9ebf0"/>
          </a:solidFill>
          <a:ln w="414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4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6e9ef"/>
          </a:solidFill>
          <a:ln w="144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3f6f9"/>
          </a:solidFill>
          <a:ln w="15228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2f4f8"/>
          </a:solidFill>
          <a:ln w="1382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8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1f4f7"/>
          </a:solidFill>
          <a:ln w="12528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0f2f5"/>
          </a:solidFill>
          <a:ln w="11124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0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ef1f4"/>
          </a:solidFill>
          <a:ln w="968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1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deff3"/>
          </a:solidFill>
          <a:ln w="82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2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beef2"/>
          </a:solidFill>
          <a:ln w="698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3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aecf1"/>
          </a:solidFill>
          <a:ln w="5544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4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9ebf0"/>
          </a:solidFill>
          <a:ln w="414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5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6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6e9ef"/>
          </a:solidFill>
          <a:ln w="144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7"/>
          <p:cNvSpPr/>
          <p:nvPr/>
        </p:nvSpPr>
        <p:spPr>
          <a:xfrm>
            <a:off x="1392120" y="2276640"/>
            <a:ext cx="2826000" cy="32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8"/>
          <p:cNvSpPr/>
          <p:nvPr/>
        </p:nvSpPr>
        <p:spPr>
          <a:xfrm>
            <a:off x="1392120" y="2276640"/>
            <a:ext cx="2826000" cy="324468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9"/>
          <p:cNvSpPr/>
          <p:nvPr/>
        </p:nvSpPr>
        <p:spPr>
          <a:xfrm>
            <a:off x="171144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0"/>
          <p:cNvSpPr/>
          <p:nvPr/>
        </p:nvSpPr>
        <p:spPr>
          <a:xfrm>
            <a:off x="202896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1"/>
          <p:cNvSpPr/>
          <p:nvPr/>
        </p:nvSpPr>
        <p:spPr>
          <a:xfrm>
            <a:off x="234792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2"/>
          <p:cNvSpPr/>
          <p:nvPr/>
        </p:nvSpPr>
        <p:spPr>
          <a:xfrm>
            <a:off x="2666880" y="2276640"/>
            <a:ext cx="180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3"/>
          <p:cNvSpPr/>
          <p:nvPr/>
        </p:nvSpPr>
        <p:spPr>
          <a:xfrm>
            <a:off x="298620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4"/>
          <p:cNvSpPr/>
          <p:nvPr/>
        </p:nvSpPr>
        <p:spPr>
          <a:xfrm>
            <a:off x="330372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5"/>
          <p:cNvSpPr/>
          <p:nvPr/>
        </p:nvSpPr>
        <p:spPr>
          <a:xfrm>
            <a:off x="362268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6"/>
          <p:cNvSpPr/>
          <p:nvPr/>
        </p:nvSpPr>
        <p:spPr>
          <a:xfrm>
            <a:off x="1392120" y="2276640"/>
            <a:ext cx="2216160" cy="1396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7"/>
          <p:cNvSpPr/>
          <p:nvPr/>
        </p:nvSpPr>
        <p:spPr>
          <a:xfrm>
            <a:off x="1392120" y="2500200"/>
            <a:ext cx="2148120" cy="13824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8"/>
          <p:cNvSpPr/>
          <p:nvPr/>
        </p:nvSpPr>
        <p:spPr>
          <a:xfrm>
            <a:off x="1392120" y="2708280"/>
            <a:ext cx="171792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9"/>
          <p:cNvSpPr/>
          <p:nvPr/>
        </p:nvSpPr>
        <p:spPr>
          <a:xfrm>
            <a:off x="1392120" y="2930400"/>
            <a:ext cx="106704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0"/>
          <p:cNvSpPr/>
          <p:nvPr/>
        </p:nvSpPr>
        <p:spPr>
          <a:xfrm>
            <a:off x="1392120" y="3154320"/>
            <a:ext cx="858960" cy="1522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1"/>
          <p:cNvSpPr/>
          <p:nvPr/>
        </p:nvSpPr>
        <p:spPr>
          <a:xfrm>
            <a:off x="1392120" y="3376440"/>
            <a:ext cx="84456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2"/>
          <p:cNvSpPr/>
          <p:nvPr/>
        </p:nvSpPr>
        <p:spPr>
          <a:xfrm>
            <a:off x="1392120" y="3598920"/>
            <a:ext cx="84456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3"/>
          <p:cNvSpPr/>
          <p:nvPr/>
        </p:nvSpPr>
        <p:spPr>
          <a:xfrm>
            <a:off x="1392120" y="3822840"/>
            <a:ext cx="789120" cy="1522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4"/>
          <p:cNvSpPr/>
          <p:nvPr/>
        </p:nvSpPr>
        <p:spPr>
          <a:xfrm>
            <a:off x="1392120" y="4044960"/>
            <a:ext cx="665280" cy="1396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1392120" y="4268880"/>
            <a:ext cx="650880" cy="1378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6"/>
          <p:cNvSpPr/>
          <p:nvPr/>
        </p:nvSpPr>
        <p:spPr>
          <a:xfrm>
            <a:off x="1392120" y="4476600"/>
            <a:ext cx="60984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7"/>
          <p:cNvSpPr/>
          <p:nvPr/>
        </p:nvSpPr>
        <p:spPr>
          <a:xfrm>
            <a:off x="1392120" y="4699080"/>
            <a:ext cx="51300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8"/>
          <p:cNvSpPr/>
          <p:nvPr/>
        </p:nvSpPr>
        <p:spPr>
          <a:xfrm>
            <a:off x="1392120" y="4923000"/>
            <a:ext cx="471600" cy="1522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9"/>
          <p:cNvSpPr/>
          <p:nvPr/>
        </p:nvSpPr>
        <p:spPr>
          <a:xfrm>
            <a:off x="1392120" y="5145120"/>
            <a:ext cx="45720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0"/>
          <p:cNvSpPr/>
          <p:nvPr/>
        </p:nvSpPr>
        <p:spPr>
          <a:xfrm>
            <a:off x="1392120" y="5367240"/>
            <a:ext cx="36036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1"/>
          <p:cNvSpPr/>
          <p:nvPr/>
        </p:nvSpPr>
        <p:spPr>
          <a:xfrm>
            <a:off x="5770440" y="2276640"/>
            <a:ext cx="2757600" cy="32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52"/>
          <p:cNvSpPr/>
          <p:nvPr/>
        </p:nvSpPr>
        <p:spPr>
          <a:xfrm>
            <a:off x="5770440" y="2276640"/>
            <a:ext cx="2757600" cy="324468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3"/>
          <p:cNvSpPr/>
          <p:nvPr/>
        </p:nvSpPr>
        <p:spPr>
          <a:xfrm>
            <a:off x="6254640" y="2276640"/>
            <a:ext cx="180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4"/>
          <p:cNvSpPr/>
          <p:nvPr/>
        </p:nvSpPr>
        <p:spPr>
          <a:xfrm>
            <a:off x="6740640" y="2276640"/>
            <a:ext cx="144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5"/>
          <p:cNvSpPr/>
          <p:nvPr/>
        </p:nvSpPr>
        <p:spPr>
          <a:xfrm>
            <a:off x="7224840" y="2276640"/>
            <a:ext cx="144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6"/>
          <p:cNvSpPr/>
          <p:nvPr/>
        </p:nvSpPr>
        <p:spPr>
          <a:xfrm>
            <a:off x="7696080" y="2276640"/>
            <a:ext cx="180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7"/>
          <p:cNvSpPr/>
          <p:nvPr/>
        </p:nvSpPr>
        <p:spPr>
          <a:xfrm>
            <a:off x="5770440" y="2276640"/>
            <a:ext cx="114948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8"/>
          <p:cNvSpPr/>
          <p:nvPr/>
        </p:nvSpPr>
        <p:spPr>
          <a:xfrm>
            <a:off x="5770440" y="2500200"/>
            <a:ext cx="1495440" cy="1382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9"/>
          <p:cNvSpPr/>
          <p:nvPr/>
        </p:nvSpPr>
        <p:spPr>
          <a:xfrm>
            <a:off x="5770440" y="2722680"/>
            <a:ext cx="166212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0"/>
          <p:cNvSpPr/>
          <p:nvPr/>
        </p:nvSpPr>
        <p:spPr>
          <a:xfrm>
            <a:off x="5770440" y="2930400"/>
            <a:ext cx="1260720" cy="1540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1"/>
          <p:cNvSpPr/>
          <p:nvPr/>
        </p:nvSpPr>
        <p:spPr>
          <a:xfrm>
            <a:off x="5770440" y="3154320"/>
            <a:ext cx="1163880" cy="1522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2"/>
          <p:cNvSpPr/>
          <p:nvPr/>
        </p:nvSpPr>
        <p:spPr>
          <a:xfrm>
            <a:off x="5770440" y="3376440"/>
            <a:ext cx="928800" cy="1400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63"/>
          <p:cNvSpPr/>
          <p:nvPr/>
        </p:nvSpPr>
        <p:spPr>
          <a:xfrm>
            <a:off x="5770440" y="3598920"/>
            <a:ext cx="134316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4"/>
          <p:cNvSpPr/>
          <p:nvPr/>
        </p:nvSpPr>
        <p:spPr>
          <a:xfrm>
            <a:off x="5770440" y="3822840"/>
            <a:ext cx="80352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5"/>
          <p:cNvSpPr/>
          <p:nvPr/>
        </p:nvSpPr>
        <p:spPr>
          <a:xfrm>
            <a:off x="5770440" y="4044960"/>
            <a:ext cx="87336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6"/>
          <p:cNvSpPr/>
          <p:nvPr/>
        </p:nvSpPr>
        <p:spPr>
          <a:xfrm>
            <a:off x="5770440" y="4268880"/>
            <a:ext cx="595440" cy="1378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7"/>
          <p:cNvSpPr/>
          <p:nvPr/>
        </p:nvSpPr>
        <p:spPr>
          <a:xfrm>
            <a:off x="5770440" y="4491000"/>
            <a:ext cx="103824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8"/>
          <p:cNvSpPr/>
          <p:nvPr/>
        </p:nvSpPr>
        <p:spPr>
          <a:xfrm>
            <a:off x="5770440" y="4713120"/>
            <a:ext cx="665280" cy="1400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9"/>
          <p:cNvSpPr/>
          <p:nvPr/>
        </p:nvSpPr>
        <p:spPr>
          <a:xfrm>
            <a:off x="5770440" y="4937040"/>
            <a:ext cx="208080" cy="1382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0"/>
          <p:cNvSpPr/>
          <p:nvPr/>
        </p:nvSpPr>
        <p:spPr>
          <a:xfrm>
            <a:off x="5770440" y="5159520"/>
            <a:ext cx="95580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1"/>
          <p:cNvSpPr/>
          <p:nvPr/>
        </p:nvSpPr>
        <p:spPr>
          <a:xfrm>
            <a:off x="5770440" y="5367240"/>
            <a:ext cx="193680" cy="1540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6"/>
          <p:cNvSpPr/>
          <p:nvPr/>
        </p:nvSpPr>
        <p:spPr>
          <a:xfrm>
            <a:off x="1441440" y="1714680"/>
            <a:ext cx="276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a de Crecimiento: 1960-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2"/>
          <p:cNvSpPr/>
          <p:nvPr/>
        </p:nvSpPr>
        <p:spPr>
          <a:xfrm>
            <a:off x="2623680" y="1924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7"/>
          <p:cNvSpPr/>
          <p:nvPr/>
        </p:nvSpPr>
        <p:spPr>
          <a:xfrm>
            <a:off x="6389280" y="1919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8"/>
          <p:cNvSpPr/>
          <p:nvPr/>
        </p:nvSpPr>
        <p:spPr>
          <a:xfrm>
            <a:off x="7338600" y="1919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5"/>
          <p:cNvSpPr/>
          <p:nvPr/>
        </p:nvSpPr>
        <p:spPr>
          <a:xfrm>
            <a:off x="511200" y="2251080"/>
            <a:ext cx="8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16"/>
          <p:cNvSpPr/>
          <p:nvPr/>
        </p:nvSpPr>
        <p:spPr>
          <a:xfrm>
            <a:off x="661680" y="2468520"/>
            <a:ext cx="69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7"/>
          <p:cNvSpPr/>
          <p:nvPr/>
        </p:nvSpPr>
        <p:spPr>
          <a:xfrm>
            <a:off x="939960" y="26892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18"/>
          <p:cNvSpPr/>
          <p:nvPr/>
        </p:nvSpPr>
        <p:spPr>
          <a:xfrm>
            <a:off x="984600" y="290988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9"/>
          <p:cNvSpPr/>
          <p:nvPr/>
        </p:nvSpPr>
        <p:spPr>
          <a:xfrm>
            <a:off x="821880" y="313200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0"/>
          <p:cNvSpPr/>
          <p:nvPr/>
        </p:nvSpPr>
        <p:spPr>
          <a:xfrm>
            <a:off x="975960" y="33480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21"/>
          <p:cNvSpPr/>
          <p:nvPr/>
        </p:nvSpPr>
        <p:spPr>
          <a:xfrm>
            <a:off x="359640" y="356868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2"/>
          <p:cNvSpPr/>
          <p:nvPr/>
        </p:nvSpPr>
        <p:spPr>
          <a:xfrm>
            <a:off x="874080" y="379080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23"/>
          <p:cNvSpPr/>
          <p:nvPr/>
        </p:nvSpPr>
        <p:spPr>
          <a:xfrm>
            <a:off x="287280" y="4006800"/>
            <a:ext cx="108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4"/>
          <p:cNvSpPr/>
          <p:nvPr/>
        </p:nvSpPr>
        <p:spPr>
          <a:xfrm>
            <a:off x="876600" y="422928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25"/>
          <p:cNvSpPr/>
          <p:nvPr/>
        </p:nvSpPr>
        <p:spPr>
          <a:xfrm>
            <a:off x="451080" y="444960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26"/>
          <p:cNvSpPr/>
          <p:nvPr/>
        </p:nvSpPr>
        <p:spPr>
          <a:xfrm>
            <a:off x="1025640" y="467028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27"/>
          <p:cNvSpPr/>
          <p:nvPr/>
        </p:nvSpPr>
        <p:spPr>
          <a:xfrm>
            <a:off x="555120" y="4888080"/>
            <a:ext cx="81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28"/>
          <p:cNvSpPr/>
          <p:nvPr/>
        </p:nvSpPr>
        <p:spPr>
          <a:xfrm>
            <a:off x="1007640" y="51084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29"/>
          <p:cNvSpPr/>
          <p:nvPr/>
        </p:nvSpPr>
        <p:spPr>
          <a:xfrm>
            <a:off x="799200" y="53290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w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30"/>
          <p:cNvSpPr/>
          <p:nvPr/>
        </p:nvSpPr>
        <p:spPr>
          <a:xfrm>
            <a:off x="4852800" y="2251080"/>
            <a:ext cx="8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31"/>
          <p:cNvSpPr/>
          <p:nvPr/>
        </p:nvSpPr>
        <p:spPr>
          <a:xfrm>
            <a:off x="5003640" y="2468520"/>
            <a:ext cx="69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32"/>
          <p:cNvSpPr/>
          <p:nvPr/>
        </p:nvSpPr>
        <p:spPr>
          <a:xfrm>
            <a:off x="5281920" y="26892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3"/>
          <p:cNvSpPr/>
          <p:nvPr/>
        </p:nvSpPr>
        <p:spPr>
          <a:xfrm>
            <a:off x="5324760" y="290988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4"/>
          <p:cNvSpPr/>
          <p:nvPr/>
        </p:nvSpPr>
        <p:spPr>
          <a:xfrm>
            <a:off x="5162400" y="313200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5"/>
          <p:cNvSpPr/>
          <p:nvPr/>
        </p:nvSpPr>
        <p:spPr>
          <a:xfrm>
            <a:off x="5316120" y="33480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36"/>
          <p:cNvSpPr/>
          <p:nvPr/>
        </p:nvSpPr>
        <p:spPr>
          <a:xfrm>
            <a:off x="4699800" y="356868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7"/>
          <p:cNvSpPr/>
          <p:nvPr/>
        </p:nvSpPr>
        <p:spPr>
          <a:xfrm>
            <a:off x="5214240" y="379080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38"/>
          <p:cNvSpPr/>
          <p:nvPr/>
        </p:nvSpPr>
        <p:spPr>
          <a:xfrm>
            <a:off x="4628880" y="4006800"/>
            <a:ext cx="108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9"/>
          <p:cNvSpPr/>
          <p:nvPr/>
        </p:nvSpPr>
        <p:spPr>
          <a:xfrm>
            <a:off x="5216760" y="422928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40"/>
          <p:cNvSpPr/>
          <p:nvPr/>
        </p:nvSpPr>
        <p:spPr>
          <a:xfrm>
            <a:off x="4791600" y="444960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41"/>
          <p:cNvSpPr/>
          <p:nvPr/>
        </p:nvSpPr>
        <p:spPr>
          <a:xfrm>
            <a:off x="5365800" y="467028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2"/>
          <p:cNvSpPr/>
          <p:nvPr/>
        </p:nvSpPr>
        <p:spPr>
          <a:xfrm>
            <a:off x="4897080" y="4888080"/>
            <a:ext cx="81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43"/>
          <p:cNvSpPr/>
          <p:nvPr/>
        </p:nvSpPr>
        <p:spPr>
          <a:xfrm>
            <a:off x="5349600" y="51084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44"/>
          <p:cNvSpPr/>
          <p:nvPr/>
        </p:nvSpPr>
        <p:spPr>
          <a:xfrm>
            <a:off x="5141160" y="53290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w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5"/>
          <p:cNvSpPr/>
          <p:nvPr/>
        </p:nvSpPr>
        <p:spPr>
          <a:xfrm>
            <a:off x="6540120" y="5730840"/>
            <a:ext cx="206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(percent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46"/>
          <p:cNvSpPr/>
          <p:nvPr/>
        </p:nvSpPr>
        <p:spPr>
          <a:xfrm>
            <a:off x="2698200" y="5730840"/>
            <a:ext cx="160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 Rate (perc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7"/>
          <p:cNvSpPr/>
          <p:nvPr/>
        </p:nvSpPr>
        <p:spPr>
          <a:xfrm>
            <a:off x="137628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48"/>
          <p:cNvSpPr/>
          <p:nvPr/>
        </p:nvSpPr>
        <p:spPr>
          <a:xfrm>
            <a:off x="169524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49"/>
          <p:cNvSpPr/>
          <p:nvPr/>
        </p:nvSpPr>
        <p:spPr>
          <a:xfrm>
            <a:off x="201744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0"/>
          <p:cNvSpPr/>
          <p:nvPr/>
        </p:nvSpPr>
        <p:spPr>
          <a:xfrm>
            <a:off x="23349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51"/>
          <p:cNvSpPr/>
          <p:nvPr/>
        </p:nvSpPr>
        <p:spPr>
          <a:xfrm>
            <a:off x="264924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2"/>
          <p:cNvSpPr/>
          <p:nvPr/>
        </p:nvSpPr>
        <p:spPr>
          <a:xfrm>
            <a:off x="29667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53"/>
          <p:cNvSpPr/>
          <p:nvPr/>
        </p:nvSpPr>
        <p:spPr>
          <a:xfrm>
            <a:off x="32889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4"/>
          <p:cNvSpPr/>
          <p:nvPr/>
        </p:nvSpPr>
        <p:spPr>
          <a:xfrm>
            <a:off x="35985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55"/>
          <p:cNvSpPr/>
          <p:nvPr/>
        </p:nvSpPr>
        <p:spPr>
          <a:xfrm>
            <a:off x="574488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6"/>
          <p:cNvSpPr/>
          <p:nvPr/>
        </p:nvSpPr>
        <p:spPr>
          <a:xfrm>
            <a:off x="618624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7"/>
          <p:cNvSpPr/>
          <p:nvPr/>
        </p:nvSpPr>
        <p:spPr>
          <a:xfrm>
            <a:off x="667044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58"/>
          <p:cNvSpPr/>
          <p:nvPr/>
        </p:nvSpPr>
        <p:spPr>
          <a:xfrm>
            <a:off x="714996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59"/>
          <p:cNvSpPr/>
          <p:nvPr/>
        </p:nvSpPr>
        <p:spPr>
          <a:xfrm>
            <a:off x="763416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6"/>
          <p:cNvSpPr/>
          <p:nvPr/>
        </p:nvSpPr>
        <p:spPr>
          <a:xfrm>
            <a:off x="5715720" y="1714680"/>
            <a:ext cx="24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a de Inversión: 1960-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ornos Decrecientes y el factor: Catch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dida que el stock de capital aumenta, el producto adicional de una unidad adicional de capital disminuye, esta propiedad se llama </a:t>
            </a: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Retornos Decrecien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el largo plazo, una mayor tasa de ahorro conduce a una mayor nivel de productividad y de ingreso, pero no a una mayor tasa de crecimiento en estas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ecto Catch-Up o Efecto de Recupe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efecto:  </a:t>
            </a: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catch-u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refiere a la propiedad por la cual los países que empiezan pobres tienden a crecer más rapidamente que los países que ric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rsión Exter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gobiernos pueden aumentar la acumulación de capital y crecer en el largo plazo estimulando la inversion exter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j: Irlanda y ….los irlandeses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rsión Exter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inversión externa toma distintas form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ión Externa Dire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ión de capital cuyos dueños y quienes la controlan son extran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ión Externa de Portafol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ión financiada con dinero externo pero controlada por residentes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 el crecimiento de un país en el largo plazo, la educacion es al menos tan importante como la inversión en capital fís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EE.UU. cada año de educación aumenta el salario de una persona en promedio en 10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 lo tanto, una forma de mejorar los estándares de vida de la población es entregando educación a la població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j.: Corea , Finla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…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214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splazamientos de la oferta y demanda agregadas. Efe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fectos de un desplazamiento de la 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Situación inicial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quilibrio de LP (punto A: Y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y   P =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mbi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una oleada de pesimismo invade de repente la econom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hogares reducen su gast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) y las empresas posponen la adquisi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uevo equip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)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→ Reducción DA → Desplazamiento de la curva DA a 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zquierda (D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D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to plazo: movimiento a lo largo de la curva de oferta agregada inicial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to plazo (O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del punto A al 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corto plaz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B (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o del desempleo y def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34290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ueba PISA 200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enci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5000760" y="0"/>
            <a:ext cx="31575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542" name="5 Conector recto de flecha"/>
          <p:cNvCxnSpPr/>
          <p:nvPr/>
        </p:nvCxnSpPr>
        <p:spPr>
          <a:xfrm>
            <a:off x="4000320" y="2786040"/>
            <a:ext cx="1286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4214880" y="0"/>
            <a:ext cx="3929040" cy="6564240"/>
          </a:xfrm>
          <a:prstGeom prst="rect">
            <a:avLst/>
          </a:prstGeom>
          <a:ln w="0">
            <a:noFill/>
          </a:ln>
        </p:spPr>
      </p:pic>
      <p:sp>
        <p:nvSpPr>
          <p:cNvPr id="544" name="4 CuadroTexto"/>
          <p:cNvSpPr/>
          <p:nvPr/>
        </p:nvSpPr>
        <p:spPr>
          <a:xfrm>
            <a:off x="434160" y="928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ses No-OE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6 Conector recto de flecha"/>
          <p:cNvCxnSpPr/>
          <p:nvPr/>
        </p:nvCxnSpPr>
        <p:spPr>
          <a:xfrm>
            <a:off x="3142800" y="114300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6" name="7 CuadroTexto"/>
          <p:cNvSpPr/>
          <p:nvPr/>
        </p:nvSpPr>
        <p:spPr>
          <a:xfrm>
            <a:off x="214200" y="3500280"/>
            <a:ext cx="37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ta correlacion de los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te tipo de pruebas con crecimiento economico de l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comercio es, en cierta manera, parecido a la tecnologí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 país que elimina sus restricciones comerciales va a experimentar un crecimiento similar al que sucede con un avance tecnológ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stos de la globalización”: sectores que pierden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í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entación hacia afuera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entación hacia adentro 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Control del crecimiento de la pob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indicador de bienestar no es el PIB total sino el PIB per cápi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 elevado crecimiento reduce el PIB per cápita, debido a que obliga a repartir entre más personas los demás factores de producción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más, elevado numero de niñ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icultades para el sistema esco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icultades para la incorporación de la mujer al mundo labor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gura 2: Crecimiento del PIB Real Per Cápita, 16 países desarrolla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6563520" y="66801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©2003  Southwestern/Thomson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3f6f9"/>
          </a:solidFill>
          <a:ln w="18432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2f4f8"/>
          </a:solidFill>
          <a:ln w="16812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1f4f7"/>
          </a:solidFill>
          <a:ln w="1508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0f2f5"/>
          </a:solidFill>
          <a:ln w="1332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ef1f4"/>
          </a:solidFill>
          <a:ln w="11736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deff3"/>
          </a:solidFill>
          <a:ln w="10008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beef2"/>
          </a:solidFill>
          <a:ln w="842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aecf1"/>
          </a:solidFill>
          <a:ln w="6660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9ebf0"/>
          </a:solidFill>
          <a:ln w="5076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7eaef"/>
          </a:solidFill>
          <a:ln w="3348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1925640" y="1144440"/>
            <a:ext cx="5410080" cy="499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7"/>
          <p:cNvSpPr/>
          <p:nvPr/>
        </p:nvSpPr>
        <p:spPr>
          <a:xfrm>
            <a:off x="1925640" y="6137280"/>
            <a:ext cx="54100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 flipV="1">
            <a:off x="1925640" y="1144080"/>
            <a:ext cx="1440" cy="4992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9"/>
          <p:cNvSpPr/>
          <p:nvPr/>
        </p:nvSpPr>
        <p:spPr>
          <a:xfrm>
            <a:off x="1925640" y="49150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0"/>
          <p:cNvSpPr/>
          <p:nvPr/>
        </p:nvSpPr>
        <p:spPr>
          <a:xfrm>
            <a:off x="1925640" y="432756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>
            <a:off x="1925640" y="548496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2"/>
          <p:cNvSpPr/>
          <p:nvPr/>
        </p:nvSpPr>
        <p:spPr>
          <a:xfrm>
            <a:off x="1925640" y="37576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3"/>
          <p:cNvSpPr/>
          <p:nvPr/>
        </p:nvSpPr>
        <p:spPr>
          <a:xfrm>
            <a:off x="1925640" y="318780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4"/>
          <p:cNvSpPr/>
          <p:nvPr/>
        </p:nvSpPr>
        <p:spPr>
          <a:xfrm>
            <a:off x="1925640" y="26020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5"/>
          <p:cNvSpPr/>
          <p:nvPr/>
        </p:nvSpPr>
        <p:spPr>
          <a:xfrm>
            <a:off x="2227320" y="5283360"/>
            <a:ext cx="534960" cy="85392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6"/>
          <p:cNvSpPr/>
          <p:nvPr/>
        </p:nvSpPr>
        <p:spPr>
          <a:xfrm>
            <a:off x="2946240" y="4915080"/>
            <a:ext cx="536760" cy="122220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7"/>
          <p:cNvSpPr/>
          <p:nvPr/>
        </p:nvSpPr>
        <p:spPr>
          <a:xfrm>
            <a:off x="3666960" y="5132520"/>
            <a:ext cx="536760" cy="100476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4387680" y="5032440"/>
            <a:ext cx="535320" cy="110484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9"/>
          <p:cNvSpPr/>
          <p:nvPr/>
        </p:nvSpPr>
        <p:spPr>
          <a:xfrm>
            <a:off x="5091120" y="2216160"/>
            <a:ext cx="536400" cy="392112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0"/>
          <p:cNvSpPr/>
          <p:nvPr/>
        </p:nvSpPr>
        <p:spPr>
          <a:xfrm>
            <a:off x="5811840" y="4143240"/>
            <a:ext cx="534960" cy="199404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1"/>
          <p:cNvSpPr/>
          <p:nvPr/>
        </p:nvSpPr>
        <p:spPr>
          <a:xfrm>
            <a:off x="6531120" y="4680000"/>
            <a:ext cx="536400" cy="145728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2"/>
          <p:cNvSpPr/>
          <p:nvPr/>
        </p:nvSpPr>
        <p:spPr>
          <a:xfrm flipH="1">
            <a:off x="1925640" y="20494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3"/>
          <p:cNvSpPr/>
          <p:nvPr/>
        </p:nvSpPr>
        <p:spPr>
          <a:xfrm>
            <a:off x="824040" y="1177920"/>
            <a:ext cx="105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4"/>
          <p:cNvSpPr/>
          <p:nvPr/>
        </p:nvSpPr>
        <p:spPr>
          <a:xfrm>
            <a:off x="1184040" y="14000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1132920" y="162396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ye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6"/>
          <p:cNvSpPr/>
          <p:nvPr/>
        </p:nvSpPr>
        <p:spPr>
          <a:xfrm>
            <a:off x="1641240" y="5381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1641240" y="4807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1641240" y="4238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9"/>
          <p:cNvSpPr/>
          <p:nvPr/>
        </p:nvSpPr>
        <p:spPr>
          <a:xfrm>
            <a:off x="1641240" y="3664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0"/>
          <p:cNvSpPr/>
          <p:nvPr/>
        </p:nvSpPr>
        <p:spPr>
          <a:xfrm>
            <a:off x="1641240" y="3095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1"/>
          <p:cNvSpPr/>
          <p:nvPr/>
        </p:nvSpPr>
        <p:spPr>
          <a:xfrm>
            <a:off x="1641240" y="25257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2"/>
          <p:cNvSpPr/>
          <p:nvPr/>
        </p:nvSpPr>
        <p:spPr>
          <a:xfrm>
            <a:off x="1641240" y="1952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3"/>
          <p:cNvSpPr/>
          <p:nvPr/>
        </p:nvSpPr>
        <p:spPr>
          <a:xfrm>
            <a:off x="2266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4"/>
          <p:cNvSpPr/>
          <p:nvPr/>
        </p:nvSpPr>
        <p:spPr>
          <a:xfrm>
            <a:off x="23774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5"/>
          <p:cNvSpPr/>
          <p:nvPr/>
        </p:nvSpPr>
        <p:spPr>
          <a:xfrm>
            <a:off x="24836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6"/>
          <p:cNvSpPr/>
          <p:nvPr/>
        </p:nvSpPr>
        <p:spPr>
          <a:xfrm>
            <a:off x="25898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7"/>
          <p:cNvSpPr/>
          <p:nvPr/>
        </p:nvSpPr>
        <p:spPr>
          <a:xfrm>
            <a:off x="27010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8"/>
          <p:cNvSpPr/>
          <p:nvPr/>
        </p:nvSpPr>
        <p:spPr>
          <a:xfrm>
            <a:off x="226836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9"/>
          <p:cNvSpPr/>
          <p:nvPr/>
        </p:nvSpPr>
        <p:spPr>
          <a:xfrm>
            <a:off x="29743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0"/>
          <p:cNvSpPr/>
          <p:nvPr/>
        </p:nvSpPr>
        <p:spPr>
          <a:xfrm>
            <a:off x="3085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1"/>
          <p:cNvSpPr/>
          <p:nvPr/>
        </p:nvSpPr>
        <p:spPr>
          <a:xfrm>
            <a:off x="3191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2"/>
          <p:cNvSpPr/>
          <p:nvPr/>
        </p:nvSpPr>
        <p:spPr>
          <a:xfrm>
            <a:off x="32979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3"/>
          <p:cNvSpPr/>
          <p:nvPr/>
        </p:nvSpPr>
        <p:spPr>
          <a:xfrm>
            <a:off x="3409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4"/>
          <p:cNvSpPr/>
          <p:nvPr/>
        </p:nvSpPr>
        <p:spPr>
          <a:xfrm>
            <a:off x="297648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6820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6"/>
          <p:cNvSpPr/>
          <p:nvPr/>
        </p:nvSpPr>
        <p:spPr>
          <a:xfrm>
            <a:off x="3794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7"/>
          <p:cNvSpPr/>
          <p:nvPr/>
        </p:nvSpPr>
        <p:spPr>
          <a:xfrm>
            <a:off x="38995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8"/>
          <p:cNvSpPr/>
          <p:nvPr/>
        </p:nvSpPr>
        <p:spPr>
          <a:xfrm>
            <a:off x="40060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9"/>
          <p:cNvSpPr/>
          <p:nvPr/>
        </p:nvSpPr>
        <p:spPr>
          <a:xfrm>
            <a:off x="41173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0"/>
          <p:cNvSpPr/>
          <p:nvPr/>
        </p:nvSpPr>
        <p:spPr>
          <a:xfrm>
            <a:off x="368424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1"/>
          <p:cNvSpPr/>
          <p:nvPr/>
        </p:nvSpPr>
        <p:spPr>
          <a:xfrm>
            <a:off x="43916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2"/>
          <p:cNvSpPr/>
          <p:nvPr/>
        </p:nvSpPr>
        <p:spPr>
          <a:xfrm>
            <a:off x="4502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3"/>
          <p:cNvSpPr/>
          <p:nvPr/>
        </p:nvSpPr>
        <p:spPr>
          <a:xfrm>
            <a:off x="46094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4"/>
          <p:cNvSpPr/>
          <p:nvPr/>
        </p:nvSpPr>
        <p:spPr>
          <a:xfrm>
            <a:off x="4714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5"/>
          <p:cNvSpPr/>
          <p:nvPr/>
        </p:nvSpPr>
        <p:spPr>
          <a:xfrm>
            <a:off x="4826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66"/>
          <p:cNvSpPr/>
          <p:nvPr/>
        </p:nvSpPr>
        <p:spPr>
          <a:xfrm>
            <a:off x="439380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7"/>
          <p:cNvSpPr/>
          <p:nvPr/>
        </p:nvSpPr>
        <p:spPr>
          <a:xfrm>
            <a:off x="5099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8"/>
          <p:cNvSpPr/>
          <p:nvPr/>
        </p:nvSpPr>
        <p:spPr>
          <a:xfrm>
            <a:off x="52110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9"/>
          <p:cNvSpPr/>
          <p:nvPr/>
        </p:nvSpPr>
        <p:spPr>
          <a:xfrm>
            <a:off x="5317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70"/>
          <p:cNvSpPr/>
          <p:nvPr/>
        </p:nvSpPr>
        <p:spPr>
          <a:xfrm>
            <a:off x="5423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1"/>
          <p:cNvSpPr/>
          <p:nvPr/>
        </p:nvSpPr>
        <p:spPr>
          <a:xfrm>
            <a:off x="55346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2"/>
          <p:cNvSpPr/>
          <p:nvPr/>
        </p:nvSpPr>
        <p:spPr>
          <a:xfrm>
            <a:off x="510192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3"/>
          <p:cNvSpPr/>
          <p:nvPr/>
        </p:nvSpPr>
        <p:spPr>
          <a:xfrm>
            <a:off x="5807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4"/>
          <p:cNvSpPr/>
          <p:nvPr/>
        </p:nvSpPr>
        <p:spPr>
          <a:xfrm>
            <a:off x="59191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5"/>
          <p:cNvSpPr/>
          <p:nvPr/>
        </p:nvSpPr>
        <p:spPr>
          <a:xfrm>
            <a:off x="60253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6"/>
          <p:cNvSpPr/>
          <p:nvPr/>
        </p:nvSpPr>
        <p:spPr>
          <a:xfrm>
            <a:off x="6131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7"/>
          <p:cNvSpPr/>
          <p:nvPr/>
        </p:nvSpPr>
        <p:spPr>
          <a:xfrm>
            <a:off x="6242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8"/>
          <p:cNvSpPr/>
          <p:nvPr/>
        </p:nvSpPr>
        <p:spPr>
          <a:xfrm>
            <a:off x="581004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9"/>
          <p:cNvSpPr/>
          <p:nvPr/>
        </p:nvSpPr>
        <p:spPr>
          <a:xfrm>
            <a:off x="65556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0"/>
          <p:cNvSpPr/>
          <p:nvPr/>
        </p:nvSpPr>
        <p:spPr>
          <a:xfrm>
            <a:off x="66668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1"/>
          <p:cNvSpPr/>
          <p:nvPr/>
        </p:nvSpPr>
        <p:spPr>
          <a:xfrm>
            <a:off x="67730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2"/>
          <p:cNvSpPr/>
          <p:nvPr/>
        </p:nvSpPr>
        <p:spPr>
          <a:xfrm>
            <a:off x="68778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3"/>
          <p:cNvSpPr/>
          <p:nvPr/>
        </p:nvSpPr>
        <p:spPr>
          <a:xfrm>
            <a:off x="69904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84"/>
          <p:cNvSpPr/>
          <p:nvPr/>
        </p:nvSpPr>
        <p:spPr>
          <a:xfrm>
            <a:off x="655776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85"/>
          <p:cNvSpPr/>
          <p:nvPr/>
        </p:nvSpPr>
        <p:spPr>
          <a:xfrm>
            <a:off x="1775520" y="621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investigación y el desarrol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57120" y="128556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Cómo fomentar los avances tecnológic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conocimientos son en gran medida un “bien publico”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una vez que una persona descrube una idea, entra en el acervo de conocimientos de la sociedad y otras personas pueden utilizarla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biernos fomentan la investiga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den pat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idios y présta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lìtica de promoción activa …….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e: Consejo de Innov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77342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s clusters del Consejo de Innovació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Ocho sectores con mayor potencial fueron seleccionados en 2006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cuicultur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Calibri"/>
              </a:rPr>
              <a:t>outsour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porcicultura y avicultur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turismo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minería del cobre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rvicios financiero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ruticultura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limentos procesados para consumo human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2858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Growth Report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trategies for Sustained Growth and Inclusive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www. growthcommission.or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Object 2"/>
          <p:cNvGraphicFramePr/>
          <p:nvPr/>
        </p:nvGraphicFramePr>
        <p:xfrm>
          <a:off x="782640" y="785880"/>
          <a:ext cx="8004240" cy="55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785880"/>
                    <a:ext cx="800424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285840"/>
            <a:ext cx="8964720" cy="61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largo plazo: la producción vuelve al nivel ini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ado que 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&lt; 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las expectativas se adaptan y se reduce 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→ Desplazam. de OA a corto plazo a la derecha (O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O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largo plazo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C (Y = Y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 P = 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miendo: 2 importantes lecciones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corto plazo, los desplazamientos de la DA provocan fluctuaciones en la producción de bienes y servicios y cambios en el nivel general de prec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largo plazo, los desplazamientos en la DA afectan al nivel general de precios, pero no a la produc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rowth in Largest Developing Count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5" name="Object 2"/>
          <p:cNvGraphicFramePr/>
          <p:nvPr/>
        </p:nvGraphicFramePr>
        <p:xfrm>
          <a:off x="771480" y="1643040"/>
          <a:ext cx="7755120" cy="36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643040"/>
                    <a:ext cx="77551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214200" y="356760"/>
            <a:ext cx="8715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Los Riesgos para el Crecimiento Económic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nuevo escena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os factores que no enfrentaron las economías que crecieron exitosamente en el pasa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504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Una contracción de la demanda agreg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3f6f9"/>
          </a:solidFill>
          <a:ln w="20016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2f4f8"/>
          </a:solidFill>
          <a:ln w="18108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1f4f7"/>
          </a:solidFill>
          <a:ln w="1634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0f2f5"/>
          </a:solidFill>
          <a:ln w="14436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ef1f4"/>
          </a:solidFill>
          <a:ln w="12708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deff3"/>
          </a:solidFill>
          <a:ln w="109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beef2"/>
          </a:solidFill>
          <a:ln w="9036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aecf1"/>
          </a:solidFill>
          <a:ln w="730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9ebf0"/>
          </a:solidFill>
          <a:ln w="540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7eaef"/>
          </a:solidFill>
          <a:ln w="363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76360" y="1628640"/>
            <a:ext cx="6716880" cy="421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3908520" y="2144880"/>
            <a:ext cx="1440" cy="3597120"/>
          </a:xfrm>
          <a:prstGeom prst="line">
            <a:avLst/>
          </a:prstGeom>
          <a:ln w="54000">
            <a:solidFill>
              <a:srgbClr val="00a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3908520" y="6215040"/>
            <a:ext cx="1440" cy="1440"/>
          </a:xfrm>
          <a:prstGeom prst="line">
            <a:avLst/>
          </a:prstGeom>
          <a:ln w="17640">
            <a:solidFill>
              <a:srgbClr val="602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8"/>
          <p:cNvSpPr/>
          <p:nvPr/>
        </p:nvSpPr>
        <p:spPr>
          <a:xfrm>
            <a:off x="1457280" y="1527120"/>
            <a:ext cx="6716880" cy="421488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4960800" y="3162240"/>
            <a:ext cx="998640" cy="180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543200" y="5124600"/>
            <a:ext cx="103500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6588000" y="5783400"/>
            <a:ext cx="274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914400" y="150984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ve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684360" y="1751040"/>
            <a:ext cx="89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1326600" y="5789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5"/>
          <p:cNvGrpSpPr/>
          <p:nvPr/>
        </p:nvGrpSpPr>
        <p:grpSpPr>
          <a:xfrm>
            <a:off x="2201760" y="2117880"/>
            <a:ext cx="5182200" cy="2915640"/>
            <a:chOff x="2201760" y="2117880"/>
            <a:chExt cx="5182200" cy="2915640"/>
          </a:xfrm>
        </p:grpSpPr>
        <p:grpSp>
          <p:nvGrpSpPr>
            <p:cNvPr id="121" name="Group 26"/>
            <p:cNvGrpSpPr/>
            <p:nvPr/>
          </p:nvGrpSpPr>
          <p:grpSpPr>
            <a:xfrm>
              <a:off x="2201760" y="2117880"/>
              <a:ext cx="5182200" cy="2915640"/>
              <a:chOff x="2201760" y="2117880"/>
              <a:chExt cx="5182200" cy="2915640"/>
            </a:xfrm>
          </p:grpSpPr>
          <p:sp>
            <p:nvSpPr>
              <p:cNvPr id="122" name="Line 27"/>
              <p:cNvSpPr/>
              <p:nvPr/>
            </p:nvSpPr>
            <p:spPr>
              <a:xfrm flipV="1">
                <a:off x="2201760" y="2617560"/>
                <a:ext cx="3376800" cy="2415960"/>
              </a:xfrm>
              <a:prstGeom prst="line">
                <a:avLst/>
              </a:prstGeom>
              <a:ln w="54000">
                <a:solidFill>
                  <a:srgbClr val="003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8"/>
              <p:cNvSpPr/>
              <p:nvPr/>
            </p:nvSpPr>
            <p:spPr>
              <a:xfrm>
                <a:off x="4685760" y="2117880"/>
                <a:ext cx="2698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Oferta agregada a corto plaz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9"/>
              <p:cNvSpPr/>
              <p:nvPr/>
            </p:nvSpPr>
            <p:spPr>
              <a:xfrm>
                <a:off x="5057640" y="2359080"/>
                <a:ext cx="180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0"/>
              <p:cNvSpPr/>
              <p:nvPr/>
            </p:nvSpPr>
            <p:spPr>
              <a:xfrm>
                <a:off x="5719680" y="2359080"/>
                <a:ext cx="28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O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31"/>
            <p:cNvSpPr/>
            <p:nvPr/>
          </p:nvSpPr>
          <p:spPr>
            <a:xfrm>
              <a:off x="5991120" y="2486160"/>
              <a:ext cx="349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32"/>
          <p:cNvSpPr/>
          <p:nvPr/>
        </p:nvSpPr>
        <p:spPr>
          <a:xfrm>
            <a:off x="2268360" y="2081160"/>
            <a:ext cx="151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largo plaz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3"/>
          <p:cNvGrpSpPr/>
          <p:nvPr/>
        </p:nvGrpSpPr>
        <p:grpSpPr>
          <a:xfrm>
            <a:off x="2491920" y="2798280"/>
            <a:ext cx="5408640" cy="2791440"/>
            <a:chOff x="2491920" y="2798280"/>
            <a:chExt cx="5408640" cy="2791440"/>
          </a:xfrm>
        </p:grpSpPr>
        <p:sp>
          <p:nvSpPr>
            <p:cNvPr id="129" name="Line 34"/>
            <p:cNvSpPr/>
            <p:nvPr/>
          </p:nvSpPr>
          <p:spPr>
            <a:xfrm flipH="1" flipV="1">
              <a:off x="2491920" y="2798280"/>
              <a:ext cx="3467160" cy="2506680"/>
            </a:xfrm>
            <a:prstGeom prst="line">
              <a:avLst/>
            </a:prstGeom>
            <a:ln w="5400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35"/>
            <p:cNvGrpSpPr/>
            <p:nvPr/>
          </p:nvGrpSpPr>
          <p:grpSpPr>
            <a:xfrm>
              <a:off x="6014880" y="4983120"/>
              <a:ext cx="1885680" cy="606600"/>
              <a:chOff x="6014880" y="4983120"/>
              <a:chExt cx="1885680" cy="606600"/>
            </a:xfrm>
          </p:grpSpPr>
          <p:sp>
            <p:nvSpPr>
              <p:cNvPr id="131" name="Rectangle 36"/>
              <p:cNvSpPr/>
              <p:nvPr/>
            </p:nvSpPr>
            <p:spPr>
              <a:xfrm>
                <a:off x="6139440" y="4983120"/>
                <a:ext cx="1761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emanda agregad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7"/>
              <p:cNvSpPr/>
              <p:nvPr/>
            </p:nvSpPr>
            <p:spPr>
              <a:xfrm>
                <a:off x="6014880" y="5224320"/>
                <a:ext cx="18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8"/>
              <p:cNvSpPr/>
              <p:nvPr/>
            </p:nvSpPr>
            <p:spPr>
              <a:xfrm>
                <a:off x="6815520" y="5224320"/>
                <a:ext cx="275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D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9"/>
              <p:cNvSpPr/>
              <p:nvPr/>
            </p:nvSpPr>
            <p:spPr>
              <a:xfrm>
                <a:off x="7097760" y="5351400"/>
                <a:ext cx="3636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40"/>
          <p:cNvGrpSpPr/>
          <p:nvPr/>
        </p:nvGrpSpPr>
        <p:grpSpPr>
          <a:xfrm>
            <a:off x="1198440" y="3695760"/>
            <a:ext cx="3039840" cy="2328840"/>
            <a:chOff x="1198440" y="3695760"/>
            <a:chExt cx="3039840" cy="2328840"/>
          </a:xfrm>
        </p:grpSpPr>
        <p:grpSp>
          <p:nvGrpSpPr>
            <p:cNvPr id="136" name="Group 41"/>
            <p:cNvGrpSpPr/>
            <p:nvPr/>
          </p:nvGrpSpPr>
          <p:grpSpPr>
            <a:xfrm>
              <a:off x="1198440" y="3695760"/>
              <a:ext cx="3039840" cy="245880"/>
              <a:chOff x="1198440" y="3695760"/>
              <a:chExt cx="3039840" cy="245880"/>
            </a:xfrm>
          </p:grpSpPr>
          <p:sp>
            <p:nvSpPr>
              <p:cNvPr id="137" name="Freeform 42"/>
              <p:cNvSpPr/>
              <p:nvPr/>
            </p:nvSpPr>
            <p:spPr>
              <a:xfrm>
                <a:off x="1457280" y="3816360"/>
                <a:ext cx="2451240" cy="144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43"/>
              <p:cNvSpPr/>
              <p:nvPr/>
            </p:nvSpPr>
            <p:spPr>
              <a:xfrm>
                <a:off x="3848040" y="3762360"/>
                <a:ext cx="1285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4100400" y="369576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45"/>
              <p:cNvGrpSpPr/>
              <p:nvPr/>
            </p:nvGrpSpPr>
            <p:grpSpPr>
              <a:xfrm>
                <a:off x="1198440" y="3713040"/>
                <a:ext cx="169920" cy="228600"/>
                <a:chOff x="1198440" y="3713040"/>
                <a:chExt cx="169920" cy="228600"/>
              </a:xfrm>
            </p:grpSpPr>
            <p:sp>
              <p:nvSpPr>
                <p:cNvPr id="141" name="Rectangle 46"/>
                <p:cNvSpPr/>
                <p:nvPr/>
              </p:nvSpPr>
              <p:spPr>
                <a:xfrm>
                  <a:off x="1198440" y="371304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7"/>
                <p:cNvSpPr/>
                <p:nvPr/>
              </p:nvSpPr>
              <p:spPr>
                <a:xfrm>
                  <a:off x="1332000" y="3833640"/>
                  <a:ext cx="36360" cy="90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Group 48"/>
            <p:cNvGrpSpPr/>
            <p:nvPr/>
          </p:nvGrpSpPr>
          <p:grpSpPr>
            <a:xfrm>
              <a:off x="3841920" y="5796000"/>
              <a:ext cx="168120" cy="228600"/>
              <a:chOff x="3841920" y="5796000"/>
              <a:chExt cx="168120" cy="228600"/>
            </a:xfrm>
          </p:grpSpPr>
          <p:sp>
            <p:nvSpPr>
              <p:cNvPr id="144" name="Rectangle 49"/>
              <p:cNvSpPr/>
              <p:nvPr/>
            </p:nvSpPr>
            <p:spPr>
              <a:xfrm>
                <a:off x="3841920" y="579600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0"/>
              <p:cNvSpPr/>
              <p:nvPr/>
            </p:nvSpPr>
            <p:spPr>
              <a:xfrm>
                <a:off x="3973680" y="5923080"/>
                <a:ext cx="363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51"/>
          <p:cNvGrpSpPr/>
          <p:nvPr/>
        </p:nvGrpSpPr>
        <p:grpSpPr>
          <a:xfrm>
            <a:off x="1549080" y="3125520"/>
            <a:ext cx="3897360" cy="2600280"/>
            <a:chOff x="1549080" y="3125520"/>
            <a:chExt cx="3897360" cy="2600280"/>
          </a:xfrm>
        </p:grpSpPr>
        <p:sp>
          <p:nvSpPr>
            <p:cNvPr id="147" name="Line 52"/>
            <p:cNvSpPr/>
            <p:nvPr/>
          </p:nvSpPr>
          <p:spPr>
            <a:xfrm flipH="1" flipV="1">
              <a:off x="1549080" y="3125520"/>
              <a:ext cx="3467160" cy="2506680"/>
            </a:xfrm>
            <a:prstGeom prst="line">
              <a:avLst/>
            </a:prstGeom>
            <a:ln w="5400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5110560" y="5465880"/>
              <a:ext cx="335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54"/>
          <p:cNvGrpSpPr/>
          <p:nvPr/>
        </p:nvGrpSpPr>
        <p:grpSpPr>
          <a:xfrm>
            <a:off x="2982960" y="2816280"/>
            <a:ext cx="3622680" cy="2671560"/>
            <a:chOff x="2982960" y="2816280"/>
            <a:chExt cx="3622680" cy="2671560"/>
          </a:xfrm>
        </p:grpSpPr>
        <p:sp>
          <p:nvSpPr>
            <p:cNvPr id="150" name="Line 55"/>
            <p:cNvSpPr/>
            <p:nvPr/>
          </p:nvSpPr>
          <p:spPr>
            <a:xfrm flipV="1">
              <a:off x="2982960" y="3052800"/>
              <a:ext cx="3376440" cy="2435040"/>
            </a:xfrm>
            <a:prstGeom prst="line">
              <a:avLst/>
            </a:prstGeom>
            <a:ln w="5400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6258960" y="2816280"/>
              <a:ext cx="346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57"/>
          <p:cNvGrpSpPr/>
          <p:nvPr/>
        </p:nvGrpSpPr>
        <p:grpSpPr>
          <a:xfrm>
            <a:off x="5052600" y="4343400"/>
            <a:ext cx="3211920" cy="727200"/>
            <a:chOff x="5052600" y="4343400"/>
            <a:chExt cx="3211920" cy="727200"/>
          </a:xfrm>
        </p:grpSpPr>
        <p:sp>
          <p:nvSpPr>
            <p:cNvPr id="153" name="Line 58"/>
            <p:cNvSpPr/>
            <p:nvPr/>
          </p:nvSpPr>
          <p:spPr>
            <a:xfrm flipH="1">
              <a:off x="5052600" y="4487760"/>
              <a:ext cx="943560" cy="582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59"/>
            <p:cNvGrpSpPr/>
            <p:nvPr/>
          </p:nvGrpSpPr>
          <p:grpSpPr>
            <a:xfrm>
              <a:off x="5936760" y="4343400"/>
              <a:ext cx="2327760" cy="507960"/>
              <a:chOff x="5936760" y="4343400"/>
              <a:chExt cx="2327760" cy="507960"/>
            </a:xfrm>
          </p:grpSpPr>
          <p:sp>
            <p:nvSpPr>
              <p:cNvPr id="155" name="Rectangle 60"/>
              <p:cNvSpPr/>
              <p:nvPr/>
            </p:nvSpPr>
            <p:spPr>
              <a:xfrm>
                <a:off x="5936760" y="4343400"/>
                <a:ext cx="2229840" cy="5079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61"/>
              <p:cNvSpPr/>
              <p:nvPr/>
            </p:nvSpPr>
            <p:spPr>
              <a:xfrm>
                <a:off x="6005880" y="4363920"/>
                <a:ext cx="1634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 Una disminu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62"/>
              <p:cNvSpPr/>
              <p:nvPr/>
            </p:nvSpPr>
            <p:spPr>
              <a:xfrm>
                <a:off x="6006600" y="4603680"/>
                <a:ext cx="2257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 la demanda agregada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63"/>
          <p:cNvGrpSpPr/>
          <p:nvPr/>
        </p:nvGrpSpPr>
        <p:grpSpPr>
          <a:xfrm>
            <a:off x="1222200" y="1109520"/>
            <a:ext cx="6878880" cy="3106800"/>
            <a:chOff x="1222200" y="1109520"/>
            <a:chExt cx="6878880" cy="3106800"/>
          </a:xfrm>
        </p:grpSpPr>
        <p:sp>
          <p:nvSpPr>
            <p:cNvPr id="159" name="Line 64"/>
            <p:cNvSpPr/>
            <p:nvPr/>
          </p:nvSpPr>
          <p:spPr>
            <a:xfrm>
              <a:off x="1566720" y="1346040"/>
              <a:ext cx="1616040" cy="2870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5"/>
            <p:cNvSpPr/>
            <p:nvPr/>
          </p:nvSpPr>
          <p:spPr>
            <a:xfrm>
              <a:off x="1222200" y="1109520"/>
              <a:ext cx="4138920" cy="273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6"/>
            <p:cNvSpPr/>
            <p:nvPr/>
          </p:nvSpPr>
          <p:spPr>
            <a:xfrm>
              <a:off x="1318680" y="1143000"/>
              <a:ext cx="678240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 . . . provoca una reducción de la producción (y de los precios) a corto plazo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67"/>
          <p:cNvGrpSpPr/>
          <p:nvPr/>
        </p:nvGrpSpPr>
        <p:grpSpPr>
          <a:xfrm>
            <a:off x="5292360" y="3141720"/>
            <a:ext cx="3192480" cy="998280"/>
            <a:chOff x="5292360" y="3141720"/>
            <a:chExt cx="3192480" cy="998280"/>
          </a:xfrm>
        </p:grpSpPr>
        <p:sp>
          <p:nvSpPr>
            <p:cNvPr id="163" name="Line 68"/>
            <p:cNvSpPr/>
            <p:nvPr/>
          </p:nvSpPr>
          <p:spPr>
            <a:xfrm flipH="1" flipV="1">
              <a:off x="5292360" y="3159000"/>
              <a:ext cx="113076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9"/>
            <p:cNvSpPr/>
            <p:nvPr/>
          </p:nvSpPr>
          <p:spPr>
            <a:xfrm>
              <a:off x="6363360" y="3141720"/>
              <a:ext cx="1853640" cy="998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0"/>
            <p:cNvSpPr/>
            <p:nvPr/>
          </p:nvSpPr>
          <p:spPr>
            <a:xfrm>
              <a:off x="6432480" y="3162240"/>
              <a:ext cx="1431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 . .  con el pa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1"/>
            <p:cNvSpPr/>
            <p:nvPr/>
          </p:nvSpPr>
          <p:spPr>
            <a:xfrm>
              <a:off x="6433560" y="3403440"/>
              <a:ext cx="20512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 tiempo, la curv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2"/>
            <p:cNvSpPr/>
            <p:nvPr/>
          </p:nvSpPr>
          <p:spPr>
            <a:xfrm>
              <a:off x="6436440" y="3644640"/>
              <a:ext cx="20350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erta agregada a corto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3"/>
            <p:cNvSpPr/>
            <p:nvPr/>
          </p:nvSpPr>
          <p:spPr>
            <a:xfrm>
              <a:off x="6432840" y="3884400"/>
              <a:ext cx="1809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zo se desplaza . .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4"/>
          <p:cNvGrpSpPr/>
          <p:nvPr/>
        </p:nvGrpSpPr>
        <p:grpSpPr>
          <a:xfrm>
            <a:off x="3962520" y="4906800"/>
            <a:ext cx="2541600" cy="1616400"/>
            <a:chOff x="3962520" y="4906800"/>
            <a:chExt cx="2541600" cy="1616400"/>
          </a:xfrm>
        </p:grpSpPr>
        <p:sp>
          <p:nvSpPr>
            <p:cNvPr id="170" name="Line 75"/>
            <p:cNvSpPr/>
            <p:nvPr/>
          </p:nvSpPr>
          <p:spPr>
            <a:xfrm flipH="1" flipV="1">
              <a:off x="3962520" y="4906800"/>
              <a:ext cx="636480" cy="108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6"/>
            <p:cNvSpPr/>
            <p:nvPr/>
          </p:nvSpPr>
          <p:spPr>
            <a:xfrm>
              <a:off x="4272120" y="5996160"/>
              <a:ext cx="2232000" cy="527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4352760" y="6013440"/>
              <a:ext cx="17683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c0504d"/>
                  </a:solidFill>
                  <a:latin typeface="Arial"/>
                </a:rPr>
                <a:t>.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.  y la p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4355280" y="6253200"/>
              <a:ext cx="20732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orna a su tasa 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79"/>
          <p:cNvGrpSpPr/>
          <p:nvPr/>
        </p:nvGrpSpPr>
        <p:grpSpPr>
          <a:xfrm>
            <a:off x="1198080" y="4707000"/>
            <a:ext cx="3046680" cy="259920"/>
            <a:chOff x="1198080" y="4707000"/>
            <a:chExt cx="3046680" cy="259920"/>
          </a:xfrm>
        </p:grpSpPr>
        <p:sp>
          <p:nvSpPr>
            <p:cNvPr id="175" name="Oval 80"/>
            <p:cNvSpPr/>
            <p:nvPr/>
          </p:nvSpPr>
          <p:spPr>
            <a:xfrm>
              <a:off x="3848040" y="4761000"/>
              <a:ext cx="1285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1"/>
            <p:cNvSpPr/>
            <p:nvPr/>
          </p:nvSpPr>
          <p:spPr>
            <a:xfrm>
              <a:off x="1457280" y="4815000"/>
              <a:ext cx="245124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2"/>
            <p:cNvSpPr/>
            <p:nvPr/>
          </p:nvSpPr>
          <p:spPr>
            <a:xfrm>
              <a:off x="4106880" y="4707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3"/>
            <p:cNvSpPr/>
            <p:nvPr/>
          </p:nvSpPr>
          <p:spPr>
            <a:xfrm>
              <a:off x="1198080" y="470700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84"/>
          <p:cNvGrpSpPr/>
          <p:nvPr/>
        </p:nvGrpSpPr>
        <p:grpSpPr>
          <a:xfrm>
            <a:off x="1198080" y="4200480"/>
            <a:ext cx="2341800" cy="1855440"/>
            <a:chOff x="1198080" y="4200480"/>
            <a:chExt cx="2341800" cy="1855440"/>
          </a:xfrm>
        </p:grpSpPr>
        <p:sp>
          <p:nvSpPr>
            <p:cNvPr id="180" name="Oval 85"/>
            <p:cNvSpPr/>
            <p:nvPr/>
          </p:nvSpPr>
          <p:spPr>
            <a:xfrm>
              <a:off x="3139920" y="4253040"/>
              <a:ext cx="12888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6"/>
            <p:cNvSpPr/>
            <p:nvPr/>
          </p:nvSpPr>
          <p:spPr>
            <a:xfrm>
              <a:off x="1457280" y="4307040"/>
              <a:ext cx="1743120" cy="1434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7"/>
            <p:cNvSpPr/>
            <p:nvPr/>
          </p:nvSpPr>
          <p:spPr>
            <a:xfrm>
              <a:off x="3402000" y="42004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8"/>
            <p:cNvSpPr/>
            <p:nvPr/>
          </p:nvSpPr>
          <p:spPr>
            <a:xfrm>
              <a:off x="1198080" y="420696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9"/>
            <p:cNvSpPr/>
            <p:nvPr/>
          </p:nvSpPr>
          <p:spPr>
            <a:xfrm>
              <a:off x="3136320" y="579600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90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splazamientos de la oferta y demanda agregadas. Ef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i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 Efectos de un desplazamiento de la O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Situación inicial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quilibrio de LP (punto A: Y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y   P =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mbi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 repente aumentan los costos de producción de algunas empre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ado un nivel cualquiera de precios, ahora las empresas quieren ofrecer u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ntidad menor de bienes y servicios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→ Reducción OA → Desplazamiento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a curva OA a corto plazo a la izquierda (O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O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to plazo: movimiento a lo largo de la curva de demanda agregada in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D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del punto A al 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corto plaz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B (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gt;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tanflación: incremento del desempleo e inf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largo plazo: el nivel efectivo de precios es inferior al esperado, y los individuos ajustan sus expectativas a la baj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W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→ Desplazam. de OA a corto plazo a la derecha (OA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OA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largo plaz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A (Y = Y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 P =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miendo, 2 importantes implic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os desplazamientos de la OA pueden provocar una estanflación, es decir, una recesión (reducción de la producción) combinada con una inflación (subida de precio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os efectos solo se mantienen a corto plazo, pues a largo plazo el nivel de producción y de precios vuelve al nivel inic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Un desplazamiento negativo de la oferta agreg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3f6f9"/>
          </a:solidFill>
          <a:ln w="20016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2f4f8"/>
          </a:solidFill>
          <a:ln w="18108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1f4f7"/>
          </a:solidFill>
          <a:ln w="1634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0f2f5"/>
          </a:solidFill>
          <a:ln w="14616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ef1f4"/>
          </a:solidFill>
          <a:ln w="12708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deff3"/>
          </a:solidFill>
          <a:ln w="109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beef2"/>
          </a:solidFill>
          <a:ln w="9036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aecf1"/>
          </a:solidFill>
          <a:ln w="730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9ebf0"/>
          </a:solidFill>
          <a:ln w="540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7eaef"/>
          </a:solidFill>
          <a:ln w="363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1835280" y="1557360"/>
            <a:ext cx="642780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4540320" y="6342120"/>
            <a:ext cx="1440" cy="1440"/>
          </a:xfrm>
          <a:prstGeom prst="line">
            <a:avLst/>
          </a:prstGeom>
          <a:ln w="17640">
            <a:solidFill>
              <a:srgbClr val="602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>
            <a:off x="5684760" y="3276720"/>
            <a:ext cx="74448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4106520" y="6051600"/>
            <a:ext cx="23652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4540320" y="2278080"/>
            <a:ext cx="1440" cy="3591000"/>
          </a:xfrm>
          <a:prstGeom prst="line">
            <a:avLst/>
          </a:prstGeom>
          <a:ln w="54000">
            <a:solidFill>
              <a:srgbClr val="009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 flipV="1">
            <a:off x="1689120" y="4221000"/>
            <a:ext cx="3240" cy="26856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1889280" y="1662120"/>
            <a:ext cx="6427800" cy="420696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6516720" y="5935680"/>
            <a:ext cx="293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1243440" y="159372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1219680" y="183816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656720" y="5942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6"/>
          <p:cNvGrpSpPr/>
          <p:nvPr/>
        </p:nvGrpSpPr>
        <p:grpSpPr>
          <a:xfrm>
            <a:off x="2668320" y="2949120"/>
            <a:ext cx="4974840" cy="2770560"/>
            <a:chOff x="2668320" y="2949120"/>
            <a:chExt cx="4974840" cy="2770560"/>
          </a:xfrm>
        </p:grpSpPr>
        <p:sp>
          <p:nvSpPr>
            <p:cNvPr id="216" name="Line 27"/>
            <p:cNvSpPr/>
            <p:nvPr/>
          </p:nvSpPr>
          <p:spPr>
            <a:xfrm flipH="1" flipV="1">
              <a:off x="2668320" y="2949120"/>
              <a:ext cx="3197160" cy="2684520"/>
            </a:xfrm>
            <a:prstGeom prst="line">
              <a:avLst/>
            </a:prstGeom>
            <a:ln w="5400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8"/>
            <p:cNvSpPr/>
            <p:nvPr/>
          </p:nvSpPr>
          <p:spPr>
            <a:xfrm>
              <a:off x="5882040" y="5491080"/>
              <a:ext cx="176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manda agrega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9"/>
          <p:cNvGrpSpPr/>
          <p:nvPr/>
        </p:nvGrpSpPr>
        <p:grpSpPr>
          <a:xfrm>
            <a:off x="250920" y="4292640"/>
            <a:ext cx="1388160" cy="1125000"/>
            <a:chOff x="250920" y="4292640"/>
            <a:chExt cx="1388160" cy="1125000"/>
          </a:xfrm>
        </p:grpSpPr>
        <p:sp>
          <p:nvSpPr>
            <p:cNvPr id="219" name="Line 30"/>
            <p:cNvSpPr/>
            <p:nvPr/>
          </p:nvSpPr>
          <p:spPr>
            <a:xfrm flipH="1">
              <a:off x="942120" y="4292640"/>
              <a:ext cx="629280" cy="471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1"/>
            <p:cNvSpPr/>
            <p:nvPr/>
          </p:nvSpPr>
          <p:spPr>
            <a:xfrm>
              <a:off x="250920" y="4673520"/>
              <a:ext cx="1342800" cy="744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2"/>
            <p:cNvSpPr/>
            <p:nvPr/>
          </p:nvSpPr>
          <p:spPr>
            <a:xfrm>
              <a:off x="298440" y="4687560"/>
              <a:ext cx="96696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 . .  y u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3"/>
            <p:cNvSpPr/>
            <p:nvPr/>
          </p:nvSpPr>
          <p:spPr>
            <a:xfrm>
              <a:off x="300240" y="4932000"/>
              <a:ext cx="13388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ida del ni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4"/>
            <p:cNvSpPr/>
            <p:nvPr/>
          </p:nvSpPr>
          <p:spPr>
            <a:xfrm>
              <a:off x="300240" y="5175000"/>
              <a:ext cx="10234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pre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5"/>
          <p:cNvGrpSpPr/>
          <p:nvPr/>
        </p:nvGrpSpPr>
        <p:grpSpPr>
          <a:xfrm>
            <a:off x="1289160" y="6159600"/>
            <a:ext cx="4313160" cy="344520"/>
            <a:chOff x="1289160" y="6159600"/>
            <a:chExt cx="4313160" cy="344520"/>
          </a:xfrm>
        </p:grpSpPr>
        <p:sp>
          <p:nvSpPr>
            <p:cNvPr id="225" name="Rectangle 36"/>
            <p:cNvSpPr/>
            <p:nvPr/>
          </p:nvSpPr>
          <p:spPr>
            <a:xfrm>
              <a:off x="1289160" y="6232680"/>
              <a:ext cx="2724120" cy="271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 flipH="1">
              <a:off x="4012920" y="6159600"/>
              <a:ext cx="236520" cy="236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8"/>
            <p:cNvSpPr/>
            <p:nvPr/>
          </p:nvSpPr>
          <p:spPr>
            <a:xfrm>
              <a:off x="1290240" y="6215040"/>
              <a:ext cx="43120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 . . . provoca una disminución de la producción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9"/>
          <p:cNvGrpSpPr/>
          <p:nvPr/>
        </p:nvGrpSpPr>
        <p:grpSpPr>
          <a:xfrm>
            <a:off x="5738760" y="1063800"/>
            <a:ext cx="3503520" cy="2158920"/>
            <a:chOff x="5738760" y="1063800"/>
            <a:chExt cx="3503520" cy="2158920"/>
          </a:xfrm>
        </p:grpSpPr>
        <p:sp>
          <p:nvSpPr>
            <p:cNvPr id="229" name="Line 40"/>
            <p:cNvSpPr/>
            <p:nvPr/>
          </p:nvSpPr>
          <p:spPr>
            <a:xfrm flipV="1">
              <a:off x="6229440" y="1481040"/>
              <a:ext cx="817560" cy="174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41"/>
            <p:cNvSpPr/>
            <p:nvPr/>
          </p:nvSpPr>
          <p:spPr>
            <a:xfrm>
              <a:off x="5738760" y="1063800"/>
              <a:ext cx="2760840" cy="525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42"/>
            <p:cNvSpPr/>
            <p:nvPr/>
          </p:nvSpPr>
          <p:spPr>
            <a:xfrm>
              <a:off x="5791680" y="1076400"/>
              <a:ext cx="301356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 Un desplazamiento adverso de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3"/>
            <p:cNvSpPr/>
            <p:nvPr/>
          </p:nvSpPr>
          <p:spPr>
            <a:xfrm>
              <a:off x="5792760" y="1320840"/>
              <a:ext cx="34495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rva de oferta agregada a corto plazo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44"/>
          <p:cNvGrpSpPr/>
          <p:nvPr/>
        </p:nvGrpSpPr>
        <p:grpSpPr>
          <a:xfrm>
            <a:off x="3541680" y="2282760"/>
            <a:ext cx="4921920" cy="2825640"/>
            <a:chOff x="3541680" y="2282760"/>
            <a:chExt cx="4921920" cy="2825640"/>
          </a:xfrm>
        </p:grpSpPr>
        <p:sp>
          <p:nvSpPr>
            <p:cNvPr id="234" name="Line 45"/>
            <p:cNvSpPr/>
            <p:nvPr/>
          </p:nvSpPr>
          <p:spPr>
            <a:xfrm flipV="1">
              <a:off x="3541680" y="3076560"/>
              <a:ext cx="3486240" cy="2031840"/>
            </a:xfrm>
            <a:prstGeom prst="line">
              <a:avLst/>
            </a:prstGeom>
            <a:ln w="5400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6"/>
            <p:cNvSpPr/>
            <p:nvPr/>
          </p:nvSpPr>
          <p:spPr>
            <a:xfrm>
              <a:off x="6996960" y="2282760"/>
              <a:ext cx="146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erta agrega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7"/>
            <p:cNvSpPr/>
            <p:nvPr/>
          </p:nvSpPr>
          <p:spPr>
            <a:xfrm>
              <a:off x="6966000" y="2527200"/>
              <a:ext cx="123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 corto plaz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6902280" y="277164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49"/>
            <p:cNvSpPr/>
            <p:nvPr/>
          </p:nvSpPr>
          <p:spPr>
            <a:xfrm>
              <a:off x="7572240" y="2771640"/>
              <a:ext cx="28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0"/>
            <p:cNvSpPr/>
            <p:nvPr/>
          </p:nvSpPr>
          <p:spPr>
            <a:xfrm>
              <a:off x="7846920" y="2892600"/>
              <a:ext cx="367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51"/>
          <p:cNvSpPr/>
          <p:nvPr/>
        </p:nvSpPr>
        <p:spPr>
          <a:xfrm>
            <a:off x="4682520" y="2222640"/>
            <a:ext cx="146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2"/>
          <p:cNvSpPr/>
          <p:nvPr/>
        </p:nvSpPr>
        <p:spPr>
          <a:xfrm>
            <a:off x="4633200" y="2467080"/>
            <a:ext cx="127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largo plaz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3"/>
          <p:cNvGrpSpPr/>
          <p:nvPr/>
        </p:nvGrpSpPr>
        <p:grpSpPr>
          <a:xfrm>
            <a:off x="1530360" y="4199040"/>
            <a:ext cx="3187440" cy="1977840"/>
            <a:chOff x="1530360" y="4199040"/>
            <a:chExt cx="3187440" cy="1977840"/>
          </a:xfrm>
        </p:grpSpPr>
        <p:grpSp>
          <p:nvGrpSpPr>
            <p:cNvPr id="243" name="Group 54"/>
            <p:cNvGrpSpPr/>
            <p:nvPr/>
          </p:nvGrpSpPr>
          <p:grpSpPr>
            <a:xfrm>
              <a:off x="4446720" y="5948280"/>
              <a:ext cx="171360" cy="228600"/>
              <a:chOff x="4446720" y="5948280"/>
              <a:chExt cx="171360" cy="228600"/>
            </a:xfrm>
          </p:grpSpPr>
          <p:sp>
            <p:nvSpPr>
              <p:cNvPr id="244" name="Rectangle 55"/>
              <p:cNvSpPr/>
              <p:nvPr/>
            </p:nvSpPr>
            <p:spPr>
              <a:xfrm>
                <a:off x="4446720" y="594828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6"/>
              <p:cNvSpPr/>
              <p:nvPr/>
            </p:nvSpPr>
            <p:spPr>
              <a:xfrm>
                <a:off x="4581720" y="6075360"/>
                <a:ext cx="363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57"/>
            <p:cNvGrpSpPr/>
            <p:nvPr/>
          </p:nvGrpSpPr>
          <p:grpSpPr>
            <a:xfrm>
              <a:off x="1530360" y="4199040"/>
              <a:ext cx="3187440" cy="453960"/>
              <a:chOff x="1530360" y="4199040"/>
              <a:chExt cx="3187440" cy="453960"/>
            </a:xfrm>
          </p:grpSpPr>
          <p:sp>
            <p:nvSpPr>
              <p:cNvPr id="247" name="Line 58"/>
              <p:cNvSpPr/>
              <p:nvPr/>
            </p:nvSpPr>
            <p:spPr>
              <a:xfrm>
                <a:off x="1889280" y="4527720"/>
                <a:ext cx="26510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59"/>
              <p:cNvSpPr/>
              <p:nvPr/>
            </p:nvSpPr>
            <p:spPr>
              <a:xfrm>
                <a:off x="4486320" y="4473720"/>
                <a:ext cx="119160" cy="118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60"/>
              <p:cNvSpPr/>
              <p:nvPr/>
            </p:nvSpPr>
            <p:spPr>
              <a:xfrm>
                <a:off x="4579920" y="419904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61"/>
              <p:cNvSpPr/>
              <p:nvPr/>
            </p:nvSpPr>
            <p:spPr>
              <a:xfrm>
                <a:off x="1530360" y="442440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2"/>
              <p:cNvSpPr/>
              <p:nvPr/>
            </p:nvSpPr>
            <p:spPr>
              <a:xfrm>
                <a:off x="1665360" y="4545000"/>
                <a:ext cx="3636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63"/>
          <p:cNvGrpSpPr/>
          <p:nvPr/>
        </p:nvGrpSpPr>
        <p:grpSpPr>
          <a:xfrm>
            <a:off x="2627280" y="2492280"/>
            <a:ext cx="3743280" cy="2346480"/>
            <a:chOff x="2627280" y="2492280"/>
            <a:chExt cx="3743280" cy="2346480"/>
          </a:xfrm>
        </p:grpSpPr>
        <p:sp>
          <p:nvSpPr>
            <p:cNvPr id="253" name="Line 64"/>
            <p:cNvSpPr/>
            <p:nvPr/>
          </p:nvSpPr>
          <p:spPr>
            <a:xfrm flipV="1">
              <a:off x="2627280" y="2771640"/>
              <a:ext cx="3614760" cy="2067120"/>
            </a:xfrm>
            <a:prstGeom prst="line">
              <a:avLst/>
            </a:prstGeom>
            <a:ln w="5400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5"/>
            <p:cNvSpPr/>
            <p:nvPr/>
          </p:nvSpPr>
          <p:spPr>
            <a:xfrm>
              <a:off x="6023880" y="2492280"/>
              <a:ext cx="346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6"/>
          <p:cNvGrpSpPr/>
          <p:nvPr/>
        </p:nvGrpSpPr>
        <p:grpSpPr>
          <a:xfrm>
            <a:off x="1534680" y="3753000"/>
            <a:ext cx="2532240" cy="2455200"/>
            <a:chOff x="1534680" y="3753000"/>
            <a:chExt cx="2532240" cy="2455200"/>
          </a:xfrm>
        </p:grpSpPr>
        <p:sp>
          <p:nvSpPr>
            <p:cNvPr id="256" name="Freeform 67"/>
            <p:cNvSpPr/>
            <p:nvPr/>
          </p:nvSpPr>
          <p:spPr>
            <a:xfrm>
              <a:off x="1889280" y="4056120"/>
              <a:ext cx="2087280" cy="1812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68"/>
            <p:cNvSpPr/>
            <p:nvPr/>
          </p:nvSpPr>
          <p:spPr>
            <a:xfrm>
              <a:off x="3922560" y="3983040"/>
              <a:ext cx="119160" cy="11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9"/>
            <p:cNvSpPr/>
            <p:nvPr/>
          </p:nvSpPr>
          <p:spPr>
            <a:xfrm>
              <a:off x="3929040" y="3753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3839760" y="594828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1"/>
            <p:cNvSpPr/>
            <p:nvPr/>
          </p:nvSpPr>
          <p:spPr>
            <a:xfrm>
              <a:off x="1534680" y="395460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72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3"/>
          <p:cNvSpPr/>
          <p:nvPr/>
        </p:nvSpPr>
        <p:spPr>
          <a:xfrm>
            <a:off x="4716360" y="3789360"/>
            <a:ext cx="99864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74"/>
          <p:cNvGrpSpPr/>
          <p:nvPr/>
        </p:nvGrpSpPr>
        <p:grpSpPr>
          <a:xfrm>
            <a:off x="5219280" y="3860640"/>
            <a:ext cx="3192480" cy="998280"/>
            <a:chOff x="5219280" y="3860640"/>
            <a:chExt cx="3192480" cy="998280"/>
          </a:xfrm>
        </p:grpSpPr>
        <p:sp>
          <p:nvSpPr>
            <p:cNvPr id="264" name="Line 75"/>
            <p:cNvSpPr/>
            <p:nvPr/>
          </p:nvSpPr>
          <p:spPr>
            <a:xfrm flipH="1" flipV="1">
              <a:off x="5219280" y="3877920"/>
              <a:ext cx="113076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76"/>
            <p:cNvSpPr/>
            <p:nvPr/>
          </p:nvSpPr>
          <p:spPr>
            <a:xfrm>
              <a:off x="6290280" y="3860640"/>
              <a:ext cx="1853640" cy="998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7"/>
            <p:cNvSpPr/>
            <p:nvPr/>
          </p:nvSpPr>
          <p:spPr>
            <a:xfrm>
              <a:off x="6360480" y="3881160"/>
              <a:ext cx="18676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. . .  pero con el pa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78"/>
            <p:cNvSpPr/>
            <p:nvPr/>
          </p:nvSpPr>
          <p:spPr>
            <a:xfrm>
              <a:off x="6360480" y="4122360"/>
              <a:ext cx="20512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 tiempo, la curv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9"/>
            <p:cNvSpPr/>
            <p:nvPr/>
          </p:nvSpPr>
          <p:spPr>
            <a:xfrm>
              <a:off x="6363360" y="4363560"/>
              <a:ext cx="20350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erta agregada a corto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0"/>
            <p:cNvSpPr/>
            <p:nvPr/>
          </p:nvSpPr>
          <p:spPr>
            <a:xfrm>
              <a:off x="6359760" y="4603320"/>
              <a:ext cx="1809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zo se desplaza . .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81"/>
          <p:cNvGrpSpPr/>
          <p:nvPr/>
        </p:nvGrpSpPr>
        <p:grpSpPr>
          <a:xfrm>
            <a:off x="4572000" y="4581360"/>
            <a:ext cx="2541600" cy="1616400"/>
            <a:chOff x="4572000" y="4581360"/>
            <a:chExt cx="2541600" cy="1616400"/>
          </a:xfrm>
        </p:grpSpPr>
        <p:sp>
          <p:nvSpPr>
            <p:cNvPr id="271" name="Line 82"/>
            <p:cNvSpPr/>
            <p:nvPr/>
          </p:nvSpPr>
          <p:spPr>
            <a:xfrm flipH="1" flipV="1">
              <a:off x="4572000" y="4581360"/>
              <a:ext cx="636480" cy="108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83"/>
            <p:cNvSpPr/>
            <p:nvPr/>
          </p:nvSpPr>
          <p:spPr>
            <a:xfrm>
              <a:off x="4881600" y="5670720"/>
              <a:ext cx="2232000" cy="527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84"/>
            <p:cNvSpPr/>
            <p:nvPr/>
          </p:nvSpPr>
          <p:spPr>
            <a:xfrm>
              <a:off x="4962240" y="5688000"/>
              <a:ext cx="17686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. . .  y la p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85"/>
            <p:cNvSpPr/>
            <p:nvPr/>
          </p:nvSpPr>
          <p:spPr>
            <a:xfrm>
              <a:off x="4964760" y="5927760"/>
              <a:ext cx="20732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orna a su tasa 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3449 L 0.09444 0.03912 E">
                                      <p:cBhvr>
                                        <p:cTn id="16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22:51Z</dcterms:created>
  <dc:creator>Pc</dc:creator>
  <dc:description/>
  <dc:language>en-US</dc:language>
  <cp:lastModifiedBy>dii</cp:lastModifiedBy>
  <dcterms:modified xsi:type="dcterms:W3CDTF">2008-11-14T18:05:50Z</dcterms:modified>
  <cp:revision>32</cp:revision>
  <dc:subject/>
  <dc:title>INTRODUCCION A LA  ECONOMIA (IN2C1)</dc:title>
</cp:coreProperties>
</file>