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AB8-48AC-4FDD-9990-A5A8571D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A31-F54A-42DE-9A45-EFDB74B6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6C5-4D5B-42D6-97AA-89D764BD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573-392B-4AF0-A6BE-79460524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19DD-E2D6-4898-ABE3-F9E2EBAC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CAC0-8F25-4878-994D-65A2BB7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6AA2-4D29-42F9-8201-6E6FFB8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8255-08F8-4A0E-985D-F65E883E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C6DB-5797-4233-841C-62A93018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FD90-50CF-441C-B951-27E3CA56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0379-F09B-4B65-AF07-1348C76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E81-B883-428B-8DA9-CF86BA01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256C-7B51-4908-AEC5-E87E20E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9867-FFB1-44F5-831D-3187A55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98A-79EB-4A62-A25C-45DC3CF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E8F-EB0F-482E-82F6-A51CDEE2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BFFA-948D-439D-98BA-83CE6C41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48D-D2BD-4AE6-806D-6EAA6B5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3EE-C4B4-4426-812F-1B51165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5CD-2518-4105-AC18-A524ABA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0AF-5B32-4CE6-9FC7-08B96ABE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873-3BE9-4883-9A17-3EDDC8C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FC8-1B85-4C24-8214-6D037FB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B0F-9A8E-4B5D-8065-8A165E15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2AA-A1CA-4BA8-8651-5DE6C04A95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BBA-2599-44AC-AAA5-00BEBC7F16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69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s” (System tracts): conjunto de estratos con una determinada geometría (onlap, offlap, downlap, etc), que permiten determinar su contemporaneidad deposicional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2472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46800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Sísmica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Distintos tipos de rocas responden diferente ante las ondas sísmicas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f(velocidad sísmica, densidad de la ro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宋体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Es posible identificar 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2637000"/>
            <a:ext cx="6373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11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37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visita</cp:lastModifiedBy>
  <dcterms:modified xsi:type="dcterms:W3CDTF">2008-11-17T16:17:30Z</dcterms:modified>
  <cp:revision>23</cp:revision>
  <dc:subject/>
  <dc:title>Laboratorio VII</dc:title>
</cp:coreProperties>
</file>