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9D6-D7DE-48BF-9EEC-0EB6DD64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170-09F4-4BFD-A975-F7A8E9AC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E7D-B2E0-4A56-A846-E5BF702E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2A8-0BE8-4B1E-87C8-5B43E373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D916-D983-4915-87A1-AB61AB6B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690B-0132-46B5-BF97-91F1C305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D57C-93D4-452A-AF23-067886F7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F0D5-CF43-4113-BFA3-19BF1AFF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BDED-F739-4B82-962A-FEAB323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30D4-AD5E-456D-8A0A-C4148366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284-E77B-4EC2-ADBD-E77A332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D8E-799F-4052-BD0F-D178B367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4A8B-3372-4EBF-87F6-401C8D7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FBE4-8041-4443-8D13-9EB56A9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783B-AC0E-4373-B679-4922248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780D-243E-482D-9368-EB919BE6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A55E-254C-4D99-9029-6B52011A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AE5-0269-4A6A-9B27-D646FA7D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860-4071-4A61-8200-0DD8B888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B50-D48A-4B56-9765-C6CFEB94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D15-4110-4AB4-99A6-EDED6F4F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2CF-5A34-44A9-A005-AAB1250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0FB-5586-48D4-935F-4AEF362C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474-08A6-433F-9CFF-7D6A914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2498-BCA1-4DAD-8FC1-6625584E24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3B09-1F8C-4AD3-BAB5-371F03DAB1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atigrafía sísmica y de secu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476360" y="1413000"/>
            <a:ext cx="6273720" cy="3887640"/>
            <a:chOff x="1476360" y="1413000"/>
            <a:chExt cx="6273720" cy="3887640"/>
          </a:xfrm>
        </p:grpSpPr>
        <p:sp>
          <p:nvSpPr>
            <p:cNvPr id="169" name=""/>
            <p:cNvSpPr/>
            <p:nvPr/>
          </p:nvSpPr>
          <p:spPr>
            <a:xfrm>
              <a:off x="2721600" y="3364560"/>
              <a:ext cx="2178360" cy="1457640"/>
            </a:xfrm>
            <a:custGeom>
              <a:avLst/>
              <a:gdLst/>
              <a:ahLst/>
              <a:rect l="l" t="t" r="r" b="b"/>
              <a:pathLst>
                <a:path w="2045" h="927">
                  <a:moveTo>
                    <a:pt x="28" y="800"/>
                  </a:moveTo>
                  <a:cubicBezTo>
                    <a:pt x="56" y="762"/>
                    <a:pt x="149" y="722"/>
                    <a:pt x="202" y="689"/>
                  </a:cubicBezTo>
                  <a:cubicBezTo>
                    <a:pt x="255" y="656"/>
                    <a:pt x="322" y="630"/>
                    <a:pt x="348" y="599"/>
                  </a:cubicBezTo>
                  <a:cubicBezTo>
                    <a:pt x="374" y="568"/>
                    <a:pt x="331" y="547"/>
                    <a:pt x="358" y="502"/>
                  </a:cubicBezTo>
                  <a:cubicBezTo>
                    <a:pt x="385" y="457"/>
                    <a:pt x="451" y="387"/>
                    <a:pt x="508" y="329"/>
                  </a:cubicBezTo>
                  <a:cubicBezTo>
                    <a:pt x="565" y="271"/>
                    <a:pt x="616" y="205"/>
                    <a:pt x="703" y="156"/>
                  </a:cubicBezTo>
                  <a:cubicBezTo>
                    <a:pt x="790" y="107"/>
                    <a:pt x="939" y="62"/>
                    <a:pt x="1033" y="37"/>
                  </a:cubicBezTo>
                  <a:cubicBezTo>
                    <a:pt x="1127" y="12"/>
                    <a:pt x="1116" y="10"/>
                    <a:pt x="1270" y="5"/>
                  </a:cubicBezTo>
                  <a:cubicBezTo>
                    <a:pt x="1424" y="0"/>
                    <a:pt x="1875" y="0"/>
                    <a:pt x="1960" y="5"/>
                  </a:cubicBezTo>
                  <a:cubicBezTo>
                    <a:pt x="2045" y="10"/>
                    <a:pt x="1842" y="27"/>
                    <a:pt x="1780" y="37"/>
                  </a:cubicBezTo>
                  <a:cubicBezTo>
                    <a:pt x="1718" y="47"/>
                    <a:pt x="1652" y="54"/>
                    <a:pt x="1588" y="65"/>
                  </a:cubicBezTo>
                  <a:cubicBezTo>
                    <a:pt x="1524" y="76"/>
                    <a:pt x="1450" y="96"/>
                    <a:pt x="1393" y="103"/>
                  </a:cubicBezTo>
                  <a:cubicBezTo>
                    <a:pt x="1336" y="110"/>
                    <a:pt x="1293" y="104"/>
                    <a:pt x="1243" y="110"/>
                  </a:cubicBezTo>
                  <a:cubicBezTo>
                    <a:pt x="1193" y="116"/>
                    <a:pt x="1146" y="126"/>
                    <a:pt x="1093" y="140"/>
                  </a:cubicBezTo>
                  <a:cubicBezTo>
                    <a:pt x="1040" y="154"/>
                    <a:pt x="981" y="167"/>
                    <a:pt x="922" y="197"/>
                  </a:cubicBezTo>
                  <a:cubicBezTo>
                    <a:pt x="863" y="227"/>
                    <a:pt x="801" y="267"/>
                    <a:pt x="742" y="317"/>
                  </a:cubicBezTo>
                  <a:cubicBezTo>
                    <a:pt x="683" y="367"/>
                    <a:pt x="607" y="459"/>
                    <a:pt x="568" y="497"/>
                  </a:cubicBezTo>
                  <a:cubicBezTo>
                    <a:pt x="529" y="535"/>
                    <a:pt x="533" y="515"/>
                    <a:pt x="508" y="545"/>
                  </a:cubicBezTo>
                  <a:cubicBezTo>
                    <a:pt x="483" y="575"/>
                    <a:pt x="445" y="642"/>
                    <a:pt x="418" y="677"/>
                  </a:cubicBezTo>
                  <a:cubicBezTo>
                    <a:pt x="391" y="712"/>
                    <a:pt x="368" y="734"/>
                    <a:pt x="348" y="755"/>
                  </a:cubicBezTo>
                  <a:cubicBezTo>
                    <a:pt x="328" y="776"/>
                    <a:pt x="333" y="783"/>
                    <a:pt x="298" y="800"/>
                  </a:cubicBezTo>
                  <a:cubicBezTo>
                    <a:pt x="263" y="817"/>
                    <a:pt x="180" y="837"/>
                    <a:pt x="136" y="857"/>
                  </a:cubicBezTo>
                  <a:cubicBezTo>
                    <a:pt x="92" y="877"/>
                    <a:pt x="53" y="927"/>
                    <a:pt x="36" y="920"/>
                  </a:cubicBezTo>
                  <a:cubicBezTo>
                    <a:pt x="19" y="913"/>
                    <a:pt x="0" y="838"/>
                    <a:pt x="28" y="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6360" y="3001320"/>
              <a:ext cx="1298520" cy="1937520"/>
            </a:xfrm>
            <a:custGeom>
              <a:avLst/>
              <a:gdLst/>
              <a:ahLst/>
              <a:rect l="l" t="t" r="r" b="b"/>
              <a:pathLst>
                <a:path w="1219" h="1232">
                  <a:moveTo>
                    <a:pt x="81" y="12"/>
                  </a:moveTo>
                  <a:cubicBezTo>
                    <a:pt x="57" y="0"/>
                    <a:pt x="89" y="68"/>
                    <a:pt x="89" y="93"/>
                  </a:cubicBezTo>
                  <a:cubicBezTo>
                    <a:pt x="89" y="118"/>
                    <a:pt x="0" y="76"/>
                    <a:pt x="81" y="164"/>
                  </a:cubicBezTo>
                  <a:cubicBezTo>
                    <a:pt x="162" y="252"/>
                    <a:pt x="431" y="470"/>
                    <a:pt x="578" y="622"/>
                  </a:cubicBezTo>
                  <a:cubicBezTo>
                    <a:pt x="725" y="774"/>
                    <a:pt x="866" y="974"/>
                    <a:pt x="963" y="1075"/>
                  </a:cubicBezTo>
                  <a:cubicBezTo>
                    <a:pt x="1060" y="1176"/>
                    <a:pt x="1128" y="1226"/>
                    <a:pt x="1161" y="1229"/>
                  </a:cubicBezTo>
                  <a:cubicBezTo>
                    <a:pt x="1194" y="1232"/>
                    <a:pt x="1219" y="1168"/>
                    <a:pt x="1161" y="1092"/>
                  </a:cubicBezTo>
                  <a:cubicBezTo>
                    <a:pt x="1103" y="1016"/>
                    <a:pt x="910" y="882"/>
                    <a:pt x="813" y="772"/>
                  </a:cubicBezTo>
                  <a:cubicBezTo>
                    <a:pt x="716" y="662"/>
                    <a:pt x="675" y="532"/>
                    <a:pt x="578" y="431"/>
                  </a:cubicBezTo>
                  <a:cubicBezTo>
                    <a:pt x="481" y="330"/>
                    <a:pt x="311" y="229"/>
                    <a:pt x="231" y="164"/>
                  </a:cubicBezTo>
                  <a:cubicBezTo>
                    <a:pt x="151" y="99"/>
                    <a:pt x="113" y="26"/>
                    <a:pt x="81" y="1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7200" y="3427560"/>
              <a:ext cx="1477440" cy="251640"/>
            </a:xfrm>
            <a:custGeom>
              <a:avLst/>
              <a:gdLst/>
              <a:ahLst/>
              <a:rect l="l" t="t" r="r" b="b"/>
              <a:pathLst>
                <a:path w="1387" h="160">
                  <a:moveTo>
                    <a:pt x="112" y="9"/>
                  </a:moveTo>
                  <a:cubicBezTo>
                    <a:pt x="0" y="18"/>
                    <a:pt x="57" y="59"/>
                    <a:pt x="112" y="69"/>
                  </a:cubicBezTo>
                  <a:cubicBezTo>
                    <a:pt x="167" y="79"/>
                    <a:pt x="390" y="60"/>
                    <a:pt x="445" y="69"/>
                  </a:cubicBezTo>
                  <a:cubicBezTo>
                    <a:pt x="500" y="78"/>
                    <a:pt x="388" y="117"/>
                    <a:pt x="445" y="124"/>
                  </a:cubicBezTo>
                  <a:cubicBezTo>
                    <a:pt x="502" y="131"/>
                    <a:pt x="720" y="109"/>
                    <a:pt x="787" y="114"/>
                  </a:cubicBezTo>
                  <a:cubicBezTo>
                    <a:pt x="854" y="119"/>
                    <a:pt x="755" y="150"/>
                    <a:pt x="845" y="155"/>
                  </a:cubicBezTo>
                  <a:cubicBezTo>
                    <a:pt x="935" y="160"/>
                    <a:pt x="1267" y="151"/>
                    <a:pt x="1327" y="144"/>
                  </a:cubicBezTo>
                  <a:cubicBezTo>
                    <a:pt x="1387" y="137"/>
                    <a:pt x="1253" y="120"/>
                    <a:pt x="1207" y="114"/>
                  </a:cubicBezTo>
                  <a:cubicBezTo>
                    <a:pt x="1161" y="108"/>
                    <a:pt x="1104" y="119"/>
                    <a:pt x="1051" y="107"/>
                  </a:cubicBezTo>
                  <a:cubicBezTo>
                    <a:pt x="998" y="95"/>
                    <a:pt x="933" y="57"/>
                    <a:pt x="889" y="41"/>
                  </a:cubicBezTo>
                  <a:cubicBezTo>
                    <a:pt x="845" y="25"/>
                    <a:pt x="916" y="17"/>
                    <a:pt x="787" y="12"/>
                  </a:cubicBezTo>
                  <a:cubicBezTo>
                    <a:pt x="658" y="7"/>
                    <a:pt x="224" y="0"/>
                    <a:pt x="112" y="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3880" y="3595680"/>
              <a:ext cx="1276200" cy="1040760"/>
            </a:xfrm>
            <a:custGeom>
              <a:avLst/>
              <a:gdLst/>
              <a:ahLst/>
              <a:rect l="l" t="t" r="r" b="b"/>
              <a:pathLst>
                <a:path w="1198" h="662">
                  <a:moveTo>
                    <a:pt x="10" y="652"/>
                  </a:moveTo>
                  <a:cubicBezTo>
                    <a:pt x="20" y="662"/>
                    <a:pt x="155" y="569"/>
                    <a:pt x="220" y="526"/>
                  </a:cubicBezTo>
                  <a:cubicBezTo>
                    <a:pt x="285" y="483"/>
                    <a:pt x="340" y="437"/>
                    <a:pt x="400" y="394"/>
                  </a:cubicBezTo>
                  <a:cubicBezTo>
                    <a:pt x="460" y="351"/>
                    <a:pt x="523" y="308"/>
                    <a:pt x="580" y="268"/>
                  </a:cubicBezTo>
                  <a:cubicBezTo>
                    <a:pt x="637" y="228"/>
                    <a:pt x="685" y="190"/>
                    <a:pt x="745" y="154"/>
                  </a:cubicBezTo>
                  <a:cubicBezTo>
                    <a:pt x="805" y="118"/>
                    <a:pt x="868" y="74"/>
                    <a:pt x="940" y="50"/>
                  </a:cubicBezTo>
                  <a:cubicBezTo>
                    <a:pt x="1012" y="26"/>
                    <a:pt x="1162" y="14"/>
                    <a:pt x="1180" y="7"/>
                  </a:cubicBezTo>
                  <a:cubicBezTo>
                    <a:pt x="1198" y="0"/>
                    <a:pt x="1100" y="2"/>
                    <a:pt x="1045" y="7"/>
                  </a:cubicBezTo>
                  <a:cubicBezTo>
                    <a:pt x="990" y="12"/>
                    <a:pt x="910" y="30"/>
                    <a:pt x="850" y="37"/>
                  </a:cubicBezTo>
                  <a:cubicBezTo>
                    <a:pt x="790" y="44"/>
                    <a:pt x="733" y="37"/>
                    <a:pt x="685" y="50"/>
                  </a:cubicBezTo>
                  <a:cubicBezTo>
                    <a:pt x="637" y="63"/>
                    <a:pt x="602" y="97"/>
                    <a:pt x="562" y="118"/>
                  </a:cubicBezTo>
                  <a:cubicBezTo>
                    <a:pt x="522" y="139"/>
                    <a:pt x="477" y="155"/>
                    <a:pt x="442" y="178"/>
                  </a:cubicBezTo>
                  <a:cubicBezTo>
                    <a:pt x="407" y="201"/>
                    <a:pt x="383" y="228"/>
                    <a:pt x="355" y="256"/>
                  </a:cubicBezTo>
                  <a:cubicBezTo>
                    <a:pt x="327" y="284"/>
                    <a:pt x="297" y="322"/>
                    <a:pt x="274" y="346"/>
                  </a:cubicBezTo>
                  <a:cubicBezTo>
                    <a:pt x="251" y="370"/>
                    <a:pt x="233" y="379"/>
                    <a:pt x="214" y="399"/>
                  </a:cubicBezTo>
                  <a:cubicBezTo>
                    <a:pt x="195" y="419"/>
                    <a:pt x="188" y="424"/>
                    <a:pt x="160" y="466"/>
                  </a:cubicBezTo>
                  <a:cubicBezTo>
                    <a:pt x="132" y="508"/>
                    <a:pt x="0" y="642"/>
                    <a:pt x="10" y="65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9200" y="3061080"/>
              <a:ext cx="1788480" cy="1161720"/>
            </a:xfrm>
            <a:custGeom>
              <a:avLst/>
              <a:gdLst/>
              <a:ahLst/>
              <a:rect l="l" t="t" r="r" b="b"/>
              <a:pathLst>
                <a:path w="1679" h="739">
                  <a:moveTo>
                    <a:pt x="7" y="734"/>
                  </a:moveTo>
                  <a:cubicBezTo>
                    <a:pt x="0" y="729"/>
                    <a:pt x="77" y="645"/>
                    <a:pt x="139" y="614"/>
                  </a:cubicBezTo>
                  <a:cubicBezTo>
                    <a:pt x="201" y="583"/>
                    <a:pt x="309" y="565"/>
                    <a:pt x="379" y="548"/>
                  </a:cubicBezTo>
                  <a:cubicBezTo>
                    <a:pt x="449" y="531"/>
                    <a:pt x="489" y="522"/>
                    <a:pt x="559" y="512"/>
                  </a:cubicBezTo>
                  <a:cubicBezTo>
                    <a:pt x="629" y="502"/>
                    <a:pt x="724" y="497"/>
                    <a:pt x="799" y="488"/>
                  </a:cubicBezTo>
                  <a:cubicBezTo>
                    <a:pt x="874" y="479"/>
                    <a:pt x="932" y="476"/>
                    <a:pt x="1009" y="458"/>
                  </a:cubicBezTo>
                  <a:cubicBezTo>
                    <a:pt x="1086" y="440"/>
                    <a:pt x="1185" y="408"/>
                    <a:pt x="1261" y="377"/>
                  </a:cubicBezTo>
                  <a:cubicBezTo>
                    <a:pt x="1337" y="346"/>
                    <a:pt x="1399" y="333"/>
                    <a:pt x="1465" y="274"/>
                  </a:cubicBezTo>
                  <a:cubicBezTo>
                    <a:pt x="1531" y="215"/>
                    <a:pt x="1639" y="50"/>
                    <a:pt x="1659" y="25"/>
                  </a:cubicBezTo>
                  <a:cubicBezTo>
                    <a:pt x="1679" y="0"/>
                    <a:pt x="1605" y="98"/>
                    <a:pt x="1585" y="126"/>
                  </a:cubicBezTo>
                  <a:cubicBezTo>
                    <a:pt x="1565" y="154"/>
                    <a:pt x="1570" y="156"/>
                    <a:pt x="1542" y="193"/>
                  </a:cubicBezTo>
                  <a:cubicBezTo>
                    <a:pt x="1514" y="230"/>
                    <a:pt x="1456" y="308"/>
                    <a:pt x="1417" y="347"/>
                  </a:cubicBezTo>
                  <a:cubicBezTo>
                    <a:pt x="1378" y="386"/>
                    <a:pt x="1354" y="401"/>
                    <a:pt x="1307" y="428"/>
                  </a:cubicBezTo>
                  <a:cubicBezTo>
                    <a:pt x="1260" y="455"/>
                    <a:pt x="1185" y="492"/>
                    <a:pt x="1135" y="512"/>
                  </a:cubicBezTo>
                  <a:cubicBezTo>
                    <a:pt x="1085" y="532"/>
                    <a:pt x="1065" y="536"/>
                    <a:pt x="1009" y="548"/>
                  </a:cubicBezTo>
                  <a:cubicBezTo>
                    <a:pt x="953" y="560"/>
                    <a:pt x="867" y="578"/>
                    <a:pt x="799" y="584"/>
                  </a:cubicBezTo>
                  <a:cubicBezTo>
                    <a:pt x="731" y="590"/>
                    <a:pt x="657" y="582"/>
                    <a:pt x="601" y="584"/>
                  </a:cubicBezTo>
                  <a:cubicBezTo>
                    <a:pt x="545" y="586"/>
                    <a:pt x="505" y="591"/>
                    <a:pt x="461" y="596"/>
                  </a:cubicBezTo>
                  <a:cubicBezTo>
                    <a:pt x="417" y="601"/>
                    <a:pt x="376" y="604"/>
                    <a:pt x="337" y="614"/>
                  </a:cubicBezTo>
                  <a:cubicBezTo>
                    <a:pt x="298" y="624"/>
                    <a:pt x="255" y="651"/>
                    <a:pt x="229" y="656"/>
                  </a:cubicBezTo>
                  <a:cubicBezTo>
                    <a:pt x="203" y="661"/>
                    <a:pt x="216" y="638"/>
                    <a:pt x="179" y="644"/>
                  </a:cubicBezTo>
                  <a:cubicBezTo>
                    <a:pt x="142" y="650"/>
                    <a:pt x="14" y="739"/>
                    <a:pt x="7" y="73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0280" y="3188520"/>
              <a:ext cx="1685160" cy="485640"/>
            </a:xfrm>
            <a:custGeom>
              <a:avLst/>
              <a:gdLst/>
              <a:ahLst/>
              <a:rect l="l" t="t" r="r" b="b"/>
              <a:pathLst>
                <a:path w="1582" h="309">
                  <a:moveTo>
                    <a:pt x="11" y="154"/>
                  </a:moveTo>
                  <a:cubicBezTo>
                    <a:pt x="21" y="161"/>
                    <a:pt x="46" y="176"/>
                    <a:pt x="78" y="191"/>
                  </a:cubicBezTo>
                  <a:cubicBezTo>
                    <a:pt x="110" y="206"/>
                    <a:pt x="156" y="230"/>
                    <a:pt x="206" y="244"/>
                  </a:cubicBezTo>
                  <a:cubicBezTo>
                    <a:pt x="256" y="258"/>
                    <a:pt x="319" y="267"/>
                    <a:pt x="378" y="276"/>
                  </a:cubicBezTo>
                  <a:cubicBezTo>
                    <a:pt x="437" y="285"/>
                    <a:pt x="509" y="291"/>
                    <a:pt x="558" y="296"/>
                  </a:cubicBezTo>
                  <a:cubicBezTo>
                    <a:pt x="607" y="301"/>
                    <a:pt x="620" y="303"/>
                    <a:pt x="671" y="304"/>
                  </a:cubicBezTo>
                  <a:cubicBezTo>
                    <a:pt x="722" y="305"/>
                    <a:pt x="805" y="309"/>
                    <a:pt x="866" y="304"/>
                  </a:cubicBezTo>
                  <a:cubicBezTo>
                    <a:pt x="927" y="299"/>
                    <a:pt x="981" y="286"/>
                    <a:pt x="1038" y="274"/>
                  </a:cubicBezTo>
                  <a:cubicBezTo>
                    <a:pt x="1095" y="262"/>
                    <a:pt x="1161" y="247"/>
                    <a:pt x="1211" y="229"/>
                  </a:cubicBezTo>
                  <a:cubicBezTo>
                    <a:pt x="1261" y="211"/>
                    <a:pt x="1294" y="190"/>
                    <a:pt x="1338" y="169"/>
                  </a:cubicBezTo>
                  <a:cubicBezTo>
                    <a:pt x="1382" y="148"/>
                    <a:pt x="1433" y="127"/>
                    <a:pt x="1473" y="101"/>
                  </a:cubicBezTo>
                  <a:cubicBezTo>
                    <a:pt x="1513" y="75"/>
                    <a:pt x="1574" y="22"/>
                    <a:pt x="1578" y="11"/>
                  </a:cubicBezTo>
                  <a:cubicBezTo>
                    <a:pt x="1582" y="0"/>
                    <a:pt x="1541" y="21"/>
                    <a:pt x="1496" y="34"/>
                  </a:cubicBezTo>
                  <a:cubicBezTo>
                    <a:pt x="1451" y="47"/>
                    <a:pt x="1353" y="75"/>
                    <a:pt x="1306" y="88"/>
                  </a:cubicBezTo>
                  <a:cubicBezTo>
                    <a:pt x="1259" y="101"/>
                    <a:pt x="1257" y="103"/>
                    <a:pt x="1212" y="112"/>
                  </a:cubicBezTo>
                  <a:cubicBezTo>
                    <a:pt x="1167" y="121"/>
                    <a:pt x="1096" y="133"/>
                    <a:pt x="1038" y="139"/>
                  </a:cubicBezTo>
                  <a:cubicBezTo>
                    <a:pt x="980" y="145"/>
                    <a:pt x="929" y="143"/>
                    <a:pt x="866" y="146"/>
                  </a:cubicBezTo>
                  <a:cubicBezTo>
                    <a:pt x="803" y="149"/>
                    <a:pt x="728" y="158"/>
                    <a:pt x="660" y="160"/>
                  </a:cubicBezTo>
                  <a:cubicBezTo>
                    <a:pt x="592" y="162"/>
                    <a:pt x="519" y="159"/>
                    <a:pt x="460" y="160"/>
                  </a:cubicBezTo>
                  <a:cubicBezTo>
                    <a:pt x="401" y="161"/>
                    <a:pt x="355" y="167"/>
                    <a:pt x="306" y="164"/>
                  </a:cubicBezTo>
                  <a:cubicBezTo>
                    <a:pt x="257" y="161"/>
                    <a:pt x="203" y="143"/>
                    <a:pt x="168" y="139"/>
                  </a:cubicBezTo>
                  <a:cubicBezTo>
                    <a:pt x="133" y="135"/>
                    <a:pt x="118" y="138"/>
                    <a:pt x="93" y="139"/>
                  </a:cubicBezTo>
                  <a:cubicBezTo>
                    <a:pt x="68" y="140"/>
                    <a:pt x="32" y="144"/>
                    <a:pt x="18" y="146"/>
                  </a:cubicBezTo>
                  <a:cubicBezTo>
                    <a:pt x="4" y="148"/>
                    <a:pt x="0" y="146"/>
                    <a:pt x="11" y="15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1600" y="3095640"/>
              <a:ext cx="4614840" cy="1867680"/>
            </a:xfrm>
            <a:custGeom>
              <a:avLst/>
              <a:gdLst/>
              <a:ahLst/>
              <a:rect l="l" t="t" r="r" b="b"/>
              <a:pathLst>
                <a:path w="4332" h="1188">
                  <a:moveTo>
                    <a:pt x="0" y="1158"/>
                  </a:moveTo>
                  <a:cubicBezTo>
                    <a:pt x="47" y="1154"/>
                    <a:pt x="188" y="1133"/>
                    <a:pt x="292" y="1135"/>
                  </a:cubicBezTo>
                  <a:cubicBezTo>
                    <a:pt x="396" y="1137"/>
                    <a:pt x="510" y="1188"/>
                    <a:pt x="622" y="1169"/>
                  </a:cubicBezTo>
                  <a:cubicBezTo>
                    <a:pt x="734" y="1150"/>
                    <a:pt x="876" y="1050"/>
                    <a:pt x="967" y="1023"/>
                  </a:cubicBezTo>
                  <a:cubicBezTo>
                    <a:pt x="1058" y="996"/>
                    <a:pt x="1088" y="1009"/>
                    <a:pt x="1170" y="1008"/>
                  </a:cubicBezTo>
                  <a:cubicBezTo>
                    <a:pt x="1252" y="1007"/>
                    <a:pt x="1351" y="1011"/>
                    <a:pt x="1462" y="1015"/>
                  </a:cubicBezTo>
                  <a:cubicBezTo>
                    <a:pt x="1573" y="1019"/>
                    <a:pt x="1732" y="1039"/>
                    <a:pt x="1837" y="1032"/>
                  </a:cubicBezTo>
                  <a:cubicBezTo>
                    <a:pt x="1942" y="1025"/>
                    <a:pt x="1988" y="1003"/>
                    <a:pt x="2092" y="970"/>
                  </a:cubicBezTo>
                  <a:cubicBezTo>
                    <a:pt x="2196" y="937"/>
                    <a:pt x="2352" y="887"/>
                    <a:pt x="2460" y="832"/>
                  </a:cubicBezTo>
                  <a:cubicBezTo>
                    <a:pt x="2568" y="777"/>
                    <a:pt x="2635" y="693"/>
                    <a:pt x="2737" y="640"/>
                  </a:cubicBezTo>
                  <a:cubicBezTo>
                    <a:pt x="2839" y="587"/>
                    <a:pt x="2950" y="543"/>
                    <a:pt x="3075" y="513"/>
                  </a:cubicBezTo>
                  <a:cubicBezTo>
                    <a:pt x="3200" y="483"/>
                    <a:pt x="3371" y="477"/>
                    <a:pt x="3487" y="460"/>
                  </a:cubicBezTo>
                  <a:cubicBezTo>
                    <a:pt x="3603" y="443"/>
                    <a:pt x="3691" y="427"/>
                    <a:pt x="3772" y="408"/>
                  </a:cubicBezTo>
                  <a:cubicBezTo>
                    <a:pt x="3853" y="389"/>
                    <a:pt x="3910" y="382"/>
                    <a:pt x="3975" y="348"/>
                  </a:cubicBezTo>
                  <a:cubicBezTo>
                    <a:pt x="4040" y="314"/>
                    <a:pt x="4103" y="261"/>
                    <a:pt x="4162" y="205"/>
                  </a:cubicBezTo>
                  <a:cubicBezTo>
                    <a:pt x="4221" y="149"/>
                    <a:pt x="4332" y="20"/>
                    <a:pt x="4327" y="10"/>
                  </a:cubicBezTo>
                  <a:cubicBezTo>
                    <a:pt x="4322" y="0"/>
                    <a:pt x="4177" y="114"/>
                    <a:pt x="4132" y="145"/>
                  </a:cubicBezTo>
                  <a:cubicBezTo>
                    <a:pt x="4087" y="176"/>
                    <a:pt x="4092" y="177"/>
                    <a:pt x="4057" y="198"/>
                  </a:cubicBezTo>
                  <a:cubicBezTo>
                    <a:pt x="4022" y="219"/>
                    <a:pt x="3978" y="251"/>
                    <a:pt x="3922" y="273"/>
                  </a:cubicBezTo>
                  <a:cubicBezTo>
                    <a:pt x="3866" y="295"/>
                    <a:pt x="3775" y="320"/>
                    <a:pt x="3720" y="333"/>
                  </a:cubicBezTo>
                  <a:cubicBezTo>
                    <a:pt x="3665" y="346"/>
                    <a:pt x="3664" y="342"/>
                    <a:pt x="3592" y="348"/>
                  </a:cubicBezTo>
                  <a:cubicBezTo>
                    <a:pt x="3520" y="354"/>
                    <a:pt x="3386" y="370"/>
                    <a:pt x="3285" y="370"/>
                  </a:cubicBezTo>
                  <a:cubicBezTo>
                    <a:pt x="3184" y="370"/>
                    <a:pt x="3075" y="350"/>
                    <a:pt x="2985" y="348"/>
                  </a:cubicBezTo>
                  <a:cubicBezTo>
                    <a:pt x="2895" y="346"/>
                    <a:pt x="2807" y="357"/>
                    <a:pt x="2745" y="355"/>
                  </a:cubicBezTo>
                  <a:cubicBezTo>
                    <a:pt x="2683" y="353"/>
                    <a:pt x="2657" y="338"/>
                    <a:pt x="2610" y="333"/>
                  </a:cubicBezTo>
                  <a:cubicBezTo>
                    <a:pt x="2563" y="328"/>
                    <a:pt x="2512" y="325"/>
                    <a:pt x="2460" y="325"/>
                  </a:cubicBezTo>
                  <a:cubicBezTo>
                    <a:pt x="2408" y="325"/>
                    <a:pt x="2327" y="343"/>
                    <a:pt x="2295" y="333"/>
                  </a:cubicBezTo>
                  <a:cubicBezTo>
                    <a:pt x="2263" y="323"/>
                    <a:pt x="2321" y="276"/>
                    <a:pt x="2265" y="265"/>
                  </a:cubicBezTo>
                  <a:cubicBezTo>
                    <a:pt x="2209" y="254"/>
                    <a:pt x="2008" y="274"/>
                    <a:pt x="1957" y="265"/>
                  </a:cubicBezTo>
                  <a:cubicBezTo>
                    <a:pt x="1906" y="256"/>
                    <a:pt x="1992" y="215"/>
                    <a:pt x="1957" y="213"/>
                  </a:cubicBezTo>
                  <a:cubicBezTo>
                    <a:pt x="1922" y="211"/>
                    <a:pt x="1812" y="241"/>
                    <a:pt x="1748" y="252"/>
                  </a:cubicBezTo>
                  <a:cubicBezTo>
                    <a:pt x="1684" y="263"/>
                    <a:pt x="1639" y="265"/>
                    <a:pt x="1575" y="280"/>
                  </a:cubicBezTo>
                  <a:cubicBezTo>
                    <a:pt x="1511" y="295"/>
                    <a:pt x="1437" y="313"/>
                    <a:pt x="1365" y="340"/>
                  </a:cubicBezTo>
                  <a:cubicBezTo>
                    <a:pt x="1293" y="367"/>
                    <a:pt x="1216" y="408"/>
                    <a:pt x="1140" y="445"/>
                  </a:cubicBezTo>
                  <a:cubicBezTo>
                    <a:pt x="1064" y="482"/>
                    <a:pt x="986" y="521"/>
                    <a:pt x="907" y="565"/>
                  </a:cubicBezTo>
                  <a:cubicBezTo>
                    <a:pt x="828" y="609"/>
                    <a:pt x="738" y="664"/>
                    <a:pt x="667" y="712"/>
                  </a:cubicBezTo>
                  <a:cubicBezTo>
                    <a:pt x="596" y="760"/>
                    <a:pt x="520" y="817"/>
                    <a:pt x="480" y="850"/>
                  </a:cubicBezTo>
                  <a:cubicBezTo>
                    <a:pt x="440" y="883"/>
                    <a:pt x="493" y="869"/>
                    <a:pt x="427" y="910"/>
                  </a:cubicBezTo>
                  <a:cubicBezTo>
                    <a:pt x="361" y="951"/>
                    <a:pt x="154" y="1059"/>
                    <a:pt x="82" y="1098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1320" y="1832760"/>
              <a:ext cx="720" cy="1789560"/>
            </a:xfrm>
            <a:custGeom>
              <a:avLst/>
              <a:gdLst/>
              <a:ahLst/>
              <a:rect l="l" t="t" r="r" b="b"/>
              <a:pathLst>
                <a:path w="1" h="1138">
                  <a:moveTo>
                    <a:pt x="0" y="0"/>
                  </a:moveTo>
                  <a:lnTo>
                    <a:pt x="0" y="11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1600" y="5300640"/>
              <a:ext cx="465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66320" y="3062520"/>
              <a:ext cx="0" cy="223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2400" y="1864440"/>
              <a:ext cx="297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12960" y="3439800"/>
              <a:ext cx="0" cy="18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2960" y="3439800"/>
              <a:ext cx="286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62400" y="1864440"/>
              <a:ext cx="1150560" cy="157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47520" y="1413000"/>
              <a:ext cx="2818800" cy="1649520"/>
            </a:xfrm>
            <a:custGeom>
              <a:avLst/>
              <a:gdLst/>
              <a:ahLst/>
              <a:rect l="l" t="t" r="r" b="b"/>
              <a:pathLst>
                <a:path w="2646" h="1049">
                  <a:moveTo>
                    <a:pt x="0" y="287"/>
                  </a:moveTo>
                  <a:cubicBezTo>
                    <a:pt x="47" y="272"/>
                    <a:pt x="135" y="220"/>
                    <a:pt x="276" y="197"/>
                  </a:cubicBezTo>
                  <a:cubicBezTo>
                    <a:pt x="417" y="174"/>
                    <a:pt x="691" y="157"/>
                    <a:pt x="846" y="149"/>
                  </a:cubicBezTo>
                  <a:cubicBezTo>
                    <a:pt x="1001" y="141"/>
                    <a:pt x="1129" y="149"/>
                    <a:pt x="1206" y="149"/>
                  </a:cubicBezTo>
                  <a:cubicBezTo>
                    <a:pt x="1283" y="149"/>
                    <a:pt x="1273" y="161"/>
                    <a:pt x="1308" y="149"/>
                  </a:cubicBezTo>
                  <a:cubicBezTo>
                    <a:pt x="1343" y="137"/>
                    <a:pt x="1366" y="99"/>
                    <a:pt x="1416" y="77"/>
                  </a:cubicBezTo>
                  <a:cubicBezTo>
                    <a:pt x="1466" y="55"/>
                    <a:pt x="1554" y="0"/>
                    <a:pt x="1608" y="17"/>
                  </a:cubicBezTo>
                  <a:cubicBezTo>
                    <a:pt x="1662" y="34"/>
                    <a:pt x="1677" y="134"/>
                    <a:pt x="1740" y="179"/>
                  </a:cubicBezTo>
                  <a:cubicBezTo>
                    <a:pt x="1803" y="224"/>
                    <a:pt x="1913" y="229"/>
                    <a:pt x="1986" y="287"/>
                  </a:cubicBezTo>
                  <a:cubicBezTo>
                    <a:pt x="2059" y="345"/>
                    <a:pt x="2128" y="465"/>
                    <a:pt x="2178" y="527"/>
                  </a:cubicBezTo>
                  <a:cubicBezTo>
                    <a:pt x="2228" y="589"/>
                    <a:pt x="2233" y="612"/>
                    <a:pt x="2286" y="659"/>
                  </a:cubicBezTo>
                  <a:cubicBezTo>
                    <a:pt x="2339" y="706"/>
                    <a:pt x="2436" y="744"/>
                    <a:pt x="2496" y="809"/>
                  </a:cubicBezTo>
                  <a:cubicBezTo>
                    <a:pt x="2556" y="874"/>
                    <a:pt x="2601" y="961"/>
                    <a:pt x="2646" y="10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34560" y="1864440"/>
              <a:ext cx="1041840" cy="1575360"/>
            </a:xfrm>
            <a:custGeom>
              <a:avLst/>
              <a:gdLst/>
              <a:ahLst/>
              <a:rect l="l" t="t" r="r" b="b"/>
              <a:pathLst>
                <a:path w="978" h="1002">
                  <a:moveTo>
                    <a:pt x="0" y="0"/>
                  </a:moveTo>
                  <a:cubicBezTo>
                    <a:pt x="45" y="10"/>
                    <a:pt x="90" y="20"/>
                    <a:pt x="138" y="72"/>
                  </a:cubicBezTo>
                  <a:cubicBezTo>
                    <a:pt x="186" y="124"/>
                    <a:pt x="218" y="242"/>
                    <a:pt x="288" y="312"/>
                  </a:cubicBezTo>
                  <a:cubicBezTo>
                    <a:pt x="358" y="382"/>
                    <a:pt x="478" y="417"/>
                    <a:pt x="558" y="492"/>
                  </a:cubicBezTo>
                  <a:cubicBezTo>
                    <a:pt x="638" y="567"/>
                    <a:pt x="698" y="677"/>
                    <a:pt x="768" y="762"/>
                  </a:cubicBezTo>
                  <a:cubicBezTo>
                    <a:pt x="838" y="847"/>
                    <a:pt x="908" y="924"/>
                    <a:pt x="978" y="10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72760" y="1647000"/>
              <a:ext cx="447480" cy="253080"/>
            </a:xfrm>
            <a:custGeom>
              <a:avLst/>
              <a:gdLst/>
              <a:ahLst/>
              <a:rect l="l" t="t" r="r" b="b"/>
              <a:pathLst>
                <a:path w="420" h="161">
                  <a:moveTo>
                    <a:pt x="0" y="0"/>
                  </a:moveTo>
                  <a:cubicBezTo>
                    <a:pt x="30" y="57"/>
                    <a:pt x="60" y="115"/>
                    <a:pt x="108" y="138"/>
                  </a:cubicBezTo>
                  <a:cubicBezTo>
                    <a:pt x="156" y="161"/>
                    <a:pt x="236" y="151"/>
                    <a:pt x="288" y="138"/>
                  </a:cubicBezTo>
                  <a:cubicBezTo>
                    <a:pt x="340" y="125"/>
                    <a:pt x="380" y="92"/>
                    <a:pt x="42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1680" y="2501280"/>
              <a:ext cx="340560" cy="518760"/>
            </a:xfrm>
            <a:custGeom>
              <a:avLst/>
              <a:gdLst/>
              <a:ahLst/>
              <a:rect l="l" t="t" r="r" b="b"/>
              <a:pathLst>
                <a:path w="320" h="330">
                  <a:moveTo>
                    <a:pt x="65" y="0"/>
                  </a:moveTo>
                  <a:cubicBezTo>
                    <a:pt x="55" y="15"/>
                    <a:pt x="10" y="58"/>
                    <a:pt x="5" y="90"/>
                  </a:cubicBezTo>
                  <a:cubicBezTo>
                    <a:pt x="0" y="122"/>
                    <a:pt x="20" y="167"/>
                    <a:pt x="35" y="195"/>
                  </a:cubicBezTo>
                  <a:cubicBezTo>
                    <a:pt x="50" y="223"/>
                    <a:pt x="48" y="233"/>
                    <a:pt x="95" y="255"/>
                  </a:cubicBezTo>
                  <a:cubicBezTo>
                    <a:pt x="142" y="277"/>
                    <a:pt x="273" y="315"/>
                    <a:pt x="320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3240" y="1864440"/>
              <a:ext cx="352440" cy="45288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91" y="0"/>
                  </a:moveTo>
                  <a:cubicBezTo>
                    <a:pt x="77" y="22"/>
                    <a:pt x="8" y="95"/>
                    <a:pt x="4" y="135"/>
                  </a:cubicBezTo>
                  <a:cubicBezTo>
                    <a:pt x="0" y="175"/>
                    <a:pt x="29" y="215"/>
                    <a:pt x="64" y="240"/>
                  </a:cubicBezTo>
                  <a:cubicBezTo>
                    <a:pt x="99" y="265"/>
                    <a:pt x="170" y="288"/>
                    <a:pt x="214" y="285"/>
                  </a:cubicBezTo>
                  <a:cubicBezTo>
                    <a:pt x="258" y="282"/>
                    <a:pt x="307" y="235"/>
                    <a:pt x="331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35680" y="322128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4160" y="3259080"/>
              <a:ext cx="31680" cy="4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98120" y="3444840"/>
              <a:ext cx="31680" cy="46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24520" y="332676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57680" y="3062520"/>
              <a:ext cx="1808640" cy="383400"/>
            </a:xfrm>
            <a:custGeom>
              <a:avLst/>
              <a:gdLst/>
              <a:ahLst/>
              <a:rect l="l" t="t" r="r" b="b"/>
              <a:pathLst>
                <a:path w="1698" h="244">
                  <a:moveTo>
                    <a:pt x="0" y="225"/>
                  </a:moveTo>
                  <a:cubicBezTo>
                    <a:pt x="60" y="228"/>
                    <a:pt x="248" y="238"/>
                    <a:pt x="360" y="241"/>
                  </a:cubicBezTo>
                  <a:cubicBezTo>
                    <a:pt x="472" y="244"/>
                    <a:pt x="575" y="243"/>
                    <a:pt x="675" y="241"/>
                  </a:cubicBezTo>
                  <a:cubicBezTo>
                    <a:pt x="775" y="239"/>
                    <a:pt x="860" y="233"/>
                    <a:pt x="960" y="226"/>
                  </a:cubicBezTo>
                  <a:cubicBezTo>
                    <a:pt x="1060" y="219"/>
                    <a:pt x="1178" y="216"/>
                    <a:pt x="1275" y="196"/>
                  </a:cubicBezTo>
                  <a:cubicBezTo>
                    <a:pt x="1372" y="176"/>
                    <a:pt x="1475" y="139"/>
                    <a:pt x="1545" y="106"/>
                  </a:cubicBezTo>
                  <a:cubicBezTo>
                    <a:pt x="1615" y="73"/>
                    <a:pt x="1666" y="22"/>
                    <a:pt x="16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78240" y="3259080"/>
              <a:ext cx="1134720" cy="1675080"/>
            </a:xfrm>
            <a:custGeom>
              <a:avLst/>
              <a:gdLst/>
              <a:ahLst/>
              <a:rect l="l" t="t" r="r" b="b"/>
              <a:pathLst>
                <a:path w="1065" h="1065">
                  <a:moveTo>
                    <a:pt x="0" y="0"/>
                  </a:moveTo>
                  <a:lnTo>
                    <a:pt x="1065" y="10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3020040"/>
              <a:ext cx="1150560" cy="1698480"/>
            </a:xfrm>
            <a:custGeom>
              <a:avLst/>
              <a:gdLst/>
              <a:ahLst/>
              <a:rect l="l" t="t" r="r" b="b"/>
              <a:pathLst>
                <a:path w="1080" h="1080">
                  <a:moveTo>
                    <a:pt x="0" y="0"/>
                  </a:moveTo>
                  <a:lnTo>
                    <a:pt x="224" y="193"/>
                  </a:lnTo>
                  <a:lnTo>
                    <a:pt x="1080" y="1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2400" y="3595680"/>
              <a:ext cx="1151640" cy="170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2960" y="3441600"/>
              <a:ext cx="1293840" cy="1276920"/>
            </a:xfrm>
            <a:custGeom>
              <a:avLst/>
              <a:gdLst/>
              <a:ahLst/>
              <a:rect l="l" t="t" r="r" b="b"/>
              <a:pathLst>
                <a:path w="1215" h="812">
                  <a:moveTo>
                    <a:pt x="0" y="812"/>
                  </a:moveTo>
                  <a:cubicBezTo>
                    <a:pt x="82" y="747"/>
                    <a:pt x="180" y="690"/>
                    <a:pt x="270" y="600"/>
                  </a:cubicBezTo>
                  <a:cubicBezTo>
                    <a:pt x="360" y="510"/>
                    <a:pt x="443" y="357"/>
                    <a:pt x="540" y="270"/>
                  </a:cubicBezTo>
                  <a:cubicBezTo>
                    <a:pt x="637" y="183"/>
                    <a:pt x="742" y="120"/>
                    <a:pt x="855" y="75"/>
                  </a:cubicBezTo>
                  <a:cubicBezTo>
                    <a:pt x="968" y="30"/>
                    <a:pt x="1140" y="16"/>
                    <a:pt x="121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2960" y="3441600"/>
              <a:ext cx="2093040" cy="1492200"/>
            </a:xfrm>
            <a:custGeom>
              <a:avLst/>
              <a:gdLst/>
              <a:ahLst/>
              <a:rect l="l" t="t" r="r" b="b"/>
              <a:pathLst>
                <a:path w="1965" h="949">
                  <a:moveTo>
                    <a:pt x="0" y="949"/>
                  </a:moveTo>
                  <a:cubicBezTo>
                    <a:pt x="121" y="871"/>
                    <a:pt x="303" y="776"/>
                    <a:pt x="435" y="690"/>
                  </a:cubicBezTo>
                  <a:cubicBezTo>
                    <a:pt x="567" y="604"/>
                    <a:pt x="675" y="512"/>
                    <a:pt x="795" y="435"/>
                  </a:cubicBezTo>
                  <a:cubicBezTo>
                    <a:pt x="915" y="358"/>
                    <a:pt x="1053" y="277"/>
                    <a:pt x="1155" y="225"/>
                  </a:cubicBezTo>
                  <a:cubicBezTo>
                    <a:pt x="1257" y="173"/>
                    <a:pt x="1313" y="150"/>
                    <a:pt x="1410" y="120"/>
                  </a:cubicBezTo>
                  <a:cubicBezTo>
                    <a:pt x="1507" y="90"/>
                    <a:pt x="1648" y="65"/>
                    <a:pt x="1740" y="45"/>
                  </a:cubicBezTo>
                  <a:cubicBezTo>
                    <a:pt x="1832" y="25"/>
                    <a:pt x="1918" y="10"/>
                    <a:pt x="19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4680" y="3535920"/>
              <a:ext cx="1406160" cy="1085040"/>
            </a:xfrm>
            <a:custGeom>
              <a:avLst/>
              <a:gdLst/>
              <a:ahLst/>
              <a:rect l="l" t="t" r="r" b="b"/>
              <a:pathLst>
                <a:path w="1320" h="690">
                  <a:moveTo>
                    <a:pt x="0" y="690"/>
                  </a:moveTo>
                  <a:cubicBezTo>
                    <a:pt x="48" y="635"/>
                    <a:pt x="203" y="445"/>
                    <a:pt x="288" y="361"/>
                  </a:cubicBezTo>
                  <a:cubicBezTo>
                    <a:pt x="373" y="277"/>
                    <a:pt x="419" y="233"/>
                    <a:pt x="512" y="185"/>
                  </a:cubicBezTo>
                  <a:cubicBezTo>
                    <a:pt x="605" y="137"/>
                    <a:pt x="713" y="104"/>
                    <a:pt x="848" y="73"/>
                  </a:cubicBezTo>
                  <a:cubicBezTo>
                    <a:pt x="983" y="42"/>
                    <a:pt x="1222" y="15"/>
                    <a:pt x="132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7200" y="3103560"/>
              <a:ext cx="1778760" cy="570600"/>
            </a:xfrm>
            <a:custGeom>
              <a:avLst/>
              <a:gdLst/>
              <a:ahLst/>
              <a:rect l="l" t="t" r="r" b="b"/>
              <a:pathLst>
                <a:path w="1670" h="363">
                  <a:moveTo>
                    <a:pt x="0" y="217"/>
                  </a:moveTo>
                  <a:cubicBezTo>
                    <a:pt x="40" y="236"/>
                    <a:pt x="80" y="255"/>
                    <a:pt x="172" y="277"/>
                  </a:cubicBezTo>
                  <a:cubicBezTo>
                    <a:pt x="264" y="299"/>
                    <a:pt x="427" y="341"/>
                    <a:pt x="552" y="352"/>
                  </a:cubicBezTo>
                  <a:cubicBezTo>
                    <a:pt x="677" y="363"/>
                    <a:pt x="802" y="362"/>
                    <a:pt x="920" y="345"/>
                  </a:cubicBezTo>
                  <a:cubicBezTo>
                    <a:pt x="1038" y="328"/>
                    <a:pt x="1135" y="307"/>
                    <a:pt x="1260" y="249"/>
                  </a:cubicBezTo>
                  <a:cubicBezTo>
                    <a:pt x="1385" y="191"/>
                    <a:pt x="1585" y="52"/>
                    <a:pt x="16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14040" y="3100320"/>
              <a:ext cx="4617000" cy="1857240"/>
            </a:xfrm>
            <a:custGeom>
              <a:avLst/>
              <a:gdLst/>
              <a:ahLst/>
              <a:rect l="l" t="t" r="r" b="b"/>
              <a:pathLst>
                <a:path w="4334" h="1181">
                  <a:moveTo>
                    <a:pt x="0" y="1166"/>
                  </a:moveTo>
                  <a:cubicBezTo>
                    <a:pt x="47" y="1158"/>
                    <a:pt x="187" y="1117"/>
                    <a:pt x="284" y="1117"/>
                  </a:cubicBezTo>
                  <a:cubicBezTo>
                    <a:pt x="381" y="1117"/>
                    <a:pt x="479" y="1181"/>
                    <a:pt x="584" y="1166"/>
                  </a:cubicBezTo>
                  <a:cubicBezTo>
                    <a:pt x="689" y="1151"/>
                    <a:pt x="807" y="1058"/>
                    <a:pt x="914" y="1027"/>
                  </a:cubicBezTo>
                  <a:cubicBezTo>
                    <a:pt x="1021" y="996"/>
                    <a:pt x="1089" y="982"/>
                    <a:pt x="1229" y="982"/>
                  </a:cubicBezTo>
                  <a:cubicBezTo>
                    <a:pt x="1369" y="982"/>
                    <a:pt x="1628" y="1027"/>
                    <a:pt x="1755" y="1029"/>
                  </a:cubicBezTo>
                  <a:cubicBezTo>
                    <a:pt x="1882" y="1031"/>
                    <a:pt x="1922" y="1015"/>
                    <a:pt x="1994" y="997"/>
                  </a:cubicBezTo>
                  <a:cubicBezTo>
                    <a:pt x="2066" y="979"/>
                    <a:pt x="2130" y="942"/>
                    <a:pt x="2189" y="922"/>
                  </a:cubicBezTo>
                  <a:cubicBezTo>
                    <a:pt x="2248" y="902"/>
                    <a:pt x="2271" y="917"/>
                    <a:pt x="2351" y="877"/>
                  </a:cubicBezTo>
                  <a:cubicBezTo>
                    <a:pt x="2431" y="837"/>
                    <a:pt x="2581" y="735"/>
                    <a:pt x="2669" y="682"/>
                  </a:cubicBezTo>
                  <a:cubicBezTo>
                    <a:pt x="2757" y="629"/>
                    <a:pt x="2794" y="595"/>
                    <a:pt x="2879" y="562"/>
                  </a:cubicBezTo>
                  <a:cubicBezTo>
                    <a:pt x="2964" y="529"/>
                    <a:pt x="3059" y="508"/>
                    <a:pt x="3179" y="487"/>
                  </a:cubicBezTo>
                  <a:cubicBezTo>
                    <a:pt x="3299" y="466"/>
                    <a:pt x="3451" y="474"/>
                    <a:pt x="3599" y="439"/>
                  </a:cubicBezTo>
                  <a:cubicBezTo>
                    <a:pt x="3747" y="404"/>
                    <a:pt x="3946" y="350"/>
                    <a:pt x="4068" y="277"/>
                  </a:cubicBezTo>
                  <a:cubicBezTo>
                    <a:pt x="4190" y="204"/>
                    <a:pt x="4279" y="58"/>
                    <a:pt x="433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6360" y="3439800"/>
              <a:ext cx="0" cy="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360" y="3535920"/>
              <a:ext cx="35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8080" y="3535920"/>
              <a:ext cx="2880" cy="7092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3" y="0"/>
                  </a:moveTo>
                  <a:lnTo>
                    <a:pt x="0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161320" y="3614400"/>
              <a:ext cx="36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5640" y="3622680"/>
              <a:ext cx="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5640" y="3654000"/>
              <a:ext cx="639000" cy="7560"/>
            </a:xfrm>
            <a:custGeom>
              <a:avLst/>
              <a:gdLst/>
              <a:ahLst/>
              <a:rect l="l" t="t" r="r" b="b"/>
              <a:pathLst>
                <a:path w="600" h="5">
                  <a:moveTo>
                    <a:pt x="0" y="5"/>
                  </a:moveTo>
                  <a:lnTo>
                    <a:pt x="6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5640" y="3090600"/>
              <a:ext cx="1824840" cy="1124280"/>
            </a:xfrm>
            <a:custGeom>
              <a:avLst/>
              <a:gdLst/>
              <a:ahLst/>
              <a:rect l="l" t="t" r="r" b="b"/>
              <a:pathLst>
                <a:path w="1713" h="715">
                  <a:moveTo>
                    <a:pt x="0" y="715"/>
                  </a:moveTo>
                  <a:cubicBezTo>
                    <a:pt x="47" y="699"/>
                    <a:pt x="188" y="644"/>
                    <a:pt x="285" y="621"/>
                  </a:cubicBezTo>
                  <a:cubicBezTo>
                    <a:pt x="382" y="598"/>
                    <a:pt x="511" y="585"/>
                    <a:pt x="585" y="576"/>
                  </a:cubicBezTo>
                  <a:cubicBezTo>
                    <a:pt x="659" y="567"/>
                    <a:pt x="688" y="571"/>
                    <a:pt x="728" y="568"/>
                  </a:cubicBezTo>
                  <a:cubicBezTo>
                    <a:pt x="768" y="565"/>
                    <a:pt x="756" y="571"/>
                    <a:pt x="825" y="561"/>
                  </a:cubicBezTo>
                  <a:cubicBezTo>
                    <a:pt x="894" y="551"/>
                    <a:pt x="1032" y="547"/>
                    <a:pt x="1140" y="508"/>
                  </a:cubicBezTo>
                  <a:cubicBezTo>
                    <a:pt x="1248" y="469"/>
                    <a:pt x="1380" y="413"/>
                    <a:pt x="1476" y="328"/>
                  </a:cubicBezTo>
                  <a:cubicBezTo>
                    <a:pt x="1572" y="243"/>
                    <a:pt x="1644" y="124"/>
                    <a:pt x="17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2480" y="2375280"/>
              <a:ext cx="1470240" cy="845640"/>
            </a:xfrm>
            <a:custGeom>
              <a:avLst/>
              <a:gdLst/>
              <a:ahLst/>
              <a:rect l="l" t="t" r="r" b="b"/>
              <a:pathLst>
                <a:path w="1380" h="538">
                  <a:moveTo>
                    <a:pt x="0" y="538"/>
                  </a:moveTo>
                  <a:cubicBezTo>
                    <a:pt x="45" y="510"/>
                    <a:pt x="199" y="413"/>
                    <a:pt x="273" y="371"/>
                  </a:cubicBezTo>
                  <a:cubicBezTo>
                    <a:pt x="347" y="329"/>
                    <a:pt x="387" y="311"/>
                    <a:pt x="446" y="288"/>
                  </a:cubicBezTo>
                  <a:cubicBezTo>
                    <a:pt x="505" y="265"/>
                    <a:pt x="572" y="247"/>
                    <a:pt x="626" y="236"/>
                  </a:cubicBezTo>
                  <a:cubicBezTo>
                    <a:pt x="680" y="225"/>
                    <a:pt x="716" y="227"/>
                    <a:pt x="768" y="221"/>
                  </a:cubicBezTo>
                  <a:cubicBezTo>
                    <a:pt x="820" y="215"/>
                    <a:pt x="865" y="209"/>
                    <a:pt x="941" y="198"/>
                  </a:cubicBezTo>
                  <a:cubicBezTo>
                    <a:pt x="1017" y="187"/>
                    <a:pt x="1153" y="186"/>
                    <a:pt x="1226" y="153"/>
                  </a:cubicBezTo>
                  <a:cubicBezTo>
                    <a:pt x="1299" y="120"/>
                    <a:pt x="1348" y="32"/>
                    <a:pt x="13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6960" y="2878560"/>
              <a:ext cx="372600" cy="141480"/>
            </a:xfrm>
            <a:custGeom>
              <a:avLst/>
              <a:gdLst/>
              <a:ahLst/>
              <a:rect l="l" t="t" r="r" b="b"/>
              <a:pathLst>
                <a:path w="350" h="90">
                  <a:moveTo>
                    <a:pt x="0" y="28"/>
                  </a:moveTo>
                  <a:cubicBezTo>
                    <a:pt x="44" y="14"/>
                    <a:pt x="88" y="0"/>
                    <a:pt x="146" y="10"/>
                  </a:cubicBezTo>
                  <a:cubicBezTo>
                    <a:pt x="204" y="20"/>
                    <a:pt x="277" y="55"/>
                    <a:pt x="35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6960" y="2375280"/>
              <a:ext cx="1461600" cy="330120"/>
            </a:xfrm>
            <a:custGeom>
              <a:avLst/>
              <a:gdLst/>
              <a:ahLst/>
              <a:rect l="l" t="t" r="r" b="b"/>
              <a:pathLst>
                <a:path w="1372" h="210">
                  <a:moveTo>
                    <a:pt x="0" y="41"/>
                  </a:moveTo>
                  <a:cubicBezTo>
                    <a:pt x="50" y="34"/>
                    <a:pt x="190" y="0"/>
                    <a:pt x="292" y="0"/>
                  </a:cubicBezTo>
                  <a:cubicBezTo>
                    <a:pt x="394" y="0"/>
                    <a:pt x="502" y="15"/>
                    <a:pt x="610" y="42"/>
                  </a:cubicBezTo>
                  <a:cubicBezTo>
                    <a:pt x="718" y="69"/>
                    <a:pt x="813" y="134"/>
                    <a:pt x="940" y="162"/>
                  </a:cubicBezTo>
                  <a:cubicBezTo>
                    <a:pt x="1067" y="190"/>
                    <a:pt x="1219" y="200"/>
                    <a:pt x="1372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42400" y="2510640"/>
              <a:ext cx="351360" cy="194760"/>
            </a:xfrm>
            <a:custGeom>
              <a:avLst/>
              <a:gdLst/>
              <a:ahLst/>
              <a:rect l="l" t="t" r="r" b="b"/>
              <a:pathLst>
                <a:path w="330" h="124">
                  <a:moveTo>
                    <a:pt x="0" y="124"/>
                  </a:moveTo>
                  <a:cubicBezTo>
                    <a:pt x="24" y="90"/>
                    <a:pt x="39" y="55"/>
                    <a:pt x="94" y="34"/>
                  </a:cubicBezTo>
                  <a:cubicBezTo>
                    <a:pt x="149" y="13"/>
                    <a:pt x="281" y="7"/>
                    <a:pt x="3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24160" y="3606840"/>
              <a:ext cx="2269080" cy="1327320"/>
            </a:xfrm>
            <a:custGeom>
              <a:avLst/>
              <a:gdLst/>
              <a:ahLst/>
              <a:rect l="l" t="t" r="r" b="b"/>
              <a:pathLst>
                <a:path w="2130" h="844">
                  <a:moveTo>
                    <a:pt x="0" y="844"/>
                  </a:moveTo>
                  <a:cubicBezTo>
                    <a:pt x="80" y="811"/>
                    <a:pt x="325" y="711"/>
                    <a:pt x="480" y="645"/>
                  </a:cubicBezTo>
                  <a:cubicBezTo>
                    <a:pt x="635" y="579"/>
                    <a:pt x="788" y="515"/>
                    <a:pt x="930" y="450"/>
                  </a:cubicBezTo>
                  <a:cubicBezTo>
                    <a:pt x="1072" y="385"/>
                    <a:pt x="1220" y="305"/>
                    <a:pt x="1335" y="255"/>
                  </a:cubicBezTo>
                  <a:cubicBezTo>
                    <a:pt x="1450" y="205"/>
                    <a:pt x="1488" y="192"/>
                    <a:pt x="1620" y="150"/>
                  </a:cubicBezTo>
                  <a:cubicBezTo>
                    <a:pt x="1752" y="108"/>
                    <a:pt x="2024" y="31"/>
                    <a:pt x="21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32640" y="3535920"/>
              <a:ext cx="2125080" cy="1344600"/>
            </a:xfrm>
            <a:custGeom>
              <a:avLst/>
              <a:gdLst/>
              <a:ahLst/>
              <a:rect l="l" t="t" r="r" b="b"/>
              <a:pathLst>
                <a:path w="1995" h="855">
                  <a:moveTo>
                    <a:pt x="0" y="855"/>
                  </a:moveTo>
                  <a:cubicBezTo>
                    <a:pt x="125" y="785"/>
                    <a:pt x="545" y="547"/>
                    <a:pt x="750" y="435"/>
                  </a:cubicBezTo>
                  <a:cubicBezTo>
                    <a:pt x="955" y="323"/>
                    <a:pt x="1103" y="237"/>
                    <a:pt x="1230" y="180"/>
                  </a:cubicBezTo>
                  <a:cubicBezTo>
                    <a:pt x="1357" y="123"/>
                    <a:pt x="1388" y="120"/>
                    <a:pt x="1515" y="90"/>
                  </a:cubicBezTo>
                  <a:cubicBezTo>
                    <a:pt x="1642" y="60"/>
                    <a:pt x="1895" y="19"/>
                    <a:pt x="19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5400" y="3654000"/>
              <a:ext cx="1840680" cy="990720"/>
            </a:xfrm>
            <a:custGeom>
              <a:avLst/>
              <a:gdLst/>
              <a:ahLst/>
              <a:rect l="l" t="t" r="r" b="b"/>
              <a:pathLst>
                <a:path w="1728" h="630">
                  <a:moveTo>
                    <a:pt x="0" y="630"/>
                  </a:moveTo>
                  <a:cubicBezTo>
                    <a:pt x="67" y="613"/>
                    <a:pt x="273" y="565"/>
                    <a:pt x="405" y="525"/>
                  </a:cubicBezTo>
                  <a:cubicBezTo>
                    <a:pt x="537" y="485"/>
                    <a:pt x="658" y="452"/>
                    <a:pt x="795" y="390"/>
                  </a:cubicBezTo>
                  <a:cubicBezTo>
                    <a:pt x="932" y="328"/>
                    <a:pt x="1075" y="215"/>
                    <a:pt x="1230" y="150"/>
                  </a:cubicBezTo>
                  <a:cubicBezTo>
                    <a:pt x="1385" y="85"/>
                    <a:pt x="1624" y="31"/>
                    <a:pt x="172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2880" y="3671280"/>
              <a:ext cx="1770480" cy="1020600"/>
            </a:xfrm>
            <a:custGeom>
              <a:avLst/>
              <a:gdLst/>
              <a:ahLst/>
              <a:rect l="l" t="t" r="r" b="b"/>
              <a:pathLst>
                <a:path w="1662" h="649">
                  <a:moveTo>
                    <a:pt x="0" y="649"/>
                  </a:moveTo>
                  <a:cubicBezTo>
                    <a:pt x="92" y="614"/>
                    <a:pt x="420" y="501"/>
                    <a:pt x="555" y="439"/>
                  </a:cubicBezTo>
                  <a:cubicBezTo>
                    <a:pt x="690" y="377"/>
                    <a:pt x="702" y="332"/>
                    <a:pt x="810" y="274"/>
                  </a:cubicBezTo>
                  <a:cubicBezTo>
                    <a:pt x="918" y="216"/>
                    <a:pt x="1058" y="140"/>
                    <a:pt x="1200" y="94"/>
                  </a:cubicBezTo>
                  <a:cubicBezTo>
                    <a:pt x="1342" y="48"/>
                    <a:pt x="1566" y="20"/>
                    <a:pt x="16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4960" y="347940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4980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240" y="35578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6948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9304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35680" y="34462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83600" y="3001320"/>
              <a:ext cx="0" cy="60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93040" y="3865680"/>
              <a:ext cx="0" cy="35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926600" y="4215240"/>
              <a:ext cx="39636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075640" y="4941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7000" y="4365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s” (System tracts): conjunto de estratos con una determinada geometría (onlap, offlap, downlap, etc), que permiten determinar su contemporaneidad deposicional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ón de la interacción entre el nivel eustático, sedimentación y tect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transgresivo (TST): por retrogradación (alza del nivel eustático con poco flujo de sedimento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431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1159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de nivel alto (HST): se dispone bajo el TST, son agradacionales a prograd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72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6624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46800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Sísmica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Distintos tipos de rocas responden diferente ante las ondas sísmicas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f(velocidad sísmica, densidad de la ro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Refracción primaria tiende a seguir estratificación y disconform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rdancia angular: estratos más nuevos se disponen con distinto ángulo que los más antig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7363080" cy="3922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Es posible identificar 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conformidad: El contacto entre capas más jóvenes y más antiguas es marcado por una superficie de erosión visible, irregular o desigu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nconcordancia: La roca sedimentaria e ígnea o metamórfica se convierte en una roca más antiguas que se ha expuesto a la erosió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41960" cy="236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08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concordancia: las capas sobre y debajo de la incompatibilidad son paralelas y no hay superficie de erosión evi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0240" y="2637000"/>
            <a:ext cx="6373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pa clave (condensación de eventos): coincidencia de depósitos marinos de alta energía (con muchas conchas), con un límite de biozona, implicando un cambio en la evol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3141720"/>
            <a:ext cx="3744360" cy="2520000"/>
            <a:chOff x="826920" y="3141720"/>
            <a:chExt cx="3744360" cy="2520000"/>
          </a:xfrm>
        </p:grpSpPr>
        <p:grpSp>
          <p:nvGrpSpPr>
            <p:cNvPr id="111" name=""/>
            <p:cNvGrpSpPr/>
            <p:nvPr/>
          </p:nvGrpSpPr>
          <p:grpSpPr>
            <a:xfrm>
              <a:off x="826920" y="3141720"/>
              <a:ext cx="3083400" cy="2520000"/>
              <a:chOff x="826920" y="3141720"/>
              <a:chExt cx="3083400" cy="252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8269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5536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8188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103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855000" y="3268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6760" y="34578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212600">
              <a:off x="1200600" y="436788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30120" y="43430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132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3680" y="414072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6520" y="388764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6520" y="43682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66520" y="402660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884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9600" y="379908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86760" y="4876560"/>
              <a:ext cx="214560" cy="1890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8400" y="48740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8400" y="38876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66520" y="417852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0880" y="3799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0880" y="4545360"/>
              <a:ext cx="919800" cy="88200"/>
            </a:xfrm>
            <a:custGeom>
              <a:avLst/>
              <a:gdLst/>
              <a:ahLst/>
              <a:rect l="l" t="t" r="r" b="b"/>
              <a:pathLst>
                <a:path w="420" h="42">
                  <a:moveTo>
                    <a:pt x="0" y="42"/>
                  </a:moveTo>
                  <a:cubicBezTo>
                    <a:pt x="16" y="21"/>
                    <a:pt x="33" y="0"/>
                    <a:pt x="52" y="0"/>
                  </a:cubicBezTo>
                  <a:cubicBezTo>
                    <a:pt x="71" y="0"/>
                    <a:pt x="87" y="42"/>
                    <a:pt x="113" y="42"/>
                  </a:cubicBezTo>
                  <a:cubicBezTo>
                    <a:pt x="139" y="42"/>
                    <a:pt x="182" y="0"/>
                    <a:pt x="207" y="0"/>
                  </a:cubicBezTo>
                  <a:cubicBezTo>
                    <a:pt x="232" y="0"/>
                    <a:pt x="239" y="42"/>
                    <a:pt x="263" y="42"/>
                  </a:cubicBezTo>
                  <a:cubicBezTo>
                    <a:pt x="287" y="42"/>
                    <a:pt x="323" y="0"/>
                    <a:pt x="349" y="0"/>
                  </a:cubicBezTo>
                  <a:cubicBezTo>
                    <a:pt x="375" y="0"/>
                    <a:pt x="397" y="21"/>
                    <a:pt x="42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7400" y="3799080"/>
              <a:ext cx="234360" cy="834120"/>
            </a:xfrm>
            <a:custGeom>
              <a:avLst/>
              <a:gdLst>
                <a:gd name="textAreaLeft" fmla="*/ 0 w 234360"/>
                <a:gd name="textAreaRight" fmla="*/ 84600 w 234360"/>
                <a:gd name="textAreaTop" fmla="*/ 21600 h 834120"/>
                <a:gd name="textAreaBottom" fmla="*/ 8125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0120" y="458100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947760" y="3619800"/>
              <a:ext cx="62352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588000" y="3141720"/>
            <a:ext cx="1315800" cy="2376000"/>
            <a:chOff x="6588000" y="3141720"/>
            <a:chExt cx="1315800" cy="2376000"/>
          </a:xfrm>
        </p:grpSpPr>
        <p:sp>
          <p:nvSpPr>
            <p:cNvPr id="137" name=""/>
            <p:cNvSpPr/>
            <p:nvPr/>
          </p:nvSpPr>
          <p:spPr>
            <a:xfrm>
              <a:off x="65880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038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1600" y="406980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73400" y="39790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5520" y="38998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05520" y="360576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89520" y="325476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2280" y="360576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656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8188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11480" y="4318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27200" y="442044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3280" y="4318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1880" y="4444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0160" y="4444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0160" y="4544640"/>
              <a:ext cx="1313280" cy="148680"/>
            </a:xfrm>
            <a:custGeom>
              <a:avLst/>
              <a:gdLst/>
              <a:ahLst/>
              <a:rect l="l" t="t" r="r" b="b"/>
              <a:pathLst>
                <a:path w="595" h="79">
                  <a:moveTo>
                    <a:pt x="0" y="66"/>
                  </a:moveTo>
                  <a:cubicBezTo>
                    <a:pt x="29" y="53"/>
                    <a:pt x="59" y="41"/>
                    <a:pt x="83" y="42"/>
                  </a:cubicBezTo>
                  <a:cubicBezTo>
                    <a:pt x="107" y="43"/>
                    <a:pt x="116" y="79"/>
                    <a:pt x="143" y="72"/>
                  </a:cubicBezTo>
                  <a:cubicBezTo>
                    <a:pt x="170" y="65"/>
                    <a:pt x="210" y="2"/>
                    <a:pt x="243" y="1"/>
                  </a:cubicBezTo>
                  <a:cubicBezTo>
                    <a:pt x="276" y="0"/>
                    <a:pt x="307" y="66"/>
                    <a:pt x="341" y="66"/>
                  </a:cubicBezTo>
                  <a:cubicBezTo>
                    <a:pt x="375" y="66"/>
                    <a:pt x="407" y="2"/>
                    <a:pt x="449" y="1"/>
                  </a:cubicBezTo>
                  <a:cubicBezTo>
                    <a:pt x="491" y="0"/>
                    <a:pt x="543" y="30"/>
                    <a:pt x="595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1148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0424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33000" y="47710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2600" y="507636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8880" y="52462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33000" y="522360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4824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ensación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5360" y="5605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30800" y="4005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pamiento expansivo” (geometría en O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selamiento basal” (geometría en Dow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2039760"/>
            <a:ext cx="518472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" y="1589040"/>
            <a:ext cx="868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visita</cp:lastModifiedBy>
  <dcterms:modified xsi:type="dcterms:W3CDTF">2008-11-17T16:17:30Z</dcterms:modified>
  <cp:revision>23</cp:revision>
  <dc:subject/>
  <dc:title>Laboratorio VII</dc:title>
</cp:coreProperties>
</file>