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110-3565-4CA9-B617-3D9CF23D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364-2943-4A3B-BC6F-EDE8CA8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0A5-0A58-4DD7-A0FE-F8680E8F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98E-409D-431A-B211-0B4EFDF6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245-FE94-417B-A464-FC184727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C22-6DDB-4CF6-B5D9-8507DAA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79A-154D-4FF3-8DE9-FABCA01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01C-F493-411E-9050-B14FFE74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7DE-0139-4530-963A-FDEA13DE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5A1-6167-49E5-85EB-A3FFBF3A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5ED-FD57-4606-8719-25CA5CA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66A-E13C-4359-81FF-A2FCAA99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206-5045-4F19-BD9E-7788596C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representa 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0028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presenta la frecuenci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s grande n, mas hay altas frecua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 podemos verificar en el espectro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=1: la parte cosntant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frecuancia nula, tiempo infini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1:00:35Z</dcterms:created>
  <dc:creator>Denis Legrand</dc:creator>
  <dc:description/>
  <dc:language>en-US</dc:language>
  <cp:lastModifiedBy>Denis Legrand</cp:lastModifiedBy>
  <dcterms:modified xsi:type="dcterms:W3CDTF">2008-09-02T15:06:44Z</dcterms:modified>
  <cp:revision>11</cp:revision>
  <dc:subject/>
  <dc:title>Diapositiva 1</dc:title>
</cp:coreProperties>
</file>