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BB46-550F-4352-8CD3-33EAA718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FBB-3C61-43FE-AA9E-02C70382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5BBC-5905-4EC3-9F6E-83AD988C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5676-2192-4A0A-8EB0-B9DCFE8B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46CC-40E0-472B-854E-BEBB81D7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886-D0CA-47E3-B271-D9952A4E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D24B-0A90-4889-BD29-A4D07C67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FD2F-83D3-4C33-B698-7C215559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AB7E-5531-4786-9858-E8B609FD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6C8-2365-40DA-A2CB-C6D632BE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128-0BEF-4C2B-828A-F7B0D4AB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6281-2E70-4D6D-ACFE-8B00E592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6CEA-6E01-4E58-8971-9F8DC54B1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=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=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=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=1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=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=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=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 representa 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700280"/>
            <a:ext cx="8064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epresenta la frecuencia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as grande n, mas hay altas frecua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o podemos verificar en el espectro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=1: la parte cosntante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frecuancia nula, tiempo infinit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21:00:35Z</dcterms:created>
  <dc:creator>Denis Legrand</dc:creator>
  <dc:description/>
  <dc:language>en-US</dc:language>
  <cp:lastModifiedBy>Denis Legrand</cp:lastModifiedBy>
  <dcterms:modified xsi:type="dcterms:W3CDTF">2008-09-02T15:06:44Z</dcterms:modified>
  <cp:revision>11</cp:revision>
  <dc:subject/>
  <dc:title>Diapositiva 1</dc:title>
</cp:coreProperties>
</file>