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8F3-1B9D-4E23-AD7B-CC5D7611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3F9-F389-4288-9499-0753863A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55A-2D3C-4927-A874-E3F9EA8A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522-72F6-42A4-A1F2-44B61B2F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933-5E14-44E2-ADB9-3423FAAF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2FB-4924-4CA7-8B40-3F40E864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08B-6448-44EC-AA86-335B6559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3D5-1DA3-4B92-B353-A5086641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477-29B0-4DF5-9C32-316CC583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E7A-5BFC-4E12-BE9B-2081486B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3F1-F8BE-4E12-A54D-FED8C708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888-E20F-43C7-8B45-CCCDA5D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8CB8-0479-4547-BC14-80B619CE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=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 representa 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70028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Representa la frecuencia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Mas grande n, mas hay altas frecua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 podemos verificar en el espectro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n=1: la parte cosntant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frecuancia nula, tiempo infini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1:00:35Z</dcterms:created>
  <dc:creator>Denis Legrand</dc:creator>
  <dc:description/>
  <dc:language>en-US</dc:language>
  <cp:lastModifiedBy>Denis Legrand</cp:lastModifiedBy>
  <dcterms:modified xsi:type="dcterms:W3CDTF">2008-09-02T15:06:44Z</dcterms:modified>
  <cp:revision>11</cp:revision>
  <dc:subject/>
  <dc:title>Diapositiva 1</dc:title>
</cp:coreProperties>
</file>