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49B9E96-DF3C-40C6-A031-523E192B54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A687-6C2C-476C-BF40-E7F4D90A6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FDAB-F829-4C64-B961-D5C6C826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D780-6268-488C-8B1B-F62A45745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3155-2441-4AC4-801D-47D96D108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FB1D-519F-4C4C-829E-47311F32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C9CC-0889-4DC4-A05C-255FABDA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8225-223E-4EF7-99E6-DA14E437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EB4C-E69A-4658-878C-A0AD9187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BEC0-01B3-4927-BB88-29D2A21F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EF3D-7154-4CCB-AC72-0BE60BD1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4CC6-5F66-4BA5-9FB6-89678966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9D2C-BB8C-4149-A042-600B071B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0AF3343-4259-4FAF-9CFC-90DB0EBC202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title(‘seno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urier New"/>
              </a:rPr>
              <a:t>xlabel(‘…’)    ylabel(‘…’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ot(linspace(-pi,pi,30),sin(x),'b:o'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grafico(a,b,n): grafica f en n ptos de [a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rafico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a,b,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linspace(a,b,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lor=input('''color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rca=input('''marca de puntos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=sprintf('%s%s',color,marc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lot(x,y,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itle(input('''titulo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label(input('''eje x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label(input('''eje y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utación numérica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a bajo la cur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60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area(a,b,n): area de f en [a,b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usando n 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x=linspace(a,b,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uma=sum(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r=(b-a)/(n-1)*su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help rect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  Create rectangle, rounded-rectangle, or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adds a default rectangle to the current 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Position', [x y w h]) adds a rectangle 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ed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0 0], ...) creates a rect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1 1], ...) creates an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x y], ...) creates a rectangl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nded corners where x and y are between 0 and 1 and re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ormalized amount of curvature.  Horizontal curvature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the fraction of the width of the position rectangle which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ved.  Vertical curvature (y) is the fraction of the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position rectangle which is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bin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while 0=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 r=x; return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b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sig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x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if x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gt;&gt; raiz(2\pi,2\3*pi,0.0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3.14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cribe el dato X en el string S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 s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g se reemp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&gt;&gt; Jal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°?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gano yo c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fila %g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ofesor</dc:creator>
  <dc:description/>
  <dc:language>en-US</dc:language>
  <cp:lastModifiedBy>jalvarez</cp:lastModifiedBy>
  <cp:revision>0</cp:revision>
  <dc:subject/>
  <dc:title>Diapositiva 1</dc:title>
</cp:coreProperties>
</file>