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000"/>
            <a:ext cx="297036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9BC77D8-79AC-42E8-BF7A-8DC3B2FC29A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96AF-82DB-4576-8AAD-79E2C361B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CD240-EB41-43E9-BB97-9D1C61B68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C60E-B4F1-4C33-A838-483C819CF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A93-3EF4-40FF-9E30-F70883A37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4EA56-3A3C-437C-8855-14ADC6D4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1F39B-3CAC-491D-8E04-9988740F6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3CA3-3652-4E75-BB38-7F82E169E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5562-FA72-4283-B621-C15069620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1927-0E41-4EB5-8AA3-530DEB4B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EC93-29CF-4A68-9D07-EBCAE00A9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E96-5B56-4708-A3A6-DC2D58EC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67BC-0445-41D0-BF38-01985531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C9C298D-E05C-43D9-8BC4-088158EFB7D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troducción a Matlab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terial elaborado por el profesor Juan Alvarez del DCC y utilizado como material docente en el curso CC100 en 2007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utilizado con autorización para el curso Sistemas Newtonia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x=linspace(-pi,pi,100); plot(x,sin(x)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title(‘seno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urier New"/>
              </a:rPr>
              <a:t>xlabel(‘…’)    ylabel(‘…’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r’) %color r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plot(x,y,’k:’); %negro y pu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urier New"/>
              </a:rPr>
              <a:t>plot(x,y,’…’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rious line types, plot symbols and colors may be obtained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LOT(X,Y,S) where S is a character string made from one el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om any or all the following 3 column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     blue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.     point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     sol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g     green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     circle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:     dot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     red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x     x-mark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.    dashdo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     cyan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+     plus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--    dashed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     magenta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*     star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one)  no li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y     yellow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     squ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     black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     diam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     triangle (dow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^     triangle (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     triangle (lef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gt;     triangle (righ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     pent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     hexagr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or example, PLOT(X,Y,'c+:') plots a cyan dotted line with a plu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t each data point; PLOT(X,Y,'bd') plots blue diamond at each dat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7680" indent="-3376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oint but does not draw any li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plot(linspace(-pi,pi,30),sin(x),'b:o'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gráf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50752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grafico(a,b,n): grafica f en n ptos de [a,b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grafico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(a,b,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linspace(a,b,n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color=input('''color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marca=input('''marca de puntos''? '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=sprintf('%s%s',color,marc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plot(x,y,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title(input('''titulo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label(input('''eje x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label(input('''eje y''? '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x=linspace(-pi,pi,20);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plot(x,sin(x),'r--*',x,cos(x),'b--o')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8400"/>
            <a:ext cx="82296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hold on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sin(x),'r--*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plot(x,cos(x),'b--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legend('seno',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mputación numérica: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Area bajo la curv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603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area(a,b,n): area de f en [a,b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usando n p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r = area(a,b,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x=linspace(a,b,n-1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suma=sum(y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r=(b-a)/(n-1)*sum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axis([-pi,pi,-1,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1), plot(x,sin(x),'r--*'), title('seno')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&gt;&gt; subplot(2,1,2), plot(x,cos(x),'r--*'), title('coseno'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rectangle('Curvature',[1 1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&gt;&gt; help rectang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  Create rectangle, rounded-rectangle, or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 adds a default rectangle to the current ax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Position', [x y w h]) adds a rectangle at th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ed posi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0 0], ...) creates a rectang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1 1], ...) creates an ellips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CTANGLE('Curvature', [x y], ...) creates a rectangle wi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nded corners where x and y are between 0 and 1 and repres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normalized amount of curvature.  Horizontal curvature (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s the fraction of the width of the position rectangle which 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ved.  Vertical curvature (y) is the fraction of the he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f the position rectangle which is cur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90080"/>
            <a:ext cx="82296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[x y z]=sphere(30);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mesh(x,y,z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urf(x,y,z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1862280"/>
            <a:ext cx="5333760" cy="400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valuación de una fun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%f(x): f(x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function y=f(x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y=sin(x);  %ejempl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ourier New"/>
              </a:rPr>
              <a:t>&gt;&gt; area(0,pi,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1.88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14716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binar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889308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while 0=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 r=x; return; 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b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unción sig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%signo(x) devuelve -1, 0 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unction r=signo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x&l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-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if x&gt;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1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 = 0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&gt;&gt; raiz(2\pi,2\3*pi,0.000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an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3.14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Raíz por búsqueda recursiv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686800" cy="517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%raiz(a,b,eps): raiz de f en [a,b] c/prec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function r=raiz(a,b,ep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(a+b)/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b-a &lt;= 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x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y=f(x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if signo(y) == signo(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x,b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r=raiz(a,x,ep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scritura” formateada a un st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ourier New"/>
              </a:rPr>
              <a:t>S=sprintf(formato,X,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scribe el dato X en el string S bajo el control del string form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 s=sprintf('x=%g',p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s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x=3.141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No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g se reempaza por el valor de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%s se usa para strings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87138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%Jalisco: nunca pier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=input('n°? '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urier New"/>
              </a:rPr>
              <a:t>disp( sprintf('gano yo con %g',n+1) 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&gt;&gt; Jalis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n°?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</a:rPr>
              <a:t>gano yo con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Ejemplo con st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8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a=rand(2,3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[filas cols]=size(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&gt;&gt;for i=1:fi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fila %g ',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or j=1:c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linea=sprintf('%s%g ',linea, a(i,j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disp(linea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1: 0.921813 0.176266 0.935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urier New"/>
              </a:rPr>
              <a:t>fila 2: 0.738207 0.405706 0.91690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rofesor</dc:creator>
  <dc:description/>
  <dc:language>en-US</dc:language>
  <cp:lastModifiedBy>jalvarez</cp:lastModifiedBy>
  <cp:revision>0</cp:revision>
  <dc:subject/>
  <dc:title>Diapositiva 1</dc:title>
</cp:coreProperties>
</file>