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193F106-E4DE-497D-8B12-4556014D05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60BF-C599-4924-89E4-82CB756D8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47FB-E37F-4BD8-BB9E-ED17C4079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D1B2-C3B6-4198-8B53-8468451EC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8EB0-0970-452F-95FB-47689D4FD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067B-18B2-4138-926B-E520C9DC6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70E1-2446-4D69-AFE6-8CD49EEB4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59AB-625B-4B2E-8129-67232F604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997A-38C7-4B42-BCB8-AA55B8C69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E1D4-6C00-48B2-9D91-435D8C003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F2AB-0879-424E-8BE6-E5C3AD11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54BD-06B3-46C5-9BC6-2B2F0FD9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9FAB-95AD-43FB-9E9B-C1FEC8AE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903A0A1-4CDE-4166-82C3-7FF855773B9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ción a Matlab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 elaborado por el profesor Juan Alvarez del DCC y utilizado como material docente en el curso CC100 en 2007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tilizado con autorización para el curso Sistemas Newton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x=linspace(-pi,pi,100); plot(x,sin(x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title(‘seno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urier New"/>
              </a:rPr>
              <a:t>xlabel(‘…’)    ylabel(‘…’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plot(x,y,’r’) %color 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plot(x,y,’k:’); %negro y pu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plot(x,y,’…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arious line types, plot symbols and colors may be obtained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LOT(X,Y,S) where S is a character string made from one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rom any or all the following 3 colum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     blue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     point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     so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     green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     circle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    dot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     red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x     x-mark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.    dashd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     cyan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+     plus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-    dashed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     magenta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*     star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none)  no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y     yellow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     sq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     black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     dia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     triangle (dow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^     triangle (u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     triangle (lef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gt;     triangle (rig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     pent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     hex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 example, PLOT(X,Y,'c+:') plots a cyan dotted line with a plu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t each data point; PLOT(X,Y,'bd') plots blue diamond at each 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int but does not draw any l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lot(linspace(-pi,pi,30),sin(x),'b:o'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gráf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grafico(a,b,n): grafica f en n ptos de [a,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grafico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(a,b,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linspace(a,b,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olor=input('''color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marca=input('''marca de puntos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=sprintf('%s%s',color,marc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lot(x,y,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itle(input('''titulo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label(input('''eje x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label(input('''eje y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x=linspace(-pi,pi,20);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plot(x,sin(x),'r--*',x,cos(x),'b--o')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hold 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plot(x,sin(x),'r--*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plot(x,cos(x),'b--o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utación numérica: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ea bajo la cur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60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area(a,b,n): area de f en [a,b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usando n p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unction r = area(a,b,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x=linspace(a,b,n-1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suma=sum(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r=(b-a)/(n-1)*sum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xis([-pi,pi,-1,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subplot(2,1,1), plot(x,sin(x),'r--*'), title('seno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subplot(2,1,2), plot(x,cos(x),'r--*'), title(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&gt;&gt; rectangle('Curvature',[1 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&gt;&gt; help rect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   Create rectangle, rounded-rectangle, or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 adds a default rectangle to the current ax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Position', [x y w h]) adds a rectangle at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fied 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0 0], ...) creates a rectang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1 1], ...) creates an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x y], ...) creates a rectangle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nded corners where x and y are between 0 and 1 and re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ormalized amount of curvature.  Horizontal curvature 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the fraction of the width of the position rectangle which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rved.  Vertical curvature (y) is the fraction of the h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the position rectangle which is cur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[x y z]=sphere(30);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esh(x,y,z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urf(x,y,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valuación de una fu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f(x): f(x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unction y=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y=sin(x);  %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&gt;&gt; area(0,pi,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1.88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74680"/>
            <a:ext cx="8147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íz por búsqueda bin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1125360"/>
            <a:ext cx="88930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while 0=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b-a &lt;= eps r=x; return;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b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sig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signo(x) devuelve -1, 0 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nction r=signo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x&l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if x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&gt;&gt; raiz(2\pi,2\3*pi,0.0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3.14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íz por búsqueda recurs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686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b-a &lt;=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raiz(x,b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raiz(a,x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scritura” formateada a un st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=sprintf(formato,X,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cribe el dato X en el string S bajo el control del string form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 s=sprintf('x=%g',p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3.141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g se reempaza por el valor d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s se usa para strings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%Jalisco: nunca pie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n=input('n°? '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 sprintf('gano yo con %g',n+1)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&gt;&gt; Jalis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n°?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gano yo con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 con 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rand(2,3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[filas cols]=size(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for i=1:fi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inea=sprintf('fila %g ',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or j=1: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inea=sprintf('%s%g ',linea, a(i,j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line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ila 1: 0.921813 0.176266 0.9354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ila 2: 0.738207 0.405706 0.91690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ofesor</dc:creator>
  <dc:description/>
  <dc:language>en-US</dc:language>
  <cp:lastModifiedBy>jalvarez</cp:lastModifiedBy>
  <cp:revision>0</cp:revision>
  <dc:subject/>
  <dc:title>Diapositiva 1</dc:title>
</cp:coreProperties>
</file>