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002A7A-C18C-4002-AD6A-F4486B02CD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4E39-BDC6-44C5-819C-AC4B1D486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8740-6791-4E5A-9308-07DA8A75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1C0F-FC7D-49B1-94A0-6F6858881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5831-CC60-4631-9184-62D435210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4A3C-2515-4087-A1FB-1B97B008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6DB2-A981-4465-8C75-C65793CA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8F94-7D4D-490B-9078-7A202605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66F2-3E81-44DD-B7D5-4F249612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C25E-8959-4D67-BDA5-04F62EBF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3BF1-B844-4864-B8F5-3234ACA2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8EDF-D57A-418B-944C-954C7DC0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0447-835B-4FE2-98F0-4E07E8D5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687087-822B-460B-B2E9-68806C0113C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600200"/>
            <a:ext cx="8231040" cy="4525920"/>
            <a:chOff x="457200" y="1600200"/>
            <a:chExt cx="8231040" cy="4525920"/>
          </a:xfrm>
        </p:grpSpPr>
        <p:sp>
          <p:nvSpPr>
            <p:cNvPr id="115" name=""/>
            <p:cNvSpPr/>
            <p:nvPr/>
          </p:nvSpPr>
          <p:spPr>
            <a:xfrm>
              <a:off x="66294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46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94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612468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146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94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868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539640" y="333360"/>
            <a:ext cx="8220240" cy="6135840"/>
            <a:chOff x="539640" y="333360"/>
            <a:chExt cx="8220240" cy="6135840"/>
          </a:xfrm>
        </p:grpSpPr>
        <p:sp>
          <p:nvSpPr>
            <p:cNvPr id="148" name=""/>
            <p:cNvSpPr/>
            <p:nvPr/>
          </p:nvSpPr>
          <p:spPr>
            <a:xfrm>
              <a:off x="6659640" y="59245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79600" y="59245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59245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59640" y="53830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9600" y="53830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9640" y="53830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8402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9600" y="48402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640" y="48402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59640" y="429912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9600" y="429912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640" y="429912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3755880"/>
              <a:ext cx="20984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9600" y="3755880"/>
              <a:ext cx="33800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9640" y="3755880"/>
              <a:ext cx="2739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9640" y="321480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9600" y="321480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9640" y="321480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59640" y="26719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9600" y="26719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640" y="26719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59640" y="21304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9600" y="21304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9640" y="21304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59640" y="15876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9600" y="15876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640" y="15876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104616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9600" y="104616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640" y="104616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59640" y="333360"/>
              <a:ext cx="2098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79600" y="333360"/>
              <a:ext cx="3380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9640" y="333360"/>
              <a:ext cx="27399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33336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04616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15876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213048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26719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32148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40" y="37558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42991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484020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53830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9640" y="59245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640" y="646740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333360"/>
              <a:ext cx="180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9640" y="333360"/>
              <a:ext cx="144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5808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1600200"/>
            <a:ext cx="8231040" cy="4527720"/>
            <a:chOff x="457200" y="1600200"/>
            <a:chExt cx="8231040" cy="4527720"/>
          </a:xfrm>
        </p:grpSpPr>
        <p:sp>
          <p:nvSpPr>
            <p:cNvPr id="65" name=""/>
            <p:cNvSpPr/>
            <p:nvPr/>
          </p:nvSpPr>
          <p:spPr>
            <a:xfrm>
              <a:off x="66294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20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6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94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146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294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46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294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94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146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3297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44290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556092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6126120"/>
              <a:ext cx="8229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68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jalvarez</cp:lastModifiedBy>
  <cp:revision>0</cp:revision>
  <dc:subject/>
  <dc:title>Programación en MATLAB</dc:title>
</cp:coreProperties>
</file>