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39608C7-74FF-4EA6-8699-7996F9F882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D076-9B53-4DD6-B7AB-D6288E881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4A11-0070-4B42-91D6-CE82DA2F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71EC-BDA4-47ED-AAD5-40FA7CA84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0275-3BBA-4587-8A6F-7174D2D06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9C85-8314-4ED3-A2B9-10FE3CB5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9DA0-35BA-4C7B-AF9F-E06FA12A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F185-79A7-42ED-81C5-7EEC80FC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25AB-76D5-41E7-A9D0-084468F9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A67B-FB60-47FB-A372-7784D846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42C0-DC1A-47D4-A370-3C02AD43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7722-A4A7-4D60-8BEA-3AF4D31F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4646-CA38-44C6-B237-4AADE137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C0B8BC0-4DB6-4047-8976-9EDEB5BFE96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title(‘seno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urier New"/>
              </a:rPr>
              <a:t>xlabel(‘…’)    ylabel(‘…’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ot(linspace(-pi,pi,30),sin(x),'b:o'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grafico(a,b,n): grafica f en n ptos de [a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rafico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a,b,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linspace(a,b,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lor=input('''color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rca=input('''marca de puntos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=sprintf('%s%s',color,marc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lot(x,y,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itle(input('''titulo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label(input('''eje x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label(input('''eje y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utación numérica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a bajo la cur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60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area(a,b,n): area de f en [a,b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usando n 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x=linspace(a,b,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uma=sum(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r=(b-a)/(n-1)*su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help rect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  Create rectangle, rounded-rectangle, or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adds a default rectangle to the current 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Position', [x y w h]) adds a rectangle 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ed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0 0], ...) creates a rect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1 1], ...) creates an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x y], ...) creates a rectangl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nded corners where x and y are between 0 and 1 and re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ormalized amount of curvature.  Horizontal curvature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the fraction of the width of the position rectangle which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ved.  Vertical curvature (y) is the fraction of the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position rectangle which is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bin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while 0=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 r=x; return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b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sig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x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if x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gt;&gt; raiz(2\pi,2\3*pi,0.0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3.14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cribe el dato X en el string S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 s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g se reemp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&gt;&gt; Jal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°?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gano yo c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fila %g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ofesor</dc:creator>
  <dc:description/>
  <dc:language>en-US</dc:language>
  <cp:lastModifiedBy>jalvarez</cp:lastModifiedBy>
  <cp:revision>0</cp:revision>
  <dc:subject/>
  <dc:title>Diapositiva 1</dc:title>
</cp:coreProperties>
</file>