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1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5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3ED82-9EDF-418A-9CD1-28D241F56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2289E-EF6D-4DB8-96F8-C75A394BF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F9CEC-DE6D-4721-864C-8D33E569C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ADDE8-BC6F-4B5C-843F-DF37367A7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FB3E6-9CF0-450A-B475-3D42783D8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97F2B-3893-4025-B5CA-D6D3F487C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F6C68-EAEC-4B9D-AD69-751535DE7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E082E-5167-4A03-8E46-EB9B1DAC5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4F262-053A-4E7E-831E-77F833ABE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F2C40-0F46-4DA9-B078-C170E3ECC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38974-B6D5-4C07-A32B-4B524E3B1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09D6F-F5C7-4A34-9412-1C02A8FD7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87BA0-1923-4360-B9EB-004AE6D451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Gestión de Empresas de Telecomunicaciones</a:t>
            </a:r>
            <a:br>
              <a:rPr sz="4400"/>
            </a:b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EL 65J</a:t>
            </a:r>
            <a:br>
              <a:rPr sz="4400"/>
            </a:br>
            <a:r>
              <a:rPr b="0" lang="es-CL" sz="3000" spc="-1" strike="noStrike">
                <a:solidFill>
                  <a:srgbClr val="000000"/>
                </a:solidFill>
                <a:latin typeface="Times New Roman"/>
              </a:rPr>
              <a:t>Apunte 2 final</a:t>
            </a:r>
            <a:br>
              <a:rPr sz="3000"/>
            </a:br>
            <a:r>
              <a:rPr b="0" lang="es-CL" sz="3000" spc="-1" strike="noStrike">
                <a:solidFill>
                  <a:srgbClr val="000000"/>
                </a:solidFill>
                <a:latin typeface="Times New Roman"/>
              </a:rPr>
              <a:t>Gestión Comercia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0288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José Miguel Torres To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emestre Primavera 200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Segment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28600" y="1676520"/>
            <a:ext cx="5029200" cy="3809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362320" y="2133720"/>
            <a:ext cx="1600200" cy="11430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371600" y="2438280"/>
            <a:ext cx="1600200" cy="11430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7920" y="3048120"/>
            <a:ext cx="1600200" cy="11430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666880" y="2895480"/>
            <a:ext cx="1600200" cy="11430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496040" y="182880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erc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248360" y="3317760"/>
            <a:ext cx="152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egmen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314440" y="4010040"/>
            <a:ext cx="1600200" cy="11430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930240" y="5715000"/>
            <a:ext cx="76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33cc"/>
                </a:solidFill>
                <a:latin typeface="Times New Roman"/>
              </a:rPr>
              <a:t>¿Existen criterios de segmentación más eficientes que otro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965920" y="3228840"/>
            <a:ext cx="685800" cy="6858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946200" y="3124080"/>
            <a:ext cx="200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nocer mej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l cl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15240" y="3032280"/>
            <a:ext cx="213336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Variables de Segment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Geográf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aís, ciudad, reg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emográf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dad, GSE, nivel educacional, raza, ciclo de vi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sicográf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stilo de vi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Intereses busc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Aspir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mporta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Intensidad de u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Ocasión de consu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Tipo de usua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Grado de lealt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438800" y="3216240"/>
            <a:ext cx="4173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33cc"/>
                </a:solidFill>
                <a:latin typeface="Times New Roman"/>
              </a:rPr>
              <a:t>¿Cómo determinar los crite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33cc"/>
                </a:solidFill>
                <a:latin typeface="Times New Roman"/>
              </a:rPr>
              <a:t>de segmentación más eficient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791320" y="4267080"/>
            <a:ext cx="1600200" cy="8384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33880" y="5246640"/>
            <a:ext cx="315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cc"/>
                </a:solidFill>
                <a:latin typeface="Times New Roman"/>
              </a:rPr>
              <a:t>ESTUDIOS DE MERC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Algunas preguntas aplicadas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¿Cómo se segmenta el mercado L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a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Interna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¿Cómo se segmenta el mercado móvi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repago/Postpa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ersonas/Empres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¿Cómo segmentaría los siguientes mercado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Internet de banda anch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atos corpora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Venta de computa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30960" y="2225520"/>
            <a:ext cx="21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33cc"/>
                </a:solidFill>
                <a:latin typeface="Times New Roman"/>
              </a:rPr>
              <a:t>¿Cuál es su opinión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33cc"/>
                </a:solidFill>
                <a:latin typeface="Times New Roman"/>
              </a:rPr>
              <a:t>¿Es la única manera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316120" y="3444840"/>
            <a:ext cx="2445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33cc"/>
                </a:solidFill>
                <a:latin typeface="Times New Roman"/>
              </a:rPr>
              <a:t>¿Existen otros criterio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33cc"/>
                </a:solidFill>
                <a:latin typeface="Times New Roman"/>
              </a:rPr>
              <a:t>¿Qué hace ENTEL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33cc"/>
                </a:solidFill>
                <a:latin typeface="Times New Roman"/>
              </a:rPr>
              <a:t>¿Qué hace SMART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Algunas reflexiones sobre segment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La segmentación no es más que descomponer el mercado en oportunidades de negoc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Tiene una connotación estratégica clave la elección del mercado al cual voy a servi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s conveniente usar varias varias de segmentación a la vez para perfeccionar la predicción del comportamiento de comp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Cuidado con la complejidad excesi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Posicionamien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Acto de diseñar la imagen y productos de la empresa de modo tal que los consumidores preciban su diferencia en relación a la compete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Una estrategia de posicionamiento consta de los siguientes pas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Identificar posibles ventaj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eleccionar las ventajas adecuadas y alcanz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rear la diferenciación re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municarlo eficazmente al merc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Nótese la importancia de la variable de comunic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6934320" y="4800600"/>
            <a:ext cx="2057400" cy="16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Posicionamien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En resumen, el posicionamiento es una IMAGEN MENTAL de mi marca y mi producto en la cabeza del clie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No necesito cualquier imagen mental, necesito aquella que MOTIVA LA COMP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Por lo anterior, Posicionamiento y Segmentación están relaciona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2280" y="5349960"/>
            <a:ext cx="882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33cc"/>
                </a:solidFill>
                <a:latin typeface="Times New Roman"/>
              </a:rPr>
              <a:t>¿Imaginamos a los buses Mercades Benz como de luj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33cc"/>
                </a:solidFill>
                <a:latin typeface="Times New Roman"/>
              </a:rPr>
              <a:t>¿Tiene ENTEL la misma imagen en un Gerente de IT que en un jov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Posicionamien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Recordemos que en estrategia hablamos de que la elección estratégica al final determina asignación de recurs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Por eso no siempre voy a ser eficiente en servir todos los mercados de la mejor manera ni en tener la imagen de marca más recordada en todos los segmen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Lo anterior cuesta $$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Conducta del Consumid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3309840" y="3073320"/>
            <a:ext cx="1727280" cy="14986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761760" y="2346480"/>
            <a:ext cx="206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3333cc"/>
                </a:solidFill>
                <a:latin typeface="Times New Roman"/>
              </a:rPr>
              <a:t>Punto de Ven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295640" y="4495680"/>
            <a:ext cx="114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3333cc"/>
                </a:solidFill>
                <a:latin typeface="Times New Roman"/>
              </a:rPr>
              <a:t>Famil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590800" y="2286000"/>
            <a:ext cx="331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3333cc"/>
                </a:solidFill>
                <a:latin typeface="Times New Roman"/>
              </a:rPr>
              <a:t>Marketing/Comun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5200" y="569916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3333cc"/>
                </a:solidFill>
                <a:latin typeface="Times New Roman"/>
              </a:rPr>
              <a:t>Amig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391800" y="5410080"/>
            <a:ext cx="119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3333cc"/>
                </a:solidFill>
                <a:latin typeface="Times New Roman"/>
              </a:rPr>
              <a:t>Histo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658320" y="1447920"/>
            <a:ext cx="136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3333cc"/>
                </a:solidFill>
                <a:latin typeface="Times New Roman"/>
              </a:rPr>
              <a:t>Vende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436920" y="4800600"/>
            <a:ext cx="1523880" cy="6094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3436920" y="2209680"/>
            <a:ext cx="1523880" cy="60984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438280" y="3048120"/>
            <a:ext cx="3353040" cy="160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925600" y="4495680"/>
            <a:ext cx="264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3333cc"/>
                </a:solidFill>
                <a:latin typeface="Times New Roman"/>
              </a:rPr>
              <a:t>Influencias exter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Consumidor: Modelo de Comportamien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066680" y="1676520"/>
            <a:ext cx="7162920" cy="35049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895480" y="2209680"/>
            <a:ext cx="3429000" cy="2514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734280" y="1828800"/>
            <a:ext cx="168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nsumi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472800" y="1523880"/>
            <a:ext cx="21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ntexto So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447920" y="33908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629400" y="3390840"/>
            <a:ext cx="12193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218600" y="2936880"/>
            <a:ext cx="140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stímu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477840" y="2971800"/>
            <a:ext cx="146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nduc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197880" y="2657520"/>
            <a:ext cx="119736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Percep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Conocimie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Memor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Aprendizaj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Emocio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Motiv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574160" y="3084480"/>
            <a:ext cx="903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Proces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Intern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 txBox="1"/>
          <p:nvPr/>
        </p:nvSpPr>
        <p:spPr>
          <a:xfrm rot="5400000">
            <a:off x="5354640" y="3249720"/>
            <a:ext cx="952560" cy="2188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INTENCIÓN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33908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90720" y="51814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La secuencia es: Detectar la necesidad, propiciar el estímulo correcto para generar la conducta deseada (COMPR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343520" y="3433680"/>
            <a:ext cx="119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00"/>
                </a:solidFill>
                <a:latin typeface="Times New Roman"/>
              </a:rPr>
              <a:t>Influenci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00"/>
                </a:solidFill>
                <a:latin typeface="Times New Roman"/>
              </a:rPr>
              <a:t>extern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Ciclo de comp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De acuerdo a lo anterior, entonc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4010040" y="1905120"/>
            <a:ext cx="1727280" cy="149832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1295280" y="1752480"/>
            <a:ext cx="2133720" cy="838440"/>
          </a:xfrm>
          <a:prstGeom prst="ellipse">
            <a:avLst/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ersona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295280" y="2971800"/>
            <a:ext cx="2133720" cy="838080"/>
          </a:xfrm>
          <a:prstGeom prst="ellipse">
            <a:avLst/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Influenc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xter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400800" y="2133720"/>
            <a:ext cx="2133720" cy="1066680"/>
          </a:xfrm>
          <a:prstGeom prst="ellipse">
            <a:avLst/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ecisiones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mp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581280" y="2286000"/>
            <a:ext cx="533520" cy="152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3581280" y="3200040"/>
            <a:ext cx="533520" cy="152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715000" y="266688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85800" y="4267080"/>
            <a:ext cx="80773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Sin embargo, usualmente “no estamos solos” en el proceso de comp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90720" y="5486400"/>
            <a:ext cx="1752480" cy="8380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mpra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152880" y="5486400"/>
            <a:ext cx="1676160" cy="8380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Usua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181480" y="5486400"/>
            <a:ext cx="1676520" cy="8380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ecis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162920" y="5486400"/>
            <a:ext cx="1676160" cy="8380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Influy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914400" y="5334120"/>
            <a:ext cx="8077320" cy="121896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819520" y="5791320"/>
            <a:ext cx="228600" cy="228600"/>
          </a:xfrm>
          <a:prstGeom prst="leftRightArrow">
            <a:avLst>
              <a:gd name="adj1" fmla="val 50000"/>
              <a:gd name="adj2" fmla="val 19907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876920" y="5791320"/>
            <a:ext cx="228600" cy="228600"/>
          </a:xfrm>
          <a:prstGeom prst="leftRightArrow">
            <a:avLst>
              <a:gd name="adj1" fmla="val 50000"/>
              <a:gd name="adj2" fmla="val 19907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905520" y="5791320"/>
            <a:ext cx="228600" cy="228600"/>
          </a:xfrm>
          <a:prstGeom prst="leftRightArrow">
            <a:avLst>
              <a:gd name="adj1" fmla="val 50000"/>
              <a:gd name="adj2" fmla="val 19907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509520" y="3263760"/>
            <a:ext cx="23338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Elección de produc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Elección de mar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Elección de lugar de comp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Momento de comp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Monto de comp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¿Qué es la Dirección Comercia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810080" y="1793880"/>
            <a:ext cx="555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PROCESO DE CREACIÓN DE VA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33200" y="2900160"/>
            <a:ext cx="268632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Escoger el Val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Segment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Selección de merc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Posicionami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Diferenci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162240" y="2900160"/>
            <a:ext cx="2667240" cy="1739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Proveer el Val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Desarrollo de Produc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Desarrollo de Servic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Valoración (Preci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Fabric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Logística/Distribu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172200" y="2900520"/>
            <a:ext cx="2666880" cy="201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Comunicar el Val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Fuerza de ven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Public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Promo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RRP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Marc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Pers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293840" y="5257800"/>
            <a:ext cx="672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El esfuerzo de marketing es un esfuerzo GLOB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dentro de una compañ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Influencias Extern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Influencias cultur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Familia, ética, trabajo, igualdad de los sexos, religión, 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Variables soci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Grupos de referencia (familia, amigos, colegas, soci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Grupos aspiracionales (deportistas de elite, modelos, artistas de cine, grandes empresari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La aceptación social y el sentido de pertenencia son claves en el comportamiento de consum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86080" y="5578560"/>
            <a:ext cx="8187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33cc"/>
                </a:solidFill>
                <a:latin typeface="Times New Roman"/>
              </a:rPr>
              <a:t>¿Qué pasó con las empresas celulares cuando el mercado nací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33cc"/>
                </a:solidFill>
                <a:latin typeface="Times New Roman"/>
              </a:rPr>
              <a:t>¿Se acuerdan de los celulares de “palo”? ¿por qué pasab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Características personales del consumid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dad y ciclo de vi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Ocupación y profes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stilos de vida (actitudes, intereses u opinion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Percep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tención selec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istorsión selec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Retención selec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Factores motivacion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scala de Maslow (desde las necesidades básicas a las necesidades de trascendencia y autorealizació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40600" y="3657600"/>
            <a:ext cx="445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33cc"/>
                </a:solidFill>
                <a:latin typeface="Times New Roman"/>
              </a:rPr>
              <a:t>¿Se acuerdan de la segmentació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33cc"/>
                </a:solidFill>
                <a:latin typeface="Times New Roman"/>
              </a:rPr>
              <a:t>La demografía es insuficiente pa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33cc"/>
                </a:solidFill>
                <a:latin typeface="Times New Roman"/>
              </a:rPr>
              <a:t>caracterizar a los consumi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Compromiso con la decisión de comp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l compromiso de la decisión de compra se encuentra en función de los siguientes facto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Riesgo financi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Riesgo sicológ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Riesgo de desempe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sto de inform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A mayor riesgo, mayor compromiso y mayor racionalidad en la comp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Piense en la diferencia que existe entre comprar un “Super8” frente a decisiones de consumo claves como elegir una carrera universitaria o comprar una ca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Investigación de mercad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mponente de un sistema gerencial de información con el objetivo de reducir y optimizar la asignación de recurs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os principales tipos de estudios de mercado s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Focus gro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Estudios cualitativos sobre lanzamientos o características de produc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No entregan información numérica pero orientan sobre temas específicos a profundizar con un estudio cuantitativ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studios cuantitativ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Permiten obtener información cuantitativa respecto a aspectos específicos relativos a un producto o lanzami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Suelen estar construidos sobre entrevistas presenciales o telefónic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xisten diversas técnicas estadísticas que permiten analizar los resultados entregando índices de confiabilidad y representativ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Concepto de Mezcla Comerc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Dado el posicionamiento y la segmentación, ¿Qué maneja el Director Comercial para llegar al mercad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676520" y="3276720"/>
            <a:ext cx="2057400" cy="685800"/>
          </a:xfrm>
          <a:prstGeom prst="ellipse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rodu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676520" y="4114800"/>
            <a:ext cx="2057400" cy="685800"/>
          </a:xfrm>
          <a:prstGeom prst="ellipse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re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676520" y="4952880"/>
            <a:ext cx="2057400" cy="685800"/>
          </a:xfrm>
          <a:prstGeom prst="ellipse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istrib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676520" y="5791320"/>
            <a:ext cx="2057400" cy="685800"/>
          </a:xfrm>
          <a:prstGeom prst="ellipse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mun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143000" y="2895480"/>
            <a:ext cx="3124080" cy="3886200"/>
          </a:xfrm>
          <a:prstGeom prst="ellipse">
            <a:avLst/>
          </a:prstGeom>
          <a:noFill/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5784840" y="3870360"/>
            <a:ext cx="2292480" cy="100656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5334120" y="5029200"/>
            <a:ext cx="3200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Con una idea de mi produc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Posiciona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405400" y="3276720"/>
            <a:ext cx="275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A un mercado: Segm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495680" y="4191120"/>
            <a:ext cx="990720" cy="685800"/>
          </a:xfrm>
          <a:prstGeom prst="rightArrow">
            <a:avLst>
              <a:gd name="adj1" fmla="val 50000"/>
              <a:gd name="adj2" fmla="val 36115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Produc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815364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Los productos son esencialmente satisfactores de necesida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Los productos pueden ser clasificados de la siguiente maner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267080" y="3657600"/>
            <a:ext cx="609840" cy="2057400"/>
          </a:xfrm>
          <a:prstGeom prst="downArrow">
            <a:avLst>
              <a:gd name="adj1" fmla="val 50000"/>
              <a:gd name="adj2" fmla="val 8434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190680" y="5737320"/>
            <a:ext cx="2757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Aumento de complej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Aumento de ries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28640" y="3733920"/>
            <a:ext cx="335268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roductos no planific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roductos de conveni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roductos de compa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roductos de especial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105520" y="3733920"/>
            <a:ext cx="37335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roductos de simple inspe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roductos de experi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roductos de cre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Clasificación de Product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815328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oductos no planific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Son compras impulsiv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oductos de conveni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onsumidor posee poca inform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Leal a la marca si la encuent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Fuerte formación de hábi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entrado en satisfacción de necesidades bás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oductos de compa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Mayor compromiso y ries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Fuerte rol del distribuidor y del merchand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Requiere de información técn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oductos de especia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Lealtad de marca inform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Necesidad de información por alto ries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Distribución selecti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095600" y="1584360"/>
            <a:ext cx="90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Super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521760" y="2909880"/>
            <a:ext cx="209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Tarjeta de prepa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751080" y="4251240"/>
            <a:ext cx="169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Kit de prepa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355440" y="5546880"/>
            <a:ext cx="2564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Sistema de facturació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electrón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334200" y="1438200"/>
            <a:ext cx="2428920" cy="838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338880" y="2714760"/>
            <a:ext cx="2428920" cy="838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357960" y="4071960"/>
            <a:ext cx="2428920" cy="838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248520" y="5424480"/>
            <a:ext cx="2666880" cy="838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Producto ampliad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85800" y="2133720"/>
            <a:ext cx="3048120" cy="3047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709640" y="3124080"/>
            <a:ext cx="990720" cy="99072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úcle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5040" y="5330880"/>
            <a:ext cx="33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re del producto (producto en sí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09480" y="16002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to ampli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523880" y="4114440"/>
            <a:ext cx="4572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295280" y="205740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886200" y="1828800"/>
            <a:ext cx="47242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roducto ampliado: Prestaciones adicionales, tangibles e intangibles, que agregan valor al núcleo bás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A partir de 1 núcleo o producto central pueden diseñarse diversos productos ampli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Servicio de post-venta y garantías son estrategias de producto ampli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La pregunta es: ¿te dan realmente una ventaja o son hoy día un derecho adquirido de los cliente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053000" y="5851440"/>
            <a:ext cx="772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¿Es posible realizar estrategias de producto ampliado en telefonía celular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Mix de product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Combinación de todas las líneas de productos y servicios de la empre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l objetivo es optimizar el ciclo de vi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00200"/>
            <a:ext cx="4952880" cy="2743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2881440"/>
            <a:ext cx="4952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281400" y="2500200"/>
            <a:ext cx="0" cy="274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319640" y="2500200"/>
            <a:ext cx="0" cy="274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357880" y="2500200"/>
            <a:ext cx="0" cy="274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319800" y="2500200"/>
            <a:ext cx="0" cy="274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348280" y="2500200"/>
            <a:ext cx="87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ínea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358080" y="2500200"/>
            <a:ext cx="87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ínea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348960" y="2505240"/>
            <a:ext cx="92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ínea 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3262320"/>
            <a:ext cx="4952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286000" y="3719520"/>
            <a:ext cx="4952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286000" y="4176720"/>
            <a:ext cx="4952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286000" y="4710240"/>
            <a:ext cx="4952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362680" y="2895480"/>
            <a:ext cx="88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em 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305800" y="4800600"/>
            <a:ext cx="97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em M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276240" y="4786200"/>
            <a:ext cx="102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em M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03240" y="2895480"/>
            <a:ext cx="93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em 1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3567240"/>
            <a:ext cx="228600" cy="1066680"/>
          </a:xfrm>
          <a:prstGeom prst="downArrow">
            <a:avLst>
              <a:gd name="adj1" fmla="val 50000"/>
              <a:gd name="adj2" fmla="val 11665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rot="16200000">
            <a:off x="1257120" y="2385360"/>
            <a:ext cx="228600" cy="1067040"/>
          </a:xfrm>
          <a:prstGeom prst="downArrow">
            <a:avLst>
              <a:gd name="adj1" fmla="val 50000"/>
              <a:gd name="adj2" fmla="val 11669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92920" y="2438280"/>
            <a:ext cx="115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plitu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78360" y="3780000"/>
            <a:ext cx="144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fund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203200" y="5316480"/>
            <a:ext cx="5658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Construya esta matriz para las siguientes líneas de produc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Larga Distan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Inter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Telefonía Lo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Telefonía Móvi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Concepto de ciclo de vi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804960" y="2057040"/>
            <a:ext cx="0" cy="3505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804960" y="5562720"/>
            <a:ext cx="571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074600" y="2681280"/>
            <a:ext cx="4988160" cy="2424240"/>
          </a:xfrm>
          <a:custGeom>
            <a:avLst/>
            <a:gdLst/>
            <a:ahLst/>
            <a:rect l="l" t="t" r="r" b="b"/>
            <a:pathLst>
              <a:path w="3142" h="1527">
                <a:moveTo>
                  <a:pt x="0" y="1527"/>
                </a:moveTo>
                <a:cubicBezTo>
                  <a:pt x="34" y="1495"/>
                  <a:pt x="75" y="1508"/>
                  <a:pt x="114" y="1483"/>
                </a:cubicBezTo>
                <a:cubicBezTo>
                  <a:pt x="148" y="1461"/>
                  <a:pt x="130" y="1469"/>
                  <a:pt x="166" y="1457"/>
                </a:cubicBezTo>
                <a:cubicBezTo>
                  <a:pt x="206" y="1417"/>
                  <a:pt x="229" y="1431"/>
                  <a:pt x="271" y="1405"/>
                </a:cubicBezTo>
                <a:cubicBezTo>
                  <a:pt x="301" y="1387"/>
                  <a:pt x="328" y="1363"/>
                  <a:pt x="358" y="1344"/>
                </a:cubicBezTo>
                <a:cubicBezTo>
                  <a:pt x="381" y="1309"/>
                  <a:pt x="412" y="1296"/>
                  <a:pt x="437" y="1265"/>
                </a:cubicBezTo>
                <a:cubicBezTo>
                  <a:pt x="495" y="1192"/>
                  <a:pt x="387" y="1306"/>
                  <a:pt x="498" y="1195"/>
                </a:cubicBezTo>
                <a:cubicBezTo>
                  <a:pt x="520" y="1173"/>
                  <a:pt x="576" y="1143"/>
                  <a:pt x="576" y="1143"/>
                </a:cubicBezTo>
                <a:cubicBezTo>
                  <a:pt x="596" y="1086"/>
                  <a:pt x="630" y="1036"/>
                  <a:pt x="663" y="986"/>
                </a:cubicBezTo>
                <a:cubicBezTo>
                  <a:pt x="681" y="958"/>
                  <a:pt x="694" y="915"/>
                  <a:pt x="716" y="890"/>
                </a:cubicBezTo>
                <a:cubicBezTo>
                  <a:pt x="726" y="879"/>
                  <a:pt x="740" y="873"/>
                  <a:pt x="751" y="864"/>
                </a:cubicBezTo>
                <a:cubicBezTo>
                  <a:pt x="760" y="856"/>
                  <a:pt x="769" y="848"/>
                  <a:pt x="777" y="838"/>
                </a:cubicBezTo>
                <a:cubicBezTo>
                  <a:pt x="793" y="818"/>
                  <a:pt x="821" y="777"/>
                  <a:pt x="821" y="777"/>
                </a:cubicBezTo>
                <a:cubicBezTo>
                  <a:pt x="839" y="717"/>
                  <a:pt x="814" y="785"/>
                  <a:pt x="855" y="724"/>
                </a:cubicBezTo>
                <a:cubicBezTo>
                  <a:pt x="860" y="716"/>
                  <a:pt x="859" y="706"/>
                  <a:pt x="864" y="698"/>
                </a:cubicBezTo>
                <a:cubicBezTo>
                  <a:pt x="868" y="691"/>
                  <a:pt x="877" y="688"/>
                  <a:pt x="882" y="681"/>
                </a:cubicBezTo>
                <a:cubicBezTo>
                  <a:pt x="907" y="648"/>
                  <a:pt x="928" y="611"/>
                  <a:pt x="951" y="576"/>
                </a:cubicBezTo>
                <a:cubicBezTo>
                  <a:pt x="973" y="543"/>
                  <a:pt x="993" y="499"/>
                  <a:pt x="1021" y="471"/>
                </a:cubicBezTo>
                <a:cubicBezTo>
                  <a:pt x="1045" y="447"/>
                  <a:pt x="1070" y="420"/>
                  <a:pt x="1091" y="393"/>
                </a:cubicBezTo>
                <a:cubicBezTo>
                  <a:pt x="1119" y="357"/>
                  <a:pt x="1130" y="323"/>
                  <a:pt x="1152" y="288"/>
                </a:cubicBezTo>
                <a:cubicBezTo>
                  <a:pt x="1177" y="247"/>
                  <a:pt x="1214" y="209"/>
                  <a:pt x="1248" y="174"/>
                </a:cubicBezTo>
                <a:cubicBezTo>
                  <a:pt x="1254" y="168"/>
                  <a:pt x="1266" y="170"/>
                  <a:pt x="1274" y="166"/>
                </a:cubicBezTo>
                <a:cubicBezTo>
                  <a:pt x="1313" y="149"/>
                  <a:pt x="1348" y="127"/>
                  <a:pt x="1388" y="113"/>
                </a:cubicBezTo>
                <a:cubicBezTo>
                  <a:pt x="1452" y="49"/>
                  <a:pt x="1520" y="22"/>
                  <a:pt x="1606" y="0"/>
                </a:cubicBezTo>
                <a:cubicBezTo>
                  <a:pt x="1656" y="6"/>
                  <a:pt x="1697" y="16"/>
                  <a:pt x="1746" y="26"/>
                </a:cubicBezTo>
                <a:cubicBezTo>
                  <a:pt x="1858" y="19"/>
                  <a:pt x="1910" y="24"/>
                  <a:pt x="2016" y="35"/>
                </a:cubicBezTo>
                <a:cubicBezTo>
                  <a:pt x="2045" y="44"/>
                  <a:pt x="2074" y="51"/>
                  <a:pt x="2103" y="61"/>
                </a:cubicBezTo>
                <a:cubicBezTo>
                  <a:pt x="2126" y="94"/>
                  <a:pt x="2148" y="117"/>
                  <a:pt x="2182" y="139"/>
                </a:cubicBezTo>
                <a:cubicBezTo>
                  <a:pt x="2201" y="169"/>
                  <a:pt x="2209" y="180"/>
                  <a:pt x="2243" y="192"/>
                </a:cubicBezTo>
                <a:cubicBezTo>
                  <a:pt x="2260" y="209"/>
                  <a:pt x="2278" y="227"/>
                  <a:pt x="2295" y="244"/>
                </a:cubicBezTo>
                <a:cubicBezTo>
                  <a:pt x="2317" y="266"/>
                  <a:pt x="2351" y="273"/>
                  <a:pt x="2374" y="297"/>
                </a:cubicBezTo>
                <a:cubicBezTo>
                  <a:pt x="2393" y="352"/>
                  <a:pt x="2438" y="388"/>
                  <a:pt x="2479" y="427"/>
                </a:cubicBezTo>
                <a:cubicBezTo>
                  <a:pt x="2493" y="475"/>
                  <a:pt x="2544" y="524"/>
                  <a:pt x="2592" y="541"/>
                </a:cubicBezTo>
                <a:cubicBezTo>
                  <a:pt x="2598" y="550"/>
                  <a:pt x="2603" y="560"/>
                  <a:pt x="2610" y="567"/>
                </a:cubicBezTo>
                <a:cubicBezTo>
                  <a:pt x="2617" y="574"/>
                  <a:pt x="2629" y="577"/>
                  <a:pt x="2636" y="585"/>
                </a:cubicBezTo>
                <a:cubicBezTo>
                  <a:pt x="2644" y="595"/>
                  <a:pt x="2645" y="609"/>
                  <a:pt x="2653" y="619"/>
                </a:cubicBezTo>
                <a:cubicBezTo>
                  <a:pt x="2675" y="645"/>
                  <a:pt x="2715" y="668"/>
                  <a:pt x="2741" y="689"/>
                </a:cubicBezTo>
                <a:cubicBezTo>
                  <a:pt x="2766" y="709"/>
                  <a:pt x="2786" y="733"/>
                  <a:pt x="2819" y="742"/>
                </a:cubicBezTo>
                <a:cubicBezTo>
                  <a:pt x="2839" y="747"/>
                  <a:pt x="2860" y="747"/>
                  <a:pt x="2880" y="750"/>
                </a:cubicBezTo>
                <a:cubicBezTo>
                  <a:pt x="3011" y="794"/>
                  <a:pt x="2869" y="740"/>
                  <a:pt x="2967" y="794"/>
                </a:cubicBezTo>
                <a:cubicBezTo>
                  <a:pt x="2981" y="802"/>
                  <a:pt x="2996" y="806"/>
                  <a:pt x="3011" y="811"/>
                </a:cubicBezTo>
                <a:cubicBezTo>
                  <a:pt x="3020" y="814"/>
                  <a:pt x="3029" y="816"/>
                  <a:pt x="3037" y="820"/>
                </a:cubicBezTo>
                <a:cubicBezTo>
                  <a:pt x="3067" y="836"/>
                  <a:pt x="3058" y="836"/>
                  <a:pt x="3081" y="855"/>
                </a:cubicBezTo>
                <a:cubicBezTo>
                  <a:pt x="3103" y="873"/>
                  <a:pt x="3142" y="891"/>
                  <a:pt x="3142" y="925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943200" y="1981080"/>
            <a:ext cx="97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NT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523200" y="5302080"/>
            <a:ext cx="74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emp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64640" y="5562720"/>
            <a:ext cx="122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oduc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028240" y="5562720"/>
            <a:ext cx="118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cimie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98760" y="5562720"/>
            <a:ext cx="90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dure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694040" y="5562720"/>
            <a:ext cx="116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clin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1947960" y="44956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3166920" y="2895120"/>
            <a:ext cx="0" cy="2667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538520" y="2895120"/>
            <a:ext cx="0" cy="2667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103720" y="2193840"/>
            <a:ext cx="374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Diferentes estrategias competitiv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128200" y="2671920"/>
            <a:ext cx="365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Diferentes estrategias comerci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105520" y="2133720"/>
            <a:ext cx="3733560" cy="99036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Tendencias del mercado actu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Consumid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Más sofisticado y exig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Mayor sensibilidad a precio y al good val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Fortalecimiento del segmento C2C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Menor tiempo para el consum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Mujer irrumpe en la fuerza labo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Más informado y selecivo en inform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Saturado de información masi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47240" y="5521320"/>
            <a:ext cx="895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0033cc"/>
                </a:solidFill>
                <a:latin typeface="Times New Roman"/>
              </a:rPr>
              <a:t>¿Cómo enfrentan este tema las empresas de telecomunicaciones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0033cc"/>
                </a:solidFill>
                <a:latin typeface="Times New Roman"/>
              </a:rPr>
              <a:t>¿Cuánto tiempo dedica el cliente a “pensar” en un producto cuando compra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7543800" y="3048120"/>
            <a:ext cx="1290600" cy="119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Concepto de ciclo de vi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804960" y="2057040"/>
            <a:ext cx="0" cy="3505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804960" y="5562720"/>
            <a:ext cx="571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074600" y="2681280"/>
            <a:ext cx="4988160" cy="2424240"/>
          </a:xfrm>
          <a:custGeom>
            <a:avLst/>
            <a:gdLst/>
            <a:ahLst/>
            <a:rect l="l" t="t" r="r" b="b"/>
            <a:pathLst>
              <a:path w="3142" h="1527">
                <a:moveTo>
                  <a:pt x="0" y="1527"/>
                </a:moveTo>
                <a:cubicBezTo>
                  <a:pt x="34" y="1495"/>
                  <a:pt x="75" y="1508"/>
                  <a:pt x="114" y="1483"/>
                </a:cubicBezTo>
                <a:cubicBezTo>
                  <a:pt x="148" y="1461"/>
                  <a:pt x="130" y="1469"/>
                  <a:pt x="166" y="1457"/>
                </a:cubicBezTo>
                <a:cubicBezTo>
                  <a:pt x="206" y="1417"/>
                  <a:pt x="229" y="1431"/>
                  <a:pt x="271" y="1405"/>
                </a:cubicBezTo>
                <a:cubicBezTo>
                  <a:pt x="301" y="1387"/>
                  <a:pt x="328" y="1363"/>
                  <a:pt x="358" y="1344"/>
                </a:cubicBezTo>
                <a:cubicBezTo>
                  <a:pt x="381" y="1309"/>
                  <a:pt x="412" y="1296"/>
                  <a:pt x="437" y="1265"/>
                </a:cubicBezTo>
                <a:cubicBezTo>
                  <a:pt x="495" y="1192"/>
                  <a:pt x="387" y="1306"/>
                  <a:pt x="498" y="1195"/>
                </a:cubicBezTo>
                <a:cubicBezTo>
                  <a:pt x="520" y="1173"/>
                  <a:pt x="576" y="1143"/>
                  <a:pt x="576" y="1143"/>
                </a:cubicBezTo>
                <a:cubicBezTo>
                  <a:pt x="596" y="1086"/>
                  <a:pt x="630" y="1036"/>
                  <a:pt x="663" y="986"/>
                </a:cubicBezTo>
                <a:cubicBezTo>
                  <a:pt x="681" y="958"/>
                  <a:pt x="694" y="915"/>
                  <a:pt x="716" y="890"/>
                </a:cubicBezTo>
                <a:cubicBezTo>
                  <a:pt x="726" y="879"/>
                  <a:pt x="740" y="873"/>
                  <a:pt x="751" y="864"/>
                </a:cubicBezTo>
                <a:cubicBezTo>
                  <a:pt x="760" y="856"/>
                  <a:pt x="769" y="848"/>
                  <a:pt x="777" y="838"/>
                </a:cubicBezTo>
                <a:cubicBezTo>
                  <a:pt x="793" y="818"/>
                  <a:pt x="821" y="777"/>
                  <a:pt x="821" y="777"/>
                </a:cubicBezTo>
                <a:cubicBezTo>
                  <a:pt x="839" y="717"/>
                  <a:pt x="814" y="785"/>
                  <a:pt x="855" y="724"/>
                </a:cubicBezTo>
                <a:cubicBezTo>
                  <a:pt x="860" y="716"/>
                  <a:pt x="859" y="706"/>
                  <a:pt x="864" y="698"/>
                </a:cubicBezTo>
                <a:cubicBezTo>
                  <a:pt x="868" y="691"/>
                  <a:pt x="877" y="688"/>
                  <a:pt x="882" y="681"/>
                </a:cubicBezTo>
                <a:cubicBezTo>
                  <a:pt x="907" y="648"/>
                  <a:pt x="928" y="611"/>
                  <a:pt x="951" y="576"/>
                </a:cubicBezTo>
                <a:cubicBezTo>
                  <a:pt x="973" y="543"/>
                  <a:pt x="993" y="499"/>
                  <a:pt x="1021" y="471"/>
                </a:cubicBezTo>
                <a:cubicBezTo>
                  <a:pt x="1045" y="447"/>
                  <a:pt x="1070" y="420"/>
                  <a:pt x="1091" y="393"/>
                </a:cubicBezTo>
                <a:cubicBezTo>
                  <a:pt x="1119" y="357"/>
                  <a:pt x="1130" y="323"/>
                  <a:pt x="1152" y="288"/>
                </a:cubicBezTo>
                <a:cubicBezTo>
                  <a:pt x="1177" y="247"/>
                  <a:pt x="1214" y="209"/>
                  <a:pt x="1248" y="174"/>
                </a:cubicBezTo>
                <a:cubicBezTo>
                  <a:pt x="1254" y="168"/>
                  <a:pt x="1266" y="170"/>
                  <a:pt x="1274" y="166"/>
                </a:cubicBezTo>
                <a:cubicBezTo>
                  <a:pt x="1313" y="149"/>
                  <a:pt x="1348" y="127"/>
                  <a:pt x="1388" y="113"/>
                </a:cubicBezTo>
                <a:cubicBezTo>
                  <a:pt x="1452" y="49"/>
                  <a:pt x="1520" y="22"/>
                  <a:pt x="1606" y="0"/>
                </a:cubicBezTo>
                <a:cubicBezTo>
                  <a:pt x="1656" y="6"/>
                  <a:pt x="1697" y="16"/>
                  <a:pt x="1746" y="26"/>
                </a:cubicBezTo>
                <a:cubicBezTo>
                  <a:pt x="1858" y="19"/>
                  <a:pt x="1910" y="24"/>
                  <a:pt x="2016" y="35"/>
                </a:cubicBezTo>
                <a:cubicBezTo>
                  <a:pt x="2045" y="44"/>
                  <a:pt x="2074" y="51"/>
                  <a:pt x="2103" y="61"/>
                </a:cubicBezTo>
                <a:cubicBezTo>
                  <a:pt x="2126" y="94"/>
                  <a:pt x="2148" y="117"/>
                  <a:pt x="2182" y="139"/>
                </a:cubicBezTo>
                <a:cubicBezTo>
                  <a:pt x="2201" y="169"/>
                  <a:pt x="2209" y="180"/>
                  <a:pt x="2243" y="192"/>
                </a:cubicBezTo>
                <a:cubicBezTo>
                  <a:pt x="2260" y="209"/>
                  <a:pt x="2278" y="227"/>
                  <a:pt x="2295" y="244"/>
                </a:cubicBezTo>
                <a:cubicBezTo>
                  <a:pt x="2317" y="266"/>
                  <a:pt x="2351" y="273"/>
                  <a:pt x="2374" y="297"/>
                </a:cubicBezTo>
                <a:cubicBezTo>
                  <a:pt x="2393" y="352"/>
                  <a:pt x="2438" y="388"/>
                  <a:pt x="2479" y="427"/>
                </a:cubicBezTo>
                <a:cubicBezTo>
                  <a:pt x="2493" y="475"/>
                  <a:pt x="2544" y="524"/>
                  <a:pt x="2592" y="541"/>
                </a:cubicBezTo>
                <a:cubicBezTo>
                  <a:pt x="2598" y="550"/>
                  <a:pt x="2603" y="560"/>
                  <a:pt x="2610" y="567"/>
                </a:cubicBezTo>
                <a:cubicBezTo>
                  <a:pt x="2617" y="574"/>
                  <a:pt x="2629" y="577"/>
                  <a:pt x="2636" y="585"/>
                </a:cubicBezTo>
                <a:cubicBezTo>
                  <a:pt x="2644" y="595"/>
                  <a:pt x="2645" y="609"/>
                  <a:pt x="2653" y="619"/>
                </a:cubicBezTo>
                <a:cubicBezTo>
                  <a:pt x="2675" y="645"/>
                  <a:pt x="2715" y="668"/>
                  <a:pt x="2741" y="689"/>
                </a:cubicBezTo>
                <a:cubicBezTo>
                  <a:pt x="2766" y="709"/>
                  <a:pt x="2786" y="733"/>
                  <a:pt x="2819" y="742"/>
                </a:cubicBezTo>
                <a:cubicBezTo>
                  <a:pt x="2839" y="747"/>
                  <a:pt x="2860" y="747"/>
                  <a:pt x="2880" y="750"/>
                </a:cubicBezTo>
                <a:cubicBezTo>
                  <a:pt x="3011" y="794"/>
                  <a:pt x="2869" y="740"/>
                  <a:pt x="2967" y="794"/>
                </a:cubicBezTo>
                <a:cubicBezTo>
                  <a:pt x="2981" y="802"/>
                  <a:pt x="2996" y="806"/>
                  <a:pt x="3011" y="811"/>
                </a:cubicBezTo>
                <a:cubicBezTo>
                  <a:pt x="3020" y="814"/>
                  <a:pt x="3029" y="816"/>
                  <a:pt x="3037" y="820"/>
                </a:cubicBezTo>
                <a:cubicBezTo>
                  <a:pt x="3067" y="836"/>
                  <a:pt x="3058" y="836"/>
                  <a:pt x="3081" y="855"/>
                </a:cubicBezTo>
                <a:cubicBezTo>
                  <a:pt x="3103" y="873"/>
                  <a:pt x="3142" y="891"/>
                  <a:pt x="3142" y="925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943200" y="1981080"/>
            <a:ext cx="97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NT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764640" y="5562720"/>
            <a:ext cx="122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oduc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028240" y="5562720"/>
            <a:ext cx="118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cimie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398760" y="5562720"/>
            <a:ext cx="90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dure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4040" y="5562720"/>
            <a:ext cx="116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clin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1947960" y="44956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3166920" y="2895120"/>
            <a:ext cx="0" cy="2667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4538520" y="2895120"/>
            <a:ext cx="0" cy="2667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003560" y="1593720"/>
            <a:ext cx="1773360" cy="1094040"/>
          </a:xfrm>
          <a:custGeom>
            <a:avLst/>
            <a:gdLst/>
            <a:ahLst/>
            <a:rect l="l" t="t" r="r" b="b"/>
            <a:pathLst>
              <a:path w="1117" h="689">
                <a:moveTo>
                  <a:pt x="0" y="689"/>
                </a:moveTo>
                <a:cubicBezTo>
                  <a:pt x="18" y="683"/>
                  <a:pt x="37" y="681"/>
                  <a:pt x="53" y="672"/>
                </a:cubicBezTo>
                <a:cubicBezTo>
                  <a:pt x="60" y="668"/>
                  <a:pt x="63" y="658"/>
                  <a:pt x="70" y="654"/>
                </a:cubicBezTo>
                <a:cubicBezTo>
                  <a:pt x="100" y="635"/>
                  <a:pt x="142" y="631"/>
                  <a:pt x="175" y="619"/>
                </a:cubicBezTo>
                <a:cubicBezTo>
                  <a:pt x="185" y="616"/>
                  <a:pt x="192" y="606"/>
                  <a:pt x="201" y="602"/>
                </a:cubicBezTo>
                <a:cubicBezTo>
                  <a:pt x="218" y="594"/>
                  <a:pt x="253" y="584"/>
                  <a:pt x="253" y="584"/>
                </a:cubicBezTo>
                <a:cubicBezTo>
                  <a:pt x="259" y="578"/>
                  <a:pt x="264" y="571"/>
                  <a:pt x="271" y="567"/>
                </a:cubicBezTo>
                <a:cubicBezTo>
                  <a:pt x="279" y="562"/>
                  <a:pt x="290" y="564"/>
                  <a:pt x="297" y="558"/>
                </a:cubicBezTo>
                <a:cubicBezTo>
                  <a:pt x="311" y="546"/>
                  <a:pt x="319" y="528"/>
                  <a:pt x="332" y="515"/>
                </a:cubicBezTo>
                <a:cubicBezTo>
                  <a:pt x="351" y="458"/>
                  <a:pt x="386" y="423"/>
                  <a:pt x="428" y="384"/>
                </a:cubicBezTo>
                <a:cubicBezTo>
                  <a:pt x="451" y="314"/>
                  <a:pt x="417" y="398"/>
                  <a:pt x="463" y="340"/>
                </a:cubicBezTo>
                <a:cubicBezTo>
                  <a:pt x="469" y="333"/>
                  <a:pt x="467" y="322"/>
                  <a:pt x="471" y="314"/>
                </a:cubicBezTo>
                <a:cubicBezTo>
                  <a:pt x="476" y="305"/>
                  <a:pt x="483" y="297"/>
                  <a:pt x="489" y="288"/>
                </a:cubicBezTo>
                <a:cubicBezTo>
                  <a:pt x="505" y="241"/>
                  <a:pt x="537" y="191"/>
                  <a:pt x="585" y="174"/>
                </a:cubicBezTo>
                <a:cubicBezTo>
                  <a:pt x="598" y="154"/>
                  <a:pt x="678" y="82"/>
                  <a:pt x="707" y="78"/>
                </a:cubicBezTo>
                <a:cubicBezTo>
                  <a:pt x="739" y="73"/>
                  <a:pt x="771" y="72"/>
                  <a:pt x="803" y="69"/>
                </a:cubicBezTo>
                <a:cubicBezTo>
                  <a:pt x="870" y="6"/>
                  <a:pt x="960" y="6"/>
                  <a:pt x="1047" y="0"/>
                </a:cubicBezTo>
                <a:cubicBezTo>
                  <a:pt x="1112" y="8"/>
                  <a:pt x="1088" y="8"/>
                  <a:pt x="1117" y="8"/>
                </a:cubicBezTo>
              </a:path>
            </a:pathLst>
          </a:custGeom>
          <a:noFill/>
          <a:ln w="2844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266220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105520" y="1752480"/>
            <a:ext cx="403848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xtensiones de mar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Ampliaciones de produc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ermiten “relanzar” un producto, evitando cerrar el ciclo de vi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H="1">
            <a:off x="4343040" y="2514600"/>
            <a:ext cx="609480" cy="152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Matriz de Ansof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895480" y="2320920"/>
            <a:ext cx="4572000" cy="3048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181480" y="232092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895480" y="3797280"/>
            <a:ext cx="457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029400" y="2619360"/>
            <a:ext cx="1986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netración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rc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427360" y="2625840"/>
            <a:ext cx="1834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arrollo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284440" y="4316400"/>
            <a:ext cx="206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versif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132000" y="4297320"/>
            <a:ext cx="1834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arrollo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rc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167360" y="1447920"/>
            <a:ext cx="198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22000" y="3581280"/>
            <a:ext cx="187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RC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414960" y="1928880"/>
            <a:ext cx="1212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uale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792400" y="1927080"/>
            <a:ext cx="1002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uev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829880" y="4255920"/>
            <a:ext cx="1002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uev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725840" y="2832120"/>
            <a:ext cx="1212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uale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786400" y="5638680"/>
            <a:ext cx="4001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¿Qué ha hecho Carlos Slim en Chil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¿Qué especula el mercado que hará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Estrategia de Trading-u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Línea de productos con un producto de entrada atractivo para cierto segmento que sirve para generar consumo futuro en productos de mayor margen (superiores en la líne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l cliente es educado para que luego consuma los productos que le interesan a la compañí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Los objetivos de esta estrategia de producto s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aptar cl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ar a conocer la 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rear lealtad (“cautivar” al clien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43920" y="5334120"/>
            <a:ext cx="5322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Ejempl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Automóviles: Peugeot =&gt; 106, 206, 307, 406, 60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Bancos: Cuenta jov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¿Cómo hacer un trading-up en la industria móvil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4495680" y="3962520"/>
            <a:ext cx="43434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Times New Roman"/>
              </a:rPr>
              <a:t>Desarrollo de Product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Identificación de oportun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Diseño conceptu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Posicionami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Atribu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Segmento objetiv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Diseño fís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Diseño de proceso de venta: distribución y logíst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re-testeo (experiment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Testeo (mercado de prueb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Introducción y lanza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Veloc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Cobertu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Cooperación de la cade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Fuerza de ven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valuación y administración del ciclo de vi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194640" y="1852560"/>
            <a:ext cx="583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¿Qué ventaja tiene acelerar el lanzamiento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¿Qué desventaja tiene probar exhaustivamente los producto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492080" y="4003560"/>
            <a:ext cx="4294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El desarrollo de productos es má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Amplio que “hacer” produ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6692760" y="5035680"/>
            <a:ext cx="1994040" cy="113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Times New Roman"/>
              </a:rPr>
              <a:t>Marc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Atributo intangible de los produc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Clave y determinante en la percepción de val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s esencial en apoyar las estrategias de diferenciación y muy importante en productos de cree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Imagine Microsoft llamándose “Software para el hogar” o Coca Cola vendiéndose como “Jarabe refrescante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La marca es un activo intangible de gran val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Por ejemplo, en la compra de BellSouth Latinoamérica por Telefónica Móviles no se incluyó la adquisición de la mar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Times New Roman"/>
              </a:rPr>
              <a:t>Estrategias de marc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rcas Corporativ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: Marcas asociadas a corporaciones (HP, Telefónica, Quiñenco, Cencosud, D&amp;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rca Paragu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: Marca utilizadas transversalmente para diferentes tipos de productos y/o unidades de negocio (Telefónic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rcas flanquedor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: Marcas secundarias que permiten copar el mercado para proteger la marca principal (Dolca, Fina Selección, Deca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rcas genéricas/blanc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: Marcas asociadas a grandes canales que se usan en diferentes categorías de productos (Cola Líd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rcas privad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: Marcas propias creadas por el canal para productos específicos (Jumbo M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876920" y="4114800"/>
            <a:ext cx="27432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114960" y="4038480"/>
            <a:ext cx="15264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848640" y="408132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486400" y="406728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7335000" y="4022640"/>
            <a:ext cx="158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Se copa ca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Times New Roman"/>
              </a:rPr>
              <a:t>Extensiones de marc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Su objetivo esencial es alcanzar otros segmentos interesantes de explot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714840" y="3962520"/>
            <a:ext cx="1676160" cy="8380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ip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327560" y="4079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686040" y="2271600"/>
            <a:ext cx="1676520" cy="83844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er-mar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686040" y="5710320"/>
            <a:ext cx="1676520" cy="8380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-mar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477120" y="3962520"/>
            <a:ext cx="1676160" cy="8380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990720" y="3962520"/>
            <a:ext cx="1676160" cy="8380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rtfolio 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329000" y="3233880"/>
            <a:ext cx="381240" cy="457200"/>
          </a:xfrm>
          <a:prstGeom prst="upArrow">
            <a:avLst>
              <a:gd name="adj1" fmla="val 50000"/>
              <a:gd name="adj2" fmla="val 29981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4343400" y="5119560"/>
            <a:ext cx="380880" cy="457200"/>
          </a:xfrm>
          <a:prstGeom prst="upArrow">
            <a:avLst>
              <a:gd name="adj1" fmla="val 50000"/>
              <a:gd name="adj2" fmla="val 30009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V="1" rot="16200000">
            <a:off x="5714640" y="4142520"/>
            <a:ext cx="381240" cy="457200"/>
          </a:xfrm>
          <a:prstGeom prst="upArrow">
            <a:avLst>
              <a:gd name="adj1" fmla="val 50000"/>
              <a:gd name="adj2" fmla="val 29981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flipV="1" rot="5400000">
            <a:off x="3057480" y="4181400"/>
            <a:ext cx="380880" cy="457200"/>
          </a:xfrm>
          <a:prstGeom prst="upArrow">
            <a:avLst>
              <a:gd name="adj1" fmla="val 50000"/>
              <a:gd name="adj2" fmla="val 30009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276720" y="2048040"/>
            <a:ext cx="2514600" cy="4724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849640" y="5448240"/>
            <a:ext cx="3232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Estrategia verti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Upgrade/Downgrade de cal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Se basan en la marca 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Sin esta no se sustent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-5400" y="5448240"/>
            <a:ext cx="3709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Estrategia horizon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La marca base apoya nueva mar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La marca base se sinergiza con ot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El cambio de calidad no es necesa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838080" y="3495600"/>
            <a:ext cx="7620120" cy="1828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Times New Roman"/>
              </a:rPr>
              <a:t>Ejemplos de extensiones de marca                      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Horizont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strategia de puente: Levi’s y Dock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Portfolio de marcas (cobranding): HP Intel ins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Vertic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Supermarca: Citigo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Submarca: Santa Carolina Reserva Famili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740960" y="5241960"/>
            <a:ext cx="5790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¿Qué estrategia de marca puede usted distingui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en el mercado de telecomunicacione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¿Cambiaría la marca de una empresa recién fusionada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¿En base a qué parámetros tomaría la decisió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PRECI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657600" y="3429000"/>
            <a:ext cx="1523880" cy="7621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CI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791320" y="2819520"/>
            <a:ext cx="1523880" cy="76176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et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410080" y="4648320"/>
            <a:ext cx="1524240" cy="76176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y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057400" y="4572000"/>
            <a:ext cx="1523880" cy="7621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tribu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838680" y="1657440"/>
            <a:ext cx="1523880" cy="76176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an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752480" y="2666880"/>
            <a:ext cx="1524240" cy="7621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H="1">
            <a:off x="4495680" y="2590920"/>
            <a:ext cx="7632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352680" y="4114800"/>
            <a:ext cx="38124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flipH="1" flipV="1">
            <a:off x="5105520" y="4191120"/>
            <a:ext cx="45720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flipH="1">
            <a:off x="5257800" y="3352680"/>
            <a:ext cx="45720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200400" y="3352680"/>
            <a:ext cx="457200" cy="152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213560" y="5943600"/>
            <a:ext cx="717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Diversos factores influyen en la determinación del pre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1"/>
          <a:stretch/>
        </p:blipFill>
        <p:spPr>
          <a:xfrm>
            <a:off x="6781680" y="914400"/>
            <a:ext cx="1575000" cy="1662120"/>
          </a:xfrm>
          <a:prstGeom prst="rect">
            <a:avLst/>
          </a:prstGeom>
          <a:ln w="0">
            <a:noFill/>
          </a:ln>
        </p:spPr>
      </p:pic>
      <p:pic>
        <p:nvPicPr>
          <p:cNvPr id="324" name="" descr=""/>
          <p:cNvPicPr/>
          <p:nvPr/>
        </p:nvPicPr>
        <p:blipFill>
          <a:blip r:embed="rId2"/>
          <a:stretch/>
        </p:blipFill>
        <p:spPr>
          <a:xfrm>
            <a:off x="228600" y="1066680"/>
            <a:ext cx="1720800" cy="17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Estrategia versus tácti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838080" y="2057400"/>
            <a:ext cx="601992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1600200" y="3657600"/>
            <a:ext cx="601992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523880" y="2743200"/>
            <a:ext cx="5403960" cy="2714760"/>
          </a:xfrm>
          <a:custGeom>
            <a:avLst/>
            <a:gdLst/>
            <a:ahLst/>
            <a:rect l="l" t="t" r="r" b="b"/>
            <a:pathLst>
              <a:path w="3404" h="1710">
                <a:moveTo>
                  <a:pt x="0" y="1710"/>
                </a:moveTo>
                <a:cubicBezTo>
                  <a:pt x="7" y="1660"/>
                  <a:pt x="19" y="1618"/>
                  <a:pt x="35" y="1571"/>
                </a:cubicBezTo>
                <a:cubicBezTo>
                  <a:pt x="43" y="1514"/>
                  <a:pt x="59" y="1461"/>
                  <a:pt x="70" y="1405"/>
                </a:cubicBezTo>
                <a:cubicBezTo>
                  <a:pt x="79" y="1357"/>
                  <a:pt x="77" y="1318"/>
                  <a:pt x="114" y="1283"/>
                </a:cubicBezTo>
                <a:cubicBezTo>
                  <a:pt x="126" y="1259"/>
                  <a:pt x="136" y="1231"/>
                  <a:pt x="157" y="1213"/>
                </a:cubicBezTo>
                <a:cubicBezTo>
                  <a:pt x="173" y="1199"/>
                  <a:pt x="195" y="1193"/>
                  <a:pt x="210" y="1178"/>
                </a:cubicBezTo>
                <a:cubicBezTo>
                  <a:pt x="216" y="1172"/>
                  <a:pt x="219" y="1163"/>
                  <a:pt x="227" y="1160"/>
                </a:cubicBezTo>
                <a:cubicBezTo>
                  <a:pt x="244" y="1154"/>
                  <a:pt x="262" y="1155"/>
                  <a:pt x="280" y="1152"/>
                </a:cubicBezTo>
                <a:cubicBezTo>
                  <a:pt x="374" y="1161"/>
                  <a:pt x="353" y="1149"/>
                  <a:pt x="402" y="1195"/>
                </a:cubicBezTo>
                <a:cubicBezTo>
                  <a:pt x="419" y="1251"/>
                  <a:pt x="475" y="1310"/>
                  <a:pt x="524" y="1344"/>
                </a:cubicBezTo>
                <a:cubicBezTo>
                  <a:pt x="530" y="1338"/>
                  <a:pt x="534" y="1330"/>
                  <a:pt x="541" y="1326"/>
                </a:cubicBezTo>
                <a:cubicBezTo>
                  <a:pt x="549" y="1321"/>
                  <a:pt x="561" y="1325"/>
                  <a:pt x="568" y="1318"/>
                </a:cubicBezTo>
                <a:cubicBezTo>
                  <a:pt x="575" y="1311"/>
                  <a:pt x="570" y="1299"/>
                  <a:pt x="576" y="1291"/>
                </a:cubicBezTo>
                <a:cubicBezTo>
                  <a:pt x="614" y="1240"/>
                  <a:pt x="616" y="1265"/>
                  <a:pt x="637" y="1222"/>
                </a:cubicBezTo>
                <a:cubicBezTo>
                  <a:pt x="678" y="1139"/>
                  <a:pt x="701" y="1050"/>
                  <a:pt x="742" y="968"/>
                </a:cubicBezTo>
                <a:cubicBezTo>
                  <a:pt x="768" y="916"/>
                  <a:pt x="800" y="849"/>
                  <a:pt x="856" y="820"/>
                </a:cubicBezTo>
                <a:cubicBezTo>
                  <a:pt x="883" y="806"/>
                  <a:pt x="922" y="804"/>
                  <a:pt x="952" y="794"/>
                </a:cubicBezTo>
                <a:cubicBezTo>
                  <a:pt x="975" y="721"/>
                  <a:pt x="1111" y="767"/>
                  <a:pt x="1170" y="776"/>
                </a:cubicBezTo>
                <a:cubicBezTo>
                  <a:pt x="1239" y="824"/>
                  <a:pt x="1317" y="848"/>
                  <a:pt x="1397" y="872"/>
                </a:cubicBezTo>
                <a:cubicBezTo>
                  <a:pt x="1436" y="912"/>
                  <a:pt x="1465" y="930"/>
                  <a:pt x="1519" y="942"/>
                </a:cubicBezTo>
                <a:cubicBezTo>
                  <a:pt x="1564" y="936"/>
                  <a:pt x="1598" y="927"/>
                  <a:pt x="1641" y="916"/>
                </a:cubicBezTo>
                <a:cubicBezTo>
                  <a:pt x="1676" y="881"/>
                  <a:pt x="1667" y="859"/>
                  <a:pt x="1693" y="820"/>
                </a:cubicBezTo>
                <a:cubicBezTo>
                  <a:pt x="1700" y="794"/>
                  <a:pt x="1707" y="747"/>
                  <a:pt x="1720" y="724"/>
                </a:cubicBezTo>
                <a:cubicBezTo>
                  <a:pt x="1740" y="690"/>
                  <a:pt x="1767" y="661"/>
                  <a:pt x="1789" y="628"/>
                </a:cubicBezTo>
                <a:cubicBezTo>
                  <a:pt x="1855" y="645"/>
                  <a:pt x="1799" y="621"/>
                  <a:pt x="1842" y="672"/>
                </a:cubicBezTo>
                <a:cubicBezTo>
                  <a:pt x="1849" y="680"/>
                  <a:pt x="1860" y="682"/>
                  <a:pt x="1868" y="689"/>
                </a:cubicBezTo>
                <a:cubicBezTo>
                  <a:pt x="1916" y="728"/>
                  <a:pt x="1947" y="752"/>
                  <a:pt x="2008" y="768"/>
                </a:cubicBezTo>
                <a:cubicBezTo>
                  <a:pt x="2017" y="765"/>
                  <a:pt x="2029" y="767"/>
                  <a:pt x="2034" y="759"/>
                </a:cubicBezTo>
                <a:cubicBezTo>
                  <a:pt x="2042" y="746"/>
                  <a:pt x="2040" y="730"/>
                  <a:pt x="2042" y="715"/>
                </a:cubicBezTo>
                <a:cubicBezTo>
                  <a:pt x="2046" y="674"/>
                  <a:pt x="2048" y="634"/>
                  <a:pt x="2051" y="593"/>
                </a:cubicBezTo>
                <a:cubicBezTo>
                  <a:pt x="2086" y="628"/>
                  <a:pt x="2095" y="669"/>
                  <a:pt x="2112" y="715"/>
                </a:cubicBezTo>
                <a:cubicBezTo>
                  <a:pt x="2118" y="733"/>
                  <a:pt x="2130" y="768"/>
                  <a:pt x="2130" y="768"/>
                </a:cubicBezTo>
                <a:cubicBezTo>
                  <a:pt x="2133" y="788"/>
                  <a:pt x="2133" y="849"/>
                  <a:pt x="2138" y="829"/>
                </a:cubicBezTo>
                <a:cubicBezTo>
                  <a:pt x="2148" y="786"/>
                  <a:pt x="2143" y="742"/>
                  <a:pt x="2147" y="698"/>
                </a:cubicBezTo>
                <a:cubicBezTo>
                  <a:pt x="2153" y="641"/>
                  <a:pt x="2185" y="587"/>
                  <a:pt x="2200" y="532"/>
                </a:cubicBezTo>
                <a:cubicBezTo>
                  <a:pt x="2228" y="432"/>
                  <a:pt x="2251" y="334"/>
                  <a:pt x="2304" y="244"/>
                </a:cubicBezTo>
                <a:cubicBezTo>
                  <a:pt x="2316" y="185"/>
                  <a:pt x="2358" y="130"/>
                  <a:pt x="2409" y="96"/>
                </a:cubicBezTo>
                <a:cubicBezTo>
                  <a:pt x="2482" y="132"/>
                  <a:pt x="2575" y="139"/>
                  <a:pt x="2653" y="166"/>
                </a:cubicBezTo>
                <a:cubicBezTo>
                  <a:pt x="2682" y="176"/>
                  <a:pt x="2724" y="200"/>
                  <a:pt x="2749" y="218"/>
                </a:cubicBezTo>
                <a:cubicBezTo>
                  <a:pt x="2759" y="225"/>
                  <a:pt x="2764" y="240"/>
                  <a:pt x="2776" y="244"/>
                </a:cubicBezTo>
                <a:cubicBezTo>
                  <a:pt x="2815" y="257"/>
                  <a:pt x="2858" y="254"/>
                  <a:pt x="2898" y="262"/>
                </a:cubicBezTo>
                <a:cubicBezTo>
                  <a:pt x="2965" y="295"/>
                  <a:pt x="2965" y="287"/>
                  <a:pt x="3055" y="279"/>
                </a:cubicBezTo>
                <a:cubicBezTo>
                  <a:pt x="3105" y="203"/>
                  <a:pt x="3169" y="136"/>
                  <a:pt x="3221" y="61"/>
                </a:cubicBezTo>
                <a:cubicBezTo>
                  <a:pt x="3237" y="9"/>
                  <a:pt x="3259" y="26"/>
                  <a:pt x="3308" y="35"/>
                </a:cubicBezTo>
                <a:cubicBezTo>
                  <a:pt x="3334" y="32"/>
                  <a:pt x="3361" y="35"/>
                  <a:pt x="3386" y="26"/>
                </a:cubicBezTo>
                <a:cubicBezTo>
                  <a:pt x="3396" y="22"/>
                  <a:pt x="3404" y="0"/>
                  <a:pt x="3404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478760" y="5222880"/>
            <a:ext cx="140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rateg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flipH="1" flipV="1">
            <a:off x="3886200" y="5181120"/>
            <a:ext cx="5335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666400" y="3490920"/>
            <a:ext cx="10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ác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flipH="1" flipV="1">
            <a:off x="5138640" y="3428640"/>
            <a:ext cx="5335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Tendencias del mercado actual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Compete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reciente (interna y extern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os competidores atacan nichos específ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e compite más por procesos que por productos (ejemplo: servicio al clien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umenta el marketing confrontacional (¿se acuerdan de la guerra del multicarrier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urgen alianzas estratégicas y partnersh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Fusiones y adquisiciones de empres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7072200" y="1219320"/>
            <a:ext cx="1919520" cy="14382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552600" y="5410080"/>
            <a:ext cx="8138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0033cc"/>
                </a:solidFill>
                <a:latin typeface="Times New Roman"/>
              </a:rPr>
              <a:t>¿Existe espacio de competencia en el mercado de telecomunicaciones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0033cc"/>
                </a:solidFill>
                <a:latin typeface="Times New Roman"/>
              </a:rPr>
              <a:t>¿Por qué se regulan algunos mercados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Times New Roman"/>
              </a:rPr>
              <a:t>Métodos de determinación de precios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Orientados al cos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osto-pl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unto de equilib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Rentabilidad obje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urva de experi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Orientados a la deman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osto-plus inver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unto de equilibrio modific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Análisis de valor versus valor en u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conométr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Orientados a la compet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Segui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Licit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Integr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5403960" y="1600200"/>
            <a:ext cx="2901960" cy="21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Valor económic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8001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¿Qué busca el preci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APTURAR EL MÁXIMO VALOR CRE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Valor = Beneficios - Cos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057400" y="3124080"/>
            <a:ext cx="1600200" cy="2286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057400" y="5410080"/>
            <a:ext cx="16002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038480" y="3124080"/>
            <a:ext cx="167652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052880" y="3443400"/>
            <a:ext cx="16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052880" y="3738600"/>
            <a:ext cx="16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239360" y="3119400"/>
            <a:ext cx="132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- en ven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444920" y="3386160"/>
            <a:ext cx="90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esg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87680" y="3691080"/>
            <a:ext cx="108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+ gas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733920" y="3124080"/>
            <a:ext cx="152280" cy="914400"/>
          </a:xfrm>
          <a:custGeom>
            <a:avLst/>
            <a:gdLst>
              <a:gd name="textAreaLeft" fmla="*/ 0 w 152280"/>
              <a:gd name="textAreaRight" fmla="*/ 5508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733920" y="4114800"/>
            <a:ext cx="152280" cy="2209680"/>
          </a:xfrm>
          <a:custGeom>
            <a:avLst/>
            <a:gdLst>
              <a:gd name="textAreaLeft" fmla="*/ 0 w 152280"/>
              <a:gd name="textAreaRight" fmla="*/ 55080 w 152280"/>
              <a:gd name="textAreaTop" fmla="*/ 57600 h 2209680"/>
              <a:gd name="textAreaBottom" fmla="*/ 215208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124"/>
                </a:lnTo>
                <a:cubicBezTo>
                  <a:pt x="10800" y="10024"/>
                  <a:pt x="16200" y="10924"/>
                  <a:pt x="21600" y="10924"/>
                </a:cubicBezTo>
                <a:cubicBezTo>
                  <a:pt x="16200" y="10924"/>
                  <a:pt x="10800" y="11824"/>
                  <a:pt x="10800" y="12724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828800" y="3124080"/>
            <a:ext cx="76320" cy="2286000"/>
          </a:xfrm>
          <a:custGeom>
            <a:avLst/>
            <a:gdLst>
              <a:gd name="textAreaLeft" fmla="*/ 48960 w 76320"/>
              <a:gd name="textAreaRight" fmla="*/ 76320 w 7632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828800" y="5486400"/>
            <a:ext cx="76320" cy="838080"/>
          </a:xfrm>
          <a:custGeom>
            <a:avLst/>
            <a:gdLst>
              <a:gd name="textAreaLeft" fmla="*/ 48960 w 76320"/>
              <a:gd name="textAreaRight" fmla="*/ 76320 w 7632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1520" y="3886200"/>
            <a:ext cx="1942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Valor posi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de diferenci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20680" y="5470560"/>
            <a:ext cx="150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Val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de refer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938760" y="4894200"/>
            <a:ext cx="2008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Valor económ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to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821560" y="3260880"/>
            <a:ext cx="1942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Valor nega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de diferenci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074200" y="5699160"/>
            <a:ext cx="392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¿Qué pasa si los costos son may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que el valor de referencia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Valor económic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Valor percibi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tributos explíci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tributos percibi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ímbolos de va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Precio como señalador de cal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isponibilidad de otros indica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ispersión de precios en la categor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iferencias de percepción de calidad en la categor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nocimientos de los Precios por el consumi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Rol de los cost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ás que los niveles de costos, importa saber cómo ellos cambian ante cambios en ventas por decisiones de prec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os costos relevantes son los costos futuros, incrementales y evitables (costos fijos no, costos variables sí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os costos debieran definir el piso de los precios. El precio final vendrá asociado al VA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¿Qué costos considera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Los del mejor competidor actu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Los del competidor potenc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Los prop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874680" y="4556160"/>
            <a:ext cx="51490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¿Cómo puede imponer barreras 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entrada una empresa realizando inversione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¿Cómo se relaciona esto con el análi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estratégico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¿Existen incentivos en una industria intensiva 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costos fijos para generar guerras de precio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¿Qué pasa en telecomunicacione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718240" y="3600360"/>
            <a:ext cx="1820880" cy="87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Times New Roman"/>
              </a:rPr>
              <a:t>Rol de la demanda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a clave es tratar de controlar la elasticidad precio de la demanda de manera de insensibilizar a pre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xisten 10 factores de control de sensibilidad a pre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fecto unicidad (atributo único relevante para el consumido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fecto fin último (situación uso/consumo, costo relativo a tota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fecto gasto total (términos absolutos, situación relativ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fecto precio-cal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fecto precio-public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fecto inventario (corto plazo, expectativas futura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fecto costo comparti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fecto conocimiento de alternativ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fecto dificultad de compa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fecto inversión pas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029200" y="5181480"/>
            <a:ext cx="1371600" cy="4572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to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7543800" y="5181480"/>
            <a:ext cx="1371600" cy="4572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tribució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281640" y="4681440"/>
            <a:ext cx="1371600" cy="4572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unicació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6291360" y="5505480"/>
            <a:ext cx="144756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248440" y="6248520"/>
            <a:ext cx="3581280" cy="380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ectos de insensibilización a prec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Times New Roman"/>
              </a:rPr>
              <a:t>Rol de la competencia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umento de competencia =&gt; Aumento de sensibilidad a pre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¿Quiénes finalmente son mis competidor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Los que tienen la CAPACIDAD y VOLUNTAD de respon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Si B baja el precio, ¿estará dispuesto a hacerlo A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457200" y="2808360"/>
            <a:ext cx="2743200" cy="190476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1139760" y="4325760"/>
            <a:ext cx="1554120" cy="258840"/>
          </a:xfrm>
          <a:custGeom>
            <a:avLst/>
            <a:gdLst/>
            <a:ahLst/>
            <a:rect l="l" t="t" r="r" b="b"/>
            <a:pathLst>
              <a:path w="979" h="163">
                <a:moveTo>
                  <a:pt x="0" y="163"/>
                </a:moveTo>
                <a:cubicBezTo>
                  <a:pt x="32" y="116"/>
                  <a:pt x="22" y="100"/>
                  <a:pt x="71" y="69"/>
                </a:cubicBezTo>
                <a:cubicBezTo>
                  <a:pt x="142" y="79"/>
                  <a:pt x="211" y="92"/>
                  <a:pt x="282" y="104"/>
                </a:cubicBezTo>
                <a:cubicBezTo>
                  <a:pt x="317" y="100"/>
                  <a:pt x="353" y="99"/>
                  <a:pt x="388" y="92"/>
                </a:cubicBezTo>
                <a:cubicBezTo>
                  <a:pt x="412" y="87"/>
                  <a:pt x="435" y="77"/>
                  <a:pt x="458" y="69"/>
                </a:cubicBezTo>
                <a:cubicBezTo>
                  <a:pt x="470" y="65"/>
                  <a:pt x="494" y="57"/>
                  <a:pt x="494" y="57"/>
                </a:cubicBezTo>
                <a:cubicBezTo>
                  <a:pt x="578" y="0"/>
                  <a:pt x="680" y="27"/>
                  <a:pt x="776" y="33"/>
                </a:cubicBezTo>
                <a:cubicBezTo>
                  <a:pt x="864" y="51"/>
                  <a:pt x="809" y="37"/>
                  <a:pt x="905" y="69"/>
                </a:cubicBezTo>
                <a:cubicBezTo>
                  <a:pt x="917" y="73"/>
                  <a:pt x="940" y="80"/>
                  <a:pt x="940" y="80"/>
                </a:cubicBezTo>
                <a:cubicBezTo>
                  <a:pt x="979" y="106"/>
                  <a:pt x="976" y="90"/>
                  <a:pt x="976" y="1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544760" y="33415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9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004120" y="4327560"/>
            <a:ext cx="56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653200" y="37638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2043360" y="43848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09480" y="4952880"/>
            <a:ext cx="7162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ndiciones que favorecen la competencia vía prec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914400" y="5410080"/>
            <a:ext cx="41911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451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Alta sensibilidad a precios entre marc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451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Bajas barreras de ingreso al merc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451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Altas barreras de salida del merc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105520" y="5410080"/>
            <a:ext cx="39621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Producto en etapa de madure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Estructura de la industria (compañías de tamaño simila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657600" y="2808360"/>
            <a:ext cx="2743200" cy="190476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 flipV="1">
            <a:off x="3809880" y="3341520"/>
            <a:ext cx="2552760" cy="984240"/>
          </a:xfrm>
          <a:custGeom>
            <a:avLst/>
            <a:gdLst/>
            <a:ahLst/>
            <a:rect l="l" t="t" r="r" b="b"/>
            <a:pathLst>
              <a:path w="979" h="163">
                <a:moveTo>
                  <a:pt x="0" y="163"/>
                </a:moveTo>
                <a:cubicBezTo>
                  <a:pt x="32" y="116"/>
                  <a:pt x="22" y="100"/>
                  <a:pt x="71" y="69"/>
                </a:cubicBezTo>
                <a:cubicBezTo>
                  <a:pt x="142" y="79"/>
                  <a:pt x="211" y="92"/>
                  <a:pt x="282" y="104"/>
                </a:cubicBezTo>
                <a:cubicBezTo>
                  <a:pt x="317" y="100"/>
                  <a:pt x="353" y="99"/>
                  <a:pt x="388" y="92"/>
                </a:cubicBezTo>
                <a:cubicBezTo>
                  <a:pt x="412" y="87"/>
                  <a:pt x="435" y="77"/>
                  <a:pt x="458" y="69"/>
                </a:cubicBezTo>
                <a:cubicBezTo>
                  <a:pt x="470" y="65"/>
                  <a:pt x="494" y="57"/>
                  <a:pt x="494" y="57"/>
                </a:cubicBezTo>
                <a:cubicBezTo>
                  <a:pt x="578" y="0"/>
                  <a:pt x="680" y="27"/>
                  <a:pt x="776" y="33"/>
                </a:cubicBezTo>
                <a:cubicBezTo>
                  <a:pt x="864" y="51"/>
                  <a:pt x="809" y="37"/>
                  <a:pt x="905" y="69"/>
                </a:cubicBezTo>
                <a:cubicBezTo>
                  <a:pt x="917" y="73"/>
                  <a:pt x="940" y="80"/>
                  <a:pt x="940" y="80"/>
                </a:cubicBezTo>
                <a:cubicBezTo>
                  <a:pt x="979" y="106"/>
                  <a:pt x="976" y="90"/>
                  <a:pt x="976" y="1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745160" y="33415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6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204160" y="4179960"/>
            <a:ext cx="69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40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853600" y="33415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481640" y="41799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6496200" y="2666880"/>
            <a:ext cx="228600" cy="2133720"/>
          </a:xfrm>
          <a:custGeom>
            <a:avLst/>
            <a:gdLst>
              <a:gd name="textAreaLeft" fmla="*/ 0 w 228600"/>
              <a:gd name="textAreaRight" fmla="*/ 82440 w 228600"/>
              <a:gd name="textAreaTop" fmla="*/ 55440 h 2133720"/>
              <a:gd name="textAreaBottom" fmla="*/ 2078280 h 2133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6711120" y="2743200"/>
            <a:ext cx="2343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Bus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OPE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7696080" y="3657600"/>
            <a:ext cx="457200" cy="533520"/>
          </a:xfrm>
          <a:prstGeom prst="downArrow">
            <a:avLst>
              <a:gd name="adj1" fmla="val 50000"/>
              <a:gd name="adj2" fmla="val 29173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721200" y="4229280"/>
            <a:ext cx="241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EÑALIZ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Times New Roman"/>
              </a:rPr>
              <a:t>Rol de los distribuidores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n general aumenta el poder de los distribui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oseen injherencia en el precio final y asumen una posición activa frente al cl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¿Cómo crea valor el cana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olítica de mar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Servicios en el punto de ven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Recursos humanos calific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Sistema logístico: cuándo, dónde, cuá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Marchand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Ambiente/stat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O sea, los canales permiten llegar a los clientes, ofrecer productos ampliados y ser un medio de comun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l precio es eficiente como herramienta de segmen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Mom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Lug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Identificación voluntar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Financia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343400" y="5791320"/>
            <a:ext cx="533520" cy="533160"/>
          </a:xfrm>
          <a:prstGeom prst="rightArrow">
            <a:avLst>
              <a:gd name="adj1" fmla="val 50000"/>
              <a:gd name="adj2" fmla="val 2501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313240" y="5459400"/>
            <a:ext cx="2869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 u="sng">
                <a:solidFill>
                  <a:srgbClr val="000000"/>
                </a:solidFill>
                <a:uFillTx/>
                <a:latin typeface="Times New Roman"/>
              </a:rPr>
              <a:t>Discriminación de Prec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Tiempo/Lug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omporta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ompra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181480" y="5467320"/>
            <a:ext cx="3048120" cy="12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DISTRIBU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Cadena de valor agreg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1752480" y="2590920"/>
            <a:ext cx="5791320" cy="685800"/>
          </a:xfrm>
          <a:custGeom>
            <a:avLst/>
            <a:gdLst>
              <a:gd name="textAreaLeft" fmla="*/ 723960 w 5791320"/>
              <a:gd name="textAreaRight" fmla="*/ 5067720 w 579132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05640" y="2666880"/>
            <a:ext cx="143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rovee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7290360" y="2463840"/>
            <a:ext cx="168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nsumi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Fi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276360" y="2327400"/>
            <a:ext cx="167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istribui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590920" y="4038480"/>
            <a:ext cx="304560" cy="381240"/>
          </a:xfrm>
          <a:prstGeom prst="can">
            <a:avLst>
              <a:gd name="adj" fmla="val 25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8954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4114800"/>
            <a:ext cx="304920" cy="380880"/>
          </a:xfrm>
          <a:prstGeom prst="can">
            <a:avLst>
              <a:gd name="adj" fmla="val 25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20040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590920" y="3809880"/>
            <a:ext cx="304560" cy="381240"/>
          </a:xfrm>
          <a:prstGeom prst="can">
            <a:avLst>
              <a:gd name="adj" fmla="val 25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200400" y="4114800"/>
            <a:ext cx="304920" cy="380880"/>
          </a:xfrm>
          <a:prstGeom prst="can">
            <a:avLst>
              <a:gd name="adj" fmla="val 25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105520" y="4025880"/>
            <a:ext cx="304560" cy="380880"/>
          </a:xfrm>
          <a:prstGeom prst="can">
            <a:avLst>
              <a:gd name="adj" fmla="val 25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410080" y="4025880"/>
            <a:ext cx="304920" cy="380880"/>
          </a:xfrm>
          <a:prstGeom prst="can">
            <a:avLst>
              <a:gd name="adj" fmla="val 25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 flipH="1">
            <a:off x="3200400" y="2895480"/>
            <a:ext cx="457200" cy="533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495680" y="2895480"/>
            <a:ext cx="457200" cy="533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512440" y="3454560"/>
            <a:ext cx="110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Mayoris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528800" y="3454560"/>
            <a:ext cx="107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Minoris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85800" y="4724280"/>
            <a:ext cx="80773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La cadena del distribuidor incluye a proveedor y consumidor fi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Por lo tanto, las cadenas COMPIT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Comparación de caden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33520" y="1447920"/>
            <a:ext cx="6553080" cy="838080"/>
          </a:xfrm>
          <a:prstGeom prst="rect">
            <a:avLst/>
          </a:prstGeom>
          <a:noFill/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33520" y="2666880"/>
            <a:ext cx="6553080" cy="838440"/>
          </a:xfrm>
          <a:prstGeom prst="rect">
            <a:avLst/>
          </a:prstGeom>
          <a:noFill/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747000" y="1660680"/>
            <a:ext cx="75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is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3184920" y="1660680"/>
            <a:ext cx="107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Magen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866920" y="1660680"/>
            <a:ext cx="91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li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47000" y="2819520"/>
            <a:ext cx="75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is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5868360" y="2819520"/>
            <a:ext cx="91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li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184920" y="2819520"/>
            <a:ext cx="88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oas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1905120" y="175248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4800600" y="297180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1981080" y="297180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4648320" y="175248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85800" y="4114440"/>
            <a:ext cx="77724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Diferencias 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nven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Formas de pa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ugares de aten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Ub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ervicios Asoci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7" name="" descr=""/>
          <p:cNvPicPr/>
          <p:nvPr/>
        </p:nvPicPr>
        <p:blipFill>
          <a:blip r:embed="rId1"/>
          <a:stretch/>
        </p:blipFill>
        <p:spPr>
          <a:xfrm>
            <a:off x="5862600" y="4008600"/>
            <a:ext cx="1928880" cy="1672920"/>
          </a:xfrm>
          <a:prstGeom prst="rect">
            <a:avLst/>
          </a:prstGeom>
          <a:ln w="0">
            <a:noFill/>
          </a:ln>
        </p:spPr>
      </p:pic>
      <p:sp>
        <p:nvSpPr>
          <p:cNvPr id="428" name=""/>
          <p:cNvSpPr/>
          <p:nvPr/>
        </p:nvSpPr>
        <p:spPr>
          <a:xfrm>
            <a:off x="5097600" y="5851440"/>
            <a:ext cx="355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Times New Roman"/>
              </a:rPr>
              <a:t>La decisión de compra no está 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Times New Roman"/>
              </a:rPr>
              <a:t>sólo determinada por el produc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7162920" y="1143000"/>
            <a:ext cx="304560" cy="2590920"/>
          </a:xfrm>
          <a:custGeom>
            <a:avLst/>
            <a:gdLst>
              <a:gd name="textAreaLeft" fmla="*/ 0 w 304560"/>
              <a:gd name="textAreaRight" fmla="*/ 109800 w 304560"/>
              <a:gd name="textAreaTop" fmla="*/ 67320 h 2590920"/>
              <a:gd name="textAreaBottom" fmla="*/ 2523600 h 2590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7529400" y="1812960"/>
            <a:ext cx="124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 u="sng">
                <a:solidFill>
                  <a:srgbClr val="000000"/>
                </a:solidFill>
                <a:uFillTx/>
                <a:latin typeface="Times New Roman"/>
              </a:rPr>
              <a:t>Obje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LI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FI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1" name="" descr=""/>
          <p:cNvPicPr/>
          <p:nvPr/>
        </p:nvPicPr>
        <p:blipFill>
          <a:blip r:embed="rId2"/>
          <a:stretch/>
        </p:blipFill>
        <p:spPr>
          <a:xfrm>
            <a:off x="7543800" y="2819520"/>
            <a:ext cx="1225440" cy="81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¿Cómo llegar a ello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8377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Preguntas clav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¿Cómo compr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¿Cuándo compr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¿Dónde compr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Las respuestas varían dependiendo de los segmentos de merc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Grandes corpora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y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egmento mas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Además se deben determinar los </a:t>
            </a:r>
            <a:r>
              <a:rPr b="0" lang="es-CL" sz="2800" spc="-1" strike="noStrike" u="sng">
                <a:solidFill>
                  <a:srgbClr val="000000"/>
                </a:solidFill>
                <a:uFillTx/>
                <a:latin typeface="Times New Roman"/>
              </a:rPr>
              <a:t>servicios más valorados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(no siempre para tener ventaja sino que para estar en la categorí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Tarjeta de crédito para supermerc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oporte y garantías en tecnologías de misión crí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4" name="" descr=""/>
          <p:cNvPicPr/>
          <p:nvPr/>
        </p:nvPicPr>
        <p:blipFill>
          <a:blip r:embed="rId1"/>
          <a:stretch/>
        </p:blipFill>
        <p:spPr>
          <a:xfrm>
            <a:off x="7086600" y="3124080"/>
            <a:ext cx="1357200" cy="1428840"/>
          </a:xfrm>
          <a:prstGeom prst="rect">
            <a:avLst/>
          </a:prstGeom>
          <a:ln w="0">
            <a:noFill/>
          </a:ln>
        </p:spPr>
      </p:pic>
      <p:pic>
        <p:nvPicPr>
          <p:cNvPr id="435" name="" descr=""/>
          <p:cNvPicPr/>
          <p:nvPr/>
        </p:nvPicPr>
        <p:blipFill>
          <a:blip r:embed="rId2"/>
          <a:stretch/>
        </p:blipFill>
        <p:spPr>
          <a:xfrm>
            <a:off x="4800600" y="1066680"/>
            <a:ext cx="120636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Tendencias del mercado actu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Produc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La lealtad de marca se ve erosion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Creciente proliferación de produc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Paridad percibida en el producto 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Producto ampliado cada vez más importa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Ciclos de vida del producto más cor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Reducción en tiempo-espacio-materia en el consum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947960" y="5562720"/>
            <a:ext cx="5356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0033cc"/>
                </a:solidFill>
                <a:latin typeface="Times New Roman"/>
              </a:rPr>
              <a:t>¿Cuánto duró Internet Conmutado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0033cc"/>
                </a:solidFill>
                <a:latin typeface="Times New Roman"/>
              </a:rPr>
              <a:t>¿Qué pasó con el boom de la larga distancia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0033cc"/>
                </a:solidFill>
                <a:latin typeface="Times New Roman"/>
              </a:rPr>
              <a:t>¿Cuál fue la apuesta estratégica de ENTEL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Estructuración del ca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8377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De acuerdo a los servicios más valorados deben definirse TAREAS, sus alcances y los AGENTES que las realizará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Tarea: Dar crédito en el punto de venta ¿administro mi propio medio de pago? ¿acepto medios de pago de terceros? ¿ofrezco las mismas facilidades de pag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Las tareas en el canal determinan el costo operativo asociado ($ y tiemp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ótese que puntos de venta masivos pueden ser muy costos de administr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Cada tarea debe ser remunerada de acuerdo a su aporte en la cadena de val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l canal puede obtener una importante porción del precio al usuario fi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llo debe ser consistente con su aporte de va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7924680" y="5283360"/>
            <a:ext cx="0" cy="13716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8061840" y="5119560"/>
            <a:ext cx="99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Times New Roman"/>
              </a:rPr>
              <a:t>Pcli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8064000" y="6461280"/>
            <a:ext cx="91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Times New Roman"/>
              </a:rPr>
              <a:t>Pfab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077320" y="5486400"/>
            <a:ext cx="75960" cy="1066680"/>
          </a:xfrm>
          <a:custGeom>
            <a:avLst/>
            <a:gdLst>
              <a:gd name="textAreaLeft" fmla="*/ 0 w 75960"/>
              <a:gd name="textAreaRight" fmla="*/ 27360 w 7596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8214840" y="5805360"/>
            <a:ext cx="77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Times New Roman"/>
              </a:rPr>
              <a:t>Ca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3" name="" descr=""/>
          <p:cNvPicPr/>
          <p:nvPr/>
        </p:nvPicPr>
        <p:blipFill>
          <a:blip r:embed="rId1"/>
          <a:stretch/>
        </p:blipFill>
        <p:spPr>
          <a:xfrm>
            <a:off x="7391520" y="3048120"/>
            <a:ext cx="1011240" cy="94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Administración de canales de distribu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xisten diversas formas de organizar canales de distribu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ropietarios (integración vertic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ntratos específ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Franquic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labo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apacitación, financiamiento, elementos de venta, merchandising, contabilidad, control de gest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No existe un camino ún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Cuidado con los costos de transacción y los costos de agencia, sobretodo en la organización de fuerzas de ven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"/>
          <p:cNvSpPr/>
          <p:nvPr/>
        </p:nvSpPr>
        <p:spPr>
          <a:xfrm>
            <a:off x="5448240" y="2870280"/>
            <a:ext cx="3581640" cy="18288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Comunicación Integra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1536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Va más allá de la conocida “publicidad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Se integra íntimamente al posicionamiento del producto a la identidad de marca y al potenciamiento de las demás variables comerci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Fases de implement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iagnós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Qué percibe o piensa el cli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De acuerdo a eso, qué hace el cli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Objetivos (situación esperad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Qué quiero  que piensen los clientes POSICIONA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Qué quiero que hagan los clientes COMPORTA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l seguimiento debe ser planteado a través de objetivos numér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Implementación de la estrategia comunica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5981400" y="2971800"/>
            <a:ext cx="87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Categorí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5642280" y="32004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Atributos valorad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5621400" y="3429000"/>
            <a:ext cx="165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Atributos percibid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5713920" y="3657600"/>
            <a:ext cx="148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Marcas percibid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482800" y="388620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Características percibid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479560" y="4114800"/>
            <a:ext cx="20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Posicionamiento percibi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5636880" y="4343400"/>
            <a:ext cx="176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Actitud hacias marc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478280" y="3048120"/>
            <a:ext cx="151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Actitud de comp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7440480" y="3276720"/>
            <a:ext cx="164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Dificultad de acces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7565040" y="3505320"/>
            <a:ext cx="133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Referente so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7720920" y="3733920"/>
            <a:ext cx="9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Costumb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7480440" y="288288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1" name="" descr=""/>
          <p:cNvPicPr/>
          <p:nvPr/>
        </p:nvPicPr>
        <p:blipFill>
          <a:blip r:embed="rId1"/>
          <a:stretch/>
        </p:blipFill>
        <p:spPr>
          <a:xfrm>
            <a:off x="6781680" y="2527200"/>
            <a:ext cx="627120" cy="743040"/>
          </a:xfrm>
          <a:prstGeom prst="rect">
            <a:avLst/>
          </a:prstGeom>
          <a:ln w="0">
            <a:noFill/>
          </a:ln>
        </p:spPr>
      </p:pic>
      <p:pic>
        <p:nvPicPr>
          <p:cNvPr id="462" name="" descr=""/>
          <p:cNvPicPr/>
          <p:nvPr/>
        </p:nvPicPr>
        <p:blipFill>
          <a:blip r:embed="rId2"/>
          <a:stretch/>
        </p:blipFill>
        <p:spPr>
          <a:xfrm>
            <a:off x="8001000" y="4038480"/>
            <a:ext cx="66996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/>
          <p:nvPr/>
        </p:nvSpPr>
        <p:spPr>
          <a:xfrm>
            <a:off x="609480" y="1752480"/>
            <a:ext cx="2514600" cy="9907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IAGNÓS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Implementación de estrateg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2895120" y="3276720"/>
            <a:ext cx="48006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Mens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Med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Frecuencia/Cobertu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Forma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5867280" y="1752480"/>
            <a:ext cx="2514600" cy="9907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ITU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SPER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733920" y="2133720"/>
            <a:ext cx="1523880" cy="380880"/>
          </a:xfrm>
          <a:custGeom>
            <a:avLst/>
            <a:gdLst>
              <a:gd name="textAreaLeft" fmla="*/ 237960 w 1523880"/>
              <a:gd name="textAreaRight" fmla="*/ 1333440 w 1523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3683160" y="2533680"/>
            <a:ext cx="189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Estrategia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9" name="" descr=""/>
          <p:cNvPicPr/>
          <p:nvPr/>
        </p:nvPicPr>
        <p:blipFill>
          <a:blip r:embed="rId1"/>
          <a:stretch/>
        </p:blipFill>
        <p:spPr>
          <a:xfrm>
            <a:off x="762120" y="3352680"/>
            <a:ext cx="2023920" cy="2641680"/>
          </a:xfrm>
          <a:prstGeom prst="rect">
            <a:avLst/>
          </a:prstGeom>
          <a:ln w="0">
            <a:noFill/>
          </a:ln>
        </p:spPr>
      </p:pic>
      <p:pic>
        <p:nvPicPr>
          <p:cNvPr id="470" name="" descr=""/>
          <p:cNvPicPr/>
          <p:nvPr/>
        </p:nvPicPr>
        <p:blipFill>
          <a:blip r:embed="rId2"/>
          <a:stretch/>
        </p:blipFill>
        <p:spPr>
          <a:xfrm>
            <a:off x="6705720" y="5181480"/>
            <a:ext cx="1803240" cy="1189080"/>
          </a:xfrm>
          <a:prstGeom prst="rect">
            <a:avLst/>
          </a:prstGeom>
          <a:ln w="0">
            <a:noFill/>
          </a:ln>
        </p:spPr>
      </p:pic>
      <p:pic>
        <p:nvPicPr>
          <p:cNvPr id="471" name="" descr=""/>
          <p:cNvPicPr/>
          <p:nvPr/>
        </p:nvPicPr>
        <p:blipFill>
          <a:blip r:embed="rId3"/>
          <a:stretch/>
        </p:blipFill>
        <p:spPr>
          <a:xfrm>
            <a:off x="6629400" y="3352680"/>
            <a:ext cx="1720800" cy="17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Carácter del mensaj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2209680" y="1828800"/>
            <a:ext cx="5791320" cy="30481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2649600" y="1181160"/>
            <a:ext cx="2117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Informaci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(educación, racion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5637600" y="1181160"/>
            <a:ext cx="221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Imag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(sensorial, emocion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749880" y="2452680"/>
            <a:ext cx="130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Riesgo Baj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749880" y="3747960"/>
            <a:ext cx="12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Riesgo Al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5029200" y="182880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2209680" y="3352680"/>
            <a:ext cx="5791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2972160" y="2362320"/>
            <a:ext cx="127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Times New Roman"/>
              </a:rPr>
              <a:t>Aspiri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Times New Roman"/>
              </a:rPr>
              <a:t>Detergen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2743920" y="3625920"/>
            <a:ext cx="180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Times New Roman"/>
              </a:rPr>
              <a:t>Ca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Times New Roman"/>
              </a:rPr>
              <a:t>Equipos/Sistem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887080" y="2362320"/>
            <a:ext cx="124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Times New Roman"/>
              </a:rPr>
              <a:t>Bebi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Times New Roman"/>
              </a:rPr>
              <a:t>Cosmétic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5785200" y="382428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Times New Roman"/>
              </a:rPr>
              <a:t>Autos de luj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2066400" y="5029200"/>
            <a:ext cx="586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3333cc"/>
                </a:solidFill>
                <a:latin typeface="Times New Roman"/>
              </a:rPr>
              <a:t>¿Dónde sitúa ustedes a los productos de telecomunicacione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85800" y="5486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ada cuadrante requiere distintos med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rensa es adecuada para mensajes informacion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La TV es adecuada para mensajes de ima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Times New Roman"/>
              </a:rPr>
              <a:t>Tipos de format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685800" y="8380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000000"/>
                </a:solidFill>
                <a:uFillTx/>
                <a:latin typeface="Times New Roman"/>
              </a:rPr>
              <a:t>Emoci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Emociones asociadas a la mar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Disociación de eventos y mar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Reacción del consumid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000000"/>
                </a:solidFill>
                <a:uFillTx/>
                <a:latin typeface="Times New Roman"/>
              </a:rPr>
              <a:t>Anim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Movimie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Dinamismo, col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Mercado objetivo principal los niñ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000000"/>
                </a:solidFill>
                <a:uFillTx/>
                <a:latin typeface="Times New Roman"/>
              </a:rPr>
              <a:t>Comparativ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Presentar ventaja frente a la competen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OJO con las trabas legales y práctic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000000"/>
                </a:solidFill>
                <a:uFillTx/>
                <a:latin typeface="Times New Roman"/>
              </a:rPr>
              <a:t>Respaldo de personal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Vocero de peso relacion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Relación al producto y posicionamie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000000"/>
                </a:solidFill>
                <a:uFillTx/>
                <a:latin typeface="Times New Roman"/>
              </a:rPr>
              <a:t>Presenta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Vocero viv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Relevante para la categorí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000000"/>
                </a:solidFill>
                <a:uFillTx/>
                <a:latin typeface="Times New Roman"/>
              </a:rPr>
              <a:t>Símbol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Elementos de fuerte significado colectiv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Mucha información en poco tiemp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5350320" y="1295280"/>
            <a:ext cx="318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Times New Roman"/>
              </a:rPr>
              <a:t>Ejemplo: Carabineros de Chile 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Times New Roman"/>
              </a:rPr>
              <a:t>avisos de accidentes de tránsi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351400" y="2452680"/>
            <a:ext cx="240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Times New Roman"/>
              </a:rPr>
              <a:t>Ejemplo: Dragon Ball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5349960" y="3244680"/>
            <a:ext cx="330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Times New Roman"/>
              </a:rPr>
              <a:t>Ejemplo: Pepsi, nueva gener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Times New Roman"/>
              </a:rPr>
              <a:t>Líder los precios + bajos siemp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350320" y="4205160"/>
            <a:ext cx="364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Times New Roman"/>
              </a:rPr>
              <a:t>Ejemplo: Nicolás Massú y Telefón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349600" y="5043600"/>
            <a:ext cx="340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Times New Roman"/>
              </a:rPr>
              <a:t>Ejemplo: Andrea Molina y Telm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6477120" y="5791320"/>
            <a:ext cx="838080" cy="761760"/>
          </a:xfrm>
          <a:prstGeom prst="smileyFace">
            <a:avLst>
              <a:gd name="adj" fmla="val 9282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4" name=""/>
          <p:cNvGrpSpPr/>
          <p:nvPr/>
        </p:nvGrpSpPr>
        <p:grpSpPr>
          <a:xfrm>
            <a:off x="7736400" y="5905440"/>
            <a:ext cx="443160" cy="531360"/>
            <a:chOff x="7736400" y="5905440"/>
            <a:chExt cx="443160" cy="531360"/>
          </a:xfrm>
        </p:grpSpPr>
        <p:sp>
          <p:nvSpPr>
            <p:cNvPr id="495" name=""/>
            <p:cNvSpPr/>
            <p:nvPr/>
          </p:nvSpPr>
          <p:spPr>
            <a:xfrm>
              <a:off x="7973640" y="590544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7973280" y="6212520"/>
              <a:ext cx="206280" cy="224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 flipV="1">
              <a:off x="7736400" y="6208200"/>
              <a:ext cx="223920" cy="205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8" name=""/>
          <p:cNvSpPr/>
          <p:nvPr/>
        </p:nvSpPr>
        <p:spPr>
          <a:xfrm>
            <a:off x="5353200" y="5958000"/>
            <a:ext cx="102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Times New Roman"/>
              </a:rPr>
              <a:t>Ejempl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4503240" y="5448240"/>
            <a:ext cx="457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3333cc"/>
                </a:solidFill>
                <a:latin typeface="Times New Roman"/>
              </a:rPr>
              <a:t>OJO con quedar atrapado en el presentador y respal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Times New Roman"/>
              </a:rPr>
              <a:t>Cobertura del segmento elegid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85800" y="8380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Televis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Su principal fortaleza es la cobertura (capacidad de cubrir el mercad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Su principal debilidad es la capacidad de entrega de mensajes específic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¿Saben cómo se mide el rating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A lo menos es discutible como metodologí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Sin embargo es relevante en cuanto decide el presupuesto de invers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Frecuencia de repetición del mensaje (medida de “ataque” al segment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GRP (Gross rating point) = FRECUENCIA x COBERTURA (costo por contacto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En términos de costos y de selección de estrategia existe un trade-off entre frecuencia y cobertu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En la práctica las preguntas son: Definir qué mercado y cómo llegar a é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La cobertura y frecuencia deben determinarse de acuerdo a los objetivos de la campaña, al segmento objetivo, los atributos del producto y el formato seleccion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rensa escri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Su principal fortaleza es la capacidad de entrega de mensajes racion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Es menos eficiente en la entrega de mensajes emocion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Su utilización se mide por el concepto de cm-colum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Times New Roman"/>
              </a:rPr>
              <a:t>Costo por contacto efectiv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85800" y="8380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imes New Roman"/>
              </a:rPr>
              <a:t>¿Cuánto cuesta llegar efectivamente a quién se quiere llegar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4" name=""/>
          <p:cNvGrpSpPr/>
          <p:nvPr/>
        </p:nvGrpSpPr>
        <p:grpSpPr>
          <a:xfrm>
            <a:off x="1523880" y="3504960"/>
            <a:ext cx="1219320" cy="533160"/>
            <a:chOff x="1523880" y="3504960"/>
            <a:chExt cx="1219320" cy="533160"/>
          </a:xfrm>
        </p:grpSpPr>
        <p:sp>
          <p:nvSpPr>
            <p:cNvPr id="505" name=""/>
            <p:cNvSpPr/>
            <p:nvPr/>
          </p:nvSpPr>
          <p:spPr>
            <a:xfrm flipV="1">
              <a:off x="1523880" y="350496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1523880" y="35053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7" name=""/>
          <p:cNvGrpSpPr/>
          <p:nvPr/>
        </p:nvGrpSpPr>
        <p:grpSpPr>
          <a:xfrm>
            <a:off x="2743200" y="2971440"/>
            <a:ext cx="1219320" cy="533160"/>
            <a:chOff x="2743200" y="2971440"/>
            <a:chExt cx="1219320" cy="533160"/>
          </a:xfrm>
        </p:grpSpPr>
        <p:sp>
          <p:nvSpPr>
            <p:cNvPr id="508" name=""/>
            <p:cNvSpPr/>
            <p:nvPr/>
          </p:nvSpPr>
          <p:spPr>
            <a:xfrm flipV="1">
              <a:off x="2743200" y="297144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2743200" y="297180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0" name=""/>
          <p:cNvGrpSpPr/>
          <p:nvPr/>
        </p:nvGrpSpPr>
        <p:grpSpPr>
          <a:xfrm>
            <a:off x="3962520" y="2437920"/>
            <a:ext cx="1218960" cy="533160"/>
            <a:chOff x="3962520" y="2437920"/>
            <a:chExt cx="1218960" cy="533160"/>
          </a:xfrm>
        </p:grpSpPr>
        <p:sp>
          <p:nvSpPr>
            <p:cNvPr id="511" name=""/>
            <p:cNvSpPr/>
            <p:nvPr/>
          </p:nvSpPr>
          <p:spPr>
            <a:xfrm flipV="1">
              <a:off x="3962520" y="243792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3962520" y="24382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3" name=""/>
          <p:cNvGrpSpPr/>
          <p:nvPr/>
        </p:nvGrpSpPr>
        <p:grpSpPr>
          <a:xfrm>
            <a:off x="5181480" y="1904760"/>
            <a:ext cx="1219320" cy="533160"/>
            <a:chOff x="5181480" y="1904760"/>
            <a:chExt cx="1219320" cy="533160"/>
          </a:xfrm>
        </p:grpSpPr>
        <p:sp>
          <p:nvSpPr>
            <p:cNvPr id="514" name=""/>
            <p:cNvSpPr/>
            <p:nvPr/>
          </p:nvSpPr>
          <p:spPr>
            <a:xfrm flipV="1">
              <a:off x="5181480" y="190476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5181480" y="1905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6" name=""/>
          <p:cNvGrpSpPr/>
          <p:nvPr/>
        </p:nvGrpSpPr>
        <p:grpSpPr>
          <a:xfrm>
            <a:off x="6400800" y="1371240"/>
            <a:ext cx="1219320" cy="533160"/>
            <a:chOff x="6400800" y="1371240"/>
            <a:chExt cx="1219320" cy="533160"/>
          </a:xfrm>
        </p:grpSpPr>
        <p:sp>
          <p:nvSpPr>
            <p:cNvPr id="517" name=""/>
            <p:cNvSpPr/>
            <p:nvPr/>
          </p:nvSpPr>
          <p:spPr>
            <a:xfrm flipV="1">
              <a:off x="6400800" y="137124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6400800" y="137160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9" name=""/>
          <p:cNvSpPr/>
          <p:nvPr/>
        </p:nvSpPr>
        <p:spPr>
          <a:xfrm>
            <a:off x="1584360" y="3619440"/>
            <a:ext cx="153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Mercado To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2805120" y="3086280"/>
            <a:ext cx="108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Prospec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099680" y="2514600"/>
            <a:ext cx="113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Interes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319720" y="1969920"/>
            <a:ext cx="8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Prueb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6536520" y="1422360"/>
            <a:ext cx="192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Adopción y lealt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6400800" y="34290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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tos Tot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2057400" y="3022560"/>
            <a:ext cx="533520" cy="380880"/>
          </a:xfrm>
          <a:custGeom>
            <a:avLst/>
            <a:gdLst>
              <a:gd name="textAreaLeft" fmla="*/ 0 w 533520"/>
              <a:gd name="textAreaRight" fmla="*/ 533880 w 53352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5715000" y="1447920"/>
            <a:ext cx="533520" cy="380880"/>
          </a:xfrm>
          <a:custGeom>
            <a:avLst/>
            <a:gdLst>
              <a:gd name="textAreaLeft" fmla="*/ 0 w 533520"/>
              <a:gd name="textAreaRight" fmla="*/ 533880 w 53352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4495680" y="1981080"/>
            <a:ext cx="533520" cy="381240"/>
          </a:xfrm>
          <a:custGeom>
            <a:avLst/>
            <a:gdLst>
              <a:gd name="textAreaLeft" fmla="*/ 0 w 533520"/>
              <a:gd name="textAreaRight" fmla="*/ 533880 w 53352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3174840" y="2514600"/>
            <a:ext cx="533520" cy="380880"/>
          </a:xfrm>
          <a:custGeom>
            <a:avLst/>
            <a:gdLst>
              <a:gd name="textAreaLeft" fmla="*/ 0 w 533520"/>
              <a:gd name="textAreaRight" fmla="*/ 533880 w 53352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9" name="" descr=""/>
          <p:cNvPicPr/>
          <p:nvPr/>
        </p:nvPicPr>
        <p:blipFill>
          <a:blip r:embed="rId1"/>
          <a:stretch/>
        </p:blipFill>
        <p:spPr>
          <a:xfrm>
            <a:off x="4800600" y="2895480"/>
            <a:ext cx="1447920" cy="1084320"/>
          </a:xfrm>
          <a:prstGeom prst="rect">
            <a:avLst/>
          </a:prstGeom>
          <a:ln w="0">
            <a:noFill/>
          </a:ln>
        </p:spPr>
      </p:pic>
      <p:sp>
        <p:nvSpPr>
          <p:cNvPr id="530" name=""/>
          <p:cNvSpPr/>
          <p:nvPr/>
        </p:nvSpPr>
        <p:spPr>
          <a:xfrm>
            <a:off x="685800" y="4419720"/>
            <a:ext cx="77724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imes New Roman"/>
              </a:rPr>
              <a:t>Nótese que el cálculo por contacto efectivo es mayor que la inversión en medios masiv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imes New Roman"/>
              </a:rPr>
              <a:t>No sólo tengo que generar “awareness” en el cliente sino que generar la prueba del producto, su adopción y mantener la fidelida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imes New Roman"/>
              </a:rPr>
              <a:t>En caso contrario el esfuerzo es infructuos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Times New Roman"/>
              </a:rPr>
              <a:t>Presupuesto de comunicació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85800" y="8380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imes New Roman"/>
              </a:rPr>
              <a:t>¿Es la comunicación una INVERSIÓN o un GASTO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Visión del Gerente de Marke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Visión del Gerente de Finanz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Visión del Gerente Gener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imes New Roman"/>
              </a:rPr>
              <a:t>Usar un porcentaje de las ventas como presupuesto de publicidad no es un buen método ¿Por qué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iense en el ciclo de vida de los produc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os mecanismos de asignación correctos deben estar orientados 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Satisfacer objetivos y tareas (relación con estrategi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Relación con la compet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Dinámica líder-segui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Ajustarse a presupuestos realist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stimación de esfuerzos para alcanzar objetivos específ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3" name="" descr=""/>
          <p:cNvPicPr/>
          <p:nvPr/>
        </p:nvPicPr>
        <p:blipFill>
          <a:blip r:embed="rId1"/>
          <a:stretch/>
        </p:blipFill>
        <p:spPr>
          <a:xfrm>
            <a:off x="7010280" y="1447920"/>
            <a:ext cx="1752840" cy="16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Tendencias del mercado actu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Canales de Distribu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Nuevas formas de distribu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Creciente poder de los intermediar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Han construido marca, manejan información y localización privilegi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Creciente concentración de la propie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Creciente segmentación de los forma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Uso intensivo de la tecnologí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157880" y="2482920"/>
            <a:ext cx="146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cc"/>
                </a:solidFill>
                <a:latin typeface="Times New Roman"/>
              </a:rPr>
              <a:t>D&amp;S y s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cc"/>
                </a:solidFill>
                <a:latin typeface="Times New Roman"/>
              </a:rPr>
              <a:t>distribuid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144080" y="5638680"/>
            <a:ext cx="6956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0033cc"/>
                </a:solidFill>
                <a:latin typeface="Times New Roman"/>
              </a:rPr>
              <a:t>¿Cómo se venden los productos de telecomunicaciones hoy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0033cc"/>
                </a:solidFill>
                <a:latin typeface="Times New Roman"/>
              </a:rPr>
              <a:t>¿Basta poner un comercial en la TV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Infraestructura nac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Mejoras en telecomunica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Penetración de la computación e Inter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Mejoras en sistemas de corre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Nuevos medios de comunic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Recursos de mayor cal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OJO que las telecomunicaciones en si son importantes en el proceso de creación de valor de cualquier indust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Tendencias del mercado actu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523880" cy="147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Concepto clave: VAL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Compromiso beneficios versus cos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200400" y="2286000"/>
            <a:ext cx="1981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cc"/>
                </a:solidFill>
                <a:latin typeface="Times New Roman"/>
              </a:rPr>
              <a:t>Tangi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cc"/>
                </a:solidFill>
                <a:latin typeface="Times New Roman"/>
              </a:rPr>
              <a:t>Percibi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67280" y="2286000"/>
            <a:ext cx="25909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rec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osto en tiemp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osto en esfuerz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osto sicológ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ostos futu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ostos de camb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867280" y="2286000"/>
            <a:ext cx="25909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cc"/>
                </a:solidFill>
                <a:latin typeface="Times New Roman"/>
              </a:rPr>
              <a:t>Prec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cc"/>
                </a:solidFill>
                <a:latin typeface="Times New Roman"/>
              </a:rPr>
              <a:t>Costo en tiemp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cc"/>
                </a:solidFill>
                <a:latin typeface="Times New Roman"/>
              </a:rPr>
              <a:t>Costo en esfuerz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cc"/>
                </a:solidFill>
                <a:latin typeface="Times New Roman"/>
              </a:rPr>
              <a:t>Costo sicológ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cc"/>
                </a:solidFill>
                <a:latin typeface="Times New Roman"/>
              </a:rPr>
              <a:t>Costos futu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cc"/>
                </a:solidFill>
                <a:latin typeface="Times New Roman"/>
              </a:rPr>
              <a:t>Costos de camb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572000"/>
            <a:ext cx="678168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¿Cómo agregar valo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mentar los benefic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minuir los cos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32440" y="3124080"/>
            <a:ext cx="519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¿qué pasa en una situación de consum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2514600" y="3581280"/>
            <a:ext cx="74124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Segment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Identificación de grupos de consumidores que tengan en común ciertas características que determinen comportamientos de compra simila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as características anteriores se agrupan en variables de segmen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o anterior nos permite diferenciar la OFERTA y entender mejor al cl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n general, comportamiento de compra = f(variables de segmentació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Usualmente se utilizan varias variables de segmentación para caracterizar adecuadamente a un merc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067360" y="5791320"/>
            <a:ext cx="3999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33cc"/>
                </a:solidFill>
                <a:latin typeface="Times New Roman"/>
              </a:rPr>
              <a:t>¿qué significa caracteriz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33cc"/>
                </a:solidFill>
                <a:latin typeface="Times New Roman"/>
              </a:rPr>
              <a:t>adecuadamente a un mercad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7T17:01:47Z</dcterms:created>
  <dc:creator>JMTORRES</dc:creator>
  <dc:description/>
  <dc:language>en-US</dc:language>
  <cp:lastModifiedBy>jtorrest</cp:lastModifiedBy>
  <dcterms:modified xsi:type="dcterms:W3CDTF">2008-10-14T18:13:43Z</dcterms:modified>
  <cp:revision>15</cp:revision>
  <dc:subject/>
  <dc:title>Gestión de Empresas de Telecomunicaciones EL 65J Apunte 3 Gestión Comercial</dc:title>
</cp:coreProperties>
</file>