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4F7-B3AC-4599-A84E-ABA1BF60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C38-A59E-4565-8158-63A3EFFA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0F9-DD02-467B-B655-8C498FE9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31D-F2CA-4EB6-8C00-C4A3BFA0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F73-8137-4442-8CBB-7BFBDA85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F7A-9778-42BB-8253-6BC41789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E01-8D6B-4955-9E19-5AC2DD11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CE3-0FB4-4886-AC04-121403CF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DA7-B5B5-47BD-8AE4-923C9E06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D24-71F8-41BE-A5A6-DAEA9B4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7F8-C8B4-4EA5-A9E6-83CF0974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247-0833-4213-8EC8-FA89092A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3A15-064D-4AF6-90D7-8F277E878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8-10-14T18:13:43Z</dcterms:modified>
  <cp:revision>15</cp:revision>
  <dc:subject/>
  <dc:title>Gestión de Empresas de Telecomunicaciones EL 65J Apunte 3 Gestión Comercial</dc:title>
</cp:coreProperties>
</file>