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B05967-A480-40FE-8B0C-46239E415E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1BFC51B-343F-496C-AB31-2947AC5C4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5EBC982-BE2F-4F82-8FCD-599A03B6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D683AE4-37BA-4D74-8275-2CB08B630B0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85F8192-9838-40E9-BCE9-830E19757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AE9478-4D4A-43E9-B741-C9783536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1538008-0969-4DD3-AC9E-D97A4B65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CC7DDA6-F106-4989-8FDB-28A3EB93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EB20D34-587C-4178-9B41-DDCD93FC6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35B9251-A552-422F-8CF5-001264758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8D25EED-9832-4DA3-BC65-0D730678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9A1828-682A-4BB3-9316-19693BB78E1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1DDE-A3B3-48D0-98A8-2783EAF26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8</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D28187-3D44-472E-8E93-AFFBC31014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62960" cy="230832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62960" cy="2308320"/>
                  </a:xfrm>
                  <a:prstGeom prst="rect">
                    <a:avLst/>
                  </a:prstGeom>
                  <a:ln w="0">
                    <a:noFill/>
                  </a:ln>
                </p:spPr>
              </p:pic>
            </p:oleObj>
          </a:graphicData>
        </a:graphic>
      </p:graphicFrame>
      <p:sp>
        <p:nvSpPr>
          <p:cNvPr id="78" name="PlaceHolder 2"/>
          <p:cNvSpPr>
            <a:spLocks noGrp="1"/>
          </p:cNvSpPr>
          <p:nvPr>
            <p:ph/>
          </p:nvPr>
        </p:nvSpPr>
        <p:spPr>
          <a:xfrm>
            <a:off x="533160" y="3962520"/>
            <a:ext cx="8458200" cy="23410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0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y las redes social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BBABEE4-9E49-4999-BB9C-D22C5B583BA8}"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78">
                                            <p:txEl>
                                              <p:pRg st="2" end="2"/>
                                            </p:txEl>
                                          </p:spTgt>
                                        </p:tgtEl>
                                        <p:attrNameLst>
                                          <p:attrName>style.visibility</p:attrName>
                                        </p:attrNameLst>
                                      </p:cBhvr>
                                      <p:to>
                                        <p:strVal val="visible"/>
                                      </p:to>
                                    </p:set>
                                    <p:anim calcmode="lin" valueType="num">
                                      <p:cBhvr additive="base">
                                        <p:cTn id="17"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8">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78">
                                            <p:txEl>
                                              <p:pRg st="3" end="3"/>
                                            </p:txEl>
                                          </p:spTgt>
                                        </p:tgtEl>
                                        <p:attrNameLst>
                                          <p:attrName>style.visibility</p:attrName>
                                        </p:attrNameLst>
                                      </p:cBhvr>
                                      <p:to>
                                        <p:strVal val="visible"/>
                                      </p:to>
                                    </p:set>
                                    <p:anim calcmode="lin" valueType="num">
                                      <p:cBhvr additive="base">
                                        <p:cTn id="2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8">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62048D-04D2-4600-B148-F0117DAE3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48D9DB4-F287-44AF-B98C-4BB28535D7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551B773-E5E6-424E-AB2A-9A50472FE6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A4D209-FFE2-464D-AC93-989C89F95F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AFEC9B5-546E-4D1B-A79B-A761DDCF6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3D87CF8-3478-4B22-BC0D-8236B4833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28C2F04-A12B-48FF-AB54-22B90F72A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A42607D-C393-452A-AFF0-1930ECF1B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3ABA9DC-3876-4295-9C69-4B620CBE1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A85AF6F-FFCC-4398-819C-0F39401BC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 MM de líneas fijas, pero 15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257E7B7E-0B6C-40EE-9443-4629BF3DB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96DCEAC-BE52-4C5A-B402-BF025C0A41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1D79D65-26B6-42B1-B5A5-325B2D5C9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9591AAD-6881-4311-B769-4973E87E7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D87E97-71BC-4869-B484-46A6C600F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CE5DC5E-5EA4-4533-9FA3-41BAC79EA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E82CB76-AF79-43E4-AED8-6FD62BDB7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AED3EB-0009-44A8-8E9C-FE0AD8E7CC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B0A58EAA-4F21-460B-B856-F82FC9E49C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489845E-C971-446E-8FFF-46892642D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A4AE62-B187-4FA0-9EFF-C92E72F50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2F417D7-8153-4FFA-8080-9CED98B4B4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DDB5934-D366-473B-8BCB-4FE369746E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455DCE5-84C2-4C64-9CCB-F0586712B6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1747017-B64B-4DB6-ACE5-D700EABEB0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F8E37AD-DABF-4A5F-918B-2E5940EB24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D763640-BA5F-4520-9E4A-17E292C432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78E577-533A-4F18-9AFF-05EB84E19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87D7FB-742A-4883-BD71-1C284448CF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2CAE3F9-D92C-43E2-AD9D-61986BEE05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1497E4-CD3A-48B0-8626-B58FD3A1D8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C4C54BC-C65B-4C16-A1AE-4C464E0F88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FC01E21-C7C7-49D6-BE50-68DD6CEF75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6315C33A-F81F-43DD-A0D1-00BAD0836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60D4902-6970-4A2C-9676-A9DBBE2B7D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A720DF2-5D67-4D1A-A457-4DEC6DD23B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975C90-8A46-49D0-8B37-D19176D336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3B3BD3-798B-42AD-A7E5-EF21B331F8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0E2640-ECD9-46B9-8A9A-3EA78C68B7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320B10-CA9D-464B-BA33-39F5B4F7AC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8230270A-7257-4DCF-904A-DF32225191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FFCFB5-886F-4D81-9D49-A993F570E4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0154D07-D7AE-40CF-A690-2D3789823C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BD2011-3497-444F-9FBB-5FD8F36D56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A27C0E-C792-4AAD-8C0C-006E0FAE77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7F4EA1-1E81-4F82-B139-B4BDC6DB3E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8697856-6D06-4425-BC17-40B1AA8881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109653B-D4F6-4DEA-B042-C2A2A8F1FA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347D24-CF3D-489E-B394-15232B51E0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AA63D9-AF64-40AD-A9D9-C28C22DF56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486E59A-9863-4F0C-820E-B56DE16ED8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FCAAA6-1CF9-4AC9-A44E-C2957641C5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6B127D-ED5F-4B04-8F9C-B55E0F87E5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D5B225-70ED-46AC-B890-19E03BF480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AFD31617-3763-452C-B997-DBEE1B0AE3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64F28BD-72F8-4E9F-A371-F308584FF7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0A8B45-CD3F-4A00-B9D3-4EC17653EE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764DD5B-C1E0-46F2-A5F1-CFBE8E2059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D44C80-D2D5-43B2-ADE2-788B9CE61D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FDF7F67-4FDF-477B-AF44-90B2B0F35C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8D4B0E4-EBBC-41E5-8B85-A9B806E44B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9F6C74-B3B0-480E-9CC2-B3D8572401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DF6211A2-6C6A-44BB-BF1C-2661EF5827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CB595E0-FD32-4E5F-B17E-79E992897F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B91807-20A7-447B-BA3B-4DCE170A44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2406A2F-3238-4DEF-A622-6ADB791241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0ADF4462-A01B-4EFC-A26C-084D32170097}"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FDD13E-BCF4-42A8-B527-03FC7DF36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C8090E-A71F-4E7D-B19D-6466F0DB09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8-08-05T21:27:59Z</dcterms:modified>
  <cp:revision>70</cp:revision>
  <dc:subject/>
  <dc:title>Gestión de Empresas de Telecomunicaciones</dc:title>
</cp:coreProperties>
</file>