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2421D6-F3DC-43DF-ADE8-C7165C83A6F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76A79D6-E1E2-4BAA-86DB-F0C87A415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58E1164-983D-4F13-92E3-6E7F28AE2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AA0480E-4DBA-4F64-ABB0-3ADCE1F9A12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F1E6535-7220-44CD-9790-22A2A280F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B58C865-61A6-4871-B0A1-219DB36DC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A39EA93-E3E4-4999-BCA0-EF40A7973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E8D7C37-6859-460B-AC48-BE86B5371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5CA8566-090B-4568-BED1-121D27ADA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A1CD815-A400-4856-B2E5-C8BFE2172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53D405A-1487-40E1-8C88-5DCF34964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AE1A396-957B-4C76-AD2E-E48CB74C49E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91ED-7244-4991-9476-04C0CB9F0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Jose.torres@telefonicamoviles.c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8</a:t>
            </a:r>
            <a:endParaRPr b="0" lang="en-US" sz="2400" spc="-1" strike="noStrike">
              <a:solidFill>
                <a:srgbClr val="000000"/>
              </a:solidFill>
              <a:latin typeface="Times New Roman"/>
            </a:endParaRPr>
          </a:p>
        </p:txBody>
      </p:sp>
      <p:grpSp>
        <p:nvGrpSpPr>
          <p:cNvPr id="42" name=""/>
          <p:cNvGrpSpPr/>
          <p:nvPr/>
        </p:nvGrpSpPr>
        <p:grpSpPr>
          <a:xfrm>
            <a:off x="1714680" y="3254400"/>
            <a:ext cx="5715000" cy="350640"/>
            <a:chOff x="1714680" y="3254400"/>
            <a:chExt cx="5715000" cy="350640"/>
          </a:xfrm>
        </p:grpSpPr>
        <p:sp>
          <p:nvSpPr>
            <p:cNvPr id="43"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714680" y="3254400"/>
              <a:ext cx="4379760" cy="350640"/>
              <a:chOff x="1714680" y="3254400"/>
              <a:chExt cx="4379760" cy="350640"/>
            </a:xfrm>
          </p:grpSpPr>
          <p:sp>
            <p:nvSpPr>
              <p:cNvPr id="45"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6" name=""/>
              <p:cNvGrpSpPr/>
              <p:nvPr/>
            </p:nvGrpSpPr>
            <p:grpSpPr>
              <a:xfrm>
                <a:off x="1714680" y="3254400"/>
                <a:ext cx="4379760" cy="350640"/>
                <a:chOff x="1714680" y="3254400"/>
                <a:chExt cx="4379760" cy="350640"/>
              </a:xfrm>
            </p:grpSpPr>
            <p:sp>
              <p:nvSpPr>
                <p:cNvPr id="47"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
          <p:cNvGrpSpPr/>
          <p:nvPr/>
        </p:nvGrpSpPr>
        <p:grpSpPr>
          <a:xfrm>
            <a:off x="1714680" y="3254400"/>
            <a:ext cx="5715000" cy="350640"/>
            <a:chOff x="1714680" y="3254400"/>
            <a:chExt cx="5715000" cy="350640"/>
          </a:xfrm>
        </p:grpSpPr>
        <p:sp>
          <p:nvSpPr>
            <p:cNvPr id="50"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1714680" y="3254400"/>
              <a:ext cx="4379760" cy="350640"/>
              <a:chOff x="1714680" y="3254400"/>
              <a:chExt cx="4379760" cy="350640"/>
            </a:xfrm>
          </p:grpSpPr>
          <p:sp>
            <p:nvSpPr>
              <p:cNvPr id="52"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1714680" y="3254400"/>
                <a:ext cx="4379760" cy="350640"/>
                <a:chOff x="1714680" y="3254400"/>
                <a:chExt cx="4379760" cy="350640"/>
              </a:xfrm>
            </p:grpSpPr>
            <p:sp>
              <p:nvSpPr>
                <p:cNvPr id="54"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219320"/>
            <a:ext cx="8458200" cy="2228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74"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0909AFB-1FA3-4EC9-B6AE-517A305D9D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numérico (Diciembre 2005)</a:t>
            </a:r>
            <a:endParaRPr b="0" lang="en-US" sz="4000" spc="-1" strike="noStrike">
              <a:solidFill>
                <a:srgbClr val="000000"/>
              </a:solidFill>
              <a:latin typeface="Times New Roman"/>
            </a:endParaRPr>
          </a:p>
        </p:txBody>
      </p:sp>
      <p:graphicFrame>
        <p:nvGraphicFramePr>
          <p:cNvPr id="76" name=""/>
          <p:cNvGraphicFramePr/>
          <p:nvPr/>
        </p:nvGraphicFramePr>
        <p:xfrm>
          <a:off x="304920" y="1523880"/>
          <a:ext cx="8562960" cy="2308320"/>
        </p:xfrm>
        <a:graphic>
          <a:graphicData uri="http://schemas.openxmlformats.org/presentationml/2006/ole">
            <p:oleObj progId="Excel.Sheet.12" r:id="rId1" spid="">
              <p:embed/>
              <p:pic>
                <p:nvPicPr>
                  <p:cNvPr id="77" name="" descr=""/>
                  <p:cNvPicPr/>
                  <p:nvPr/>
                </p:nvPicPr>
                <p:blipFill>
                  <a:blip r:embed="rId2"/>
                  <a:stretch/>
                </p:blipFill>
                <p:spPr>
                  <a:xfrm>
                    <a:off x="304920" y="1523880"/>
                    <a:ext cx="8562960" cy="2308320"/>
                  </a:xfrm>
                  <a:prstGeom prst="rect">
                    <a:avLst/>
                  </a:prstGeom>
                  <a:ln w="0">
                    <a:noFill/>
                  </a:ln>
                </p:spPr>
              </p:pic>
            </p:oleObj>
          </a:graphicData>
        </a:graphic>
      </p:graphicFrame>
      <p:sp>
        <p:nvSpPr>
          <p:cNvPr id="78" name="PlaceHolder 2"/>
          <p:cNvSpPr>
            <a:spLocks noGrp="1"/>
          </p:cNvSpPr>
          <p:nvPr>
            <p:ph/>
          </p:nvPr>
        </p:nvSpPr>
        <p:spPr>
          <a:xfrm>
            <a:off x="533160" y="3962520"/>
            <a:ext cx="8458200" cy="234108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tedes deben complementar estas cifras con el Informe Estadístico actual de la Subte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dato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Móvil en Chile tiene la penetración más alta de LATAM (e incluso superior a USA y algunos países de Europa) ¿hay espacio para crecer?</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Fija sigue decreciendo (menos de 3.000.000)</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negocio de Internet y las redes social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0E100C7-7C41-4F96-A2BD-961DD3EA998C}"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anim calcmode="lin" valueType="num">
                                      <p:cBhvr additive="base">
                                        <p:cTn id="7"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8">
                                            <p:txEl>
                                              <p:pRg st="1" end="1"/>
                                            </p:txEl>
                                          </p:spTgt>
                                        </p:tgtEl>
                                        <p:attrNameLst>
                                          <p:attrName>style.visibility</p:attrName>
                                        </p:attrNameLst>
                                      </p:cBhvr>
                                      <p:to>
                                        <p:strVal val="visible"/>
                                      </p:to>
                                    </p:set>
                                    <p:anim calcmode="lin" valueType="num">
                                      <p:cBhvr additive="base">
                                        <p:cTn id="13"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78">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78">
                                            <p:txEl>
                                              <p:pRg st="2" end="2"/>
                                            </p:txEl>
                                          </p:spTgt>
                                        </p:tgtEl>
                                        <p:attrNameLst>
                                          <p:attrName>style.visibility</p:attrName>
                                        </p:attrNameLst>
                                      </p:cBhvr>
                                      <p:to>
                                        <p:strVal val="visible"/>
                                      </p:to>
                                    </p:set>
                                    <p:anim calcmode="lin" valueType="num">
                                      <p:cBhvr additive="base">
                                        <p:cTn id="17"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8">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78">
                                            <p:txEl>
                                              <p:pRg st="3" end="3"/>
                                            </p:txEl>
                                          </p:spTgt>
                                        </p:tgtEl>
                                        <p:attrNameLst>
                                          <p:attrName>style.visibility</p:attrName>
                                        </p:attrNameLst>
                                      </p:cBhvr>
                                      <p:to>
                                        <p:strVal val="visible"/>
                                      </p:to>
                                    </p:set>
                                    <p:anim calcmode="lin" valueType="num">
                                      <p:cBhvr additive="base">
                                        <p:cTn id="21" dur="500" fill="hold"/>
                                        <p:tgtEl>
                                          <p:spTgt spid="78">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78">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78">
                                            <p:txEl>
                                              <p:pRg st="4" end="4"/>
                                            </p:txEl>
                                          </p:spTgt>
                                        </p:tgtEl>
                                        <p:attrNameLst>
                                          <p:attrName>style.visibility</p:attrName>
                                        </p:attrNameLst>
                                      </p:cBhvr>
                                      <p:to>
                                        <p:strVal val="visible"/>
                                      </p:to>
                                    </p:set>
                                    <p:anim calcmode="lin" valueType="num">
                                      <p:cBhvr additive="base">
                                        <p:cTn id="25" dur="500" fill="hold"/>
                                        <p:tgtEl>
                                          <p:spTgt spid="78">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2"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3"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84"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4EFAB46-F48D-4C2D-A9D0-31DC54E566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87"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89"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0"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BCABA26-2168-4132-9A58-E398F282F6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3"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05AC4C2-CF40-4DAD-920B-9E354A0BFB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5"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06048E1-6C5E-4542-A679-07B2FDDB37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97"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98"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19B31835-0817-49CD-95C0-31BDBDF05C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06"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07"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24"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25"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26"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7"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9"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0"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1"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32"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33"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4"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5"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40"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1"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47"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48"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50" name=""/>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D481E4B-9C6B-4283-A2B7-7300D4945A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56"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57"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4"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6"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7"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8"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79"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80"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1"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2"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95"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96"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98"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99"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200"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02"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03"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098DBEF7-69D3-42F1-8EE6-EE7CE0122B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06"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11"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12"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29"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30"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1"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3"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4"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5"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36"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37"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8"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9"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43"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0"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52"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B1A0FDD2-6FD2-4DEA-A4E3-1A008F99BC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394420</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ccccff"/>
                </a:solidFill>
                <a:uFillTx/>
                <a:latin typeface="Times New Roman"/>
                <a:hlinkClick r:id="rId1"/>
              </a:rPr>
              <a:t>Jose.torres@telefonicamoviles.cl</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ticipación en clas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2447B58-5713-40F5-9BF2-A4B08FCA6A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54"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61"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62"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63"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65"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6"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7"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9"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1"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73"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74"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A6B4448-9D34-4325-A3D5-7C419FF96D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 MM de líneas fijas, pero 15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77"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84"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85"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86"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88"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9"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90"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2"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297"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298" name=""/>
          <p:cNvGraphicFramePr/>
          <p:nvPr/>
        </p:nvGraphicFramePr>
        <p:xfrm>
          <a:off x="4267080" y="3562200"/>
          <a:ext cx="4648320" cy="857520"/>
        </p:xfrm>
        <a:graphic>
          <a:graphicData uri="http://schemas.openxmlformats.org/presentationml/2006/ole">
            <p:oleObj progId="Excel.Sheet.12" r:id="rId1" spid="">
              <p:embed/>
              <p:pic>
                <p:nvPicPr>
                  <p:cNvPr id="299"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2"/>
          </p:nvPr>
        </p:nvSpPr>
        <p:spPr/>
        <p:txBody>
          <a:bodyPr/>
          <a:p>
            <a:fld id="{96909F68-ECB5-47C8-A102-475E8A9B6F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301"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06"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07"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08"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10"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26639FC-0529-4BBF-87AF-753BF8962A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12"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16"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8"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0"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2"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4"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31"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34"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37"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38"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3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A5C4FA47-D7E9-4119-AC62-62B7C5E7B4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41"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46"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48"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50"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51"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7"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58"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59"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60"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61"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62"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63"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4EDAFE8-F2AF-4685-8B46-B7557CD1E4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65"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AFB31C4-64CC-48F8-A569-ADFF2D3896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67"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68"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696A04A-0C63-4986-B104-59694ABAB2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75"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85"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86"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87"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88"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89"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90"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91"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92"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93"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396"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397"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00"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F3F0B394-FF59-4227-A414-E9A86AA61C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03"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B49E37A-5F20-4FF4-88D3-7FBE4807FF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05"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0504ADA3-7308-4B52-9A80-9C062E43EE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8FAEFB2-D4C1-4ED2-B74C-671E299727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12"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A7F50C4-FDB8-4C87-B2CC-C995818229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16"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17"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18"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19"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20"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21"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0F55EF25-02EC-433C-B584-B4F16B42AC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28" name="" descr=""/>
          <p:cNvPicPr/>
          <p:nvPr/>
        </p:nvPicPr>
        <p:blipFill>
          <a:blip r:embed="rId1"/>
          <a:stretch/>
        </p:blipFill>
        <p:spPr>
          <a:xfrm>
            <a:off x="3657600" y="4575240"/>
            <a:ext cx="2282760" cy="1825560"/>
          </a:xfrm>
          <a:prstGeom prst="rect">
            <a:avLst/>
          </a:prstGeom>
          <a:ln w="0">
            <a:noFill/>
          </a:ln>
        </p:spPr>
      </p:pic>
      <p:sp>
        <p:nvSpPr>
          <p:cNvPr id="429"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6FA23979-77FA-49B5-802C-22B2C6F296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31"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34"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35"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36"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7086600" y="3371400"/>
            <a:ext cx="1371600" cy="1219680"/>
            <a:chOff x="7086600" y="3371400"/>
            <a:chExt cx="1371600" cy="1219680"/>
          </a:xfrm>
        </p:grpSpPr>
        <p:sp>
          <p:nvSpPr>
            <p:cNvPr id="442"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7124760" y="1847520"/>
            <a:ext cx="1371600" cy="1219680"/>
            <a:chOff x="7124760" y="1847520"/>
            <a:chExt cx="1371600" cy="1219680"/>
          </a:xfrm>
        </p:grpSpPr>
        <p:sp>
          <p:nvSpPr>
            <p:cNvPr id="446"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50"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51"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52"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53"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DCA3A0BF-5057-4E70-A707-4E76F53745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62"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63"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64"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65"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66"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67" name=""/>
          <p:cNvGrpSpPr/>
          <p:nvPr/>
        </p:nvGrpSpPr>
        <p:grpSpPr>
          <a:xfrm>
            <a:off x="2629080" y="2457360"/>
            <a:ext cx="1828800" cy="1600200"/>
            <a:chOff x="2629080" y="2457360"/>
            <a:chExt cx="1828800" cy="1600200"/>
          </a:xfrm>
        </p:grpSpPr>
        <p:sp>
          <p:nvSpPr>
            <p:cNvPr id="468"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69"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70"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71" name=""/>
          <p:cNvGrpSpPr/>
          <p:nvPr/>
        </p:nvGrpSpPr>
        <p:grpSpPr>
          <a:xfrm>
            <a:off x="4952880" y="1104840"/>
            <a:ext cx="1828800" cy="1067040"/>
            <a:chOff x="4952880" y="1104840"/>
            <a:chExt cx="1828800" cy="1067040"/>
          </a:xfrm>
        </p:grpSpPr>
        <p:sp>
          <p:nvSpPr>
            <p:cNvPr id="472"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73"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74" name=""/>
          <p:cNvGrpSpPr/>
          <p:nvPr/>
        </p:nvGrpSpPr>
        <p:grpSpPr>
          <a:xfrm>
            <a:off x="7010280" y="1104840"/>
            <a:ext cx="1828800" cy="1066680"/>
            <a:chOff x="7010280" y="1104840"/>
            <a:chExt cx="1828800" cy="1066680"/>
          </a:xfrm>
        </p:grpSpPr>
        <p:sp>
          <p:nvSpPr>
            <p:cNvPr id="475"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76"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77" name=""/>
          <p:cNvGrpSpPr/>
          <p:nvPr/>
        </p:nvGrpSpPr>
        <p:grpSpPr>
          <a:xfrm>
            <a:off x="304920" y="1104840"/>
            <a:ext cx="1828800" cy="1371600"/>
            <a:chOff x="304920" y="1104840"/>
            <a:chExt cx="1828800" cy="1371600"/>
          </a:xfrm>
        </p:grpSpPr>
        <p:sp>
          <p:nvSpPr>
            <p:cNvPr id="478"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79"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80"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86"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87"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D05A3FA-5F93-464C-92FC-28EE02EDB4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75D4921-529D-43A1-A71D-65FD8C124C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94"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95"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6"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497"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FCD63F0-D724-44F7-BF57-83698530A7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00"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5C76F1B-F2D2-4143-A45A-4FAD331102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2"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0AF12F0-A747-494A-A8BC-9C74B140BF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4"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11"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28"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29"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30"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1"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3"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4"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5"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36"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37"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8"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9"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45"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46"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6CEA84A2-F9AD-4377-8DF3-FCA5FB1930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831CE28-59B2-4A71-AC36-1F7B1D003D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48"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53"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4"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5"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56"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8"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3"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4"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65"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7"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8"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03D1A89-546A-4E5D-A214-7D704C4C23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73"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74"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75" name=""/>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6" name=""/>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7" name=""/>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8"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1F97887-5D6F-4ECA-980A-87B7FF8E68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6AC1B763-2050-4C09-B523-180D0E9522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85"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95"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596"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597"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598"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599"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00"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01"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02"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03"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04"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05"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06"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9B5BB3C7-EA92-4A50-9605-A82CC8D991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8"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E65D6B0-BC86-4364-B4BC-0195F2FF6D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el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A522C4B-544B-4DD3-9547-102BE181FE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2"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781A924-92A9-4D7C-BA53-3948A05555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4"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928B82F-6365-4504-BE8C-91EB749E2F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CDC323F-E812-4F1A-968D-66CFDBCC4A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18" name=""/>
          <p:cNvGraphicFramePr/>
          <p:nvPr/>
        </p:nvGraphicFramePr>
        <p:xfrm>
          <a:off x="914400" y="977760"/>
          <a:ext cx="4162320" cy="5639040"/>
        </p:xfrm>
        <a:graphic>
          <a:graphicData uri="http://schemas.openxmlformats.org/presentationml/2006/ole">
            <p:oleObj progId="Excel.Sheet.12" r:id="rId1" spid="">
              <p:embed/>
              <p:pic>
                <p:nvPicPr>
                  <p:cNvPr id="619" name="" descr=""/>
                  <p:cNvPicPr/>
                  <p:nvPr/>
                </p:nvPicPr>
                <p:blipFill>
                  <a:blip r:embed="rId2"/>
                  <a:stretch/>
                </p:blipFill>
                <p:spPr>
                  <a:xfrm>
                    <a:off x="914400" y="977760"/>
                    <a:ext cx="4162320" cy="5639040"/>
                  </a:xfrm>
                  <a:prstGeom prst="rect">
                    <a:avLst/>
                  </a:prstGeom>
                  <a:ln w="0">
                    <a:noFill/>
                  </a:ln>
                </p:spPr>
              </p:pic>
            </p:oleObj>
          </a:graphicData>
        </a:graphic>
      </p:graphicFrame>
      <p:sp>
        <p:nvSpPr>
          <p:cNvPr id="620"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03C6E986-5F74-4344-845D-6A9FAA3F14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0E7753B-0C2F-4C8A-8ED4-175F4BBF01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22"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24"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6"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8"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30"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2"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58216AE-35CD-4427-A013-30FC6CA990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38"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0"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2"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44"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6"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47"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49"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65F8160-4674-472E-8FB6-E45EFD8A96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58"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061A98A-ED90-4E99-B40D-E5396CDF9D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60" name=""/>
          <p:cNvGrpSpPr/>
          <p:nvPr/>
        </p:nvGrpSpPr>
        <p:grpSpPr>
          <a:xfrm>
            <a:off x="914400" y="1447920"/>
            <a:ext cx="3429000" cy="2743200"/>
            <a:chOff x="914400" y="1447920"/>
            <a:chExt cx="3429000" cy="2743200"/>
          </a:xfrm>
        </p:grpSpPr>
        <p:sp>
          <p:nvSpPr>
            <p:cNvPr id="661"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5181480" y="1447920"/>
            <a:ext cx="3429000" cy="2743200"/>
            <a:chOff x="5181480" y="1447920"/>
            <a:chExt cx="3429000" cy="2743200"/>
          </a:xfrm>
        </p:grpSpPr>
        <p:sp>
          <p:nvSpPr>
            <p:cNvPr id="665"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69"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0"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1"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6"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7"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78"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9"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0"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1"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6"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7"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8"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9"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4"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5"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96"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97"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4D039DD-7516-444E-BA02-30FF07F710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5FC853A-C8BA-44BA-9936-876E7F1DCE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05"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06"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07"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08"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09"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16"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17"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18"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19"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4A7369D-828F-4EBD-8D93-FD428CEB6F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23"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7"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8"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9"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30"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1B796FE-E7EB-4209-BE59-DA9D4D5BBA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FBD40A5-F798-4896-AA8A-0DDBB6DEB4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34"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1EDE61A-EB79-48A4-9DE3-58CD2CA9DA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37"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44"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45"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46"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47"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48"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9"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B1EBF0F-8003-4054-ACD6-488DE30CD6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65"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3DBADBF-41F5-45F9-901E-A653063AB0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51"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52"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56"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57"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58"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59"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60"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61"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63F69F8-D4AE-427D-9D75-8A3D0CCF15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65"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6BDD6820-AB66-4A1E-8012-FCD3ABB920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67"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2AA82C2-E552-4ED7-AD9D-FCBDF19612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69"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70"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4086900-F607-4FAD-94AA-7104C2EEE0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72"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78"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79"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80"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81"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82"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0078D07-B67C-4AA1-BF1F-8CD4EB5735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E9E0A25-BEA7-49DA-9FA3-79EF0C004E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C2FD44C-5D1F-4230-9436-C1502A572E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5420798-A247-4F16-A5C0-8D69373039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9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34CCBF6-7D07-4FDF-A9EF-320488A407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E1A574D3-841D-417F-B1A5-B9246FCD77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67"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EBF0ECB-9889-4822-A0DE-FD3BF772D6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EB790E8-C856-4616-A59E-0AECB0F5FF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799"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3"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4"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5"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6"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7"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8"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9"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10"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11"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12"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530F962-A06F-4278-8D9C-9DEBB551E4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14" name=""/>
          <p:cNvGraphicFramePr/>
          <p:nvPr/>
        </p:nvGraphicFramePr>
        <p:xfrm>
          <a:off x="304920" y="1828800"/>
          <a:ext cx="8610480" cy="2149560"/>
        </p:xfrm>
        <a:graphic>
          <a:graphicData uri="http://schemas.openxmlformats.org/presentationml/2006/ole">
            <p:oleObj progId="Excel.Sheet.12" r:id="rId1" spid="">
              <p:embed/>
              <p:pic>
                <p:nvPicPr>
                  <p:cNvPr id="815"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16"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2"/>
          </p:nvPr>
        </p:nvSpPr>
        <p:spPr/>
        <p:txBody>
          <a:bodyPr/>
          <a:p>
            <a:fld id="{F1F4E4B8-FFF6-404E-85AD-E13CF915E1A7}" type="slidenum">
              <a:t>7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69"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437F1D4-E2F9-402D-B726-BFF64CE9C2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6F28EA4-D957-438F-A210-539093B76E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torrest</cp:lastModifiedBy>
  <dcterms:modified xsi:type="dcterms:W3CDTF">2008-08-05T21:27:59Z</dcterms:modified>
  <cp:revision>70</cp:revision>
  <dc:subject/>
  <dc:title>Gestión de Empresas de Telecomunicaciones</dc:title>
</cp:coreProperties>
</file>