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E40514-3FB3-45F2-9A19-C07C7CC578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FC0DD5-BCAC-4C25-A3ED-4641C27EF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D3386F5-6539-4287-A966-135320C9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0DB1E38-0FF0-4E96-84B9-7AF65EA87B8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8F5D77-AFC6-4E48-87D5-5342AB7B7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FA026C-F776-4CF1-B95B-BB3FB92B2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AF63643-24CB-4647-B2AC-3DA62EFAD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CC41106-13F3-4646-A632-0158B953F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EB3F3B9-4E93-4BB4-B004-CBA4B8127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145B40-C463-4399-9451-6A3511F3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77E6A54-63D2-49D5-AD6E-3FBAC751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2046DA0-9E42-4045-836B-AA24D3747C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C7FB-1AF2-44F2-9F18-19C9EFBF7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ose.torres@telefonicamoviles.c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8</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571BB5-AA78-4DBA-B668-086828690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numérico (Diciembre 2005)</a:t>
            </a:r>
            <a:endParaRPr b="0" lang="en-US" sz="4000" spc="-1" strike="noStrike">
              <a:solidFill>
                <a:srgbClr val="000000"/>
              </a:solidFill>
              <a:latin typeface="Times New Roman"/>
            </a:endParaRPr>
          </a:p>
        </p:txBody>
      </p:sp>
      <p:graphicFrame>
        <p:nvGraphicFramePr>
          <p:cNvPr id="76" name=""/>
          <p:cNvGraphicFramePr/>
          <p:nvPr/>
        </p:nvGraphicFramePr>
        <p:xfrm>
          <a:off x="304920" y="1523880"/>
          <a:ext cx="8562960" cy="2308320"/>
        </p:xfrm>
        <a:graphic>
          <a:graphicData uri="http://schemas.openxmlformats.org/presentationml/2006/ole">
            <p:oleObj progId="Excel.Sheet.12" r:id="rId1" spid="">
              <p:embed/>
              <p:pic>
                <p:nvPicPr>
                  <p:cNvPr id="77" name="" descr=""/>
                  <p:cNvPicPr/>
                  <p:nvPr/>
                </p:nvPicPr>
                <p:blipFill>
                  <a:blip r:embed="rId2"/>
                  <a:stretch/>
                </p:blipFill>
                <p:spPr>
                  <a:xfrm>
                    <a:off x="304920" y="1523880"/>
                    <a:ext cx="8562960" cy="2308320"/>
                  </a:xfrm>
                  <a:prstGeom prst="rect">
                    <a:avLst/>
                  </a:prstGeom>
                  <a:ln w="0">
                    <a:noFill/>
                  </a:ln>
                </p:spPr>
              </p:pic>
            </p:oleObj>
          </a:graphicData>
        </a:graphic>
      </p:graphicFrame>
      <p:sp>
        <p:nvSpPr>
          <p:cNvPr id="78" name="PlaceHolder 2"/>
          <p:cNvSpPr>
            <a:spLocks noGrp="1"/>
          </p:cNvSpPr>
          <p:nvPr>
            <p:ph/>
          </p:nvPr>
        </p:nvSpPr>
        <p:spPr>
          <a:xfrm>
            <a:off x="533160" y="3962520"/>
            <a:ext cx="8458200" cy="23410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tedes deben complementar estas cifras con el Informe Estadístico actual de la Subtel</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dat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Móvil en Chile tiene la penetración más alta de LATAM (e incluso superior a USA y algunos países de Europa) ¿hay espacio para crecer?</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 Telefonía Fija sigue decreciendo (menos de 3.000.00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negocio de Internet y las redes social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1A2C1C-AC26-4A65-B7FD-5584D2A277DB}"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 calcmode="lin" valueType="num">
                                      <p:cBhvr additive="base">
                                        <p:cTn id="7"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8">
                                            <p:txEl>
                                              <p:pRg st="1" end="1"/>
                                            </p:txEl>
                                          </p:spTgt>
                                        </p:tgtEl>
                                        <p:attrNameLst>
                                          <p:attrName>style.visibility</p:attrName>
                                        </p:attrNameLst>
                                      </p:cBhvr>
                                      <p:to>
                                        <p:strVal val="visible"/>
                                      </p:to>
                                    </p:set>
                                    <p:anim calcmode="lin" valueType="num">
                                      <p:cBhvr additive="base">
                                        <p:cTn id="13"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8">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78">
                                            <p:txEl>
                                              <p:pRg st="2" end="2"/>
                                            </p:txEl>
                                          </p:spTgt>
                                        </p:tgtEl>
                                        <p:attrNameLst>
                                          <p:attrName>style.visibility</p:attrName>
                                        </p:attrNameLst>
                                      </p:cBhvr>
                                      <p:to>
                                        <p:strVal val="visible"/>
                                      </p:to>
                                    </p:set>
                                    <p:anim calcmode="lin" valueType="num">
                                      <p:cBhvr additive="base">
                                        <p:cTn id="17"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8">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78">
                                            <p:txEl>
                                              <p:pRg st="3" end="3"/>
                                            </p:txEl>
                                          </p:spTgt>
                                        </p:tgtEl>
                                        <p:attrNameLst>
                                          <p:attrName>style.visibility</p:attrName>
                                        </p:attrNameLst>
                                      </p:cBhvr>
                                      <p:to>
                                        <p:strVal val="visible"/>
                                      </p:to>
                                    </p:set>
                                    <p:anim calcmode="lin" valueType="num">
                                      <p:cBhvr additive="base">
                                        <p:cTn id="21"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78">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3"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4"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5A82CD-B1D2-4681-921E-57A4F86C3D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6"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7"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9"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0"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C205928-DED3-4836-8ACD-D8DC60AEF7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DB3077A-0C3D-4937-AC0E-EFC0EF009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5"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0DE3BE0-9517-4071-984F-D92FCB6BED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7"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8"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C721C1B-160A-4978-BCEC-C6AB8FCE45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6"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7"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4"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5"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6"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7"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9"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0"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32"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33"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4"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5"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40"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41"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7"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8"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50"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68B72FD-779E-41D2-9B72-F7DEB8750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6"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7"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4"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6"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7"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9"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80"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1"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82"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5"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6"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8"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9"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200"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02"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03"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67D9D95-2FCB-43A0-967A-F520C05923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6"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11"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12"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9"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30"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1"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3"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4"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6"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7"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8"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9"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43"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52"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92B2B6F-9BEE-4A90-A110-0B39D5D81C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ccccff"/>
                </a:solidFill>
                <a:uFillTx/>
                <a:latin typeface="Times New Roman"/>
                <a:hlinkClick r:id="rId1"/>
              </a:rPr>
              <a:t>Jose.torres@telefonicamoviles.cl</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2FA6034-7756-410C-ACB0-374E7BDD75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4"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61"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62"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63"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5"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7"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9"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1"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73"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4"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0D78272-114E-4B0E-992D-7CCD8836D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 MM de líneas fijas, pero 15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7"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4"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5"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6"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8"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9"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90"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2"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7"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8" name=""/>
          <p:cNvGraphicFramePr/>
          <p:nvPr/>
        </p:nvGraphicFramePr>
        <p:xfrm>
          <a:off x="4267080" y="3562200"/>
          <a:ext cx="4648320" cy="857520"/>
        </p:xfrm>
        <a:graphic>
          <a:graphicData uri="http://schemas.openxmlformats.org/presentationml/2006/ole">
            <p:oleObj progId="Excel.Sheet.12" r:id="rId1" spid="">
              <p:embed/>
              <p:pic>
                <p:nvPicPr>
                  <p:cNvPr id="299"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3C07D27C-1254-4031-AF39-F3E11899BB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301"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6"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7"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8"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10"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20A5D88-00FF-4E37-BB2B-45EF59C9C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12"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6"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2"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4"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31"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4"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7"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8"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9"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16D1CA8D-536A-4FC2-8667-6A59ED964A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41"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6"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8"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50"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51"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7"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8"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9"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60"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61"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62"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63"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6B4507A-5988-4DBC-939A-503E00986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5"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2E29B5-7642-48B5-AEAF-4E6EDD7C9F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7"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8"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D51AE9-1153-43C9-8D6D-D01ED91B3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5"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5"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6"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7"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8"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9"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90"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91"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92"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93"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6"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7"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00"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CCFED2D2-81BB-4D23-B123-7E2F8C821F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03"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91D12E-884D-4CE5-8EB7-CB8E9434A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5"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BDC9B6FD-689C-4236-B131-387EC740C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6642F1D-E478-4276-A149-4E8A2B20F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12"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78FCB8-D946-4112-870D-FD0C7256B1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6"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7"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8"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9"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20"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21"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93796609-24C7-4CF7-B520-8EB80577C9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8" name="" descr=""/>
          <p:cNvPicPr/>
          <p:nvPr/>
        </p:nvPicPr>
        <p:blipFill>
          <a:blip r:embed="rId1"/>
          <a:stretch/>
        </p:blipFill>
        <p:spPr>
          <a:xfrm>
            <a:off x="3657600" y="4575240"/>
            <a:ext cx="2282760" cy="1825560"/>
          </a:xfrm>
          <a:prstGeom prst="rect">
            <a:avLst/>
          </a:prstGeom>
          <a:ln w="0">
            <a:noFill/>
          </a:ln>
        </p:spPr>
      </p:pic>
      <p:sp>
        <p:nvSpPr>
          <p:cNvPr id="429"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AD5FCC1F-8209-4302-84DF-D41FBCF609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31"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4"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5"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6"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7086600" y="3371400"/>
            <a:ext cx="1371600" cy="1219680"/>
            <a:chOff x="7086600" y="3371400"/>
            <a:chExt cx="1371600" cy="1219680"/>
          </a:xfrm>
        </p:grpSpPr>
        <p:sp>
          <p:nvSpPr>
            <p:cNvPr id="442"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124760" y="1847520"/>
            <a:ext cx="1371600" cy="1219680"/>
            <a:chOff x="7124760" y="1847520"/>
            <a:chExt cx="1371600" cy="1219680"/>
          </a:xfrm>
        </p:grpSpPr>
        <p:sp>
          <p:nvSpPr>
            <p:cNvPr id="446"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50"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51"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52"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53"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FDCA579-D77A-4EBE-B679-7542DD151E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62"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63"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4"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5"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6"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7" name=""/>
          <p:cNvGrpSpPr/>
          <p:nvPr/>
        </p:nvGrpSpPr>
        <p:grpSpPr>
          <a:xfrm>
            <a:off x="2629080" y="2457360"/>
            <a:ext cx="1828800" cy="1600200"/>
            <a:chOff x="2629080" y="2457360"/>
            <a:chExt cx="1828800" cy="1600200"/>
          </a:xfrm>
        </p:grpSpPr>
        <p:sp>
          <p:nvSpPr>
            <p:cNvPr id="468"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9"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70"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71" name=""/>
          <p:cNvGrpSpPr/>
          <p:nvPr/>
        </p:nvGrpSpPr>
        <p:grpSpPr>
          <a:xfrm>
            <a:off x="4952880" y="1104840"/>
            <a:ext cx="1828800" cy="1067040"/>
            <a:chOff x="4952880" y="1104840"/>
            <a:chExt cx="1828800" cy="1067040"/>
          </a:xfrm>
        </p:grpSpPr>
        <p:sp>
          <p:nvSpPr>
            <p:cNvPr id="472"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73"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4" name=""/>
          <p:cNvGrpSpPr/>
          <p:nvPr/>
        </p:nvGrpSpPr>
        <p:grpSpPr>
          <a:xfrm>
            <a:off x="7010280" y="1104840"/>
            <a:ext cx="1828800" cy="1066680"/>
            <a:chOff x="7010280" y="1104840"/>
            <a:chExt cx="1828800" cy="1066680"/>
          </a:xfrm>
        </p:grpSpPr>
        <p:sp>
          <p:nvSpPr>
            <p:cNvPr id="475"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6"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7" name=""/>
          <p:cNvGrpSpPr/>
          <p:nvPr/>
        </p:nvGrpSpPr>
        <p:grpSpPr>
          <a:xfrm>
            <a:off x="304920" y="1104840"/>
            <a:ext cx="1828800" cy="1371600"/>
            <a:chOff x="304920" y="1104840"/>
            <a:chExt cx="1828800" cy="1371600"/>
          </a:xfrm>
        </p:grpSpPr>
        <p:sp>
          <p:nvSpPr>
            <p:cNvPr id="478"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9"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80"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6"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7"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6002965-8C03-4D64-9ACE-A15FF63839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9"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C0F372A-09A5-4F9A-B696-983AED3B56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4"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5"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6"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7"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44B374-A32D-4F88-8AD2-B6E86BB12D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00"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65675AB-2D70-4BCB-A3F7-BDA6455E5B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2"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593C3AF-06C1-4986-8AD5-A20AA95A75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4"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11"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8"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9"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30"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1"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3"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4"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6"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7"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8"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9"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5"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6"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A6928E1-CFD4-4F89-9153-2DF61DD865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152BFF8-E14A-44AF-BE30-2BF380B087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8"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53"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5"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6"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8"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3"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5"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7"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8"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0840212-A7DF-4F06-933F-291FE50715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73"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4"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5"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6"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7"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8"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FFD3344-F20F-4786-9488-774A22D0FF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643A803C-DB7E-440A-859D-3B96E9DF45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5"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5"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6"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7"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8"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9"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00"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01"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02"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03"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4"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5"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6"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1970787C-9539-488D-A8F8-4444B16E5C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173D182-542E-48A3-A173-61F06AB8B8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4C089A-6177-4993-9105-76A214DEB4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2"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25DAF8-9AE4-4256-8E5C-94FEEF0CC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4"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22172A-4E59-4492-B91D-64C170B5E9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6"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D6271E8-4880-4D66-86CA-6F7975C8D3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8" name=""/>
          <p:cNvGraphicFramePr/>
          <p:nvPr/>
        </p:nvGraphicFramePr>
        <p:xfrm>
          <a:off x="914400" y="977760"/>
          <a:ext cx="4162320" cy="5639040"/>
        </p:xfrm>
        <a:graphic>
          <a:graphicData uri="http://schemas.openxmlformats.org/presentationml/2006/ole">
            <p:oleObj progId="Excel.Sheet.12" r:id="rId1" spid="">
              <p:embed/>
              <p:pic>
                <p:nvPicPr>
                  <p:cNvPr id="619" name="" descr=""/>
                  <p:cNvPicPr/>
                  <p:nvPr/>
                </p:nvPicPr>
                <p:blipFill>
                  <a:blip r:embed="rId2"/>
                  <a:stretch/>
                </p:blipFill>
                <p:spPr>
                  <a:xfrm>
                    <a:off x="914400" y="977760"/>
                    <a:ext cx="4162320" cy="5639040"/>
                  </a:xfrm>
                  <a:prstGeom prst="rect">
                    <a:avLst/>
                  </a:prstGeom>
                  <a:ln w="0">
                    <a:noFill/>
                  </a:ln>
                </p:spPr>
              </p:pic>
            </p:oleObj>
          </a:graphicData>
        </a:graphic>
      </p:graphicFrame>
      <p:sp>
        <p:nvSpPr>
          <p:cNvPr id="620"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5855240-241E-478F-9C13-A6B7830ECC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018816-8E55-42B3-A252-99B7FED18C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22"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4"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6"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30"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2"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BE31554-DD0B-4858-928F-E336516829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8"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0"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4"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6"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7"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9"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0C7F2B3-E77F-4023-88E5-54DD2BC9F9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8"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961B586-74FB-4AFE-ACFF-DB66CC9AF8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60" name=""/>
          <p:cNvGrpSpPr/>
          <p:nvPr/>
        </p:nvGrpSpPr>
        <p:grpSpPr>
          <a:xfrm>
            <a:off x="914400" y="1447920"/>
            <a:ext cx="3429000" cy="2743200"/>
            <a:chOff x="914400" y="1447920"/>
            <a:chExt cx="3429000" cy="2743200"/>
          </a:xfrm>
        </p:grpSpPr>
        <p:sp>
          <p:nvSpPr>
            <p:cNvPr id="661"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 name=""/>
          <p:cNvGrpSpPr/>
          <p:nvPr/>
        </p:nvGrpSpPr>
        <p:grpSpPr>
          <a:xfrm>
            <a:off x="5181480" y="1447920"/>
            <a:ext cx="3429000" cy="2743200"/>
            <a:chOff x="5181480" y="1447920"/>
            <a:chExt cx="3429000" cy="2743200"/>
          </a:xfrm>
        </p:grpSpPr>
        <p:sp>
          <p:nvSpPr>
            <p:cNvPr id="665"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9"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0"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71"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6"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7"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8"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9"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0"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1"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6"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7"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8"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9"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4"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5"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6"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7"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CD91FA1-6586-44D3-9354-D8BCCA302F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F310C28-E882-4FCA-99DE-95C054BAD5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5"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6"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7"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8"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9"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6"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7"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8"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9"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12072F4-A782-4DD8-B0E2-205454835B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23"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7"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8"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9"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30"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4D6348-E816-435F-9E65-F72C1249A0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5FBC65C-C131-4C2D-9D90-0ECFC7272D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4"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72D41EE-7155-4CA0-9285-8B46A95443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7"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4"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5"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6"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7"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8"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9"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456553-936A-468A-B7DD-736E0C2745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5F8322-ABFA-45DA-9352-8BB93876DE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51"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52"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6"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7"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8"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9"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60"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61"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598C68-1400-46C5-9AEB-A158A49E4C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5"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6768ED86-B45B-45C1-873F-6409D3C8E3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7"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CA2E32-6F48-4E8D-84AE-39DEF7ADB1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70"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EC6143-D93F-4B5A-B4D3-59007B820B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72"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8"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9"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80"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81"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82"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99C811D-E67D-47FB-AC3A-B0D8218ABA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EECE8F-9C58-4884-B483-1EAA4AD7EF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1738E1-8295-4649-9BDD-5778D1B34A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FE34C99-AD9F-4C84-8371-CB500ACCF8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7FB7012-99D8-4404-B8A2-4153ECCD09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8A2BE0FE-7752-4612-B0F6-1552848D45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3925E72-86CF-44EA-B16E-6102A1D169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A556A3-AFB0-4A1B-9F31-E8B9895BC9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9"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3"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4"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5"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6"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7"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8"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9"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10"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11"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12"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9FD650A-ED65-4404-A503-99E373877B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4" name=""/>
          <p:cNvGraphicFramePr/>
          <p:nvPr/>
        </p:nvGraphicFramePr>
        <p:xfrm>
          <a:off x="304920" y="1828800"/>
          <a:ext cx="8610480" cy="2149560"/>
        </p:xfrm>
        <a:graphic>
          <a:graphicData uri="http://schemas.openxmlformats.org/presentationml/2006/ole">
            <p:oleObj progId="Excel.Sheet.12" r:id="rId1" spid="">
              <p:embed/>
              <p:pic>
                <p:nvPicPr>
                  <p:cNvPr id="815"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6"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C13D35CA-A2FF-4800-924E-5B5CEB9B1C16}"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FEDA80-A3D7-4627-9AB4-E2D7C7A42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130858-076C-4F33-B8C6-59BF2CE85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8-08-05T21:27:59Z</dcterms:modified>
  <cp:revision>70</cp:revision>
  <dc:subject/>
  <dc:title>Gestión de Empresas de Telecomunicaciones</dc:title>
</cp:coreProperties>
</file>