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e3a5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dfe3a5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B8F4-17F7-4564-92B4-F1B54F6480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B6C9-A12E-4C10-AEDC-738A90E6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DC3A7-F2B5-4787-813C-2569F3F9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47D4A-5EFC-4FD2-B44D-785B40FB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C45F-1871-476D-A5C3-1F62BA3E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E596-7BBF-4B4A-A2FF-2E60EFA0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4DA7-BD82-40A6-98E0-2239341F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8A84-6C97-4459-B42C-5A521317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32B7-F8D3-49D8-8F2E-57C25715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8054-E67F-4080-A1FB-653CDF8E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D65A-05A1-4033-8117-D4A1124D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97A5-5D12-4E62-90F7-BF9B5A44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CC303-06CF-49B9-B1DA-F7E4D69F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199F-2329-4B57-8177-A35B5396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C38D-EC4A-4498-93CD-50702637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30DC-521F-44B5-9B36-8C07BC14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C700-FA03-4CC4-8D6D-C5E8D3DF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AAFC-9630-4B56-9B8C-45B0279F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34B8-29DD-4DDE-96D7-15FAB230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74DC-07E1-4D91-BEC9-07D8EE4D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FB3DD-E112-4DA7-87AE-0EA7A955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7400D-5302-475D-8640-82E527DA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F9777-43BF-4CB1-A928-2B6F1949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C457-A61F-48A9-8D3F-D7F93A7B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C4452-41AB-4A50-83AB-9ECD7BD5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359E-B5AC-4B50-8533-F04F7CD3200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e3a5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e3a5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F156-A56B-4A3C-8FBE-6285D8B2735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gf.uchile.cl/chaiten/logo2_VerticalOficialfcfm_JPG.jpg&amp;imgrefurl=http://www.dgf.uchile.cl/chaiten/&amp;h=239&amp;w=300&amp;sz=17&amp;hl=es&amp;start=5&amp;tbnid=WLvkSMYPmbDiTM:&amp;tbnh=92&amp;tbnw=116&amp;prev=/images%3Fq%3Dfacultad%2Bciencias%2Bf%25C3%25ADsicas%2By%2Bmatem%25C3%25A1ticas%2Blogo%26gbv%3D2%26hl%3Des%26sa%3D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dfe3a5"/>
                </a:solidFill>
                <a:latin typeface="Garamond"/>
              </a:rPr>
              <a:t>Silicona Industrial</a:t>
            </a:r>
            <a:endParaRPr b="1" lang="en-US" sz="6000" spc="-1" strike="noStrike">
              <a:solidFill>
                <a:srgbClr val="dfe3a5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Javiera Gutiérre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ndrés Varg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rcRect l="-6484" t="-8176" r="-6484" b="-8176"/>
          <a:stretch/>
        </p:blipFill>
        <p:spPr>
          <a:xfrm>
            <a:off x="157320" y="171360"/>
            <a:ext cx="1627200" cy="12589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2700360" y="6308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Taller de Diseño de Potencia I- EL57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ntaj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Resiste altas temperatur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Baja toxicidad e inflamabilida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xcelentes propiedades dieléctr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manejan fácilmente y sin peligr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No producen corro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sistencia uniforme, poca variación con la T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conómico Desmolda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Obten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utiliza un </a:t>
            </a:r>
            <a:r>
              <a:rPr b="0" i="1" lang="es-ES" sz="3400" spc="-1" strike="noStrike" u="sng">
                <a:solidFill>
                  <a:srgbClr val="ffffff"/>
                </a:solidFill>
                <a:uFillTx/>
                <a:latin typeface="Garamond"/>
              </a:rPr>
              <a:t>método de destilación molecular a vací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que asegura la desaparición, casi por completo, de componentes de bajo peso molecular, obteniendo un aceite de gran grado de pure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25192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Aislante para Transformad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La silicona para transformadores es un agente aislante a base de silicona dimetílica, cuyas propiedades proporcionan seguridad y alto rendimiento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La silicona dimetílica, es un elemento químico de los menos peligrosos, por lo se utiliza como sustituto para askareles a base de PCB (policloruro bifenilo), además es menos dañino para el medio ambient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Refrigerante Dieléctrico, con alta estabilidad y más resistente al fuego que los aceites minerales o combustibles.</a:t>
            </a:r>
            <a:br>
              <a:rPr sz="2600"/>
            </a:b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jemplos de Usos en Transformado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951280" cy="1833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5280" y="1339920"/>
            <a:ext cx="550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SUBESTACIONES UNIT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 ocupan en intemperie o interior, auto-refrigerado, sumergido en aceite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SILICONA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 miner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2922120"/>
            <a:ext cx="55450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Garamond"/>
              </a:rPr>
              <a:t>TRANSFORMADORES DE DISTRIB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ocupan en intemperie o interior, auto-refrigerados, sumergidos en aceit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Garamond"/>
              </a:rPr>
              <a:t>SILICONA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o mine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Garamond"/>
              </a:rPr>
              <a:t>Ejemplos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Transformadores de distribución monofásicos, desde 3 kVA hasta 25 kVA, y 24,5 k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Transformadores de distribución trifásicos desde 10 kVA hasta 25000 kVA y 34,5 k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796000" y="3429000"/>
            <a:ext cx="2951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pecificaciones Técnic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6626160" cy="3527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89080" y="6165720"/>
            <a:ext cx="68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Garamond"/>
              </a:rPr>
              <a:t>Fuente:</a:t>
            </a:r>
            <a:r>
              <a:rPr b="0" lang="es-ES" sz="1600" spc="-1" strike="noStrike">
                <a:solidFill>
                  <a:srgbClr val="ffffff"/>
                </a:solidFill>
                <a:latin typeface="Garamond"/>
              </a:rPr>
              <a:t> http://www.talleresnorte.com.ar/pdf/DOWCORNING_561.pd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003640" y="1197000"/>
            <a:ext cx="1872000" cy="1255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268280"/>
            <a:ext cx="60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eite de Silico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ra Transformado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OW CORNING® 56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dfe3a5"/>
                </a:solidFill>
                <a:latin typeface="Garamond"/>
              </a:rPr>
              <a:t>Aisladores para Líneas de Transmisión</a:t>
            </a:r>
            <a:endParaRPr b="1" lang="en-US" sz="6000" spc="-1" strike="noStrike">
              <a:solidFill>
                <a:srgbClr val="dfe3a5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1628640"/>
            <a:ext cx="8207280" cy="4537080"/>
          </a:xfrm>
          <a:prstGeom prst="rect">
            <a:avLst/>
          </a:prstGeom>
          <a:solidFill>
            <a:srgbClr val="000514">
              <a:alpha val="40000"/>
            </a:srgbClr>
          </a:solidFill>
          <a:ln w="31680">
            <a:solidFill>
              <a:srgbClr val="0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Estruc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1628640"/>
            <a:ext cx="1177920" cy="4562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V="1">
            <a:off x="2916360" y="4723920"/>
            <a:ext cx="1511280" cy="505080"/>
          </a:xfrm>
          <a:prstGeom prst="line">
            <a:avLst/>
          </a:prstGeom>
          <a:ln w="34920">
            <a:solidFill>
              <a:srgbClr val="ff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4724280"/>
            <a:ext cx="287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Varilla central generalmente de resina epoxy reforzada con fibra de vid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5003640" y="3789000"/>
            <a:ext cx="1152720" cy="431640"/>
          </a:xfrm>
          <a:prstGeom prst="line">
            <a:avLst/>
          </a:prstGeom>
          <a:ln w="34920">
            <a:solidFill>
              <a:srgbClr val="ff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422100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Revestimiento de silic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916360" y="2133360"/>
            <a:ext cx="1295280" cy="431640"/>
          </a:xfrm>
          <a:prstGeom prst="line">
            <a:avLst/>
          </a:prstGeom>
          <a:ln w="34920">
            <a:solidFill>
              <a:srgbClr val="ff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2565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Herraje term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ropieda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stalación más fácil que aisladores de porcelana o vidrio por su menor peso y el hecho que son de una sola pieza (no hace falta armar caden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ejor resistencia a ataques vandálicos que aisladores de porcelana o vidrio, pues no se quiebran por golp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lta resistencia al desgarro y a la tracció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jo costo de mantenimien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ena resistencia a contamin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Hidrofobicid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Hidrofobicidad →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ayor resistencia superfici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Factibilidad de recuperar esta propie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619280" y="2349360"/>
            <a:ext cx="2663640" cy="1800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418000" y="2355840"/>
            <a:ext cx="2678400" cy="1801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35280" y="41497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Hidrofílico (Porcelana)</a:t>
            </a: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Hidrofóbico (Silicona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Recuperación de Hidrofobicid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09760" y="1757520"/>
            <a:ext cx="8124480" cy="3342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556000" y="5157720"/>
            <a:ext cx="39607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La Silico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s un polímero inoloro e incoloro, principalmente compuesto por Silici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132000" y="3213000"/>
            <a:ext cx="2735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roveedores en Chi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ilpak S.A. (aisladores Silpa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nelec (aisladores Salisbur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Global Soluciones (aisladores Ava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Mathiesen (aceites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ow Corning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recio Referencial del Acei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stribuidora Mathies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$ 720.000 los 200 litros de aceite de silico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$ 580.000 los 200 litros de aceite mine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¿Pregunta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7355160" cy="4968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00360" y="2637000"/>
            <a:ext cx="3887640" cy="825480"/>
          </a:xfrm>
          <a:prstGeom prst="rect">
            <a:avLst/>
          </a:prstGeom>
          <a:solidFill>
            <a:srgbClr val="000514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Gracias por su Aten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ropieda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abilidad Térmica (-100 a 250 °C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pele el agu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celente resistencia a oxígeno, ozono y radiación sol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lta resistividad eléctr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aja reactividad quím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aja toxici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lta permeabilidad a ga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Obten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silicona elemental se obtiene al calentar roca de cuarzo en presencia de carbo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Haciendo reaccionar la silicona elemental con otros elementos químicos, se obtienen distintos estados de ést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G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Líquido (Aceit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Sóli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4005360"/>
            <a:ext cx="2592360" cy="183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651640" y="55180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Cristal de Cuar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Aplicaciones en la Industria Eléctric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ceite para transformado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isladores para líneas de transmis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ubierta Exterior de Pararray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analiz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Barnices aisladores para bobin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Recubrimiento de cables y alamb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Y muchas aplicaciones más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rnices y Resin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islamiento eléctrico: Aislante de bobinas de motores, transformadore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sistencia a la hume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pele Agu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uenas propiedades eléctric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48000" y="4149720"/>
            <a:ext cx="2448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ucho RTV-Silico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uen Dieléctr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sistencia al fueg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fabrican mold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astic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conóm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dfe3a5"/>
                </a:solidFill>
                <a:latin typeface="Garamond"/>
              </a:rPr>
              <a:t>Aceite Para Transformadores</a:t>
            </a:r>
            <a:endParaRPr b="1" lang="en-US" sz="6000" spc="-1" strike="noStrike">
              <a:solidFill>
                <a:srgbClr val="dfe3a5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76720" y="3716280"/>
            <a:ext cx="2519280" cy="162900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efinición y Composi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l aceite de silicona es un f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uido poco viscoso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, incoloro y claro, insoluble en agua y menos denso que ést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olímero – Dimetilpolisilox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disuelve con disolventes orgánicos usuales, como percloroetileno, bencina, entre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1:55:13Z</dcterms:created>
  <dc:creator>Vargas Serrano</dc:creator>
  <dc:description/>
  <dc:language>en-US</dc:language>
  <cp:lastModifiedBy>Alberto Botteselle Doggenweiler</cp:lastModifiedBy>
  <dcterms:modified xsi:type="dcterms:W3CDTF">2008-09-14T19:52:53Z</dcterms:modified>
  <cp:revision>44</cp:revision>
  <dc:subject/>
  <dc:title>Aislantes de Silicona</dc:title>
</cp:coreProperties>
</file>