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13BB-8763-418F-8243-A1F0C35CB3B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332-68B6-45DB-8F48-41571FAF6B2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5FD-EB60-44D9-AB7D-3B02343F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032-CEC5-4152-BBD7-122331A4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FEB-BB9F-4B47-8502-7BF8E966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C50-0D7C-4C18-B655-1EA71C86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891-CDF3-461A-B19F-A23FE25D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79BD-B35E-43A5-A16C-E93A6CC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321-E15E-4173-99B8-BC84B6B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1CB-6464-4B94-A08B-71D99E5C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02D5-AE2B-4247-934D-7ED285B1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177-32F0-4324-AF02-164950E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1754-6434-41E8-9FE8-DEC632D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B1F-638B-4392-AEC5-953799C5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449-7C10-45D6-9C3A-F95454E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12C2-DF12-4673-A1A4-0F4330A0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06A-CD5B-421A-A0A3-0CB7CE9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F91-3104-4CBA-B01E-BE48AF67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D31-2062-43A0-A303-0734BE9F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79B-B290-4EF4-B65B-212B8164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F1E-7C06-49D3-BD50-4DC071F2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968-6801-4BE1-8EB4-765927ED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A25-2CF2-404D-9136-0BE7969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EDE-21F4-42A6-9916-E57D6FF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FCE-0E06-4D2B-86FF-042D494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5A3-2DC9-4E41-915B-89DFA5B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021-244A-4F66-BDC6-17ADC08A168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9C30-D096-4D0C-85A8-72C125938B3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logo.uchile.c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900" spc="-1" strike="noStrike">
                <a:solidFill>
                  <a:srgbClr val="333366"/>
                </a:solidFill>
                <a:latin typeface="Book Antiqua"/>
              </a:rPr>
              <a:t>Libros de Diseño en Biblioteca Central</a:t>
            </a:r>
            <a:endParaRPr b="0" lang="en-US" sz="49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fcfm-DIE-2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ages"/>
          <p:cNvPicPr/>
          <p:nvPr/>
        </p:nvPicPr>
        <p:blipFill>
          <a:blip r:embed="rId2"/>
          <a:stretch/>
        </p:blipFill>
        <p:spPr>
          <a:xfrm>
            <a:off x="2411280" y="4653000"/>
            <a:ext cx="1944720" cy="154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magen2"/>
          <p:cNvPicPr/>
          <p:nvPr/>
        </p:nvPicPr>
        <p:blipFill>
          <a:blip r:embed="rId3"/>
          <a:stretch/>
        </p:blipFill>
        <p:spPr>
          <a:xfrm>
            <a:off x="1403280" y="3068640"/>
            <a:ext cx="145440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magen3"/>
          <p:cNvPicPr/>
          <p:nvPr/>
        </p:nvPicPr>
        <p:blipFill>
          <a:blip r:embed="rId4"/>
          <a:stretch/>
        </p:blipFill>
        <p:spPr>
          <a:xfrm>
            <a:off x="3276720" y="3284640"/>
            <a:ext cx="11905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8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66"/>
                </a:solidFill>
                <a:latin typeface="Arial"/>
              </a:rPr>
              <a:t>Libros de Diseño – Otras Áreas</a:t>
            </a:r>
            <a:endParaRPr b="0" lang="en-US" sz="3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91628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529080"/>
                <a:gridCol w="259236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nzuela Ortega, Matías Tomá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y construcción de un controlador de movimiento para robot móvil con modelación de cinemática inversa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V235d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ke Henríquez, Hardy Ein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y construcción de interfaz humano robot utilizando gestos realizados con las mano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F8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a Nanjarí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ddy Matí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de estrategias de control supervisor predictivo híbrido para una planta termoeléctrica de ciclo combinado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M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agen3"/>
          <p:cNvPicPr/>
          <p:nvPr/>
        </p:nvPicPr>
        <p:blipFill>
          <a:blip r:embed="rId1"/>
          <a:stretch/>
        </p:blipFill>
        <p:spPr>
          <a:xfrm>
            <a:off x="7093080" y="4869000"/>
            <a:ext cx="165564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¿Por qué es importante?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5865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onstituyen un apoyo al diseñ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ánd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rabajos anteri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blece un punto de partida para el trabajo a realiza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Tesi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ultan una buena fuente de ayuda 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2342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 realizar la búsqueda de algún libro de diseño se debe acceder a la página del Catálogo Bell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www.catalogo.uchile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catalogo"/>
          <p:cNvPicPr/>
          <p:nvPr/>
        </p:nvPicPr>
        <p:blipFill>
          <a:blip r:embed="rId2"/>
          <a:stretch/>
        </p:blipFill>
        <p:spPr>
          <a:xfrm>
            <a:off x="2124000" y="4221000"/>
            <a:ext cx="5400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3"/>
          <p:cNvGraphicFramePr/>
          <p:nvPr/>
        </p:nvGraphicFramePr>
        <p:xfrm>
          <a:off x="468360" y="1628640"/>
          <a:ext cx="835164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35164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2629080" y="2997360"/>
            <a:ext cx="165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1763640" y="2852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9640" y="364500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ar parámetro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2482920" y="2637000"/>
            <a:ext cx="172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284720" y="3141720"/>
            <a:ext cx="22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588000" y="328464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onar Bibliotec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38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ultados de búsqued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 de Transformad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780000" y="1773360"/>
          <a:ext cx="53640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3360"/>
                    <a:ext cx="53640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Oval 6"/>
          <p:cNvSpPr/>
          <p:nvPr/>
        </p:nvSpPr>
        <p:spPr>
          <a:xfrm>
            <a:off x="3924360" y="5229360"/>
            <a:ext cx="42480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320364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4360" y="5300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sobre el nombre permite acceder a mayor in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55640" y="1700280"/>
          <a:ext cx="8137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8137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020000" y="5013360"/>
            <a:ext cx="647640" cy="1297080"/>
          </a:xfrm>
          <a:custGeom>
            <a:avLst/>
            <a:gdLst>
              <a:gd name="textAreaLeft" fmla="*/ 0 w 647640"/>
              <a:gd name="textAreaRight" fmla="*/ 234000 w 647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7667640" y="54450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Libros de Diseño – Área Potenci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628640"/>
          <a:ext cx="8569080" cy="456732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lino Pérez, Ped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ormadores de distribución: teoría, cálculo, construcción y prue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1.314 Av32 2001 C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uilera Duarte., José Javi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de un transformador para ensayos de capacidad de ruptura de interruptores automático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 Ag93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gas Parraguez, Eduardo 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, construcción y pruebas de un instrumento de medición de errores de transformadores de corriente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2 V42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métodos de ensayo, requisitos gener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1.EOf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Libros de Diseño – Área Potenci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213372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determinación de la razón de trans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2.EOf72 </a:t>
                      </a:r>
                      <a:r>
                        <a:rPr b="0" lang="es-C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comprobación de las polaridades de los enrollad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3.EOf72</a:t>
                      </a:r>
                      <a:r>
                        <a:rPr b="0" lang="es-C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icidad : conductores, terminología y clasif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817.EOf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8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66"/>
                </a:solidFill>
                <a:latin typeface="Arial"/>
              </a:rPr>
              <a:t>Libros de Diseño – Área Telecomunicaciones</a:t>
            </a:r>
            <a:endParaRPr b="0" lang="en-US" sz="3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227664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hernitchin Lapin, Nikola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una IP-Contact Center distribuida económica y con fines docente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T2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da Espinoza, Mauricio Alex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un curso para la gestión /tipificación de proyectos en telecomunicacione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C334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ugo Müller, Roberto Jonna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aplicaciones sobre un sistema de monitoreo de señalización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 V5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4:32Z</dcterms:created>
  <dc:creator>faaraven</dc:creator>
  <dc:description/>
  <dc:language>en-US</dc:language>
  <cp:lastModifiedBy> Alberto Botteselle Doggenweiler</cp:lastModifiedBy>
  <dcterms:modified xsi:type="dcterms:W3CDTF">2008-10-30T16:50:27Z</dcterms:modified>
  <cp:revision>3</cp:revision>
  <dc:subject/>
  <dc:title>Libros de Diseño en Biblioteca Central</dc:title>
</cp:coreProperties>
</file>