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B6410-B070-487D-85DC-04A1B8915CE6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9AF82-6B76-48CA-B75C-3AD7696DA4C0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99AE-2411-4C61-BF78-850F8FE13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EDB5-C4B6-4A53-901E-B838B8AB0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E5ADE-313D-4E80-AF09-E668BBCBD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6D798-C1F2-4439-9063-FF7DEC9D0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4F3A-63AF-4DE2-A3B0-2E8362C6C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0D281-E14A-49E4-9A53-88CFCA9EB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00217-FCDB-4190-9C06-4E7238836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EDE3-7251-4282-B5F7-619763341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CF938-2CA5-4921-A655-12C941B7D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E8D12-9E04-455A-9FBC-FD104A72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1842-854D-410C-9045-69DC55FB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365E-8026-4921-9D4E-071170710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0575F-575F-4DAA-BF62-D12645571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7F9CA-E78F-4EA9-B7B2-002FD838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B4412-E8FE-4883-AD27-9A687E9B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8A1ED-305B-47AC-AA89-112CA3F0C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2E3F1-BDA0-4B65-9A3B-6128BED37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2813-FD16-4E7B-B045-855B9D42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5538-E2DE-42F4-A8AF-7CF7F5B6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0A8E-CE84-413A-A2AE-2F8436D2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0A14-7209-44AF-A62F-1EA416451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9701-7B5F-4724-8F62-5894CEB84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0F1E-54ED-44AD-A5F4-8D4CAA21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DCAC-9AF5-49E8-BDB2-D078B59A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6785-74A0-4E93-8241-6DCFE4A1D0AB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3333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3333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8193-B585-4D23-9A3E-48DF2C5BAFA6}" type="slidenum"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atalogo.uchile.cl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900" spc="-1" strike="noStrike">
                <a:solidFill>
                  <a:srgbClr val="333366"/>
                </a:solidFill>
                <a:latin typeface="Book Antiqua"/>
              </a:rPr>
              <a:t>Libros de Diseño en Biblioteca Central</a:t>
            </a:r>
            <a:endParaRPr b="0" lang="en-US" sz="49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Book Antiqua"/>
              </a:rPr>
              <a:t>Integrantes: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Book Antiqua"/>
              </a:rPr>
              <a:t>Fabiola Aravena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700" spc="-1" strike="noStrike">
                <a:solidFill>
                  <a:srgbClr val="000000"/>
                </a:solidFill>
                <a:latin typeface="Book Antiqua"/>
              </a:rPr>
              <a:t>Marcela Arredondo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4" descr="fcfm-DIE-2"/>
          <p:cNvPicPr/>
          <p:nvPr/>
        </p:nvPicPr>
        <p:blipFill>
          <a:blip r:embed="rId1"/>
          <a:stretch/>
        </p:blipFill>
        <p:spPr>
          <a:xfrm>
            <a:off x="6300720" y="0"/>
            <a:ext cx="2843280" cy="9907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images"/>
          <p:cNvPicPr/>
          <p:nvPr/>
        </p:nvPicPr>
        <p:blipFill>
          <a:blip r:embed="rId2"/>
          <a:stretch/>
        </p:blipFill>
        <p:spPr>
          <a:xfrm>
            <a:off x="2411280" y="4653000"/>
            <a:ext cx="1944720" cy="1546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imagen2"/>
          <p:cNvPicPr/>
          <p:nvPr/>
        </p:nvPicPr>
        <p:blipFill>
          <a:blip r:embed="rId3"/>
          <a:stretch/>
        </p:blipFill>
        <p:spPr>
          <a:xfrm>
            <a:off x="1403280" y="3068640"/>
            <a:ext cx="1454400" cy="1944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imagen3"/>
          <p:cNvPicPr/>
          <p:nvPr/>
        </p:nvPicPr>
        <p:blipFill>
          <a:blip r:embed="rId4"/>
          <a:stretch/>
        </p:blipFill>
        <p:spPr>
          <a:xfrm>
            <a:off x="3276720" y="3284640"/>
            <a:ext cx="1190520" cy="109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0872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333366"/>
                </a:solidFill>
                <a:latin typeface="Arial"/>
              </a:rPr>
              <a:t>Libros de Diseño – Otras Áreas</a:t>
            </a:r>
            <a:endParaRPr b="0" lang="en-US" sz="3000" spc="-1" strike="noStrike">
              <a:solidFill>
                <a:srgbClr val="333366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24000" y="1916280"/>
          <a:ext cx="8569080" cy="3681360"/>
        </p:xfrm>
        <a:graphic>
          <a:graphicData uri="http://schemas.openxmlformats.org/drawingml/2006/table">
            <a:tbl>
              <a:tblPr/>
              <a:tblGrid>
                <a:gridCol w="2447640"/>
                <a:gridCol w="3529080"/>
                <a:gridCol w="2592360"/>
              </a:tblGrid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ítu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ódi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lenzuela Ortega, Matías Tomá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eño y construcción de un controlador de movimiento para robot móvil con modelación de cinemática inversa (Tesi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7 V235dc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ancke Henríquez, Hardy Eina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eño y construcción de interfaz humano robot utilizando gestos realizados con las manos (Tesi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7 F84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illa Nanjarí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reddy Matía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eño de estrategias de control supervisor predictivo híbrido para una planta termoeléctrica de ciclo combinado (Tesi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7 M6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imagen3"/>
          <p:cNvPicPr/>
          <p:nvPr/>
        </p:nvPicPr>
        <p:blipFill>
          <a:blip r:embed="rId1"/>
          <a:stretch/>
        </p:blipFill>
        <p:spPr>
          <a:xfrm>
            <a:off x="7093080" y="4869000"/>
            <a:ext cx="1655640" cy="15238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66"/>
                </a:solidFill>
                <a:latin typeface="Arial"/>
              </a:rPr>
              <a:t>¿Por qué es importante?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6586560" cy="34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500" spc="-1" strike="noStrike">
                <a:solidFill>
                  <a:srgbClr val="000000"/>
                </a:solidFill>
                <a:latin typeface="Verdana"/>
              </a:rPr>
              <a:t>Constituyen un apoyo al diseño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Estándar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Verdana"/>
              </a:rPr>
              <a:t>Trabajos anterior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Establece un punto de partida para el trabajo a realizar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Tesis: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Resultan una buena fuente de ayuda 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Informac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66"/>
                </a:solidFill>
                <a:latin typeface="Arial"/>
              </a:rPr>
              <a:t>Metodología de Búsqueda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234200" cy="28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Para realizar la búsqueda de algún libro de diseño se debe acceder a la página del Catálogo Bello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 u="sng">
                <a:solidFill>
                  <a:srgbClr val="666699"/>
                </a:solidFill>
                <a:uFillTx/>
                <a:latin typeface="Verdana"/>
                <a:hlinkClick r:id="rId1"/>
              </a:rPr>
              <a:t>www.catalogo.uchile.c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Picture 4" descr="catalogo"/>
          <p:cNvPicPr/>
          <p:nvPr/>
        </p:nvPicPr>
        <p:blipFill>
          <a:blip r:embed="rId2"/>
          <a:stretch/>
        </p:blipFill>
        <p:spPr>
          <a:xfrm>
            <a:off x="2124000" y="4221000"/>
            <a:ext cx="54007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Object 3"/>
          <p:cNvGraphicFramePr/>
          <p:nvPr/>
        </p:nvGraphicFramePr>
        <p:xfrm>
          <a:off x="468360" y="1628640"/>
          <a:ext cx="8351640" cy="454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628640"/>
                    <a:ext cx="8351640" cy="45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66"/>
                </a:solidFill>
                <a:latin typeface="Arial"/>
              </a:rPr>
              <a:t>Metodología de Búsqueda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2" name="Oval 5"/>
          <p:cNvSpPr/>
          <p:nvPr/>
        </p:nvSpPr>
        <p:spPr>
          <a:xfrm>
            <a:off x="2629080" y="2997360"/>
            <a:ext cx="1655640" cy="215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 flipH="1">
            <a:off x="1763640" y="2852640"/>
            <a:ext cx="100800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539640" y="3645000"/>
            <a:ext cx="151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ngresar parámetro de búsque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8"/>
          <p:cNvSpPr/>
          <p:nvPr/>
        </p:nvSpPr>
        <p:spPr>
          <a:xfrm>
            <a:off x="2482920" y="2637000"/>
            <a:ext cx="172872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9"/>
          <p:cNvSpPr/>
          <p:nvPr/>
        </p:nvSpPr>
        <p:spPr>
          <a:xfrm>
            <a:off x="4284720" y="3141720"/>
            <a:ext cx="223200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6588000" y="3284640"/>
            <a:ext cx="144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leccionar Biblioteca Cent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66"/>
                </a:solidFill>
                <a:latin typeface="Arial"/>
              </a:rPr>
              <a:t>Metodología de Búsqueda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4000" y="1699920"/>
            <a:ext cx="338436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3333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000000"/>
                </a:solidFill>
                <a:latin typeface="Verdana"/>
              </a:rPr>
              <a:t>Resultados de búsqued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Diseño de Transformador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20" name="Object 4"/>
          <p:cNvGraphicFramePr/>
          <p:nvPr/>
        </p:nvGraphicFramePr>
        <p:xfrm>
          <a:off x="3780000" y="1773360"/>
          <a:ext cx="5364000" cy="440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80000" y="1773360"/>
                    <a:ext cx="5364000" cy="44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Oval 6"/>
          <p:cNvSpPr/>
          <p:nvPr/>
        </p:nvSpPr>
        <p:spPr>
          <a:xfrm>
            <a:off x="3924360" y="5229360"/>
            <a:ext cx="4248000" cy="863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7"/>
          <p:cNvSpPr/>
          <p:nvPr/>
        </p:nvSpPr>
        <p:spPr>
          <a:xfrm flipH="1">
            <a:off x="3203640" y="5661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684360" y="5300640"/>
            <a:ext cx="24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ck sobre el nombre permite acceder a mayor inform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66"/>
                </a:solidFill>
                <a:latin typeface="Arial"/>
              </a:rPr>
              <a:t>Metodología de Búsqueda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graphicFrame>
        <p:nvGraphicFramePr>
          <p:cNvPr id="126" name="Object 3"/>
          <p:cNvGraphicFramePr/>
          <p:nvPr/>
        </p:nvGraphicFramePr>
        <p:xfrm>
          <a:off x="755640" y="1700280"/>
          <a:ext cx="8137440" cy="45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700280"/>
                    <a:ext cx="8137440" cy="45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AutoShape 6"/>
          <p:cNvSpPr/>
          <p:nvPr/>
        </p:nvSpPr>
        <p:spPr>
          <a:xfrm>
            <a:off x="7020000" y="5013360"/>
            <a:ext cx="647640" cy="1297080"/>
          </a:xfrm>
          <a:custGeom>
            <a:avLst/>
            <a:gdLst>
              <a:gd name="textAreaLeft" fmla="*/ 0 w 647640"/>
              <a:gd name="textAreaRight" fmla="*/ 234000 w 64764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7667640" y="5445000"/>
            <a:ext cx="14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isponibilida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66"/>
                </a:solidFill>
                <a:latin typeface="Arial"/>
              </a:rPr>
              <a:t>Libros de Diseño – Área Potencia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324000" y="1628640"/>
          <a:ext cx="8569080" cy="4567320"/>
        </p:xfrm>
        <a:graphic>
          <a:graphicData uri="http://schemas.openxmlformats.org/drawingml/2006/table">
            <a:tbl>
              <a:tblPr/>
              <a:tblGrid>
                <a:gridCol w="2447640"/>
                <a:gridCol w="3384720"/>
                <a:gridCol w="2736720"/>
              </a:tblGrid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ítu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ódi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velino Pérez, Ped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ansformadores de distribución: teoría, cálculo, construcción y prueba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21.314 Av32 2001 C.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guilera Duarte., José Javier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eño de un transformador para ensayos de capacidad de ruptura de interruptores automáticos (Tesi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98 Ag93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argas Parraguez, Eduardo Marce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eño, construcción y pruebas de un instrumento de medición de errores de transformadores de corriente (Tesi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92 V426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ituto Nacional de Investigaciones Tecnológicas y Normalización (Chil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ectrotecnia: transformadores eléctricos de distribución, métodos de ensayo, requisitos generale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Ch911.EOf7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333366"/>
                </a:solidFill>
                <a:latin typeface="Arial"/>
              </a:rPr>
              <a:t>Libros de Diseño – Área Potencia</a:t>
            </a:r>
            <a:endParaRPr b="0" lang="en-US" sz="3600" spc="-1" strike="noStrike">
              <a:solidFill>
                <a:srgbClr val="333366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324000" y="2133720"/>
          <a:ext cx="8569080" cy="3681360"/>
        </p:xfrm>
        <a:graphic>
          <a:graphicData uri="http://schemas.openxmlformats.org/drawingml/2006/table">
            <a:tbl>
              <a:tblPr/>
              <a:tblGrid>
                <a:gridCol w="2447640"/>
                <a:gridCol w="3384720"/>
                <a:gridCol w="2736720"/>
              </a:tblGrid>
              <a:tr h="47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ítu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ódi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ituto Nacional de Investigaciones Tecnológicas y Normalización (Chil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ectrotecnia: transformadores eléctricos de distribución, determinación de la razón de transform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Ch912.EOf72 </a:t>
                      </a:r>
                      <a:r>
                        <a:rPr b="0" lang="es-CL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ituto Nacional de Investigaciones Tecnológicas y Normalización (Chil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ectrotecnia: transformadores eléctricos de distribución, comprobación de las polaridades de los enrollad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Ch913.EOf72</a:t>
                      </a:r>
                      <a:r>
                        <a:rPr b="0" lang="es-CL" sz="2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 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stituto Nacional de Investigaciones Tecnológicas y Normalización (Chil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ectricidad : conductores, terminología y clasificació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Ch817.EOf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8208720" cy="71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333366"/>
                </a:solidFill>
                <a:latin typeface="Arial"/>
              </a:rPr>
              <a:t>Libros de Diseño – Área Telecomunicaciones</a:t>
            </a:r>
            <a:endParaRPr b="0" lang="en-US" sz="3000" spc="-1" strike="noStrike">
              <a:solidFill>
                <a:srgbClr val="333366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24000" y="2276640"/>
          <a:ext cx="8569080" cy="3681360"/>
        </p:xfrm>
        <a:graphic>
          <a:graphicData uri="http://schemas.openxmlformats.org/drawingml/2006/table">
            <a:tbl>
              <a:tblPr/>
              <a:tblGrid>
                <a:gridCol w="2447640"/>
                <a:gridCol w="3384720"/>
                <a:gridCol w="2736720"/>
              </a:tblGrid>
              <a:tr h="48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u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ítu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ódi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chernitchin Lapin, Nikola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eño e implementación de una IP-Contact Center distribuida económica y con fines docentes (Tesi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7 T21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rda Espinoza, Mauricio Alexi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eño e implementación de un curso para la gestión /tipificación de proyectos en telecomunicaciones (Tesi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7 C334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erdugo Müller, Roberto Jonnatha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iseño e implementación de aplicaciones sobre un sistema de monitoreo de señalización (Tesis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6 V584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0T15:44:32Z</dcterms:created>
  <dc:creator>faaraven</dc:creator>
  <dc:description/>
  <dc:language>en-US</dc:language>
  <cp:lastModifiedBy> Alberto Botteselle Doggenweiler</cp:lastModifiedBy>
  <dcterms:modified xsi:type="dcterms:W3CDTF">2008-10-30T16:50:27Z</dcterms:modified>
  <cp:revision>3</cp:revision>
  <dc:subject/>
  <dc:title>Libros de Diseño en Biblioteca Central</dc:title>
</cp:coreProperties>
</file>