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6ACC-6B23-4BD0-81EC-6D6206840E8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61E8-E7DC-4782-AC8D-659F3A3631A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10B-F3DA-4996-AF08-889515AC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C76-9762-4F16-9974-C9DB87D8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BC1-1060-4A9E-B26A-1859ADC5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5DB-8CE4-4CFC-85B1-2B33714A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B1F9-84DF-41E4-8EEB-AEEDE12D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4101-2197-4B55-B358-95FAE6DE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BF10-057E-48D3-848A-67F8C652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07AE-82F7-472A-AF74-9EDB2173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F647-DDE8-4536-9AA1-B987221B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BCF5-FD0E-43C7-BB71-145183E7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1EF2-2F8C-4550-B45C-2CB1245B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7B8-1399-4D5F-A846-90CAA04E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8B98-1AE0-428E-9EF0-190F4B8C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32E6-DD9C-448E-81AA-76937693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0B63-2E47-4815-89DC-E505DB39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78C4-1C4F-437E-9E4F-250191A9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36BE-1039-4A0D-9F06-8867243D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279-6890-411E-B766-1D2016DD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45E-0BE9-47A2-8720-B78CCB32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B9E-8C76-4E57-97FE-F634BB40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AF8-A27D-4492-BD83-6D6767EA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C4A-2A8F-409C-B755-7F8EAB68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678-32A5-407D-B2F7-FAE8C5FD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5F6-79E8-4216-B4BC-6F868A57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0BF5-5213-4F38-8674-7DF4087A018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A591-C459-42BA-8914-30513DCBF4EA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talogo.uchile.cl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900" spc="-1" strike="noStrike">
                <a:solidFill>
                  <a:srgbClr val="333366"/>
                </a:solidFill>
                <a:latin typeface="Book Antiqua"/>
              </a:rPr>
              <a:t>Libros de Diseño en Biblioteca Central</a:t>
            </a:r>
            <a:endParaRPr b="0" lang="en-US" sz="49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fcfm-DIE-2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images"/>
          <p:cNvPicPr/>
          <p:nvPr/>
        </p:nvPicPr>
        <p:blipFill>
          <a:blip r:embed="rId2"/>
          <a:stretch/>
        </p:blipFill>
        <p:spPr>
          <a:xfrm>
            <a:off x="2411280" y="4653000"/>
            <a:ext cx="1944720" cy="1546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imagen2"/>
          <p:cNvPicPr/>
          <p:nvPr/>
        </p:nvPicPr>
        <p:blipFill>
          <a:blip r:embed="rId3"/>
          <a:stretch/>
        </p:blipFill>
        <p:spPr>
          <a:xfrm>
            <a:off x="1403280" y="3068640"/>
            <a:ext cx="145440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magen3"/>
          <p:cNvPicPr/>
          <p:nvPr/>
        </p:nvPicPr>
        <p:blipFill>
          <a:blip r:embed="rId4"/>
          <a:stretch/>
        </p:blipFill>
        <p:spPr>
          <a:xfrm>
            <a:off x="3276720" y="3284640"/>
            <a:ext cx="11905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0872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66"/>
                </a:solidFill>
                <a:latin typeface="Arial"/>
              </a:rPr>
              <a:t>Libros de Diseño – Otras Áreas</a:t>
            </a:r>
            <a:endParaRPr b="0" lang="en-US" sz="30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4000" y="1916280"/>
          <a:ext cx="8569080" cy="3681360"/>
        </p:xfrm>
        <a:graphic>
          <a:graphicData uri="http://schemas.openxmlformats.org/drawingml/2006/table">
            <a:tbl>
              <a:tblPr/>
              <a:tblGrid>
                <a:gridCol w="2447640"/>
                <a:gridCol w="3529080"/>
                <a:gridCol w="259236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nzuela Ortega, Matías Tomá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y construcción de un controlador de movimiento para robot móvil con modelación de cinemática inversa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V235d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ke Henríquez, Hardy Ein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y construcción de interfaz humano robot utilizando gestos realizados con las mano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F84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la Nanjarí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ddy Matí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de estrategias de control supervisor predictivo híbrido para una planta termoeléctrica de ciclo combinado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M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agen3"/>
          <p:cNvPicPr/>
          <p:nvPr/>
        </p:nvPicPr>
        <p:blipFill>
          <a:blip r:embed="rId1"/>
          <a:stretch/>
        </p:blipFill>
        <p:spPr>
          <a:xfrm>
            <a:off x="7093080" y="4869000"/>
            <a:ext cx="165564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¿Por qué es importante?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58656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Constituyen un apoyo al diseñ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stánda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rabajos anterio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stablece un punto de partida para el trabajo a realiza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Tesis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sultan una buena fuente de ayuda 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form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2342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Para realizar la búsqueda de algún libro de diseño se debe acceder a la página del Catálogo Bell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www.catalogo.uchile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catalogo"/>
          <p:cNvPicPr/>
          <p:nvPr/>
        </p:nvPicPr>
        <p:blipFill>
          <a:blip r:embed="rId2"/>
          <a:stretch/>
        </p:blipFill>
        <p:spPr>
          <a:xfrm>
            <a:off x="2124000" y="4221000"/>
            <a:ext cx="54007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3"/>
          <p:cNvGraphicFramePr/>
          <p:nvPr/>
        </p:nvGraphicFramePr>
        <p:xfrm>
          <a:off x="468360" y="1628640"/>
          <a:ext cx="835164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35164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2629080" y="2997360"/>
            <a:ext cx="165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 flipH="1">
            <a:off x="1763640" y="285264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39640" y="364500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resar parámetro de 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2482920" y="2637000"/>
            <a:ext cx="172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284720" y="3141720"/>
            <a:ext cx="2232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588000" y="328464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onar Biblioteca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38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esultados de búsqued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iseño de Transformado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3780000" y="1773360"/>
          <a:ext cx="5364000" cy="44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773360"/>
                    <a:ext cx="5364000" cy="44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Oval 6"/>
          <p:cNvSpPr/>
          <p:nvPr/>
        </p:nvSpPr>
        <p:spPr>
          <a:xfrm>
            <a:off x="3924360" y="5229360"/>
            <a:ext cx="42480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H="1">
            <a:off x="320364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84360" y="530064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sobre el nombre permite acceder a mayor in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755640" y="1700280"/>
          <a:ext cx="8137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8137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6"/>
          <p:cNvSpPr/>
          <p:nvPr/>
        </p:nvSpPr>
        <p:spPr>
          <a:xfrm>
            <a:off x="7020000" y="5013360"/>
            <a:ext cx="647640" cy="1297080"/>
          </a:xfrm>
          <a:custGeom>
            <a:avLst/>
            <a:gdLst>
              <a:gd name="textAreaLeft" fmla="*/ 0 w 647640"/>
              <a:gd name="textAreaRight" fmla="*/ 234000 w 647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7667640" y="544500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Libros de Diseño – Área Potenci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1628640"/>
          <a:ext cx="8569080" cy="4567320"/>
        </p:xfrm>
        <a:graphic>
          <a:graphicData uri="http://schemas.openxmlformats.org/drawingml/2006/table">
            <a:tbl>
              <a:tblPr/>
              <a:tblGrid>
                <a:gridCol w="2447640"/>
                <a:gridCol w="3384720"/>
                <a:gridCol w="27367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lino Pérez, Ped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ormadores de distribución: teoría, cálculo, construcción y prueb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1.314 Av32 2001 C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uilera Duarte., José Javi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de un transformador para ensayos de capacidad de ruptura de interruptores automático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8 Ag93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gas Parraguez, Eduardo Marc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, construcción y pruebas de un instrumento de medición de errores de transformadores de corriente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2 V426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tecnia: transformadores eléctricos de distribución, métodos de ensayo, requisitos genera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911.EOf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Libros de Diseño – Área Potenci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2133720"/>
          <a:ext cx="8569080" cy="3681360"/>
        </p:xfrm>
        <a:graphic>
          <a:graphicData uri="http://schemas.openxmlformats.org/drawingml/2006/table">
            <a:tbl>
              <a:tblPr/>
              <a:tblGrid>
                <a:gridCol w="2447640"/>
                <a:gridCol w="3384720"/>
                <a:gridCol w="273672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tecnia: transformadores eléctricos de distribución, determinación de la razón de trans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912.EOf72 </a:t>
                      </a:r>
                      <a:r>
                        <a:rPr b="0" lang="es-C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tecnia: transformadores eléctricos de distribución, comprobación de las polaridades de los enrollad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913.EOf72</a:t>
                      </a:r>
                      <a:r>
                        <a:rPr b="0" lang="es-C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icidad : conductores, terminología y clasif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817.EOf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0872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66"/>
                </a:solidFill>
                <a:latin typeface="Arial"/>
              </a:rPr>
              <a:t>Libros de Diseño – Área Telecomunicaciones</a:t>
            </a:r>
            <a:endParaRPr b="0" lang="en-US" sz="30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2276640"/>
          <a:ext cx="8569080" cy="3681360"/>
        </p:xfrm>
        <a:graphic>
          <a:graphicData uri="http://schemas.openxmlformats.org/drawingml/2006/table">
            <a:tbl>
              <a:tblPr/>
              <a:tblGrid>
                <a:gridCol w="2447640"/>
                <a:gridCol w="3384720"/>
                <a:gridCol w="273672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chernitchin Lapin, Nikola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e implementación de una IP-Contact Center distribuida económica y con fines docente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T2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da Espinoza, Mauricio Alex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e implementación de un curso para la gestión /tipificación de proyectos en telecomunicacione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C334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dugo Müller, Roberto Jonna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e implementación de aplicaciones sobre un sistema de monitoreo de señalización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 V5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4:32Z</dcterms:created>
  <dc:creator>faaraven</dc:creator>
  <dc:description/>
  <dc:language>en-US</dc:language>
  <cp:lastModifiedBy> Alberto Botteselle Doggenweiler</cp:lastModifiedBy>
  <dcterms:modified xsi:type="dcterms:W3CDTF">2008-10-30T16:50:27Z</dcterms:modified>
  <cp:revision>3</cp:revision>
  <dc:subject/>
  <dc:title>Libros de Diseño en Biblioteca Central</dc:title>
</cp:coreProperties>
</file>