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DA6A-2DB3-4A19-B179-E034D0B8A10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EB4D-A10E-4C92-960D-90242802FF6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llegar a la superficie dio origen a diversos ya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tiformes: vetas con alto contenido de cobre. En la superficie de forma pura o na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fíricos: cobre disperso, mezclado con materiales mineralizados y con roca estéril. Explotados gracias a las habilidades metalúrgicas. El porcentaje de cobre en estos minerales es conocido como ley de cobre: porcentaje de cobre que tiene una muestra. Ej. 1% entonces cada 100kg de roca mineralizada hay 1kg de co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082E-80FA-49A4-9301-1C4E12DD426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38A-7DBF-4D11-9878-8A007D34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09E-5764-48AD-9F5A-C5905FCA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DCF-F5F1-493F-9A6C-DA92EDF1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45F-884D-423E-A8E4-D9E7BBCD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6DB2-1E85-4668-B967-366A0056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C4C8-1281-42E6-93CA-885A0B7B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D17D-F2D3-4315-8930-B7794FC8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4373-8CB3-4871-B340-78E952C1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A096-ADF9-4004-86EC-6F4860D6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7CD5-A55F-4500-BEB7-327B477D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A6A1-F22B-438F-8583-4C1A22A2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F4D-43B7-47D4-87EB-0A96A0FE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056E-C72C-4395-B3D0-453A2609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B05E-6E8E-4E32-8D0B-C9055625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A9E1-E0B9-4A07-9089-27951046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A445-2BA7-4286-85ED-0606B83C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0D43-9BF5-4862-B82D-65A4A11B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A18-6476-4557-9B82-245B9B50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65D-0127-47FA-A514-A9A2FFA1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FBF-F448-4DCA-8AE6-49629BF5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1C1-B16E-423A-9718-276B0927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C81-678B-4557-A3E9-D92E8FE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FA1-E224-45E3-8B58-3BAA6F4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24B-BEC3-4821-A483-D9B036D4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8CA0-3321-4191-8B36-31FCCE74EB4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8245-FBEB-4AB7-A4D3-928B06BDEA8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15000" y="4071960"/>
            <a:ext cx="2749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drigo Gutiérrez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bastián Medel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logo"/>
          <p:cNvPicPr/>
          <p:nvPr/>
        </p:nvPicPr>
        <p:blipFill>
          <a:blip r:embed="rId2"/>
          <a:stretch/>
        </p:blipFill>
        <p:spPr>
          <a:xfrm>
            <a:off x="6572160" y="857160"/>
            <a:ext cx="214308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49976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Libros de Diseño en Internet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1187280" y="3789360"/>
            <a:ext cx="121608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4211640" y="3789360"/>
            <a:ext cx="1457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6050160" cy="2668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Electrical Training Courses de Sieme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ibros con información básica acerca de equipos eléctricos, como motores, proteccion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nformación acerca principios de funcionamiento, parámetros de diseño y normas asoci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focado como guía para pedir equipos a Siem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MIT Open Cours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023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terial gratituito de los cursos realizados en la Massachusett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isten algunos cursos enfocados a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luye lecturas y ejercicios realizados en los 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 teórico-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732720" y="1844640"/>
            <a:ext cx="1504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Grati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07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ueden encontrar sitios donde descargar libros compl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ttp://university.arabsbook.com/forum22/thread20744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ttp://www.giuciao.com/books/sorted.php?by=Engineering&amp;ord=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argas de “legalidad” dud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11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3132000" y="4653000"/>
            <a:ext cx="1322640" cy="188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1187280" cy="188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7308720" y="4581360"/>
            <a:ext cx="1203480" cy="19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encontr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2826000" cy="4464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80000" y="1628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ítulo: Electric power Distribution Equipment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r: Thomas Allen Sh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itorial: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: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: Ing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a: Diseño aéreo, subterráneo de líneas de distribución, uso de transformadores, regulación de voltaje y aplición de capaci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encontr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80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ítulo:Power Transformers Principles an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r: John J. Winders, J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itorial. Marcel D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: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: Ing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a: Se describen los principios de funcionamiento, conexiones existentes, fenomemos especiales, datos de placa, pruebas y manten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5867280" y="1700280"/>
          <a:ext cx="27831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700280"/>
                    <a:ext cx="27831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Buscado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280" y="1699920"/>
            <a:ext cx="62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se de datos muy amp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sultados poco enfo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18472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Buscadores Especializ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55640" y="4365720"/>
            <a:ext cx="42339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goog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3816360" cy="2008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84360" y="1628640"/>
            <a:ext cx="3382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ogle 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buscar bibliografía especializ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distintas disciplinas y fu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sis, libros, resúmenes y artículos de editoriales académicas, sociedades profesionales, universidad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Buscadores Especializ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4751280" cy="2288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042920" y="4292640"/>
            <a:ext cx="423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ooks.goog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508720" y="1700280"/>
            <a:ext cx="3382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s Goog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igual que un buscador norm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vistas preliminares de libros y en algunos casos la versión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información de donde se puede comprar el libro comp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618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se de datos de la I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iene artículos, papers, revistas y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quiere suscripción para acceder a todos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ectarse a través de los computadores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ectarse a través de SSH con una cuenta de la univers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492360" y="5373720"/>
            <a:ext cx="20383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09784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8135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gresar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ieee.org/portal/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ribir tema de interés y presionar “Sear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4869000"/>
            <a:ext cx="8135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uscar documento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rtículos están disponibles de forma completa, los libros son incluyen vistas prelimi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piar la dirección del archivo pdf que se desea 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1440" cy="33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5084280"/>
            <a:ext cx="7920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SSH con una cuenta de la universidad escrib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wget “dirección de archivo pdf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documento quedará en la cuenta de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Recursos Grati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845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isten algunas organizaciones que tienen disponibles en sus páginas documentos completos gratu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ocw.mit.edu/OcwWeb/web/courses/course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sea.siemens.com/step/download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63640" y="5516640"/>
            <a:ext cx="2752920" cy="34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292720" y="5516640"/>
            <a:ext cx="1800360" cy="28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2:26:42Z</dcterms:created>
  <dc:creator>WinuE</dc:creator>
  <dc:description/>
  <dc:language>en-US</dc:language>
  <cp:lastModifiedBy> Alberto Botteselle Doggenweiler</cp:lastModifiedBy>
  <dcterms:modified xsi:type="dcterms:W3CDTF">2008-10-08T13:50:28Z</dcterms:modified>
  <cp:revision>85</cp:revision>
  <dc:subject/>
  <dc:title>Cobre Conductor</dc:title>
</cp:coreProperties>
</file>