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5222-4E45-42CB-A732-ADCCEA9BA548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9A24-96CE-4C9E-81B8-9D0EEB70B9C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 llegar a la superficie dio origen a diversos yac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etiformes: vetas con alto contenido de cobre. En la superficie de forma pura o natu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rfíricos: cobre disperso, mezclado con materiales mineralizados y con roca estéril. Explotados gracias a las habilidades metalúrgicas. El porcentaje de cobre en estos minerales es conocido como ley de cobre: porcentaje de cobre que tiene una muestra. Ej. 1% entonces cada 100kg de roca mineralizada hay 1kg de co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24B0-B8DC-4941-996E-8B89B1954CC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5B5-75FF-4E12-AF01-FBC6C660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BD52-6DB0-4C9C-B22A-8CBEF5EB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B215-2F2D-4916-896C-62CE6DC7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352-5659-4A95-A16F-297E6046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DEF1-BBEC-4340-B18B-3C7CDD8C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86E8-54CE-4263-AB17-FDD89B85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3B4B-47B9-446E-8348-169686AD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D51B-C33E-41C5-B2C6-00ECDE44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BC58-5F92-4022-AE9A-E6B628D4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3DF9-DAFD-4A95-851B-3C1F21C9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B1BF-673B-445B-9A47-98BB38C5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4BE5-9D58-4F1F-8441-8F22FE4B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AFB1-819B-43D5-A72B-32EB6FA9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81FE-4B60-4F4C-B9DE-A7529FDC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8CB5-63FF-4857-984C-269C91DA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7401-B7D9-42C2-A42F-F9EED390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FF3C-7ADF-4858-A788-86EBEE7B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021-3CC8-4117-A9D8-0017BFC5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73B3-5855-4F37-9F9A-EA323918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5E2-8BEB-4131-910B-40FF8E79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7DB6-D9A6-4334-8808-8713F9A5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46B7-5BB7-4B8C-A376-E0765F3C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F19E-522A-4554-9206-3771A2AF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773-EC3A-47C1-8413-A83223E0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FCB2-351C-4F4B-881B-7D3A92EA04A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BB7C-4A11-41D1-A9B3-20C7D58E701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2340000" y="378936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715000" y="4071960"/>
            <a:ext cx="274968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odrigo Gutiérrez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bastián Medel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logo"/>
          <p:cNvPicPr/>
          <p:nvPr/>
        </p:nvPicPr>
        <p:blipFill>
          <a:blip r:embed="rId2"/>
          <a:stretch/>
        </p:blipFill>
        <p:spPr>
          <a:xfrm>
            <a:off x="6572160" y="857160"/>
            <a:ext cx="2143080" cy="7207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49976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33"/>
                </a:solidFill>
                <a:latin typeface="Times New Roman"/>
              </a:rPr>
              <a:t>Libros de Diseño en Internet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8" name="Footer Placeholder 7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3"/>
          <a:stretch/>
        </p:blipFill>
        <p:spPr>
          <a:xfrm>
            <a:off x="1187280" y="3789360"/>
            <a:ext cx="1216080" cy="194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/>
          <p:cNvPicPr/>
          <p:nvPr/>
        </p:nvPicPr>
        <p:blipFill>
          <a:blip r:embed="rId4"/>
          <a:stretch/>
        </p:blipFill>
        <p:spPr>
          <a:xfrm>
            <a:off x="4211640" y="3789360"/>
            <a:ext cx="14572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1763640" y="4005360"/>
            <a:ext cx="6050160" cy="26683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Electrical Training Courses de Siemen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9930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Libros con información básica acerca de equipos eléctricos, como motores, proteccione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Información acerca principios de funcionamiento, parámetros de diseño y normas asoci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Enfocado como guía para pedir equipos a Siem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MIT Open Cours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6023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aterial gratituito de los cursos realizados en la Massachusetts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isten algunos cursos enfocados a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cluye lecturas y ejercicios realizados en los 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 teórico-acadé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6732720" y="1844640"/>
            <a:ext cx="15048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Libros Grati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072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pueden encontrar sitios donde descargar libros compl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ttp://university.arabsbook.com/forum22/thread20744.htm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ttp://www.giuciao.com/books/sorted.php?by=Engineering&amp;ord=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argas de “legalidad” dud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1187280" y="4653000"/>
            <a:ext cx="1198800" cy="1871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3132000" y="4653000"/>
            <a:ext cx="1322640" cy="1882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5292720" y="4653000"/>
            <a:ext cx="1187280" cy="1884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4"/>
          <a:stretch/>
        </p:blipFill>
        <p:spPr>
          <a:xfrm>
            <a:off x="7308720" y="4581360"/>
            <a:ext cx="1203480" cy="19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Libros encontrado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2826000" cy="4464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780000" y="1628640"/>
            <a:ext cx="5040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ítulo: Electric power Distribution Equipment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tor: Thomas Allen Sh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ditorial:C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ño: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dioma: Ing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ma: Diseño aéreo, subterráneo de líneas de distribución, uso de transformadores, regulación de voltaje y aplición de capaci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Libros encontrado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809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ítulo:Power Transformers Principles and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tor: John J. Winders, J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ditorial. Marcel Dek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ño: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dioma: Ing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ma: Se describen los principios de funcionamiento, conexiones existentes, fenomemos especiales, datos de placa, pruebas y manten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5"/>
          <p:cNvGraphicFramePr/>
          <p:nvPr/>
        </p:nvGraphicFramePr>
        <p:xfrm>
          <a:off x="5867280" y="1700280"/>
          <a:ext cx="278316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700280"/>
                    <a:ext cx="278316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660033"/>
                </a:solidFill>
                <a:latin typeface="Times New Roman"/>
              </a:rPr>
              <a:t>Buscador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5280" y="1699920"/>
            <a:ext cx="6286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ase de datos muy amp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sultados poco enfo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9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2195640" y="2781360"/>
            <a:ext cx="5184720" cy="20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Buscadores Especializado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55640" y="4365720"/>
            <a:ext cx="42339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scholar.goog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"/>
          <a:stretch/>
        </p:blipFill>
        <p:spPr>
          <a:xfrm>
            <a:off x="4356000" y="2349360"/>
            <a:ext cx="3816360" cy="20084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84360" y="1628640"/>
            <a:ext cx="33829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oogle acadé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mite buscar bibliografía especializ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ye distintas disciplinas y fu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sis, libros, resúmenes y artículos de editoriales académicas, sociedades profesionales, universidad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Buscadores Especializado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4751280" cy="22888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1042920" y="4292640"/>
            <a:ext cx="423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ooks.goog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5508720" y="1700280"/>
            <a:ext cx="33829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s Goog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nciona igual que un buscador norm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ye vistas preliminares de libros y en algunos casos la versión comp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ega información de donde se puede comprar el libro compl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IEEE Explor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6186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ase de datos de la IE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tiene artículos, papers, revistas y lib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quiere suscripción para acceder a todos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ectarse a través de los computadores de la Un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ectarse a través de SSH con una cuenta de la univers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492360" y="5373720"/>
            <a:ext cx="203832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IEEE Explore - Ejemplo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8097840" cy="2952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4797000"/>
            <a:ext cx="8135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gresar 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ieee.org/portal/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cribir tema de interés y presionar “Sear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IEEE Explore - Ejemplo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4869000"/>
            <a:ext cx="813564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uscar documento de inte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rtículos están disponibles de forma completa, los libros son incluyen vistas prelimin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piar la dirección del archivo pdf que se desea 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561440" cy="33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IEEE Explore - Ejemplo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5084280"/>
            <a:ext cx="79200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SSH con una cuenta de la universidad escrib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wget “dirección de archivo pdf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documento quedará en la cuenta del usu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345440" cy="39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Recursos Grati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8454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isten algunas organizaciones que tienen disponibles en sus páginas documentos completos gratui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ttp://ocw.mit.edu/OcwWeb/web/courses/courses/index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e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ttp://www.sea.siemens.com/step/download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763640" y="5516640"/>
            <a:ext cx="2752920" cy="342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5292720" y="5516640"/>
            <a:ext cx="1800360" cy="285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22:26:42Z</dcterms:created>
  <dc:creator>WinuE</dc:creator>
  <dc:description/>
  <dc:language>en-US</dc:language>
  <cp:lastModifiedBy> Alberto Botteselle Doggenweiler</cp:lastModifiedBy>
  <dcterms:modified xsi:type="dcterms:W3CDTF">2008-10-08T13:50:28Z</dcterms:modified>
  <cp:revision>85</cp:revision>
  <dc:subject/>
  <dc:title>Cobre Conductor</dc:title>
</cp:coreProperties>
</file>