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6840" rIns="96840" tIns="48240" bIns="482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A9301-D4AD-4F94-9E20-25FEF3C9D448}" type="slidenum"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03A98-3C84-4F16-8985-C400CD436E66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Al llegar a la superficie dio origen a diversos yacimien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Vetiformes: vetas con alto contenido de cobre. En la superficie de forma pura o natur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Porfíricos: cobre disperso, mezclado con materiales mineralizados y con roca estéril. Explotados gracias a las habilidades metalúrgicas. El porcentaje de cobre en estos minerales es conocido como ley de cobre: porcentaje de cobre que tiene una muestra. Ej. 1% entonces cada 100kg de roca mineralizada hay 1kg de cob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827C3-2230-4896-9D9F-CDF2674571D8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9E8D-565E-47FE-B730-13DCC7C59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8359-8D23-4E91-A64A-8ABCE545C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4EED-7EA6-4CBB-9EAF-14EFB6100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E2B3-589C-4E8D-8D83-B157AD2CE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5182C-1090-498D-ACC3-F916A0650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EA375-DBF1-4D25-B5F5-8D9A60C0A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AE313-98C1-4970-8E0F-2FA0E9A98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F58DB-F629-4DDB-A5B1-36852D455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CE96F-F81D-414F-8AA5-BA79859FA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5039E-0458-462D-8917-8B227052F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FEAEE-9E91-4D54-A3A6-85F51BB8F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D182-18AE-4AA7-8045-03F15451C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7684B-2DA0-420B-8AF9-22787460D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C6B38-1D12-42F9-8A19-F5EC813B8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CCF00-972A-42BF-8102-CA35386A5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9CF3B-9077-4A9E-A592-A8DA6238E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D4986-2F29-4B23-8755-C0AB2756C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61E7-6D33-4C98-B98A-C94905474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BDA8-A97A-4A75-9BAC-0D450224A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6559-6608-4C94-B9ED-A3B6E9C04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1EC2-F1A2-40ED-8335-7A312DB58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2978-06ED-4A77-869A-FB656F3EA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1357-E5CF-449D-B79A-8A6B667DC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1E0E-2FA7-40FC-8204-FEDE25CAA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95a3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5a3d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95a3d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EL57C Taller de Diseño en Sistemas de Potencia 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2C5CB-EAB6-4106-8737-00D83090E8C6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95a3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5a3d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95a3d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EL57C Taller de Diseño en Sistemas de Potencia 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78EF3-78B0-4573-820E-CBF79198F03B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10" descr=""/>
          <p:cNvPicPr/>
          <p:nvPr/>
        </p:nvPicPr>
        <p:blipFill>
          <a:blip r:embed="rId1"/>
          <a:stretch/>
        </p:blipFill>
        <p:spPr>
          <a:xfrm>
            <a:off x="2340000" y="3789360"/>
            <a:ext cx="1944720" cy="194472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5715000" y="4071960"/>
            <a:ext cx="2749680" cy="124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Rodrigo Gutiérrez 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Sebastián Medel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7" descr="logo"/>
          <p:cNvPicPr/>
          <p:nvPr/>
        </p:nvPicPr>
        <p:blipFill>
          <a:blip r:embed="rId2"/>
          <a:stretch/>
        </p:blipFill>
        <p:spPr>
          <a:xfrm>
            <a:off x="6572160" y="857160"/>
            <a:ext cx="2143080" cy="72072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149976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33"/>
                </a:solidFill>
                <a:latin typeface="Times New Roman"/>
              </a:rPr>
              <a:t>Libros de Diseño en Internet</a:t>
            </a:r>
            <a:endParaRPr b="0" lang="en-US" sz="44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08" name="Footer Placeholder 7"/>
          <p:cNvSpPr/>
          <p:nvPr/>
        </p:nvSpPr>
        <p:spPr>
          <a:xfrm>
            <a:off x="33544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EL57C Taller de Diseño en Sistemas de Potencia 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9" descr=""/>
          <p:cNvPicPr/>
          <p:nvPr/>
        </p:nvPicPr>
        <p:blipFill>
          <a:blip r:embed="rId3"/>
          <a:stretch/>
        </p:blipFill>
        <p:spPr>
          <a:xfrm>
            <a:off x="1187280" y="3789360"/>
            <a:ext cx="1216080" cy="1944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3" descr=""/>
          <p:cNvPicPr/>
          <p:nvPr/>
        </p:nvPicPr>
        <p:blipFill>
          <a:blip r:embed="rId4"/>
          <a:stretch/>
        </p:blipFill>
        <p:spPr>
          <a:xfrm>
            <a:off x="4211640" y="3789360"/>
            <a:ext cx="1457280" cy="194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6" descr=""/>
          <p:cNvPicPr/>
          <p:nvPr/>
        </p:nvPicPr>
        <p:blipFill>
          <a:blip r:embed="rId1"/>
          <a:stretch/>
        </p:blipFill>
        <p:spPr>
          <a:xfrm>
            <a:off x="1763640" y="4005360"/>
            <a:ext cx="6050160" cy="266832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660033"/>
                </a:solidFill>
                <a:latin typeface="Times New Roman"/>
              </a:rPr>
              <a:t>Electrical Training Courses de Siemens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55280" y="1557000"/>
            <a:ext cx="799308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Arial"/>
              </a:rPr>
              <a:t>Libros con información básica acerca de equipos eléctricos, como motores, protecciones, etc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Arial"/>
              </a:rPr>
              <a:t>Información acerca principios de funcionamiento, parámetros de diseño y normas asociad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Arial"/>
              </a:rPr>
              <a:t>Enfocado como guía para pedir equipos a Sieme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660033"/>
                </a:solidFill>
                <a:latin typeface="Times New Roman"/>
              </a:rPr>
              <a:t>MIT Open Course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560232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Material gratituito de los cursos realizados en la Massachusetts Institute of 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Existen algunos cursos enfocados a diseñ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Incluye lecturas y ejercicios realizados en los curs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Enfoque teórico-académ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1"/>
          <a:stretch/>
        </p:blipFill>
        <p:spPr>
          <a:xfrm>
            <a:off x="6732720" y="1844640"/>
            <a:ext cx="1504800" cy="400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660033"/>
                </a:solidFill>
                <a:latin typeface="Times New Roman"/>
              </a:rPr>
              <a:t>Libros Gratis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8360" y="1599840"/>
            <a:ext cx="8207280" cy="29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Se pueden encontrar sitios donde descargar libros comple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jemp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http://university.arabsbook.com/forum22/thread20744.htm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http://www.giuciao.com/books/sorted.php?by=Engineering&amp;ord=i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Descargas de “legalidad” dudo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5" descr=""/>
          <p:cNvPicPr/>
          <p:nvPr/>
        </p:nvPicPr>
        <p:blipFill>
          <a:blip r:embed="rId1"/>
          <a:stretch/>
        </p:blipFill>
        <p:spPr>
          <a:xfrm>
            <a:off x="1187280" y="4653000"/>
            <a:ext cx="1198800" cy="18716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6" descr=""/>
          <p:cNvPicPr/>
          <p:nvPr/>
        </p:nvPicPr>
        <p:blipFill>
          <a:blip r:embed="rId2"/>
          <a:stretch/>
        </p:blipFill>
        <p:spPr>
          <a:xfrm>
            <a:off x="3132000" y="4653000"/>
            <a:ext cx="1322640" cy="18828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7" descr=""/>
          <p:cNvPicPr/>
          <p:nvPr/>
        </p:nvPicPr>
        <p:blipFill>
          <a:blip r:embed="rId3"/>
          <a:stretch/>
        </p:blipFill>
        <p:spPr>
          <a:xfrm>
            <a:off x="5292720" y="4653000"/>
            <a:ext cx="1187280" cy="18842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8" descr=""/>
          <p:cNvPicPr/>
          <p:nvPr/>
        </p:nvPicPr>
        <p:blipFill>
          <a:blip r:embed="rId4"/>
          <a:stretch/>
        </p:blipFill>
        <p:spPr>
          <a:xfrm>
            <a:off x="7308720" y="4581360"/>
            <a:ext cx="1203480" cy="191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660033"/>
                </a:solidFill>
                <a:latin typeface="Times New Roman"/>
              </a:rPr>
              <a:t>Libros encontrados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pic>
        <p:nvPicPr>
          <p:cNvPr id="152" name="Picture 4" descr=""/>
          <p:cNvPicPr/>
          <p:nvPr/>
        </p:nvPicPr>
        <p:blipFill>
          <a:blip r:embed="rId1"/>
          <a:stretch/>
        </p:blipFill>
        <p:spPr>
          <a:xfrm>
            <a:off x="826920" y="1557360"/>
            <a:ext cx="2826000" cy="4464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780000" y="1628640"/>
            <a:ext cx="50400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Título: Electric power Distribution Equipment and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Autor: Thomas Allen Shor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ditorial:C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Año: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Idioma: Ingl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Tema: Diseño aéreo, subterráneo de líneas de distribución, uso de transformadores, regulación de voltaje y aplición de capacit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660033"/>
                </a:solidFill>
                <a:latin typeface="Times New Roman"/>
              </a:rPr>
              <a:t>Libros encontrados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48099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Título:Power Transformers Principles and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Autor: John J. Winders, J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ditorial. Marcel Dek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Año: 20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Idioma: Ingl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Tema: Se describen los principios de funcionamiento, conexiones existentes, fenomemos especiales, datos de placa, pruebas y manteni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Object 5"/>
          <p:cNvGraphicFramePr/>
          <p:nvPr/>
        </p:nvGraphicFramePr>
        <p:xfrm>
          <a:off x="5867280" y="1700280"/>
          <a:ext cx="2783160" cy="453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1700280"/>
                    <a:ext cx="2783160" cy="45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660033"/>
                </a:solidFill>
                <a:latin typeface="Times New Roman"/>
              </a:rPr>
              <a:t>Buscadores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55280" y="1699920"/>
            <a:ext cx="62866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Base de datos muy ampl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Resultados poco enfocad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ooter Placeholder 9"/>
          <p:cNvSpPr/>
          <p:nvPr/>
        </p:nvSpPr>
        <p:spPr>
          <a:xfrm>
            <a:off x="3352680" y="6248520"/>
            <a:ext cx="28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EL57C Taller de Diseño en Sistemas de Potencia 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9" descr=""/>
          <p:cNvPicPr/>
          <p:nvPr/>
        </p:nvPicPr>
        <p:blipFill>
          <a:blip r:embed="rId1"/>
          <a:stretch/>
        </p:blipFill>
        <p:spPr>
          <a:xfrm>
            <a:off x="2195640" y="2781360"/>
            <a:ext cx="5184720" cy="208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660033"/>
                </a:solidFill>
                <a:latin typeface="Times New Roman"/>
              </a:rPr>
              <a:t>Buscadores Especializados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355640" y="4365720"/>
            <a:ext cx="4233960" cy="5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ttp://scholar.google.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8" descr=""/>
          <p:cNvPicPr/>
          <p:nvPr/>
        </p:nvPicPr>
        <p:blipFill>
          <a:blip r:embed="rId1"/>
          <a:stretch/>
        </p:blipFill>
        <p:spPr>
          <a:xfrm>
            <a:off x="4356000" y="2349360"/>
            <a:ext cx="3816360" cy="200844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84360" y="1628640"/>
            <a:ext cx="338292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Google académ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ermite buscar bibliografía especializad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cluye distintas disciplinas y fuent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esis, libros, resúmenes y artículos de editoriales académicas, sociedades profesionales, universidades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660033"/>
                </a:solidFill>
                <a:latin typeface="Times New Roman"/>
              </a:rPr>
              <a:t>Buscadores Especializados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pic>
        <p:nvPicPr>
          <p:cNvPr id="120" name="Picture 5" descr=""/>
          <p:cNvPicPr/>
          <p:nvPr/>
        </p:nvPicPr>
        <p:blipFill>
          <a:blip r:embed="rId1"/>
          <a:stretch/>
        </p:blipFill>
        <p:spPr>
          <a:xfrm>
            <a:off x="755640" y="2133720"/>
            <a:ext cx="4751280" cy="228888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1042920" y="4292640"/>
            <a:ext cx="42339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ttp://books.google.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9"/>
          <p:cNvSpPr/>
          <p:nvPr/>
        </p:nvSpPr>
        <p:spPr>
          <a:xfrm>
            <a:off x="5508720" y="1700280"/>
            <a:ext cx="338292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ibros Goog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unciona igual que un buscador norm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cluye vistas preliminares de libros y en algunos casos la versión comple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trega información de donde se puede comprar el libro comple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660033"/>
                </a:solidFill>
                <a:latin typeface="Times New Roman"/>
              </a:rPr>
              <a:t>IEEE Explore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99640" y="1628280"/>
            <a:ext cx="761868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Base de datos de la IE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Contiene artículos, papers, revistas y lib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Requiere suscripción para acceder a todos los conteni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onectarse a través de los computadores de la Univers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onectarse a través de SSH con una cuenta de la universida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5" descr=""/>
          <p:cNvPicPr/>
          <p:nvPr/>
        </p:nvPicPr>
        <p:blipFill>
          <a:blip r:embed="rId1"/>
          <a:stretch/>
        </p:blipFill>
        <p:spPr>
          <a:xfrm>
            <a:off x="3492360" y="5373720"/>
            <a:ext cx="2038320" cy="50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660033"/>
                </a:solidFill>
                <a:latin typeface="Times New Roman"/>
              </a:rPr>
              <a:t>IEEE Explore - Ejemplo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pic>
        <p:nvPicPr>
          <p:cNvPr id="127" name="Picture 5" descr=""/>
          <p:cNvPicPr/>
          <p:nvPr/>
        </p:nvPicPr>
        <p:blipFill>
          <a:blip r:embed="rId1"/>
          <a:stretch/>
        </p:blipFill>
        <p:spPr>
          <a:xfrm>
            <a:off x="684360" y="1628640"/>
            <a:ext cx="8097840" cy="29527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4000" y="4797000"/>
            <a:ext cx="813564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Ingresar a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ttp://www.ieee.org/portal/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scribir tema de interés y presionar “Searc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660033"/>
                </a:solidFill>
                <a:latin typeface="Times New Roman"/>
              </a:rPr>
              <a:t>IEEE Explore - Ejemplo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4000" y="4869000"/>
            <a:ext cx="8135640" cy="15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Buscar documento de inter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Los artículos están disponibles de forma completa, los libros son incluyen vistas prelimin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opiar la dirección del archivo pdf que se desea 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7" descr=""/>
          <p:cNvPicPr/>
          <p:nvPr/>
        </p:nvPicPr>
        <p:blipFill>
          <a:blip r:embed="rId1"/>
          <a:stretch/>
        </p:blipFill>
        <p:spPr>
          <a:xfrm>
            <a:off x="900000" y="1484280"/>
            <a:ext cx="7561440" cy="330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660033"/>
                </a:solidFill>
                <a:latin typeface="Times New Roman"/>
              </a:rPr>
              <a:t>IEEE Explore - Ejemplo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4360" y="5084280"/>
            <a:ext cx="792000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n SSH con una cuenta de la universidad escribi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000000"/>
                </a:solidFill>
                <a:latin typeface="Arial"/>
              </a:rPr>
              <a:t>wget “dirección de archivo pdf”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l documento quedará en la cuenta del usua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6" descr=""/>
          <p:cNvPicPr/>
          <p:nvPr/>
        </p:nvPicPr>
        <p:blipFill>
          <a:blip r:embed="rId1"/>
          <a:stretch/>
        </p:blipFill>
        <p:spPr>
          <a:xfrm>
            <a:off x="900000" y="1125360"/>
            <a:ext cx="7345440" cy="397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660033"/>
                </a:solidFill>
                <a:latin typeface="Times New Roman"/>
              </a:rPr>
              <a:t>Recursos Gratis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26560" y="1628640"/>
            <a:ext cx="784548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Existen algunas organizaciones que tienen disponibles en sus páginas documentos completos gratui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Ejemp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http://ocw.mit.edu/OcwWeb/web/courses/courses/index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Sieme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http://www.sea.siemens.com/step/downloads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"/>
          <p:cNvPicPr/>
          <p:nvPr/>
        </p:nvPicPr>
        <p:blipFill>
          <a:blip r:embed="rId1"/>
          <a:stretch/>
        </p:blipFill>
        <p:spPr>
          <a:xfrm>
            <a:off x="1763640" y="5516640"/>
            <a:ext cx="2752920" cy="342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"/>
          <p:cNvPicPr/>
          <p:nvPr/>
        </p:nvPicPr>
        <p:blipFill>
          <a:blip r:embed="rId2"/>
          <a:stretch/>
        </p:blipFill>
        <p:spPr>
          <a:xfrm>
            <a:off x="5292720" y="5516640"/>
            <a:ext cx="1800360" cy="285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4T22:26:42Z</dcterms:created>
  <dc:creator>WinuE</dc:creator>
  <dc:description/>
  <dc:language>en-US</dc:language>
  <cp:lastModifiedBy> Alberto Botteselle Doggenweiler</cp:lastModifiedBy>
  <dcterms:modified xsi:type="dcterms:W3CDTF">2008-10-08T13:50:28Z</dcterms:modified>
  <cp:revision>85</cp:revision>
  <dc:subject/>
  <dc:title>Cobre Conductor</dc:title>
</cp:coreProperties>
</file>