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F5BC-4638-4821-97B1-4F0F9FC27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3B19-BC39-47E9-ACA8-53A0FD8E0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32CE-2AEA-4D08-90B5-CDFFEC297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92B1-D62E-46C7-B401-2F8A549D5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CCCFC-8568-441D-9F41-E42C97C82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F5D2E-BA49-4572-91BC-7EC4A7AE7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05204-662B-4F78-A253-CAA809449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88ADC-C077-47D7-BEC2-326FC9DDA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F0B51-95D7-4461-BFD8-D49DE51AC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EBBB3-644E-48F8-A505-06A0C5BF5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B0E77-F6E1-4020-A81B-B2C9E262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5FA0-D479-41C9-92DF-AC10646D6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9FAB3-571D-4460-B0FC-9B957F0C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51820-EA0E-4B7F-9C58-A0F65338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EF417-0E30-417B-8388-12C58FDDA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D46DB-9CC3-4BC1-8088-D446A4F7F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46380-88A3-4FA2-880B-A4D9BEDEF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D53E-25D5-4C58-B625-0F463DADF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A66F-DC8F-4511-86E4-1CFF22B1A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DFA0-B2C6-4231-B05F-C022906A5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A870-1F44-4C60-A606-875532DFE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0BD8-D5A5-44A6-8BA8-C80BFE03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5651-EFDE-4B2D-8951-29D5AE91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4FDC-67FF-40BF-900C-2C25A795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34ED4-ED21-4EC3-8629-8AF7EEBB5D2A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D75FC-682C-4F20-8FCF-7DE0E677D839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esinasepoxi.com.ar/wp-content/01-electro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000000"/>
                </a:solidFill>
                <a:latin typeface="Arial Black"/>
              </a:rPr>
              <a:t>Resina Epóxica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419640" y="4149720"/>
            <a:ext cx="352728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egran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annia To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ermán Dubl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Black"/>
              </a:rPr>
              <a:t>Características aislantes típicos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rcRect l="36031" t="30536" r="37398" b="13368"/>
          <a:stretch/>
        </p:blipFill>
        <p:spPr>
          <a:xfrm>
            <a:off x="2987640" y="1557360"/>
            <a:ext cx="375120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Black"/>
              </a:rPr>
              <a:t>Presentación en el comercio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presentación de la Resinas Epóxicas para su comercialización viene en una amplia gama, desde líquidos de baja viscosidad hasta sólidos de alto punto de fusión y polvos.</a:t>
            </a:r>
            <a:br>
              <a:rPr sz="3200"/>
            </a:b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1544760" y="4508640"/>
            <a:ext cx="2666880" cy="19238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"/>
          <p:cNvPicPr/>
          <p:nvPr/>
        </p:nvPicPr>
        <p:blipFill>
          <a:blip r:embed="rId2"/>
          <a:stretch/>
        </p:blipFill>
        <p:spPr>
          <a:xfrm>
            <a:off x="4809960" y="4067280"/>
            <a:ext cx="2857680" cy="24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Black"/>
              </a:rPr>
              <a:t>Precauciones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on irritantes, sensibilizantes de piel y muco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 son inflam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siduos especiales/peligrosos para el medio ambi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Black"/>
              </a:rPr>
              <a:t>Distribuidores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straltec, Argent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Epolyglas, S.A. de C.V.,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Méx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cis, Inglater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i-Chem Resins, Inglater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rosslink Technology Inc.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, Canadá y U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"/>
          <p:cNvPicPr/>
          <p:nvPr/>
        </p:nvPicPr>
        <p:blipFill>
          <a:blip r:embed="rId1"/>
          <a:srcRect l="19128" t="3676" r="19293" b="46924"/>
          <a:stretch/>
        </p:blipFill>
        <p:spPr>
          <a:xfrm>
            <a:off x="539640" y="1700280"/>
            <a:ext cx="8244000" cy="396216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Black"/>
              </a:rPr>
              <a:t>Distraltec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Black"/>
              </a:rPr>
              <a:t>Fin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Pregunt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Black"/>
              </a:rPr>
              <a:t>Contenido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scrip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pie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os y aplic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stribui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Black"/>
              </a:rPr>
              <a:t>Introducción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899640" y="1773360"/>
            <a:ext cx="770436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lto desarrollo tecnológico en la industria  de aislan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aseos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íqu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ól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s Resinas Epóxicas (sólidos) poseen un sinfín de aplicac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Black"/>
              </a:rPr>
              <a:t>Descripción Resinas Epóxicas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un polímero termoes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eneralmente producto de una reacción entre bisfenol-a y la epiclorohidr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rado a temperatura ambiente (termorígido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Black"/>
              </a:rPr>
              <a:t>Propiedades 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6920" y="1428480"/>
            <a:ext cx="763272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uen aislamiento eléctr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uena resistencia mecán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sisten la hume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sisten el ataque de fluidos corrosiv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sisten temperaturas elev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xcelente resistencia quím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ca contracción al cur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xcelentes propiedades adhesivas.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Black"/>
              </a:rPr>
              <a:t>Usos y Aplicaciones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62864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inturas y acab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dhes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teriales compue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dustria aérea y náu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éctrica y electró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01-electro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72360" y="2421000"/>
            <a:ext cx="2016000" cy="1512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3"/>
          <a:srcRect l="37200" t="31511" r="54533" b="49786"/>
          <a:stretch/>
        </p:blipFill>
        <p:spPr>
          <a:xfrm>
            <a:off x="971640" y="4724280"/>
            <a:ext cx="1325520" cy="1800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"/>
          <p:cNvPicPr/>
          <p:nvPr/>
        </p:nvPicPr>
        <p:blipFill>
          <a:blip r:embed="rId4"/>
          <a:srcRect l="28945" t="31511" r="63376" b="49786"/>
          <a:stretch/>
        </p:blipFill>
        <p:spPr>
          <a:xfrm>
            <a:off x="5148360" y="4724280"/>
            <a:ext cx="1231920" cy="1800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"/>
          <p:cNvPicPr/>
          <p:nvPr/>
        </p:nvPicPr>
        <p:blipFill>
          <a:blip r:embed="rId5"/>
          <a:srcRect l="20377" t="31491" r="71356" b="49806"/>
          <a:stretch/>
        </p:blipFill>
        <p:spPr>
          <a:xfrm>
            <a:off x="6877080" y="4724280"/>
            <a:ext cx="1325520" cy="1800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"/>
          <p:cNvPicPr/>
          <p:nvPr/>
        </p:nvPicPr>
        <p:blipFill>
          <a:blip r:embed="rId6"/>
          <a:srcRect l="0" t="0" r="11735" b="1976"/>
          <a:stretch/>
        </p:blipFill>
        <p:spPr>
          <a:xfrm>
            <a:off x="2627280" y="4797360"/>
            <a:ext cx="216072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Black"/>
              </a:rPr>
              <a:t>Aplicaciones eléctricas y electrónicas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26920" y="1933200"/>
            <a:ext cx="5554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abricación de soportes para barras y tableros, aisladores internos, conmutad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capsulado de transformadores de tensión o corri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usan en muchos componentes, para proteger de cortocircuitos, polvo, humeda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trafo%20seco%20resina"/>
          <p:cNvPicPr/>
          <p:nvPr/>
        </p:nvPicPr>
        <p:blipFill>
          <a:blip r:embed="rId1"/>
          <a:stretch/>
        </p:blipFill>
        <p:spPr>
          <a:xfrm>
            <a:off x="6588000" y="1989000"/>
            <a:ext cx="2076480" cy="1971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"/>
          <p:cNvPicPr/>
          <p:nvPr/>
        </p:nvPicPr>
        <p:blipFill>
          <a:blip r:embed="rId2"/>
          <a:stretch/>
        </p:blipFill>
        <p:spPr>
          <a:xfrm>
            <a:off x="6588000" y="4581360"/>
            <a:ext cx="2016360" cy="15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Black"/>
              </a:rPr>
              <a:t>Ejemplos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26560" y="1844640"/>
            <a:ext cx="8007480" cy="12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sina Epóxica MPT-M 3: Para empalmes eléctricos y encapsulado de electro-ima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rcRect l="40769" t="44293" r="18491" b="18295"/>
          <a:stretch/>
        </p:blipFill>
        <p:spPr>
          <a:xfrm>
            <a:off x="1619280" y="2924280"/>
            <a:ext cx="6192720" cy="341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Black"/>
              </a:rPr>
              <a:t>Ejemplos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Resina Epóxica MPT 9011: Para embobinado de mot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"/>
          <p:cNvPicPr/>
          <p:nvPr/>
        </p:nvPicPr>
        <p:blipFill>
          <a:blip r:embed="rId1"/>
          <a:stretch/>
        </p:blipFill>
        <p:spPr>
          <a:xfrm>
            <a:off x="1979640" y="3141720"/>
            <a:ext cx="5191200" cy="2819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1T22:21:39Z</dcterms:created>
  <dc:creator>WinuE</dc:creator>
  <dc:description/>
  <dc:language>en-US</dc:language>
  <cp:lastModifiedBy> Alberto Botteselle Doggenweiler</cp:lastModifiedBy>
  <dcterms:modified xsi:type="dcterms:W3CDTF">2008-09-25T16:45:37Z</dcterms:modified>
  <cp:revision>11</cp:revision>
  <dc:subject/>
  <dc:title>Diapositiva 1</dc:title>
</cp:coreProperties>
</file>