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AA66-35C5-4016-AE10-4C977AD6B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43D4-8075-48CF-BB44-DB679FA4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FE05-19DF-48C7-89CC-AB471EA9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6857-FC78-476B-A1D2-D51101FE8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8D04-E962-4D53-9FE8-D482202B3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BA10-885A-4CCC-A3C0-B550F208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980E-8C62-40ED-91A9-F8B37CD3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8486-CEE1-4C76-822E-1F231DE1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880D-D44A-4AA5-9325-E723CE00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8B3C-B3A1-4FB5-B5A5-A2A6E030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0925-A9A1-4AF0-8175-2576ADD0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F502-990B-4DE3-9B03-D90A55B0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DAAE-4089-4C24-93F0-17CE36E3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A559-E169-43CC-9876-D06A75E8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044D-1542-4BD6-8F06-1E0D1BDD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5D6A-5CE4-4B05-B6E5-BE42F41F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54D2-D162-4550-95DA-48FFF847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7DDC-6702-4194-A1EB-0A01A8AB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E3CF-AEC5-415D-9D20-97F3C36E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860F-4588-4599-B7D7-D140EA6E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E2B0-6848-416E-AE7D-D306C90C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57AB-48D0-49AB-96E2-FCE8E64F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B72B-184A-42B1-BC6B-D95FBEF0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B1A4-DA74-4CE7-90BC-0D97125F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CA31-9C60-4566-AC59-82AD4787C7B0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1F4C-6002-437D-9C9E-9DD0AEC4750C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esinasepoxi.com.ar/wp-content/01-electro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Arial Black"/>
              </a:rPr>
              <a:t>Resina Epóxica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19640" y="4149720"/>
            <a:ext cx="352728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gra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nnia To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rmán Dubl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Características aislantes típico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rcRect l="36031" t="30536" r="37398" b="13368"/>
          <a:stretch/>
        </p:blipFill>
        <p:spPr>
          <a:xfrm>
            <a:off x="2987640" y="1557360"/>
            <a:ext cx="37512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Presentación en el comercio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presentación de la Resinas Epóxicas para su comercialización viene en una amplia gama, desde líquidos de baja viscosidad hasta sólidos de alto punto de fusión y polvos.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544760" y="4508640"/>
            <a:ext cx="2666880" cy="1923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4809960" y="4067280"/>
            <a:ext cx="2857680" cy="24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Precaucione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n irritantes, sensibilizantes de piel y muco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son inflam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siduos especiales/peligrosos para el medio ambi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Distribuidore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straltec, Argent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polyglas, S.A. de C.V.,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éx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cis, Inglater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i-Chem Resins, Inglater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rosslink Technology Inc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Canadá y U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rcRect l="19128" t="3676" r="19293" b="46924"/>
          <a:stretch/>
        </p:blipFill>
        <p:spPr>
          <a:xfrm>
            <a:off x="539640" y="1700280"/>
            <a:ext cx="8244000" cy="39621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Distraltec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Fin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regun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Contenido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scrip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pie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s y apli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stribui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Introducción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99640" y="1773360"/>
            <a:ext cx="770436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to desarrollo tecnológico en la industria  de aisla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eos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íqu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ól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Resinas Epóxicas (sólidos) poseen un sinfín de aplic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Descripción Resinas Epóxica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un polímero termoes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neralmente producto de una reacción entre bisfenol-a y la epiclorohidr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rado a temperatura ambiente (termorígid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Propiedades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428480"/>
            <a:ext cx="76327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uen aislamiento eléctr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uena resistencia mecán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isten la hume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isten el ataque de fluidos corros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isten temperaturas elev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celente resistencia quím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ca contracción al cu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celentes propiedades adhesivas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Usos y Aplicacione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628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inturas y acab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hes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teriales com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dustria aérea y náu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éctrica y electró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01-electr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242100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3"/>
          <a:srcRect l="37200" t="31511" r="54533" b="49786"/>
          <a:stretch/>
        </p:blipFill>
        <p:spPr>
          <a:xfrm>
            <a:off x="971640" y="4724280"/>
            <a:ext cx="1325520" cy="180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4"/>
          <a:srcRect l="28945" t="31511" r="63376" b="49786"/>
          <a:stretch/>
        </p:blipFill>
        <p:spPr>
          <a:xfrm>
            <a:off x="5148360" y="4724280"/>
            <a:ext cx="1231920" cy="1800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"/>
          <p:cNvPicPr/>
          <p:nvPr/>
        </p:nvPicPr>
        <p:blipFill>
          <a:blip r:embed="rId5"/>
          <a:srcRect l="20377" t="31491" r="71356" b="49806"/>
          <a:stretch/>
        </p:blipFill>
        <p:spPr>
          <a:xfrm>
            <a:off x="6877080" y="4724280"/>
            <a:ext cx="1325520" cy="180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"/>
          <p:cNvPicPr/>
          <p:nvPr/>
        </p:nvPicPr>
        <p:blipFill>
          <a:blip r:embed="rId6"/>
          <a:srcRect l="0" t="0" r="11735" b="1976"/>
          <a:stretch/>
        </p:blipFill>
        <p:spPr>
          <a:xfrm>
            <a:off x="2627280" y="4797360"/>
            <a:ext cx="216072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Aplicaciones eléctricas y electrónica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920" y="1933200"/>
            <a:ext cx="5554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bricación de soportes para barras y tableros, aisladores internos, conmuta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capsulado de transformadores de tensión o corr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usan en muchos componentes, para proteger de cortocircuitos, polvo, humeda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trafo%20seco%20resina"/>
          <p:cNvPicPr/>
          <p:nvPr/>
        </p:nvPicPr>
        <p:blipFill>
          <a:blip r:embed="rId1"/>
          <a:stretch/>
        </p:blipFill>
        <p:spPr>
          <a:xfrm>
            <a:off x="6588000" y="1989000"/>
            <a:ext cx="2076480" cy="1971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6588000" y="4581360"/>
            <a:ext cx="201636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Ejemplo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800748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sina Epóxica MPT-M 3: Para empalmes eléctricos y encapsulado de electro-im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40769" t="44293" r="18491" b="18295"/>
          <a:stretch/>
        </p:blipFill>
        <p:spPr>
          <a:xfrm>
            <a:off x="1619280" y="2924280"/>
            <a:ext cx="6192720" cy="34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Ejemplo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sina Epóxica MPT 9011: Para embobinado de mot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1979640" y="3141720"/>
            <a:ext cx="51912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22:21:39Z</dcterms:created>
  <dc:creator>WinuE</dc:creator>
  <dc:description/>
  <dc:language>en-US</dc:language>
  <cp:lastModifiedBy> Alberto Botteselle Doggenweiler</cp:lastModifiedBy>
  <dcterms:modified xsi:type="dcterms:W3CDTF">2008-09-25T16:45:37Z</dcterms:modified>
  <cp:revision>11</cp:revision>
  <dc:subject/>
  <dc:title>Diapositiva 1</dc:title>
</cp:coreProperties>
</file>