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7788-CCCA-40FC-B0EC-72972BC37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C53F-FE0A-49C0-8680-6AD6265E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EB0C-272B-494B-8B26-ED434CB3B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658D-AFDC-4B22-BEEB-A6E1E3964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5E96-BD2C-4EDD-B98D-442977BC5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90C57-21F6-44C8-80EE-9E4F1C42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E5649-852D-4774-8388-ACDBD33C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13BB-ED99-43F7-B9A2-BEA16E92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3B36-DC06-4227-B331-CBB7B998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6F5A-4191-48D7-ACB0-801BE94F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C01F-B184-437F-8EF4-D81B7479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411F-98F6-4C19-AA24-48E4642D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48B9-639C-4034-991C-97E4BA1E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A717-006C-417C-A71B-5D675CAD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5522-A198-4CDA-A069-4DCF5A04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6A71-1A6E-4E4C-88A4-4FE03653B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1C04D-99A3-4DBB-B834-813C6E7E2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F42F-AD28-41E7-85DB-7A17C4B1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7613-F5FC-42A1-9D8D-F6E71531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6A74-4BCA-4BC9-9459-8B90B5F3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224C-A7E2-476C-A75A-8DEB1D39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4690-7289-479D-9F8F-9FD31283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F41F-486F-49F9-9D1A-F13C34C3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622E-DD08-435C-BE29-77EB5C70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BA82-BC89-49F7-A16A-A92FD9B5DB88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67B8-972C-4FEE-9487-03BA5B52B4B0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esinasepoxi.com.ar/wp-content/01-electro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0000"/>
                </a:solidFill>
                <a:latin typeface="Arial Black"/>
              </a:rPr>
              <a:t>Resina Epóxica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19640" y="4149720"/>
            <a:ext cx="352728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gran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annia To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ermán Dubl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Características aislantes típico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rcRect l="36031" t="30536" r="37398" b="13368"/>
          <a:stretch/>
        </p:blipFill>
        <p:spPr>
          <a:xfrm>
            <a:off x="2987640" y="1557360"/>
            <a:ext cx="37512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Presentación en el comercio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presentación de la Resinas Epóxicas para su comercialización viene en una amplia gama, desde líquidos de baja viscosidad hasta sólidos de alto punto de fusión y polvos.</a:t>
            </a: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1544760" y="4508640"/>
            <a:ext cx="2666880" cy="1923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2"/>
          <a:stretch/>
        </p:blipFill>
        <p:spPr>
          <a:xfrm>
            <a:off x="4809960" y="4067280"/>
            <a:ext cx="2857680" cy="24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Precaucione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n irritantes, sensibilizantes de piel y muco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son inflam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siduos especiales/peligrosos para el medio ambi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Distribuidore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straltec, Argent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Epolyglas, S.A. de C.V.,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Méx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cis, Inglater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i-Chem Resins, Inglater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rosslink Technology Inc.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 Canadá y U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"/>
          <p:cNvPicPr/>
          <p:nvPr/>
        </p:nvPicPr>
        <p:blipFill>
          <a:blip r:embed="rId1"/>
          <a:srcRect l="19128" t="3676" r="19293" b="46924"/>
          <a:stretch/>
        </p:blipFill>
        <p:spPr>
          <a:xfrm>
            <a:off x="539640" y="1700280"/>
            <a:ext cx="8244000" cy="39621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Distraltec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Fin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regunt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Contenido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scrip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pie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s y aplic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stribui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Introducción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99640" y="1773360"/>
            <a:ext cx="770436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to desarrollo tecnológico en la industria  de aislan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aseos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íqu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ól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s Resinas Epóxicas (sólidos) poseen un sinfín de aplica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Descripción Resinas Epóxica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un polímero termoes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neralmente producto de una reacción entre bisfenol-a y la epiclorohidr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rado a temperatura ambiente (termorígid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Propiedades 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920" y="1428480"/>
            <a:ext cx="76327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uen aislamiento eléctr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uena resistencia mecán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sisten la hume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sisten el ataque de fluidos corros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sisten temperaturas elev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xcelente resistencia quím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ca contracción al cur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xcelentes propiedades adhesivas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Usos y Aplicacione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62864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inturas y acab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dhes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teriales compue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dustria aérea y náu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éctrica y electró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01-electr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2421000"/>
            <a:ext cx="2016000" cy="1512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3"/>
          <a:srcRect l="37200" t="31511" r="54533" b="49786"/>
          <a:stretch/>
        </p:blipFill>
        <p:spPr>
          <a:xfrm>
            <a:off x="971640" y="4724280"/>
            <a:ext cx="1325520" cy="1800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"/>
          <p:cNvPicPr/>
          <p:nvPr/>
        </p:nvPicPr>
        <p:blipFill>
          <a:blip r:embed="rId4"/>
          <a:srcRect l="28945" t="31511" r="63376" b="49786"/>
          <a:stretch/>
        </p:blipFill>
        <p:spPr>
          <a:xfrm>
            <a:off x="5148360" y="4724280"/>
            <a:ext cx="1231920" cy="1800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"/>
          <p:cNvPicPr/>
          <p:nvPr/>
        </p:nvPicPr>
        <p:blipFill>
          <a:blip r:embed="rId5"/>
          <a:srcRect l="20377" t="31491" r="71356" b="49806"/>
          <a:stretch/>
        </p:blipFill>
        <p:spPr>
          <a:xfrm>
            <a:off x="6877080" y="4724280"/>
            <a:ext cx="1325520" cy="1800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"/>
          <p:cNvPicPr/>
          <p:nvPr/>
        </p:nvPicPr>
        <p:blipFill>
          <a:blip r:embed="rId6"/>
          <a:srcRect l="0" t="0" r="11735" b="1976"/>
          <a:stretch/>
        </p:blipFill>
        <p:spPr>
          <a:xfrm>
            <a:off x="2627280" y="4797360"/>
            <a:ext cx="216072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Aplicaciones eléctricas y electrónica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6920" y="1933200"/>
            <a:ext cx="5554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abricación de soportes para barras y tableros, aisladores internos, conmuta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capsulado de transformadores de tensión o corr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usan en muchos componentes, para proteger de cortocircuitos, polvo, humeda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trafo%20seco%20resina"/>
          <p:cNvPicPr/>
          <p:nvPr/>
        </p:nvPicPr>
        <p:blipFill>
          <a:blip r:embed="rId1"/>
          <a:stretch/>
        </p:blipFill>
        <p:spPr>
          <a:xfrm>
            <a:off x="6588000" y="1989000"/>
            <a:ext cx="2076480" cy="1971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2"/>
          <a:stretch/>
        </p:blipFill>
        <p:spPr>
          <a:xfrm>
            <a:off x="6588000" y="4581360"/>
            <a:ext cx="2016360" cy="15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Ejemplo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26560" y="1844640"/>
            <a:ext cx="800748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sina Epóxica MPT-M 3: Para empalmes eléctricos y encapsulado de electro-ima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rcRect l="40769" t="44293" r="18491" b="18295"/>
          <a:stretch/>
        </p:blipFill>
        <p:spPr>
          <a:xfrm>
            <a:off x="1619280" y="2924280"/>
            <a:ext cx="6192720" cy="341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Ejemplo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sina Epóxica MPT 9011: Para embobinado de mot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1"/>
          <a:stretch/>
        </p:blipFill>
        <p:spPr>
          <a:xfrm>
            <a:off x="1979640" y="3141720"/>
            <a:ext cx="5191200" cy="2819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22:21:39Z</dcterms:created>
  <dc:creator>WinuE</dc:creator>
  <dc:description/>
  <dc:language>en-US</dc:language>
  <cp:lastModifiedBy> Alberto Botteselle Doggenweiler</cp:lastModifiedBy>
  <dcterms:modified xsi:type="dcterms:W3CDTF">2008-09-25T16:45:37Z</dcterms:modified>
  <cp:revision>11</cp:revision>
  <dc:subject/>
  <dc:title>Diapositiva 1</dc:title>
</cp:coreProperties>
</file>