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43B6-EA35-4C76-A6B6-7E8EDBAA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7266-041E-4EB1-83B4-CF920E12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7BE-E5FE-4CF0-8D15-B676A7DC7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682-5640-497E-A279-C620DD0F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E3AC-0645-49CB-88A3-8C7C69A0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4ADD-5BAD-4E96-83D0-1D6A73AE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0BF9-60F9-4694-A785-ECBCFE29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6CBA-0652-4CCA-AC7D-2C301552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6ECA-79BD-431E-9B8D-F635114F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7611-47CB-4397-AF45-0D9688A5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34B5-22AD-46E9-912A-B111950C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DC0D-A4E2-482E-82E8-7AA5364F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25EE-99A4-48B1-A0BA-DD8072EF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791F-9EA4-4608-87F8-E8232EE6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2A48-8FBC-43AD-96EF-1636C39A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79E7-06DA-4353-AB23-0FF6EAA0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DEE0-B1A6-47FB-A27F-FD3E7B41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3961-A59A-4EE3-97B1-972196F8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0363-490F-4F7F-AC32-42C44605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37F-C8ED-4DF5-A177-95DF5452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799-E17B-423E-8F06-6443DD94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735D-74E0-4A47-853D-06703ACE5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4A9C-1184-4E25-B328-5F010243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65A-8924-44D2-9026-8827448E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589F-F0C9-4CBB-AB20-DBBA5E7FB8FD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14C0-1D88-4B24-9E13-B477C61BA7A0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esinasepoxi.com.ar/wp-content/01-electro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Arial Black"/>
              </a:rPr>
              <a:t>Resina Epóxica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19640" y="4149720"/>
            <a:ext cx="35272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gr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nnia T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rmán Dub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Características aislantes típico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rcRect l="36031" t="30536" r="37398" b="13368"/>
          <a:stretch/>
        </p:blipFill>
        <p:spPr>
          <a:xfrm>
            <a:off x="2987640" y="1557360"/>
            <a:ext cx="37512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Presentación en el comercio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resentación de la Resinas Epóxicas para su comercialización viene en una amplia gama, desde líquidos de baja viscosidad hasta sólidos de alto punto de fusión y polvos.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544760" y="4508640"/>
            <a:ext cx="2666880" cy="1923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4809960" y="4067280"/>
            <a:ext cx="285768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Precaucion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 irritantes, sensibilizantes de piel y muc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son infla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iduos especiales/peligrosos para el medio amb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istribuidor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traltec, Argent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polyglas, S.A. de C.V.,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é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cis, Inglat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i-Chem Resins, Inglat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rosslink Technology Inc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Canadá y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rcRect l="19128" t="3676" r="19293" b="46924"/>
          <a:stretch/>
        </p:blipFill>
        <p:spPr>
          <a:xfrm>
            <a:off x="539640" y="1700280"/>
            <a:ext cx="8244000" cy="3962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istraltec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Fi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re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Contenido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cri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s y a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tribui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Introducció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99640" y="1773360"/>
            <a:ext cx="7704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to desarrollo tecnológico en la industria  de aisl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eos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íqu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ól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Resinas Epóxicas (sólidos) poseen un sinfín de aplic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escripción Resinas Epóxica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 polímero termoes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lmente producto de una reacción entre bisfenol-a y la epiclorohidr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rado a temperatura ambiente (termorígid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Propiedades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428480"/>
            <a:ext cx="7632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uen aislamiento eléctr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uena resistencia mecá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isten la hume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isten el ataque de fluidos corros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isten temperaturas elev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celente resistencia quí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ca contracción al cu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celentes propiedades adhesivas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Usos y Aplicacion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inturas y acab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he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es co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dustria aérea y náu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éctrica y electró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1-electr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3"/>
          <a:srcRect l="37200" t="31511" r="54533" b="49786"/>
          <a:stretch/>
        </p:blipFill>
        <p:spPr>
          <a:xfrm>
            <a:off x="971640" y="4724280"/>
            <a:ext cx="1325520" cy="180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4"/>
          <a:srcRect l="28945" t="31511" r="63376" b="49786"/>
          <a:stretch/>
        </p:blipFill>
        <p:spPr>
          <a:xfrm>
            <a:off x="5148360" y="4724280"/>
            <a:ext cx="1231920" cy="1800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5"/>
          <a:srcRect l="20377" t="31491" r="71356" b="49806"/>
          <a:stretch/>
        </p:blipFill>
        <p:spPr>
          <a:xfrm>
            <a:off x="6877080" y="4724280"/>
            <a:ext cx="132552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6"/>
          <a:srcRect l="0" t="0" r="11735" b="1976"/>
          <a:stretch/>
        </p:blipFill>
        <p:spPr>
          <a:xfrm>
            <a:off x="2627280" y="4797360"/>
            <a:ext cx="216072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Aplicaciones eléctricas y electrónica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1933200"/>
            <a:ext cx="5554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bricación de soportes para barras y tableros, aisladores internos, conmuta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capsulado de transformadores de tensión o corr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usan en muchos componentes, para proteger de cortocircuitos, polvo, humeda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trafo%20seco%20resina"/>
          <p:cNvPicPr/>
          <p:nvPr/>
        </p:nvPicPr>
        <p:blipFill>
          <a:blip r:embed="rId1"/>
          <a:stretch/>
        </p:blipFill>
        <p:spPr>
          <a:xfrm>
            <a:off x="6588000" y="1989000"/>
            <a:ext cx="2076480" cy="197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6588000" y="4581360"/>
            <a:ext cx="201636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Ejemplo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800748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sina Epóxica MPT-M 3: Para empalmes eléctricos y encapsulado de electro-im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40769" t="44293" r="18491" b="18295"/>
          <a:stretch/>
        </p:blipFill>
        <p:spPr>
          <a:xfrm>
            <a:off x="1619280" y="2924280"/>
            <a:ext cx="6192720" cy="34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Ejemplo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sina Epóxica MPT 9011: Para embobinado de mot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51912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22:21:39Z</dcterms:created>
  <dc:creator>WinuE</dc:creator>
  <dc:description/>
  <dc:language>en-US</dc:language>
  <cp:lastModifiedBy> Alberto Botteselle Doggenweiler</cp:lastModifiedBy>
  <dcterms:modified xsi:type="dcterms:W3CDTF">2008-09-25T16:45:37Z</dcterms:modified>
  <cp:revision>11</cp:revision>
  <dc:subject/>
  <dc:title>Diapositiva 1</dc:title>
</cp:coreProperties>
</file>