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01E67-6CD5-4B3D-B087-18ABE37BA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3930F-0B8E-4F07-AE1A-9540F5253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2840E-4D27-4391-8EB0-EC791AFFA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03A18-AD8A-4E4D-A36F-E4CCA8152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9DDED-136C-4E35-874C-A97962CF3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1A75F-9790-4CF9-8CDD-0A80F5BAE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78DDB-EE0D-40CE-BF27-282A9A22C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29143-C2A8-4E03-9A8B-ACC8CF3E1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7AFAD-FBDD-4202-B76E-AE9101E11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47662-D231-45FC-B1AA-D1FD95A07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4A2F8-5103-4B55-AEFA-240F2AAA5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39954-BB59-486F-A004-4C6A0F570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50AFB-4AC0-4AA4-9F60-386B0C56C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D537E-73D9-49F8-959F-FDE217B89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FDECA-8139-456E-92DE-5475BC368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23030-37D9-4263-9FD5-57306AAD7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53ABF-3CE9-41AD-BB32-1726AA9A6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DA7C2-7692-430C-82B5-E8239C4C3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A32B8-81F3-4C6A-B790-2B54F2408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5016B-4600-4D3F-91B3-3B86F090A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662B0-169E-4FA8-9B58-35992A89A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586A2-C534-4115-A59F-8A48218BE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06CCE-1EA3-4A05-AD03-206A2408A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C975D-8E9C-426B-8863-63F97395F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d6edee">
                    <a:alpha val="0"/>
                  </a:srgbClr>
                </a:gs>
                <a:gs pos="100000">
                  <a:srgbClr val="afc2c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dbeff0"/>
                </a:gs>
                <a:gs pos="100000">
                  <a:srgbClr val="d6ede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dbeff0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d6edee">
                    <a:alpha val="0"/>
                  </a:srgbClr>
                </a:gs>
                <a:gs pos="100000">
                  <a:srgbClr val="afc2c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dbeff0"/>
                </a:gs>
                <a:gs pos="100000">
                  <a:srgbClr val="d6edee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B13C1-E878-419F-9DBB-81F83543F89B}" type="slidenum">
              <a:rPr b="0" lang="es-ES_trad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d6edee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d6edee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d6edee">
                    <a:alpha val="0"/>
                  </a:srgbClr>
                </a:gs>
                <a:gs pos="100000">
                  <a:srgbClr val="afc2c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d6edee">
                    <a:alpha val="0"/>
                  </a:srgbClr>
                </a:gs>
                <a:gs pos="100000">
                  <a:srgbClr val="afc2c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dbeff0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dbeff0"/>
                </a:gs>
                <a:gs pos="100000">
                  <a:srgbClr val="d6ede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eaaf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EF7A3-6BF0-46AD-A183-199A1F6DB119}" type="slidenum">
              <a:rPr b="0" lang="es-ES_trad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resinasepoxi.com.ar/wp-content/01-electro.JPG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177300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5400" spc="-1" strike="noStrike">
                <a:solidFill>
                  <a:srgbClr val="000000"/>
                </a:solidFill>
                <a:latin typeface="Arial Black"/>
              </a:rPr>
              <a:t>Resina Epóxica</a:t>
            </a:r>
            <a:endParaRPr b="1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419640" y="4149720"/>
            <a:ext cx="3527280" cy="15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ntegrant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Vannia To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Germán Dubl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Arial Black"/>
              </a:rPr>
              <a:t>Características aislantes típicos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6" name="Picture 4" descr=""/>
          <p:cNvPicPr/>
          <p:nvPr/>
        </p:nvPicPr>
        <p:blipFill>
          <a:blip r:embed="rId1"/>
          <a:srcRect l="36031" t="30536" r="37398" b="13368"/>
          <a:stretch/>
        </p:blipFill>
        <p:spPr>
          <a:xfrm>
            <a:off x="2987640" y="1557360"/>
            <a:ext cx="3751200" cy="47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Arial Black"/>
              </a:rPr>
              <a:t>Presentación en el comercio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a presentación de la Resinas Epóxicas para su comercialización viene en una amplia gama, desde líquidos de baja viscosidad hasta sólidos de alto punto de fusión y polvos.</a:t>
            </a:r>
            <a:br>
              <a:rPr sz="3200"/>
            </a:b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4" descr=""/>
          <p:cNvPicPr/>
          <p:nvPr/>
        </p:nvPicPr>
        <p:blipFill>
          <a:blip r:embed="rId1"/>
          <a:stretch/>
        </p:blipFill>
        <p:spPr>
          <a:xfrm>
            <a:off x="1544760" y="4508640"/>
            <a:ext cx="2666880" cy="19238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5" descr=""/>
          <p:cNvPicPr/>
          <p:nvPr/>
        </p:nvPicPr>
        <p:blipFill>
          <a:blip r:embed="rId2"/>
          <a:stretch/>
        </p:blipFill>
        <p:spPr>
          <a:xfrm>
            <a:off x="4809960" y="4067280"/>
            <a:ext cx="2857680" cy="245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Arial Black"/>
              </a:rPr>
              <a:t>Precauciones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on irritantes, sensibilizantes de piel y mucos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No son inflam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Residuos especiales/peligrosos para el medio ambien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Arial Black"/>
              </a:rPr>
              <a:t>Distribuidores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Distraltec, Argentin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Epolyglas, S.A. de C.V.,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Méxic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cis, Inglaterr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li-Chem Resins, Inglaterr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Crosslink Technology Inc.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, Canadá y US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4" descr=""/>
          <p:cNvPicPr/>
          <p:nvPr/>
        </p:nvPicPr>
        <p:blipFill>
          <a:blip r:embed="rId1"/>
          <a:srcRect l="19128" t="3676" r="19293" b="46924"/>
          <a:stretch/>
        </p:blipFill>
        <p:spPr>
          <a:xfrm>
            <a:off x="539640" y="1700280"/>
            <a:ext cx="8244000" cy="396216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Arial Black"/>
              </a:rPr>
              <a:t>Distraltec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Arial Black"/>
              </a:rPr>
              <a:t>Fin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¿Pregunta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Arial Black"/>
              </a:rPr>
              <a:t>Contenido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Descrip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ropieda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Usos y aplicac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Distribuido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9640" y="549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Arial Black"/>
              </a:rPr>
              <a:t>Introducción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899640" y="1773360"/>
            <a:ext cx="7704360" cy="37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lto desarrollo tecnológico en la industria  de aislant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Gaseoso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íqui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óli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as Resinas Epóxicas (sólidos) poseen un sinfín de aplicacion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Arial Black"/>
              </a:rPr>
              <a:t>Descripción Resinas Epóxicas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s un polímero termoest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Generalmente producto de una reacción entre bisfenol-a y la epiclorohidrin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urado a temperatura ambiente (termorígido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Arial Black"/>
              </a:rPr>
              <a:t>Propiedades 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26920" y="1428480"/>
            <a:ext cx="763272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Buen aislamiento eléctric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Buena resistencia mecánic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Resisten la humeda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Resisten el ataque de fluidos corrosiv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Resisten temperaturas elevad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xcelente resistencia químic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Poca contracción al cur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xcelentes propiedades adhesivas.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Arial Black"/>
              </a:rPr>
              <a:t>Usos y Aplicaciones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62864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inturas y acaba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dhesiv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Materiales compues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ndustria aérea y náut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léctrica y electrón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4" descr="01-electro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372360" y="2421000"/>
            <a:ext cx="2016000" cy="15127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5" descr=""/>
          <p:cNvPicPr/>
          <p:nvPr/>
        </p:nvPicPr>
        <p:blipFill>
          <a:blip r:embed="rId3"/>
          <a:srcRect l="37200" t="31511" r="54533" b="49786"/>
          <a:stretch/>
        </p:blipFill>
        <p:spPr>
          <a:xfrm>
            <a:off x="971640" y="4724280"/>
            <a:ext cx="1325520" cy="18003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8" descr=""/>
          <p:cNvPicPr/>
          <p:nvPr/>
        </p:nvPicPr>
        <p:blipFill>
          <a:blip r:embed="rId4"/>
          <a:srcRect l="28945" t="31511" r="63376" b="49786"/>
          <a:stretch/>
        </p:blipFill>
        <p:spPr>
          <a:xfrm>
            <a:off x="5148360" y="4724280"/>
            <a:ext cx="1231920" cy="18003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0" descr=""/>
          <p:cNvPicPr/>
          <p:nvPr/>
        </p:nvPicPr>
        <p:blipFill>
          <a:blip r:embed="rId5"/>
          <a:srcRect l="20377" t="31491" r="71356" b="49806"/>
          <a:stretch/>
        </p:blipFill>
        <p:spPr>
          <a:xfrm>
            <a:off x="6877080" y="4724280"/>
            <a:ext cx="1325520" cy="18003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2" descr=""/>
          <p:cNvPicPr/>
          <p:nvPr/>
        </p:nvPicPr>
        <p:blipFill>
          <a:blip r:embed="rId6"/>
          <a:srcRect l="0" t="0" r="11735" b="1976"/>
          <a:stretch/>
        </p:blipFill>
        <p:spPr>
          <a:xfrm>
            <a:off x="2627280" y="4797360"/>
            <a:ext cx="2160720" cy="158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Arial Black"/>
              </a:rPr>
              <a:t>Aplicaciones eléctricas y electrónicas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26920" y="1933200"/>
            <a:ext cx="55548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Fabricación de soportes para barras y tableros, aisladores internos, conmutador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ncapsulado de transformadores de tensión o corrien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e usan en muchos componentes, para proteger de cortocircuitos, polvo, humedad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4" descr="trafo%20seco%20resina"/>
          <p:cNvPicPr/>
          <p:nvPr/>
        </p:nvPicPr>
        <p:blipFill>
          <a:blip r:embed="rId1"/>
          <a:stretch/>
        </p:blipFill>
        <p:spPr>
          <a:xfrm>
            <a:off x="6588000" y="1989000"/>
            <a:ext cx="2076480" cy="19717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6" descr=""/>
          <p:cNvPicPr/>
          <p:nvPr/>
        </p:nvPicPr>
        <p:blipFill>
          <a:blip r:embed="rId2"/>
          <a:stretch/>
        </p:blipFill>
        <p:spPr>
          <a:xfrm>
            <a:off x="6588000" y="4581360"/>
            <a:ext cx="2016360" cy="151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Arial Black"/>
              </a:rPr>
              <a:t>Ejemplos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26560" y="1844640"/>
            <a:ext cx="8007480" cy="122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Resina Epóxica MPT-M 3: Para empalmes eléctricos y encapsulado de electro-ima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4" descr=""/>
          <p:cNvPicPr/>
          <p:nvPr/>
        </p:nvPicPr>
        <p:blipFill>
          <a:blip r:embed="rId1"/>
          <a:srcRect l="40769" t="44293" r="18491" b="18295"/>
          <a:stretch/>
        </p:blipFill>
        <p:spPr>
          <a:xfrm>
            <a:off x="1619280" y="2924280"/>
            <a:ext cx="6192720" cy="3411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Arial Black"/>
              </a:rPr>
              <a:t>Ejemplos</a:t>
            </a:r>
            <a:endParaRPr b="1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Resina Epóxica MPT 9011: Para embobinado de motor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7" descr=""/>
          <p:cNvPicPr/>
          <p:nvPr/>
        </p:nvPicPr>
        <p:blipFill>
          <a:blip r:embed="rId1"/>
          <a:stretch/>
        </p:blipFill>
        <p:spPr>
          <a:xfrm>
            <a:off x="1979640" y="3141720"/>
            <a:ext cx="5191200" cy="28195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31T22:21:39Z</dcterms:created>
  <dc:creator>WinuE</dc:creator>
  <dc:description/>
  <dc:language>en-US</dc:language>
  <cp:lastModifiedBy> Alberto Botteselle Doggenweiler</cp:lastModifiedBy>
  <dcterms:modified xsi:type="dcterms:W3CDTF">2008-09-25T16:45:37Z</dcterms:modified>
  <cp:revision>11</cp:revision>
  <dc:subject/>
  <dc:title>Diapositiva 1</dc:title>
</cp:coreProperties>
</file>