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89A-EECC-4843-8B2F-12C9F96F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BD3-4C68-47F0-AF7D-D2FE80E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5CA-6264-452C-9C3C-A9B104AD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12F-5AAF-4A58-9C6C-C07A1C25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C8A6-6246-4855-8C18-D2C5F7E6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11CE-E362-4272-9AEE-02F87344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0765-ADDE-46DE-9BAC-C5D95E8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76B9-7F66-4454-A505-42638500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ED49-1477-400D-B8AB-46FF74E9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CD4-BFB1-4122-85A1-78CDBBAA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D62E-1390-4262-92D9-A5D14AC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E7D-C4AB-49C3-B1E4-7E01E4A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E6B2-EDB5-47B9-AD19-D8B76FB8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010E-8274-4482-82ED-F324698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BC4-9A06-43E0-BCEB-EDFE416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565E-5E92-4298-AC35-DC56136D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7927-2099-4D11-8700-EB021FE5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867A-4F5F-494E-95A8-DB1A95DA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AA3D-DC66-468C-84D0-5CD6C64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9841-F26C-424F-A99B-5D29B0EC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6A85-2599-4A67-8ADD-EE00217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CB27-3489-4B87-99B4-E5AD07F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E5B-BB5E-4AA2-BAC9-417B29B0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D18A-C74B-4CE7-849E-CB931BB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2048-8298-4559-96B5-917CD02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E3C9-EBC3-4DBD-B2D1-7C2FDE2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01F0-22EF-43CC-9F16-B90845E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A86E-314F-474D-971E-4FCB4AC6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411A-E788-469E-9E95-6D2B27E8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DB97-0706-4EB9-8AF0-34CB0ADE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BFFF-B312-46DA-B0BA-1D44E113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63AB-2B47-453F-8F0E-BF3B70D9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0B89-6650-41E3-ABF3-2361A867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3AC-D250-4FB9-850A-4CA69B12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1F04-58DF-4EA7-B2D2-4F9E5E75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3CDA-2581-48F6-BCDC-031E371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BF43-804A-47FF-BA29-90E669E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504E-68D7-4E55-BE97-48D5E00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628E-F50A-4190-8948-D12105A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8A0F-0A11-4E3A-A50B-E997FFF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B75E-E5A4-40BB-A93E-9126E62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55B0-A9A8-439D-8D5D-418CD724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070C-4B46-4234-A65C-4964F46A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4B5-F6CE-49B3-BDA9-56A0683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A02-D374-4055-B0AA-312A06D9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5DB-3EBE-4F6D-B5BE-CD42367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584-808B-4660-82B7-F66E2FBE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096-8126-4A1E-8D81-A2830B8C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8B3E-9B7E-4905-A301-E424BE56E7C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1ACC-B922-4581-A36F-723F98B39F90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13AA-473A-4CA3-936A-6A0B0EE30E21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7DC-9ED4-4BD8-9DB5-EBCDC26019BE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266320" cy="1895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32148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Taller de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spectos opt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 situación punt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lazos de entreg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diciones administrativ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rmas de pag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o es to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acias por su aten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bj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bre que tipo de máquina eléctrica se aplic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N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 un documento de conocimiento y uso público, aprobado por consenso y por un organismo reconocid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Contienen especificaciones técnicas de aplicación voluntaria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tán basados en los resultados de la experiencia y el desarrollo tecnológic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¿Qué Norma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Norma es una sugerencia (no una obligación) la que puede hacerse obligatoria (Ley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Institutos y organizaciones normativ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Mundo: ISO – IEEE – UE – ANSI-NE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Chile: INN (Instituto nacional de Normalización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Para Transformadores de corr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4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5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6  (instrumentos extra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Límites de Suminist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abla de que DEBE y que NO DEBE entregar el oferente (es a modo de sugere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qui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(Montajes, Cableados, Repuestos, Mantención, Protecciones, Instalaciones auxiliares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n los datos necesarios para el diseño y constr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meros precisos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sión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cuencia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rrientes nominales en primario y secundari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med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protec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I)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mite por corriente dinám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urd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monta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ais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azón de transform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cripción de característica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ipo: monofásico, trifásico, tipo de monta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islación: baño en aceite, porcel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ba o carca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cleos: tipo toroidal, características de las lámi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rollados: material, características de unión en termi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ado de Bor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laca de característ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nsay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ondiciones técnicas generales de equipos de alta ten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Tipo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corrientes, calentamiento, tensión de impulso, sobretensión, aislantes.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Especiales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ondas de corriente, estabilidad, transmisión de sobretensiones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recepción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bornes, resistencias, clase de precisión, error compues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nsayos de O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Garantizado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cosa es en qué se basa el diseño y construcción, y otra es lo garantiz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spectos típicamente garantizados:  Norma utilizada, tipo, aislación, corriente dinámica nominal, corriente de corto circuito nominal, voltaje nominal máximo, cargas en terminales, clase de precisión, burd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10:22Z</dcterms:created>
  <dc:creator>José Miguel</dc:creator>
  <dc:description/>
  <dc:language>en-US</dc:language>
  <cp:lastModifiedBy>Alberto Botteselle Doggenweiler</cp:lastModifiedBy>
  <dcterms:modified xsi:type="dcterms:W3CDTF">2008-09-22T03:16:25Z</dcterms:modified>
  <cp:revision>28</cp:revision>
  <dc:subject/>
  <dc:title>Diapositiva 1</dc:title>
</cp:coreProperties>
</file>