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B39-D34C-45BD-8F8E-E3F30078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13D-58AE-48E0-8699-D3B9A9E4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261-62D0-4E0C-AD86-1A7FA286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E3C-B9FD-437C-845E-D988D6A7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217C-0884-4916-A206-9B7A513E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DDE6-6FBE-4E64-8ED8-A1D77B98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1F65-5813-4DBF-A016-2CD7F980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2A92-C552-4352-8C8E-98CF1025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A6BF-06A7-48EF-BCF8-B378AC4F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9A3-8308-4094-9637-8299253E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4904-BDD3-443D-AED3-E6D2F37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E22-25BA-4565-B855-D9F6E499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6474-8C01-49B1-88A5-D53AF06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FBB1-218B-440E-9C49-4CF468B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4804-0127-4D15-B4E1-3987C69F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248D-81A0-4B56-9C05-8CDA2913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292E-AA62-4259-A302-27AC7BB4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EB77-D658-4F8F-BD7F-C0398422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07FC-C3AA-4904-81BB-7D14357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EAE4-1309-4785-BB65-BE50FA2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6F94-1F80-47C9-95BB-258F1EF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6864-1267-4975-87AA-5C76FE05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18C-A239-42B2-B7B5-6A004FC4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23AC-4A80-470D-A625-65F14BE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229C-60C4-4FF8-9E8A-DBE3DCF8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09E1-CD51-4587-8D6E-17428C1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48DA-276E-474C-917E-13DBCD9A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2ACE6-AAAC-4763-88AE-A2037782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A924-85B1-4463-A97A-4ED658AA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962E-A02E-4B3D-93F4-8BB11B6F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3FCA-DFC3-445D-B853-D0B2ADD7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1748-1F3D-47AA-9909-4A11B9DE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2D1D-6BB1-4CCF-B5AF-D6E7F62A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83E-AA41-4169-A945-E076D977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56B8-B030-46D5-8ED3-C98D7E9A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D4EF-3AF0-4DC0-A5A9-6A8AB606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9D45-81C3-426A-9AA9-33371271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020C-F37D-4E82-87AB-6611D540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66A0-ADC8-4D70-81E3-57D57A0F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213F2-2983-434C-9B13-76CAADE3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5A32-7E4A-42B0-8731-886B8971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E566-6AF6-44B5-94B8-82FEA648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A2C87-2F71-457A-BC23-92E301B8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792-B178-4647-B311-22394E32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659-DC61-4278-A2A5-B36BE853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3D2-C33C-46E8-8C06-DFD18BE3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A9E-6309-49A7-88BA-72B8EFDD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941-35D2-4395-A3C2-643A955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CA4C-A0F2-46BC-9A20-5AD72452D33F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72AC-1CEF-48C2-9E99-AF221A571877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773F-B319-45EE-ACB9-7D6C2E2BF367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637-2F76-486C-AE0A-20CE8126BBD3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266320" cy="1895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3714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lejandro Vásquez 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José Miguel Vera 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3 CuadroTexto"/>
          <p:cNvSpPr/>
          <p:nvPr/>
        </p:nvSpPr>
        <p:spPr>
          <a:xfrm>
            <a:off x="32148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Taller de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spectos opt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 situación punt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lazos de entreg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diciones administrativ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ormas de pag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o es to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racias por su aten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regunt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Obj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Sobre que tipo de máquina eléctrica se aplic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Norm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Es un documento de conocimiento y uso público, aprobado por consenso y por un organismo reconocid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Contienen especificaciones técnicas de aplicación voluntaria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Están basados en los resultados de la experiencia y el desarrollo tecnológic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¿Qué Norma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Norma es una sugerencia (no una obligación) la que puede hacerse obligatoria (Ley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Institutos y organizaciones normativa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Mundo: ISO – IEEE – UE – ANSI-NE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Chile: INN (Instituto nacional de Normalización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Para Transformadores de corr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RAM 2274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RAM 2275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EC-60044-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EC-60044-6  (instrumentos extra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Límites de Suministr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Habla de que DEBE y que NO DEBE entregar el oferente (es a modo de sugerenci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qui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(Montajes, Cableados, Repuestos, Mantención, Protecciones, Instalaciones auxiliares…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técnicos principales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on los datos necesarios para el diseño y constr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úmeros precisos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acterísticas Requerid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sión nomi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cuencia nomi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rrientes nominales en primario y secundari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úcleos de med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úcleos de protec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técnicos principales (II)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acterísticas Requeri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mite por corriente dinám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urd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po de montaj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po de ais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azón de transform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cripción de características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ipo: monofásico, trifásico, tipo de monta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islación: baño en aceite, porcela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ba o carca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úcleos: tipo toroidal, características de las lámi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rollados: material, características de unión en termi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cado de Bor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laca de característ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nsay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ondiciones técnicas generales de equipos de alta tens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de Tipo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corrientes, calentamiento, tensión de impulso, sobretensión, aislantes..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Especiales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ondas de corriente, estabilidad, transmisión de sobretensiones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de recepción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bornes, resistencias, clase de precisión, error compues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nsayos de Ob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Garantizados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cosa es en qué se basa el diseño y construcción, y otra es lo garantiz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spectos típicamente garantizados:  Norma utilizada, tipo, aislación, corriente dinámica nominal, corriente de corto circuito nominal, voltaje nominal máximo, cargas en terminales, clase de precisión, burd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1:10:22Z</dcterms:created>
  <dc:creator>José Miguel</dc:creator>
  <dc:description/>
  <dc:language>en-US</dc:language>
  <cp:lastModifiedBy>Alberto Botteselle Doggenweiler</cp:lastModifiedBy>
  <dcterms:modified xsi:type="dcterms:W3CDTF">2008-09-22T03:16:25Z</dcterms:modified>
  <cp:revision>28</cp:revision>
  <dc:subject/>
  <dc:title>Diapositiva 1</dc:title>
</cp:coreProperties>
</file>