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99A4-9694-49B5-8F8A-3FBCD8DC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8F126-55ED-41DE-817A-D59B7696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8E54-AF89-419A-BA18-575506170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F5ED-F41A-4335-810C-7DCAF45E8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DE70-7A1C-462C-A91C-81377C0AC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91B83-8173-465A-AE71-D7FB32811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9785-269F-4F10-99AE-73B32EFF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2C5C-BCA4-4F65-BA80-99810C7E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D9DB0-E319-46D3-96E7-10274A530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FE75E-B693-4F29-86E1-D6E82976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63507-A8AB-4B95-909A-ED32A60B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82BA-B657-42F0-824F-570B3FE4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C9D4E-66BC-4371-9E1B-E61E8D8A2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5CAF-ACF2-43F8-BAC3-71E2080B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D382D-1478-481B-89CD-2903D3CFB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6CA2-5B6B-40DE-823A-8347CA26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9F741-D25D-4D80-9D10-310D9532F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AA88-9915-4DF6-98CA-6A3240D52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43FB5-EF26-41F6-A750-AF760A86D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4B7A1-3796-4339-B22D-565056F1C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7AD67-2348-4F4B-92AB-98CF0FFFF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9521E-E8C9-4DC4-8AFF-2726E8A55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AFBF-F82A-48B3-BA91-F76991E52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540181-8A1D-4DDD-806A-0054AF24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28EDB-265D-4BA3-BE54-3E76EDFD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0D532-02A4-410A-A423-902A06B48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03864-36EB-4308-BF10-77836096F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EBB79-8C2B-4D27-86FF-9FA2F6F6B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A7BE90-B401-4A19-B537-1C91B52AE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87548-29D7-4FAB-9F92-8159A1298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30844D-5145-48A3-AFA1-55F1802DC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A8921-49D9-403B-A1A0-E4F1433D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DED68-AB34-44B6-B3BC-E23C5B8B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72C9-8A0A-4E71-BCDB-67A71443A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D55774-57EF-4F8A-8459-9A56AB204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779A23-F488-488D-BEFD-341E19B83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9BF95-DBB5-4D6D-830E-C734377C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29667-06A9-4F58-9F47-9AC08E33D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DB94A-882D-4E86-AB98-1FEA2915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23FED4-7D48-4177-BDA7-CA963CC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2135E-1616-4819-9968-8A2FD2CED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4FB91-EC86-429B-9871-37B2E6B25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60917-9541-458B-9BD6-8E3AD4C2D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0F5C-A5A6-4C31-8DBD-BE07E0736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D715-8115-4E91-96B0-9FE5A5136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79D-F474-409A-938E-82F6E0107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0A4B-4E92-43AA-9A66-0B7F0517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2E6-8FAD-48D6-86FC-324050E8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852E-0A34-4745-A315-1E0239D23B9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8E5F-F5CF-4FB8-B22D-EFA522E67887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162B-60AB-465F-A157-C7394853E434}" type="slidenum">
              <a:rPr b="0" lang="en-GB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40C7-226C-45D2-8235-605E6D24AB60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1 Título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8266320" cy="189540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1320" y="3714840"/>
            <a:ext cx="78548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Alejandro Vásquez G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José Miguel Vera 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3 CuadroTexto"/>
          <p:cNvSpPr/>
          <p:nvPr/>
        </p:nvSpPr>
        <p:spPr>
          <a:xfrm>
            <a:off x="3214800" y="571500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Constantia"/>
              </a:rPr>
              <a:t>Taller de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Aspectos optativ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penden de la situación puntu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lazos de entreg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diciones administrativ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ormas de pag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o es tod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Gracias por su aten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¿Pregunta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Introduc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Obje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Constantia"/>
              </a:rPr>
              <a:t>Sobre que tipo de máquina eléctrica se aplic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Norm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 un documento de conocimiento y uso público, aprobado por consenso y por un organismo reconocid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Contienen especificaciones técnicas de aplicación voluntaria. 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Constantia"/>
              </a:rPr>
              <a:t>Están basados en los resultados de la experiencia y el desarrollo tecnológico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¿Qué Normas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Norma es una sugerencia (no una obligación) la que puede hacerse obligatoria (Ley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Institutos y organizaciones normativas: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Mundo: ISO – IEEE – UE – ANSI-NEMA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Constantia"/>
              </a:rPr>
              <a:t>Chile: INN (Instituto nacional de Normalización)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nstantia"/>
              </a:rPr>
              <a:t>Para Transformadores de corriente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4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RAM 2275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1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IEC-60044-6  (instrumentos extra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9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476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Límites de Suministr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Habla de que DEBE y que NO DEBE entregar el oferente (es a modo de sugerencia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quip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Servici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nstantia"/>
              </a:rPr>
              <a:t>(Montajes, Cableados, Repuestos, Mantención, Protecciones, Instalaciones auxiliares…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on los datos necesarios para el diseño y construcc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meros precisos”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sión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recuencia nomina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rrientes nominales en primario y secundari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medid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úcleos de protec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técnicos principales (II)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racterísticas Requerid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L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mite por corriente dinámic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urd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montaj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ipo de aisl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Razón de transformació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cripción de característica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Tipo: monofásico, trifásico, tipo de montaj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islación: baño en aceite, porcela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ba o carcas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Núcleos: tipo toroidal, características de las lámin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rollados: material, características de unión en termin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arcado de Born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laca de característic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000" spc="-1" strike="noStrike">
                <a:solidFill>
                  <a:srgbClr val="04617b"/>
                </a:solidFill>
                <a:latin typeface="Calibri"/>
              </a:rPr>
              <a:t>Ensay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Condiciones técnicas generales de equipos de alta tensió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Tipo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corrientes, calentamiento, tensión de impulso, sobretensión, aislantes..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Especiales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ondas de corriente, estabilidad, transmisión de sobretensiones).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nstantia"/>
              </a:rPr>
              <a:t>Ensayos de recepción </a:t>
            </a:r>
            <a:r>
              <a:rPr b="0" lang="es-ES_tradnl" sz="1900" spc="-1" strike="noStrike">
                <a:solidFill>
                  <a:srgbClr val="000000"/>
                </a:solidFill>
                <a:latin typeface="Constantia"/>
              </a:rPr>
              <a:t>(bornes, resistencias, clase de precisión, error compuesto)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lnSpc>
                <a:spcPct val="80000"/>
              </a:lnSpc>
              <a:spcBef>
                <a:spcPts val="476"/>
              </a:spcBef>
              <a:buClr>
                <a:srgbClr val="009dd9"/>
              </a:buClr>
              <a:buSzPct val="7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nstantia"/>
              </a:rPr>
              <a:t>Ensayos de Ob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atos Garantizados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a cosa es en qué se basa el diseño y construcción, y otra es lo garantiz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spectos típicamente garantizados:  Norma utilizada, tipo, aislación, corriente dinámica nominal, corriente de corto circuito nominal, voltaje nominal máximo, cargas en terminales, clase de precisión, burden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7T21:10:22Z</dcterms:created>
  <dc:creator>José Miguel</dc:creator>
  <dc:description/>
  <dc:language>en-US</dc:language>
  <cp:lastModifiedBy>Alberto Botteselle Doggenweiler</cp:lastModifiedBy>
  <dcterms:modified xsi:type="dcterms:W3CDTF">2008-09-22T03:16:25Z</dcterms:modified>
  <cp:revision>28</cp:revision>
  <dc:subject/>
  <dc:title>Diapositiva 1</dc:title>
</cp:coreProperties>
</file>