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C7B5-C323-420C-BC5D-DF50883D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6AC-8BB9-4613-888B-6C5AE20C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A827-87E9-4B52-93E6-A4FB95EF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61E0-C8EA-4A26-9170-E5FC4F82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187A-D523-4E71-98F5-CAA07780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EFFA-DC9C-49C6-B7FA-529B5640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1596-FD40-41C8-8D32-10A31190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0CF1-F97D-49A2-BA71-D5D3606F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18E8-165C-4DBA-B12E-C0355757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7D4B-11E5-427A-90B2-0977CFDA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3F0E-6B2D-49D8-A658-0467B1D6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E76-C7A0-4EB2-8682-F1224BFB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E6E6-B0FA-4644-9720-BE753A86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4018-F063-46C4-B6FB-7B26BA3B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2F62-4AB3-4C18-AF0E-D33088DC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7282-63A0-4FB7-B9BE-3C522E7D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D888-0DB1-451C-AFAC-6402449E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63389-0195-4506-B9D8-76DF29DD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04A8A-7C46-4CA1-BF48-7ED83FCB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7C04C-9226-42B7-8299-0F814036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D34F3-D2F4-4E5A-9DB1-79993FE5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C5F35-E3D7-48A0-9F0A-0BE5784F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5E5D-1AFB-4264-9022-719A2722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9C58-24E4-452E-8326-63C5C90F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3F270-47D7-412F-9929-61CDB269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419DB-D3D3-407F-90BE-22056C79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7C3A6-4B73-4D14-9D2C-F78B0375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D0A5F-E4D9-43EF-AADA-DCF43C75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B46A7-D3C1-4B52-99A3-DD1BF995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1F2F0-ACB4-4D12-A702-611AFE40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3373B-F8E8-4028-94D6-9171A9A3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80CBB-0FA2-4612-A298-0F33B8FE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9D0F3-EB70-4426-B9F3-9A75CD81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AF2-06FC-4663-A5AE-70084D1E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544A7-AF79-4467-8C71-82CC607D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D632B-E771-47A0-877B-B597F196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31BEF-FE4C-42D2-8F6E-E4041A6A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EC46F-5E63-4CBD-80CC-7701704B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3DA39-A79F-4102-9BC7-010B1FE5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975D7-3C0D-4DCB-9AA5-105BE8AA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B0599-5E1A-40DB-8C94-E3D350F8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24C7C-CF43-4578-A16B-F2F6A5A7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2DD2B-BF44-442E-A16E-1ABE5FDA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AF7-472F-4946-AC1A-FD21F554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AF9-3CBB-4DCE-8085-785FCB76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F2D-9F63-49E1-BFE2-B80C6518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B00-BD6A-40AF-B41C-0D2848A6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646B-01C6-402C-8118-12DCE197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44C3-7D27-4940-B2AC-DFE347F6BF92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5F61-543D-4B58-9E69-DFCC10192782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77FF-5908-4E43-9BB0-75EBEF6EC101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26B1-45E0-438F-8BE8-81FA2E299043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266320" cy="1895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371484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Alejandro Vásquez 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José Miguel Vera 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3 CuadroTexto"/>
          <p:cNvSpPr/>
          <p:nvPr/>
        </p:nvSpPr>
        <p:spPr>
          <a:xfrm>
            <a:off x="3214800" y="5715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Taller de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spectos opt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 situación puntu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lazos de entreg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diciones administrativ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ormas de pag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so es to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racias por su aten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regunt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Introduc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Obje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Sobre que tipo de máquina eléctrica se aplica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Norm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nstantia"/>
              </a:rPr>
              <a:t>Es un documento de conocimiento y uso público, aprobado por consenso y por un organismo reconocido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nstantia"/>
              </a:rPr>
              <a:t>Contienen especificaciones técnicas de aplicación voluntaria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nstantia"/>
              </a:rPr>
              <a:t>Están basados en los resultados de la experiencia y el desarrollo tecnológico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¿Qué Norma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Norma es una sugerencia (no una obligación) la que puede hacerse obligatoria (Ley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Institutos y organizaciones normativa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Mundo: ISO – IEEE – UE – ANSI-NEM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Chile: INN (Instituto nacional de Normalización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Para Transformadores de corrient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IRAM 2274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IRAM 2275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IEC-60044-1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IEC-60044-6  (instrumentos extra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Límites de Suministr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Habla de que DEBE y que NO DEBE entregar el oferente (es a modo de sugerenci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qui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Servic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(Montajes, Cableados, Repuestos, Mantención, Protecciones, Instalaciones auxiliares…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atos técnicos principales (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on los datos necesarios para el diseño y construc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úmeros precisos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racterísticas Requerid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ensión nomi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recuencia nomi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rrientes nominales en primario y secundari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úcleos de medid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úcleos de protec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atos técnicos principales (II)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racterísticas Requerid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I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imite por corriente dinámi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urd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ipo de montaj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ipo de aisl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azón de transform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escripción de características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ipo: monofásico, trifásico, tipo de montaj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islación: baño en aceite, porcelan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ba o carcas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úcleos: tipo toroidal, características de las lámin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rollados: material, características de unión en termin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rcado de Bor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laca de característic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nsay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Condiciones técnicas generales de equipos de alta tens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nsayos de Tipo </a:t>
            </a: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(corrientes, calentamiento, tensión de impulso, sobretensión, aislantes..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nsayos Especiales </a:t>
            </a: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(ondas de corriente, estabilidad, transmisión de sobretensiones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nsayos de recepción </a:t>
            </a: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(bornes, resistencias, clase de precisión, error compues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Ensayos de Ob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atos Garantizados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cosa es en qué se basa el diseño y construcción, y otra es lo garantiz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spectos típicamente garantizados:  Norma utilizada, tipo, aislación, corriente dinámica nominal, corriente de corto circuito nominal, voltaje nominal máximo, cargas en terminales, clase de precisión, burd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1:10:22Z</dcterms:created>
  <dc:creator>José Miguel</dc:creator>
  <dc:description/>
  <dc:language>en-US</dc:language>
  <cp:lastModifiedBy>Alberto Botteselle Doggenweiler</cp:lastModifiedBy>
  <dcterms:modified xsi:type="dcterms:W3CDTF">2008-09-22T03:16:25Z</dcterms:modified>
  <cp:revision>28</cp:revision>
  <dc:subject/>
  <dc:title>Diapositiva 1</dc:title>
</cp:coreProperties>
</file>