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625-C848-47E4-B405-8E1C9518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70B-0498-4CC8-8AB0-2E909C26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736-E95E-4EC1-8BC4-D9D77FB8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425-A38D-462E-99D1-E9DEEBDF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5C95-E239-461D-AF2D-E16DEBE1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6843-E2BE-43C0-919F-72FD5AF4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14A8-AD0F-428A-97E5-5171C34C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C482-3D82-4B1B-838B-7BC08721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0B14-DD43-4F5B-8E85-831E530D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85A0-F658-4F9B-8B2A-1600D081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B298-FFDE-43C7-A9EB-271D26B8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0038-173F-4DB6-A18E-8BF7E404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FE66-35FA-42ED-817C-043761D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1C7C-3E42-42B8-BBF7-B85AD83E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19F4-CC58-4135-87D7-1888EFC1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C95B-6041-4B0B-87AD-1B46A8E4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7221-E60D-4815-B0D6-95A7EE13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0CF6-162A-4CD8-9A18-803B588F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BA7-6F86-495C-8AD0-3180E4C3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D417-F618-49D5-A564-CE2580AB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3A3-07F7-4EA4-ABE1-6C0415B7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6B0-9546-49BE-9A9D-FEF72513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FAF-8B18-498F-82D7-302D2DB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B13-9DB0-4E6A-8E5A-733AF77F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FC01-8E78-4C2A-820F-68702FEB037E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EDB6-E252-4AFD-9CB3-4600D97A1347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673440" cy="2106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ab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islado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Media, Alta y Extra Alta Tensió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45 KV aislad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Hasta 33 KV son aislados con Papel impregnado en aceite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Cables de Baja Tens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lnSpc>
                <a:spcPct val="10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Cables preensamblados de Aluminio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lnSpc>
                <a:spcPct val="100000"/>
              </a:lnSpc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Book Antiqua"/>
              </a:rPr>
              <a:t>Utilizados en Áreas de Distribución Secunda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6000" y="3429000"/>
            <a:ext cx="251136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Book Antiqua"/>
              </a:rPr>
              <a:t>Sin Aisla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Alambres y Cables Desnu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AC: Transmisión y Distribu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Tipo ACSR: Transmis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3384720" cy="19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ceso de Vent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Utilizados para empalmar distintos tipos de conducto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Mecanismo de compresión o apernad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Otros Conecto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Pern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Láminas Cup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6000" y="4437000"/>
            <a:ext cx="1562040" cy="1447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37200" y="4648320"/>
            <a:ext cx="1955880" cy="1660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5620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Catálogo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1625760"/>
            <a:ext cx="7272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Marca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1800000" cy="53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789440" y="1844640"/>
            <a:ext cx="2303640" cy="538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195640" y="4724280"/>
            <a:ext cx="1143000" cy="70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050920" y="3860640"/>
            <a:ext cx="1524240" cy="381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208480" y="2708280"/>
            <a:ext cx="152424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003640" y="3860640"/>
            <a:ext cx="2016360" cy="601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979640" y="2852640"/>
            <a:ext cx="1368360" cy="38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5435640" y="4941720"/>
            <a:ext cx="114300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333366"/>
                </a:solidFill>
                <a:latin typeface="Book Antiqua"/>
              </a:rPr>
              <a:t>Aluminio</a:t>
            </a:r>
            <a:endParaRPr b="0" lang="en-US" sz="55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322360" y="2565360"/>
            <a:ext cx="28260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Origen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Tercer elemento en la corteza terrestr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Forma el 8% de la corteza de la tierr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 extrae del mineral bauxita, se transforma primero en alúmina y luego en aluminio mediante electrólisi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Problem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precio de la energí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Equivale entre 25% y un 30% de la producción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bundante en la naturalez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Baja densidad: 2.700 Kg./m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Alta resistencia a la corrosió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uen conductor de calor y electric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Resistencia mecánica de hasta los 690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MP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Se mecaniza con facilidad y es relativamente bar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ok Antiqua"/>
              </a:rPr>
              <a:t>Bajo costo de reciclaj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piedades del Material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6024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Book Antiqua"/>
              </a:rPr>
              <a:t>Desventaja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lta cantidad de energía eléctrica que requiere su producció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Extracción de Bauxita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Book Antiqua"/>
              </a:rPr>
              <a:t>Proceso de Bayer: Obtención de Alúmina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Lavado de la bauxita molida con una solución de soda cáustica a alta presión y temperatur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inerales de Aluminio se disuelv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calcina a más de 900ºC para producir una alúmina, Al2O3, de alta calida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158920" cy="204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Book Antiqua"/>
              </a:rPr>
              <a:t>Proceso de Producción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l obtener la Alúmina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Book Antiqua"/>
              </a:rPr>
              <a:t>Mediante electrólisis se obtiene el Aluminio</a:t>
            </a: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disuelve en un baño fundido de criolita (Na3 Al F6) y se electroliz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Se obtiene Aluminio metálico en estado líquido con una pureza entre un 99,5 y un 99,9%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7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Book Antiqua"/>
              </a:rPr>
              <a:t>Alto consumo energétic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or cada kilo se gastan entre 17 y 20 KW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etal caro de obtener</a:t>
            </a:r>
            <a:r>
              <a:rPr b="0" lang="es-ES_tradnl" sz="2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Aplicaciones General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porte: Material estructural en aviones, automóvile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Embalaje de alimentos: papel de aluminio, latas, entre otr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Carpintería metálica: puertas, ventanas, cierres, armario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Bienes de uso doméstico; utensilios de cocina, herramienta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210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66"/>
                </a:solidFill>
                <a:latin typeface="Book Antiqua"/>
              </a:rPr>
              <a:t>Producto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Book Antiqua"/>
              </a:rPr>
              <a:t>En el sector eléctr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Book Antiqua"/>
              </a:rPr>
              <a:t>Transmisión eléctr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Conductividad eléctrica es tan sólo el 60% de la del cob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Mayor ligereza disminuye el peso de los conducto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Book Antiqua"/>
              </a:rPr>
              <a:t>Permite una mayor separación de las torres de alta tensión, disminuyendo los costos de infraestructu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Book Antiqua"/>
              </a:rPr>
              <a:t>Desincentiva el robo de conductor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66"/>
                </a:solidFill>
                <a:latin typeface="Book Antiqua"/>
              </a:rPr>
              <a:t>Transmisión y Distribución Eléctrica</a:t>
            </a:r>
            <a:endParaRPr b="0" lang="en-US" sz="3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Book Antiqua"/>
              </a:rPr>
              <a:t>Resguar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es recomendable en sectores con alta contaminación salina o industr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contaminar los conductores de aluminio con Cob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No utilizar herramientas, como poleas o tiracables, que se hayan utilizado en la construcción de redes con Cob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Utilizar amarras, cintas de protección y conectores de Alumin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Book Antiqua"/>
              </a:rPr>
              <a:t>Atención a la calidad de las conex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094120" cy="27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7C - Taller de Diseño en Sistemas de Potencia 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5:01:45Z</dcterms:created>
  <dc:creator>WinuE</dc:creator>
  <dc:description/>
  <dc:language>en-US</dc:language>
  <cp:lastModifiedBy>Alberto Botteselle Doggenweiler</cp:lastModifiedBy>
  <dcterms:modified xsi:type="dcterms:W3CDTF">2008-09-21T23:31:23Z</dcterms:modified>
  <cp:revision>10</cp:revision>
  <dc:subject/>
  <dc:title>Aluminio</dc:title>
</cp:coreProperties>
</file>