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FA8-3B11-461C-976E-BFC37F17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257-F16A-4A8A-9A36-50F94B24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F3B-EB7D-4FC8-BB0B-1311170B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424-FF16-4B34-AF34-D7021B74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7FB4-2507-4780-8843-B2CD208E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C56C-3EA9-4732-9A9A-F118E0B6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353-D0C0-488E-9C00-05017039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0F37-AA00-4434-9E0D-B5C2360C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E63B-E7D0-4EA4-B4F0-801D3F86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3797-9B41-455F-B576-BF63A3CF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C41B-EE50-4B19-9727-664831E9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FCF-DEAD-4417-91F6-7F1E0B8F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D737-BFBC-4377-B12F-0C70AB42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E0B7-A9CF-4F95-A2DE-9DBFB50F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E52F-68DC-42D8-93C1-F19EE7F8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5DB0-956D-498B-A975-BD81906A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C114-0705-4673-ADE4-C2198AFF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9EC-70BE-4CCD-A78E-D223BD52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58C-6CAC-4C49-BCC8-591A3182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328-0D95-4BAB-9D25-4A38899F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DD8-7A31-4875-80DE-ECE3671A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A9C-F8C5-4478-9D44-1078B0CB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53ED-43FE-4397-BCAA-12A70D91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A11-C5A5-41B6-86EC-4CB6701A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20F1-C958-44AC-ACB4-2628FB1295E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C1F1-2F5F-4A87-985E-FF54B9FB4D86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673440" cy="2106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ab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islado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Media, Alta y Extra Alta Tensió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45 KV aislad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33 KV son aislados con Papel impregnado en aceite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Baja Tens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Cables preensamblados de Aluminio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lnSpc>
                <a:spcPct val="100000"/>
              </a:lnSpc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Utilizados en Áreas de Distribución Secunda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51136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Sin Aisl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lambres y Cables Desnu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AC: Transmisión y Distribu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CSR: Transmis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3384720" cy="19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Utilizados para empalmar distintos tipos de conducto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Mecanismo de compresión o apernad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Otros 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Pern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Láminas Cup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56204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37200" y="4648320"/>
            <a:ext cx="1955880" cy="1660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5620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Catálogo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1625760"/>
            <a:ext cx="7272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Marca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1800000" cy="53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9440" y="1844640"/>
            <a:ext cx="2303640" cy="538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195640" y="4724280"/>
            <a:ext cx="114300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050920" y="3860640"/>
            <a:ext cx="152424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208480" y="27082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003640" y="3860640"/>
            <a:ext cx="2016360" cy="60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979640" y="2852640"/>
            <a:ext cx="1368360" cy="38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5435640" y="4941720"/>
            <a:ext cx="114300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Origen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Tercer elemento en la corteza terrest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Forma el 8% de la corteza de la tierr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 extrae del mineral bauxita, se transforma primero en alúmina y luego en aluminio mediante electrólisi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Problem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precio de la energí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Equivale entre 25% y un 30% de la producción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bundante en la naturalez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Baja densidad: 2.700 Kg./m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lta resistencia a la corros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uen conductor de calor y electric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Resistencia mecánica de hasta los 690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M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e mecaniza con facilidad y es relativamente bar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Bajo costo de recicla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Des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lta cantidad de energía eléctrica que requiere su producc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Extracción de Bauxita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Proceso de Bayer: Obtención de Alúmin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Lavado de la bauxita molida con una solución de soda cáustica a alta presión y temperatu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inerales de Aluminio se disuelv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calcina a más de 900ºC para producir una alúmina, Al2O3, de alta c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15892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l obtener la Alúmina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 Antiqua"/>
              </a:rPr>
              <a:t>Mediante electrólisis se obtiene el Aluminio</a:t>
            </a: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disuelve en un baño fundido de criolita (Na3 Al F6) y se electroliz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obtiene Aluminio metálico en estado líquido con una pureza entre un 99,5 y un 99,9%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Book Antiqua"/>
              </a:rPr>
              <a:t>Alto consumo energéti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etal caro de obtener</a:t>
            </a:r>
            <a:r>
              <a:rPr b="0" lang="es-ES_tradnl" sz="2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plicaciones Genera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porte: Material estructural en aviones, automóvile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Embalaje de alimentos: papel de aluminio, lata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Carpintería metálica: puertas, ventanas, cierres, armario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Bienes de uso doméstico; utensilios de cocina, herramienta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En el sector eléctr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misión eléctr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Conductividad eléctrica es tan sólo el 60% de la del cob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ayor ligereza disminuye el peso de los conducto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ermite una mayor separación de las torres de alta tensión, disminuyendo los costos de infraestructu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Desincentiva el robo de conductor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66"/>
                </a:solidFill>
                <a:latin typeface="Book Antiqua"/>
              </a:rPr>
              <a:t>Transmisión y Distribución Eléctric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Resguar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es recomendable en sectores con alta contaminación salina o industri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contaminar los conductores de aluminio con Cob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utilizar herramientas, como poleas o tiracables, que se hayan utilizado en la construcción de redes con Cob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Utilizar amarras, cintas de protección y conectores de Alumin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Atención a la calidad de las conex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094120" cy="27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5:01:45Z</dcterms:created>
  <dc:creator>WinuE</dc:creator>
  <dc:description/>
  <dc:language>en-US</dc:language>
  <cp:lastModifiedBy>Alberto Botteselle Doggenweiler</cp:lastModifiedBy>
  <dcterms:modified xsi:type="dcterms:W3CDTF">2008-09-21T23:31:23Z</dcterms:modified>
  <cp:revision>10</cp:revision>
  <dc:subject/>
  <dc:title>Aluminio</dc:title>
</cp:coreProperties>
</file>