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5.jpeg" ContentType="image/jpeg"/>
  <Override PartName="/ppt/media/image8.png" ContentType="image/png"/>
  <Override PartName="/ppt/media/image13.png" ContentType="image/pn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84C6-FBFB-4C2B-B2C4-463F35790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32A2-EE9A-4D46-86F3-0BA9D1A9A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8D23-6943-4E49-8F8A-D6240AD17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016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3780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4252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016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3780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99B9-34E6-4FB0-8BC1-5CF191169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2A277-C1AF-44D7-B47E-A535B9616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D7CD8-1EC2-4F16-B988-5725BD4E3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10C2D-D5CB-438C-A40A-86DA69198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3586B-3C43-4583-9788-522C175B1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60F9A-CDBA-4AE6-9B84-147457694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442520" y="985320"/>
            <a:ext cx="7239240" cy="66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A5B6B-0755-4563-8D0D-ED47A63DE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4838F-561A-4137-BF9A-C2DE16C4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17B6-1E9C-42BD-89AB-979CA4E4F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DC1FC-9B48-400F-9F1E-518E54023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895E9-605B-4133-9C10-5F350F53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CD3F8-279F-479D-867F-6A5C77E14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33E0D-427C-4E5A-86D6-64BD594BF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016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3780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44252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016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3780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CC242-8640-4217-AF68-ECDA6F2CC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0E78-ABFD-4625-8A4A-1338BC0BC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A2C0-E8AB-4414-A287-06B28C9C3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8193-9E5C-4D46-AEEA-DE63647A0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42520" y="985320"/>
            <a:ext cx="7239240" cy="66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727A-874C-4A3C-89DA-F7F56F87A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FC36-4AFD-44A8-9736-4A7AB68C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AA17-F1C5-46F3-9BCF-F793B981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E127-CEB7-40BC-8893-2B4067B0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3333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24757-851D-4476-84E0-D0BE6F263C32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49586-7E3D-472D-AA2C-503A78B1CDC7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3333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333366"/>
                </a:solidFill>
                <a:latin typeface="Book Antiqua"/>
              </a:rPr>
              <a:t>Aluminio</a:t>
            </a:r>
            <a:endParaRPr b="0" lang="en-US" sz="55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Integrantes: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Fabiola Aravena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Marcela Arredondo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300720" y="0"/>
            <a:ext cx="2843280" cy="990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322360" y="2565360"/>
            <a:ext cx="28260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219640" y="549360"/>
            <a:ext cx="3673440" cy="21063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66"/>
                </a:solidFill>
                <a:latin typeface="Book Antiqua"/>
              </a:rPr>
              <a:t>Proceso de Venta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 Antiqua"/>
              </a:rPr>
              <a:t>Cable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Book Antiqua"/>
              </a:rPr>
              <a:t>Aislados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lnSpc>
                <a:spcPct val="100000"/>
              </a:lnSpc>
              <a:spcBef>
                <a:spcPts val="550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Book Antiqua"/>
              </a:rPr>
              <a:t>Cables de Media, Alta y Extra Alta Tensión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568160" indent="-223920">
              <a:lnSpc>
                <a:spcPct val="10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Book Antiqua"/>
              </a:rPr>
              <a:t>Hasta 45 KV aislados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568160" indent="-223920">
              <a:lnSpc>
                <a:spcPct val="10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Book Antiqua"/>
              </a:rPr>
              <a:t>Hasta 33 KV son aislados con Papel impregnado en aceite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lnSpc>
                <a:spcPct val="100000"/>
              </a:lnSpc>
              <a:spcBef>
                <a:spcPts val="550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Book Antiqua"/>
              </a:rPr>
              <a:t>Cables de Baja Tens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568160" indent="-223920">
              <a:lnSpc>
                <a:spcPct val="10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Book Antiqua"/>
              </a:rPr>
              <a:t>Cables preensamblados de Aluminio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2016000" indent="-223920">
              <a:lnSpc>
                <a:spcPct val="100000"/>
              </a:lnSpc>
              <a:spcBef>
                <a:spcPts val="476"/>
              </a:spcBef>
              <a:buClr>
                <a:srgbClr val="333366"/>
              </a:buClr>
              <a:buSzPct val="60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Book Antiqua"/>
              </a:rPr>
              <a:t>Utilizados en Áreas de Distribución Secundari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796000" y="3429000"/>
            <a:ext cx="2511360" cy="2879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66"/>
                </a:solidFill>
                <a:latin typeface="Book Antiqua"/>
              </a:rPr>
              <a:t>Proceso de Venta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Book Antiqua"/>
              </a:rPr>
              <a:t>Sin Aislació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24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Book Antiqua"/>
              </a:rPr>
              <a:t>Alambres y Cables Desnudo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Book Antiqua"/>
              </a:rPr>
              <a:t>Tipo AAC: Transmisión y Distribu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Book Antiqua"/>
              </a:rPr>
              <a:t>Tipo ACSR: Transmisió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403280" y="3860640"/>
            <a:ext cx="3384720" cy="1976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66"/>
                </a:solidFill>
                <a:latin typeface="Book Antiqua"/>
              </a:rPr>
              <a:t>Proceso de Venta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 Antiqua"/>
              </a:rPr>
              <a:t>Conectore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Book Antiqua"/>
              </a:rPr>
              <a:t>Utilizados para empalmar distintos tipos de conductor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Book Antiqua"/>
              </a:rPr>
              <a:t>Mecanismo de compresión o apernado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 Antiqua"/>
              </a:rPr>
              <a:t>Otros Conectore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Book Antiqua"/>
              </a:rPr>
              <a:t>Perno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Book Antiqua"/>
              </a:rPr>
              <a:t>Láminas Cup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236000" y="4437000"/>
            <a:ext cx="1562040" cy="1447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137200" y="4648320"/>
            <a:ext cx="1955880" cy="16603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6156360" y="3573360"/>
            <a:ext cx="1562040" cy="144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66"/>
                </a:solidFill>
                <a:latin typeface="Book Antiqua"/>
              </a:rPr>
              <a:t>Catálogos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403280" y="1625760"/>
            <a:ext cx="7272360" cy="446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66"/>
                </a:solidFill>
                <a:latin typeface="Book Antiqua"/>
              </a:rPr>
              <a:t>Marcas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692360" y="1916280"/>
            <a:ext cx="1800000" cy="5364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789440" y="1844640"/>
            <a:ext cx="2303640" cy="538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2195640" y="4724280"/>
            <a:ext cx="1143000" cy="7048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2050920" y="3860640"/>
            <a:ext cx="1524240" cy="3812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5208480" y="2708280"/>
            <a:ext cx="1524240" cy="762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5003640" y="3860640"/>
            <a:ext cx="2016360" cy="601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7"/>
          <a:stretch/>
        </p:blipFill>
        <p:spPr>
          <a:xfrm>
            <a:off x="1979640" y="2852640"/>
            <a:ext cx="1368360" cy="384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8"/>
          <a:stretch/>
        </p:blipFill>
        <p:spPr>
          <a:xfrm>
            <a:off x="5435640" y="4941720"/>
            <a:ext cx="1143000" cy="35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333366"/>
                </a:solidFill>
                <a:latin typeface="Book Antiqua"/>
              </a:rPr>
              <a:t>Aluminio</a:t>
            </a:r>
            <a:endParaRPr b="0" lang="en-US" sz="55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Integrantes: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Fabiola Aravena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Marcela Arredondo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300720" y="0"/>
            <a:ext cx="2843280" cy="990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2322360" y="2565360"/>
            <a:ext cx="28260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66"/>
                </a:solidFill>
                <a:latin typeface="Book Antiqua"/>
              </a:rPr>
              <a:t>Origen del Material</a:t>
            </a: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71640" y="1916280"/>
            <a:ext cx="7921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Tercer elemento en la corteza terrestre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Forma el 8% de la corteza de la tierra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Se extrae del mineral bauxita, se transforma primero en alúmina y luego en aluminio mediante electrólisi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Problema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 precio de la energía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Equivale entre 25% y un 30% de la producción</a:t>
            </a: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66"/>
                </a:solidFill>
                <a:latin typeface="Book Antiqua"/>
              </a:rPr>
              <a:t>Propiedades del Material</a:t>
            </a: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42920" y="1844280"/>
            <a:ext cx="76024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Book Antiqua"/>
              </a:rPr>
              <a:t>Ventajas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Book Antiqua"/>
              </a:rPr>
              <a:t>Abundante en la naturalez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Book Antiqua"/>
              </a:rPr>
              <a:t>Baja densidad: 2.700 Kg./m3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Book Antiqua"/>
              </a:rPr>
              <a:t>Alta resistencia a la corrosió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Buen conductor de calor y electric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Book Antiqua"/>
              </a:rPr>
              <a:t>Resistencia mecánica de hasta los 690 </a:t>
            </a: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MP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Se mecaniza con facilidad y es relativamente barat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Bajo costo de reciclaj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66"/>
                </a:solidFill>
                <a:latin typeface="Book Antiqua"/>
              </a:rPr>
              <a:t>Propiedades del Material</a:t>
            </a: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42920" y="1844280"/>
            <a:ext cx="76024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Book Antiqua"/>
              </a:rPr>
              <a:t>Desventajas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Alta cantidad de energía eléctrica que requiere su producció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550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Book Antiqua"/>
              </a:rPr>
              <a:t>Por cada kilo se gastan entre 17 y 20 KWh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66"/>
                </a:solidFill>
                <a:latin typeface="Book Antiqua"/>
              </a:rPr>
              <a:t>Proceso de Producción</a:t>
            </a: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Book Antiqua"/>
              </a:rPr>
              <a:t>Extracción de Bauxita.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Book Antiqua"/>
              </a:rPr>
              <a:t>Proceso de Bayer: Obtención de Alúmina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Book Antiqua"/>
              </a:rPr>
              <a:t>Lavado de la bauxita molida con una solución de soda cáustica a alta presión y temperatura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Book Antiqua"/>
              </a:rPr>
              <a:t>Minerales de Aluminio se disuelve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Book Antiqua"/>
              </a:rPr>
              <a:t>Se calcina a más de 900ºC para producir una alúmina, Al2O3, de alta calida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300720" y="4437000"/>
            <a:ext cx="2158920" cy="2046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66"/>
                </a:solidFill>
                <a:latin typeface="Book Antiqua"/>
              </a:rPr>
              <a:t>Proceso de Producción</a:t>
            </a: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 Antiqua"/>
              </a:rPr>
              <a:t>Al obtener la Alúmina…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Book Antiqua"/>
              </a:rPr>
              <a:t>Mediante electrólisis se obtiene el Aluminio</a:t>
            </a:r>
            <a:r>
              <a:rPr b="0" lang="es-CL" sz="2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550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Book Antiqua"/>
              </a:rPr>
              <a:t>Se disuelve en un baño fundido de criolita (Na3 Al F6) y se electroliz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550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Book Antiqua"/>
              </a:rPr>
              <a:t>Se obtiene Aluminio metálico en estado líquido con una pureza entre un 99,5 y un 99,9%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7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Book Antiqua"/>
              </a:rPr>
              <a:t>Alto consumo energético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550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Book Antiqua"/>
              </a:rPr>
              <a:t>Por cada kilo se gastan entre 17 y 20 KWh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524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Book Antiqua"/>
              </a:rPr>
              <a:t>Metal caro de obtener</a:t>
            </a:r>
            <a:r>
              <a:rPr b="0" lang="es-ES_tradnl" sz="21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66"/>
                </a:solidFill>
                <a:latin typeface="Book Antiqua"/>
              </a:rPr>
              <a:t>Productos 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 Antiqua"/>
              </a:rPr>
              <a:t>Aplicaciones Generale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Book Antiqua"/>
              </a:rPr>
              <a:t>Transporte: Material estructural en aviones, automóviles, entre otro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Book Antiqua"/>
              </a:rPr>
              <a:t>Embalaje de alimentos: papel de aluminio, latas, entre otro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Book Antiqua"/>
              </a:rPr>
              <a:t>Carpintería metálica: puertas, ventanas, cierres, armarios, etc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Book Antiqua"/>
              </a:rPr>
              <a:t>Bienes de uso doméstico; utensilios de cocina, herramientas, etc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940360" y="260280"/>
            <a:ext cx="2808360" cy="210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66"/>
                </a:solidFill>
                <a:latin typeface="Book Antiqua"/>
              </a:rPr>
              <a:t>Productos 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 Antiqua"/>
              </a:rPr>
              <a:t>En el sector eléctrico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Book Antiqua"/>
              </a:rPr>
              <a:t>Transmisión eléctrica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550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Book Antiqua"/>
              </a:rPr>
              <a:t>Conductividad eléctrica es tan sólo el 60% de la del cob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550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Book Antiqua"/>
              </a:rPr>
              <a:t>Mayor ligereza disminuye el peso de los conductore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550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Book Antiqua"/>
              </a:rPr>
              <a:t>Permite una mayor separación de las torres de alta tensión, disminuyendo los costos de infraestructur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550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Book Antiqua"/>
              </a:rPr>
              <a:t>Desincentiva el robo de conductor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66"/>
                </a:solidFill>
                <a:latin typeface="Book Antiqua"/>
              </a:rPr>
              <a:t>Transmisión y Distribución Eléctrica</a:t>
            </a:r>
            <a:endParaRPr b="0" lang="en-US" sz="3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Book Antiqua"/>
              </a:rPr>
              <a:t>Resguardo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Book Antiqua"/>
              </a:rPr>
              <a:t>No es recomendable en sectores con alta contaminación salina o industri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Book Antiqua"/>
              </a:rPr>
              <a:t>No contaminar los conductores de aluminio con Cob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Book Antiqua"/>
              </a:rPr>
              <a:t>No utilizar herramientas, como poleas o tiracables, que se hayan utilizado en la construcción de redes con Cob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Book Antiqua"/>
              </a:rPr>
              <a:t>Utilizar amarras, cintas de protección y conectores de Alumin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Book Antiqua"/>
              </a:rPr>
              <a:t>Atención a la calidad de las conexion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9280" y="3573360"/>
            <a:ext cx="2094120" cy="279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5T15:01:45Z</dcterms:created>
  <dc:creator>WinuE</dc:creator>
  <dc:description/>
  <dc:language>en-US</dc:language>
  <cp:lastModifiedBy>Alberto Botteselle Doggenweiler</cp:lastModifiedBy>
  <dcterms:modified xsi:type="dcterms:W3CDTF">2008-09-21T23:31:23Z</dcterms:modified>
  <cp:revision>10</cp:revision>
  <dc:subject/>
  <dc:title>Aluminio</dc:title>
</cp:coreProperties>
</file>