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8.png" ContentType="image/png"/>
  <Override PartName="/ppt/media/image13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7814-F69C-4D58-80C0-A5A0E8F4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33B9-C3E6-4475-A24C-27C250DE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7768-6737-47F8-8922-ED1F30EF6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42FB-7659-4814-BEF0-640A7C128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DC13-8526-40E4-BA42-25E2CE95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DD74-95F3-47D9-8928-9C2FE476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99CE-A26C-4E87-99FC-E8FB423C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780A-5856-4E38-847A-A04E30A4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E980-017F-4491-AA6E-931E9D81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396B-0FD7-4311-AEAF-888E2CB6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AC61-C360-4AAE-81D3-AE1D4E15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A2C4-27EF-4BAC-A174-0E931538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B819-48D4-4849-AAE6-9A249F09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A716-1C71-4114-AFA7-79D98DED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F867-A2E1-40EE-95A0-22724432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07CD-8C04-4088-9D7B-DC73D074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C76F-AFB6-4F7B-AC6F-97D2AB610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3DC6-9796-4048-A118-34DDDBC8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09B1-666C-45EB-9B7A-746A8CBA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0465-BB0A-47E2-8A4B-B5251F36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F241-4196-4548-B4B8-03BD0B1E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1EAB-C8A1-496A-A233-F5C313FD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3598-D067-4E47-8ECD-92FBF6AC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16E6-BC5F-49BC-93E3-844724B1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0175-D625-42A9-92EB-72C32C987263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1FB4-5349-42AF-B0D6-DDDFE49C27D0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333366"/>
                </a:solidFill>
                <a:latin typeface="Book Antiqua"/>
              </a:rPr>
              <a:t>Aluminio</a:t>
            </a:r>
            <a:endParaRPr b="0" lang="en-US" sz="55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Integrantes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Fabiola Aravena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Marcela Arredondo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990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322360" y="2565360"/>
            <a:ext cx="28260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219640" y="549360"/>
            <a:ext cx="3673440" cy="2106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Proceso de Venta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Cabl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Aislado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Cables de Media, Alta y Extra Alta Tensió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lnSpc>
                <a:spcPct val="10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Book Antiqua"/>
              </a:rPr>
              <a:t>Hasta 45 KV aislado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lnSpc>
                <a:spcPct val="10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Book Antiqua"/>
              </a:rPr>
              <a:t>Hasta 33 KV son aislados con Papel impregnado en aceite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Cables de Baja Tens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lnSpc>
                <a:spcPct val="10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Book Antiqua"/>
              </a:rPr>
              <a:t>Cables preensamblados de Aluminio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lnSpc>
                <a:spcPct val="100000"/>
              </a:lnSpc>
              <a:spcBef>
                <a:spcPts val="47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Book Antiqua"/>
              </a:rPr>
              <a:t>Utilizados en Áreas de Distribución Secundar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796000" y="3429000"/>
            <a:ext cx="2511360" cy="2879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Proceso de Venta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Book Antiqua"/>
              </a:rPr>
              <a:t>Sin Aislació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Alambres y Cables Desnud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Tipo AAC: Transmisión y Distribu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Tipo ACSR: Transmis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403280" y="3860640"/>
            <a:ext cx="3384720" cy="197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Proceso de Venta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Conector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Utilizados para empalmar distintos tipos de conductor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Mecanismo de compresión o apernado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Otros Conector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Pern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Láminas Cup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437000"/>
            <a:ext cx="1562040" cy="1447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137200" y="4648320"/>
            <a:ext cx="1955880" cy="1660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156360" y="3573360"/>
            <a:ext cx="1562040" cy="14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Catálogos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03280" y="1625760"/>
            <a:ext cx="7272360" cy="44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Marcas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1800000" cy="536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789440" y="1844640"/>
            <a:ext cx="2303640" cy="538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195640" y="4724280"/>
            <a:ext cx="1143000" cy="704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050920" y="3860640"/>
            <a:ext cx="1524240" cy="381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208480" y="2708280"/>
            <a:ext cx="1524240" cy="762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5003640" y="3860640"/>
            <a:ext cx="2016360" cy="601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1979640" y="2852640"/>
            <a:ext cx="1368360" cy="384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5435640" y="4941720"/>
            <a:ext cx="1143000" cy="35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333366"/>
                </a:solidFill>
                <a:latin typeface="Book Antiqua"/>
              </a:rPr>
              <a:t>Aluminio</a:t>
            </a:r>
            <a:endParaRPr b="0" lang="en-US" sz="55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Integrantes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Fabiola Aravena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Marcela Arredondo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990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322360" y="2565360"/>
            <a:ext cx="28260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Book Antiqua"/>
              </a:rPr>
              <a:t>Origen del Material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Tercer elemento en la corteza terrestr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Forma el 8% de la corteza de la tierr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Se extrae del mineral bauxita, se transforma primero en alúmina y luego en aluminio mediante electrólisi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Problema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precio de la energía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Equivale entre 25% y un 30% de la producción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Book Antiqua"/>
              </a:rPr>
              <a:t>Propiedades del Material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6024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Book Antiqua"/>
              </a:rPr>
              <a:t>Ventajas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Abundante en la naturalez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Baja densidad: 2.700 Kg./m3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Alta resistencia a la corrosió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Buen conductor de calor y electric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Resistencia mecánica de hasta los 690 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MP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Se mecaniza con facilidad y es relativamente bara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Bajo costo de reciclaj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Book Antiqua"/>
              </a:rPr>
              <a:t>Propiedades del Material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6024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Book Antiqua"/>
              </a:rPr>
              <a:t>Desventajas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Alta cantidad de energía eléctrica que requiere su producció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Por cada kilo se gastan entre 17 y 20 KWh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Book Antiqua"/>
              </a:rPr>
              <a:t>Proceso de Producción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Book Antiqua"/>
              </a:rPr>
              <a:t>Extracción de Bauxita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Book Antiqua"/>
              </a:rPr>
              <a:t>Proceso de Bayer: Obtención de Alúmin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Lavado de la bauxita molida con una solución de soda cáustica a alta presión y temperatura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Minerales de Aluminio se disuelve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Se calcina a más de 900ºC para producir una alúmina, Al2O3, de alta calida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300720" y="4437000"/>
            <a:ext cx="2158920" cy="204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Book Antiqua"/>
              </a:rPr>
              <a:t>Proceso de Producción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Al obtener la Alúmina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Book Antiqua"/>
              </a:rPr>
              <a:t>Mediante electrólisis se obtiene el Aluminio</a:t>
            </a: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Se disuelve en un baño fundido de criolita (Na3 Al F6) y se electroliz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Se obtiene Aluminio metálico en estado líquido con una pureza entre un 99,5 y un 99,9%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Book Antiqua"/>
              </a:rPr>
              <a:t>Alto consumo energético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Por cada kilo se gastan entre 17 y 20 KWh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24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Metal caro de obtener</a:t>
            </a:r>
            <a:r>
              <a:rPr b="0" lang="es-ES_tradnl" sz="21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Productos 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Aplicaciones General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Transporte: Material estructural en aviones, automóviles, entre otro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Embalaje de alimentos: papel de aluminio, latas, entre otro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Carpintería metálica: puertas, ventanas, cierres, armarios, etc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Bienes de uso doméstico; utensilios de cocina, herramientas, etc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2808360" cy="210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Productos 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En el sector eléctric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Transmisión eléctric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Conductividad eléctrica es tan sólo el 60% de la del cob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Mayor ligereza disminuye el peso de los conductore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Permite una mayor separación de las torres de alta tensión, disminuyendo los costos de infraestructur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Desincentiva el robo de conductor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66"/>
                </a:solidFill>
                <a:latin typeface="Book Antiqua"/>
              </a:rPr>
              <a:t>Transmisión y Distribución Eléctrica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Resguard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 Antiqua"/>
              </a:rPr>
              <a:t>No es recomendable en sectores con alta contaminación salina o industri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 Antiqua"/>
              </a:rPr>
              <a:t>No contaminar los conductores de aluminio con Cob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 Antiqua"/>
              </a:rPr>
              <a:t>No utilizar herramientas, como poleas o tiracables, que se hayan utilizado en la construcción de redes con Cob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 Antiqua"/>
              </a:rPr>
              <a:t>Utilizar amarras, cintas de protección y conectores de Alumin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 Antiqua"/>
              </a:rPr>
              <a:t>Atención a la calidad de las conex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3573360"/>
            <a:ext cx="2094120" cy="279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15:01:45Z</dcterms:created>
  <dc:creator>WinuE</dc:creator>
  <dc:description/>
  <dc:language>en-US</dc:language>
  <cp:lastModifiedBy>Alberto Botteselle Doggenweiler</cp:lastModifiedBy>
  <dcterms:modified xsi:type="dcterms:W3CDTF">2008-09-21T23:31:23Z</dcterms:modified>
  <cp:revision>10</cp:revision>
  <dc:subject/>
  <dc:title>Aluminio</dc:title>
</cp:coreProperties>
</file>