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60B-9E94-4467-BD9B-21B6D668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3BDD-AC30-45F6-A695-7E8F2EEF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521-174D-423A-A492-7E8E35A7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7639-E724-42ED-B8F6-F237FF82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992D-C32B-4567-9EDC-6D62D8CF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39CE-61BD-4406-98ED-EC3015DA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078B-CF34-45BE-95B0-67AD0324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6F0B-D53E-4C88-A779-A100BA96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ED90-2D3F-4C6E-9B56-F64FAFB1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51A1-3AF8-4393-AE07-1EDC08CF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79F8-1AB1-406E-B01C-7D549EF4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E8C-4297-415F-A0DC-19DB2F46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DB59-94E7-4964-BEF5-CDFE9299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3267-BF01-45A0-A78B-D3D619B8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651A-2CCA-45CC-AFF3-E96AECD1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74B8-C06D-4705-9CDD-4E8C228A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F409-21AF-462A-848B-83457830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D593-07A0-4ED3-B7B9-9D21ECE8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0D1-4BEF-4A14-8CFA-F613E3AA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EEDB-9750-4F06-9303-19723F3C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1DE9-3817-4100-8B22-FE8E334B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C759-BA65-4952-BAA1-F45B9AA5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869F-04F1-464E-B0B7-3E9D0502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1AA1-DEB1-4B2D-9A62-14485785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E8C3-4CB3-4815-B465-8EF7314B474C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3BE2-7074-4505-AD1A-78ACA07CB60E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66"/>
                </a:solidFill>
                <a:latin typeface="Book Antiqua"/>
              </a:rPr>
              <a:t>Aluminio</a:t>
            </a:r>
            <a:endParaRPr b="0" lang="en-US" sz="55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ntegrantes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Fabiola Araven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Marcela Arredond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990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22360" y="2565360"/>
            <a:ext cx="28260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673440" cy="2106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Cabl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Aislado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Cables de Media, Alta y Extra Alta Tensió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Hasta 45 KV aislad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Hasta 33 KV son aislados con Papel impregnado en aceite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Cables de Baja Tens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Cables preensamblados de Aluminio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lnSpc>
                <a:spcPct val="100000"/>
              </a:lnSpc>
              <a:spcBef>
                <a:spcPts val="47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Utilizados en Áreas de Distribución Secunda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511360" cy="2879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Book Antiqua"/>
              </a:rPr>
              <a:t>Sin Aisla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Alambres y Cables Desnud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Tipo AAC: Transmisión y Distribu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Tipo ACSR: Transmis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3860640"/>
            <a:ext cx="3384720" cy="19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Conector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Utilizados para empalmar distintos tipos de conducto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Mecanismo de compresión o apernad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Otros Conector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Pern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Láminas Cup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437000"/>
            <a:ext cx="1562040" cy="1447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37200" y="4648320"/>
            <a:ext cx="1955880" cy="1660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156204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Catálogo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03280" y="1625760"/>
            <a:ext cx="727236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Marca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1800000" cy="536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89440" y="1844640"/>
            <a:ext cx="2303640" cy="538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195640" y="4724280"/>
            <a:ext cx="1143000" cy="704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050920" y="3860640"/>
            <a:ext cx="1524240" cy="381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208480" y="2708280"/>
            <a:ext cx="1524240" cy="762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003640" y="3860640"/>
            <a:ext cx="2016360" cy="601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1979640" y="2852640"/>
            <a:ext cx="1368360" cy="384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5435640" y="4941720"/>
            <a:ext cx="1143000" cy="35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66"/>
                </a:solidFill>
                <a:latin typeface="Book Antiqua"/>
              </a:rPr>
              <a:t>Aluminio</a:t>
            </a:r>
            <a:endParaRPr b="0" lang="en-US" sz="55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ntegrantes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Fabiola Araven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Marcela Arredond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99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322360" y="2565360"/>
            <a:ext cx="28260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Origen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Tercer elemento en la corteza terrest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Forma el 8% de la corteza de la tierr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Se extrae del mineral bauxita, se transforma primero en alúmina y luego en aluminio mediante electrólisi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Problema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precio de la energí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Equivale entre 25% y un 30% de la producción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piedades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02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Book Antiqua"/>
              </a:rPr>
              <a:t>Ventajas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Abundante en la naturalez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Baja densidad: 2.700 Kg./m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Alta resistencia a la corros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Buen conductor de calor y electric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Resistencia mecánica de hasta los 690 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MP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Se mecaniza con facilidad y es relativamente bara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Bajo costo de reciclaj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piedades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02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Book Antiqua"/>
              </a:rPr>
              <a:t>Desventajas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Alta cantidad de energía eléctrica que requiere su producció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or cada kilo se gastan entre 17 y 20 KW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ceso de Producción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Book Antiqua"/>
              </a:rPr>
              <a:t>Extracción de Bauxita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Book Antiqua"/>
              </a:rPr>
              <a:t>Proceso de Bayer: Obtención de Alúmin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Lavado de la bauxita molida con una solución de soda cáustica a alta presión y temperatur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inerales de Aluminio se disuelv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calcina a más de 900ºC para producir una alúmina, Al2O3, de alta calid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158920" cy="204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ceso de Producción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Al obtener la Alúmina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 Antiqua"/>
              </a:rPr>
              <a:t>Mediante electrólisis se obtiene el Aluminio</a:t>
            </a: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disuelve en un baño fundido de criolita (Na3 Al F6) y se electroliz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obtiene Aluminio metálico en estado líquido con una pureza entre un 99,5 y un 99,9%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Book Antiqua"/>
              </a:rPr>
              <a:t>Alto consumo energétic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or cada kilo se gastan entre 17 y 20 KW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etal caro de obtener</a:t>
            </a:r>
            <a:r>
              <a:rPr b="0" lang="es-ES_tradnl" sz="2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ductos 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Aplicaciones General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Transporte: Material estructural en aviones, automóviles, entre otr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Embalaje de alimentos: papel de aluminio, latas, entre otr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Carpintería metálica: puertas, ventanas, cierres, armarios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Bienes de uso doméstico; utensilios de cocina, herramientas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808360" cy="210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ductos 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En el sector eléctr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Transmisión eléctr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Conductividad eléctrica es tan sólo el 60% de la del cob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ayor ligereza disminuye el peso de los conductor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ermite una mayor separación de las torres de alta tensión, disminuyendo los costos de infraestructur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Desincentiva el robo de conductor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66"/>
                </a:solidFill>
                <a:latin typeface="Book Antiqua"/>
              </a:rPr>
              <a:t>Transmisión y Distribución Eléctrica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Resguard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es recomendable en sectores con alta contaminación salina o industri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contaminar los conductores de aluminio con Cob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utilizar herramientas, como poleas o tiracables, que se hayan utilizado en la construcción de redes con Cob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Utilizar amarras, cintas de protección y conectores de Alumin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Atención a la calidad de las conex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2094120" cy="279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5:01:45Z</dcterms:created>
  <dc:creator>WinuE</dc:creator>
  <dc:description/>
  <dc:language>en-US</dc:language>
  <cp:lastModifiedBy>Alberto Botteselle Doggenweiler</cp:lastModifiedBy>
  <dcterms:modified xsi:type="dcterms:W3CDTF">2008-09-21T23:31:23Z</dcterms:modified>
  <cp:revision>10</cp:revision>
  <dc:subject/>
  <dc:title>Aluminio</dc:title>
</cp:coreProperties>
</file>