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9F4-5F09-4656-A6A3-DB5C7C6A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DA9-F8A2-4058-BEAD-194ADD8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E5920-F6D3-444F-80A9-7C83C11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E7277-A6F9-4831-A6A9-09FF0E7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D9D3B-6C1E-456C-AA1F-1CE4AB4E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332F-A2B6-4487-AECF-50AE10A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92098-86B2-4314-8A67-2B27AA5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9C480-60FF-4808-8CE8-929EBB6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95E29-6C63-4681-B459-9E93B71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360F-EFB3-4990-A22C-44C02DA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F85E9-0990-4926-BD71-C5DAB266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5D5-E810-46A6-A806-87F90652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265-B024-4C0B-AC73-5E42716F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855-7753-4FF6-9AC3-91921CA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600-3E37-4B07-8DCB-63012E6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EDB6-FA13-4AF5-A3FB-FED2A86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07B-5180-44F7-B2F7-8E818626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63D-8E8A-44EA-8626-80780CF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7951-580A-49CA-BDD7-AFCD3E0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AF29-2139-4AAC-9ECE-E951703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B20-2E2C-462B-B8F9-7CD6100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F22-4EF0-4B2C-A16A-46DA07B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DE27-FAA5-4F2D-9C6B-C9EC00D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C3F6-371E-4749-9DB9-E6AD1CC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F87E-4B57-40CD-B20C-7D577D07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37E5-1A99-4E09-8557-669159A6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9D07-7DCF-417F-B602-F39CAE64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70E6-8A7F-4F8D-94F4-6880CA5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8810-B60E-4ADF-8F47-BE363AC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0CBF-46E6-4C73-849A-1078067B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5D16-37EB-45FD-8985-6529455D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A1E-0ECE-46DF-93C8-2F8D3B69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AAEA-6748-4CAF-8C94-25BEE485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608D-C2F0-42DA-91F9-F8F225D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C98A-DE1F-43E4-8080-88BFEDB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5143-1624-4BE0-BC77-1C2D40E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E94A-4CEC-4FD4-A11E-73B8F97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4115-3AC5-4F6C-B07F-935FC54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6F576-AD48-4953-9385-08CAE48E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FED3-5FD5-4A9F-8039-506FB3AD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43E8-CB01-4ED5-A8CA-727ED14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8F42-DBA2-4788-8837-3A26E77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F2B-75B6-49B6-B882-CE962D49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16CB-170B-40B7-BF60-F526F0DE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5900-D1DD-4145-B8CF-AC8CE98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D561-1E20-4CD1-A4FB-E2E43A66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A12B-FCA2-4B03-B362-EB59602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993C-2E83-462C-BB6F-12DF4E8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378E-9CAA-4063-954F-2FE3405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9B0B-E57E-4288-A118-348EBA8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9A15-0441-42C8-AABB-4446C65C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3BED-0984-4E92-81D2-A0B5BB2A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5EFB-5021-4E09-B16D-A221D62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8CB-8436-49D1-8C1C-591B511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D52E-620F-4257-9E7A-F6EC8A79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9036-9681-45E8-8BE5-D1D7B76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3BE5-04DC-41F9-AF4E-77465A36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0BE7-758B-48D1-81B4-178B547B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8AE1-0DBF-4F53-8C78-4CBAED9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315B-7AB7-437B-A008-60EBD39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1C6CC-CDEE-475E-A64B-6245989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436B-4933-46A4-A87C-3A8A55DF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A297-EF57-4F6D-8FBC-33060AF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22B8-3D40-4C50-ABE1-C084FE7F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CC7-7094-480A-87E1-502B454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61F1-BF70-4895-B08C-5BCB04CD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DC38-B676-4C0C-A3CB-7EA86218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C0B6-C484-449F-8FFD-4338FFB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A773-AF49-4E9B-8741-E1B1DB6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AC61-8A3C-4286-8D0D-36D1BFB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518B-85C7-4C68-AC1C-871CB787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B168-0DF2-43CA-9E46-4554669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7C1A-3F8F-4594-9527-7DFFC6E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AD5C-EFF9-4428-898A-93DB56E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1315B-43EF-4487-89E6-54A2EC1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607-1C4B-4221-9FDF-EAA4D11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FD27-CD0F-4A26-9D7C-8670565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8756C-923F-4FC8-8404-2EAF2708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597E-7899-4FDA-9954-60CAC0B3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BDBA2-4EAE-4A7B-8715-CCE52646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423B-946D-43E3-B1F5-00CCF43D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0CF1-ECC6-4110-B6CF-7F103982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6CC8-493E-4A8F-82FA-2817B1B5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FDF0-E31B-4E10-8A06-9EDD080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0B4B-6576-45EA-A8C1-C8555B4A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8761-628B-4C38-A833-033997D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3E6-AAEB-40E5-A2E7-546D932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2E9B-404B-4304-BD68-CFF42F1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D2E03-50CE-4C45-8D87-9FC4618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EAA5-EED5-411E-850B-9F9E87B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F36A-D94F-4A29-80B3-4CA09BE5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9710-0CCA-43C6-A29B-B33A5C7D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E6195-1D4E-4382-B7C9-84733BED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D2B0-59F1-4B5E-9788-E0F99A1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AC60B-ACC9-4091-8837-1064625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9022-D5A5-4366-BB0B-668AEF9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14444-9E8B-411F-9C60-1E8EA578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742-DC0D-44AD-9165-BC0EDDB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2E247-29AB-4D45-A268-AEE99AF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BFFC-6C86-4356-AB85-D8864CAD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0C93-5EF1-4C97-A96B-7A07E0C9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36BE-B1AF-4287-95C4-AED3D64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7D8C0-516A-452A-83FB-7444CE9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CBF7F-DB79-4A90-89A1-8647FE1B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FF909-FE97-4651-9783-669D43A2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F42B-E804-4A50-96B3-29EDDA83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C1FB0-C424-451C-8250-1478C30B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FB1A7-1D57-4156-BE4D-E061E8C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E867-D710-4ACC-8153-D7D5671A8933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927-E137-46C4-866B-33B5BCF24D7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30E-9C3B-46B4-83FF-3CB95B068BC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680-68D3-4768-8A4B-D8FAE57FDE3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DEFA-D880-4B96-BF88-2BB3A3D4A44D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C800-B5C8-47E3-9C21-2E08257476D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890-A47E-4262-89F6-29F822A8FB4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2E6-32D3-4F28-8D1B-F1C1D87F543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4BFE-3CC5-40B7-91D8-E7129EB5561E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5 Rectángulo" descr=""/>
          <p:cNvPicPr/>
          <p:nvPr/>
        </p:nvPicPr>
        <p:blipFill>
          <a:blip r:embed="rId2"/>
          <a:stretch/>
        </p:blipFill>
        <p:spPr>
          <a:xfrm>
            <a:off x="-298440" y="1865160"/>
            <a:ext cx="9534600" cy="2011680"/>
          </a:xfrm>
          <a:prstGeom prst="rect">
            <a:avLst/>
          </a:prstGeom>
          <a:ln w="0">
            <a:noFill/>
          </a:ln>
        </p:spPr>
      </p:pic>
      <p:pic>
        <p:nvPicPr>
          <p:cNvPr id="400" name="8 Rectángulo" descr=""/>
          <p:cNvPicPr/>
          <p:nvPr/>
        </p:nvPicPr>
        <p:blipFill>
          <a:blip r:embed="rId3"/>
          <a:stretch/>
        </p:blipFill>
        <p:spPr>
          <a:xfrm>
            <a:off x="4248000" y="5022720"/>
            <a:ext cx="46706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Es una medida de los agentes ácidos orgánicos en el aceite. Un número de neutralización pequeño muestra un aceite nuev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ASTM D 97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0,08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0,08 a 0,15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15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Crítico 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20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Es un aditivo incorporado al aceite que se encarga de retardar la degradación por oxidació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IEC 666 – ASTM D 266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3 %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0,1 a 0,3 %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0,1 %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Un alto contenido de agua acelera la degradación del aislante sólido, disminuyendo su vida úti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ASTM D 1533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 o Semestr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eshidratad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10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15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15 a 20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20 ppm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3"/>
          <a:srcRect l="24611" t="11249" r="20899" b="15628"/>
          <a:stretch/>
        </p:blipFill>
        <p:spPr>
          <a:xfrm>
            <a:off x="642960" y="1428840"/>
            <a:ext cx="7786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Equilibrar adecuadamente los Transformadores logrará que el aceite cubra la totalidad de las partes del interior de los mismos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Colocar filtros adecuados en los respiradores de los Transformadores, de forma que evite la entrada de la mayor cantidad posible de humedad, polvo y otros partículas.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Comprobar el cierra de tapas, pasacables, mirilla, etc, para evitar tanto el acceso de suciedad como la perdida de aceite.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Realizar pruebas, test y/o análisis periódicos para poder tomar acciones de mantenimiento antes de que, la excesiva degradación del aceite lo haga irrecuperable e incluso dañe de forma grave el interior del Transformador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El uso de </a:t>
            </a:r>
            <a:r>
              <a:rPr b="1" lang="es-CL" sz="2200" spc="-1" strike="noStrike">
                <a:solidFill>
                  <a:srgbClr val="4e3b30"/>
                </a:solidFill>
                <a:latin typeface="Franklin Gothic Book"/>
              </a:rPr>
              <a:t>Equipos de Purificación y Regeneración de Aceite Aislante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 permite devolver las características funcionales mínimas para continuar usándolo. Este tratamiento debe realizarse antes de que la contaminación del Aceite provoque depósitos en el fondo del Transformador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3"/>
          <a:srcRect l="37503" t="33751" r="35548" b="15623"/>
          <a:stretch/>
        </p:blipFill>
        <p:spPr>
          <a:xfrm>
            <a:off x="2428920" y="1428840"/>
            <a:ext cx="4000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3"/>
          <a:stretch/>
        </p:blipFill>
        <p:spPr>
          <a:xfrm>
            <a:off x="1460520" y="2143080"/>
            <a:ext cx="6326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4 Rectángulo" descr=""/>
          <p:cNvPicPr/>
          <p:nvPr/>
        </p:nvPicPr>
        <p:blipFill>
          <a:blip r:embed="rId2"/>
          <a:stretch/>
        </p:blipFill>
        <p:spPr>
          <a:xfrm>
            <a:off x="-311040" y="2639880"/>
            <a:ext cx="97599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214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Características del Aceite Aisla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Propiedades del Aceite Aisla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Síntomas de Degradación del Ace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Tipos de Ensayos en los Acei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Significados y Evaluación de Ensay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cciones Correctiv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cciones de Mantenimiento del Ace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3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14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Cumple múltiples funciones en los transformadores eléctricos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Mejora del aislamiento entre componentes del Transformador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Homogenización de la temperatura interna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Refrigeración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No experimenta transformaciones físicas o químicas importantes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El Aceite Aislante se degenera dentro del Transformador durante el funcionamiento normal del mismo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ltas Temperatur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Gradientes Eléctric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rigidez dieléctrica suficientemente alta para resistir las alzas de demanda que se presenten en el servici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viscosidad adecuada para asegurar la circulación convectiva y facilitar la transferencia de cal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 punto de escurrimiento bajo, que asegure la fluidez del aceite a bajas temperatur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buena estabilidad a la oxidación, que asegure una larga vida útil(aprox. 20 – 30 año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85840" y="149976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Cambio de color: oscurecimi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Formación de sustancias pola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Formación de áci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Olo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Generación de lo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La degeneración del aceite puede provocar un envejecimiento prematuro del aislante sólido (barniz, papel kraft, presspan, etc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rcRect l="18750" t="17811" r="12109" b="13753"/>
          <a:stretch/>
        </p:blipFill>
        <p:spPr>
          <a:xfrm>
            <a:off x="357120" y="1357200"/>
            <a:ext cx="8429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Un aceite limpio y seco tiene una alta rigidez dieléctrica (60 [KV/mm]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Método Analítico: IRAM 2341 o ASTM D 1816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Frecuencia: Anual o Semestra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&gt; 5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30 a 5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&lt; 3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700" spc="-1" strike="noStrike">
                <a:solidFill>
                  <a:srgbClr val="4e3b30"/>
                </a:solidFill>
                <a:latin typeface="Franklin Gothic Book"/>
              </a:rPr>
              <a:t>Un aceite con alta tensión interfacial será capaz de mantener elevada rigidez dieléctrica aunque el aceite incorpore agua. Un aceite con baja tensión interfacial no recuperará su rigidez aunque sea deshidratado y purificado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Método Analítico: ASTM D 2285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&gt; 3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25 a 3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&lt; 2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berto Botteselle Doggenweiler</cp:lastModifiedBy>
  <dcterms:modified xsi:type="dcterms:W3CDTF">2008-09-22T00:18:53Z</dcterms:modified>
  <cp:revision>27</cp:revision>
  <dc:subject/>
  <dc:title>Diapositiva 1</dc:title>
</cp:coreProperties>
</file>