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6029-E9E3-4F59-ABD0-57AD1CE9E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2AE0-019A-42B5-B72A-277CD514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2D028-F537-45C4-AD1F-464297077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99E053-177B-4695-A109-0C0F95E4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2E064-AF65-45B9-A2C6-20FF24EAC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ED72E2-6A56-44C2-968A-F86CBFD95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C4CD49-E1FE-4D46-8E0B-FE574A4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11450A-3C1D-4C74-8A83-20D271152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4D19B-EECE-4927-A842-EBCEA4978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0F3FDB-DCE0-411E-B6FB-39A43BB67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FA53B9-FFC6-4703-8DD7-A97E3D439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2CE-03AF-4762-A7E2-AA1DC4493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24E35-C51E-4C9F-A2C5-01B19DE42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01EF-A0BC-4955-B67D-292F70CC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13AF2-B6D7-4862-B64B-D6DE4F97C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08D6-99A2-412C-8ED5-533DA18CE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FD9CE-B634-4742-88C5-233935606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7EECB-FBAA-40A7-8DBB-05DAEFCE0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4FCD-2AC8-4570-B9EF-20556849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7A243-07EA-4E28-97BB-A54168767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EBD1-A18B-4B47-A179-9733D58D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6FF9-51B9-48CC-B70E-40590F2D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BD095-085F-427D-84F8-86BE8EBB0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165AD-C5AF-4706-AD47-0C0A318C4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C7DD8-758C-47C1-AF34-E22B67DC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2C796-83B8-4584-B69C-BF69DD706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B6ED8D-1C78-4B69-8BAA-F8E2B32A7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250BE-9593-4B57-A34D-7782006DE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9E7C0-6FD2-449E-8F15-1A538108B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64E16-5429-4001-8442-35379416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CBF4E-F927-41F8-B0DA-7ECFA94C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70ACC-564D-47AA-810C-660F38888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0BE2B5-AADE-4E9C-A864-A1AE9EB7B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0B41D-334B-4BCE-8B08-D562A637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6EE7A7-8206-4845-B07C-F43F695F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54304-00D4-418A-AA05-77B52F3F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D807A-D40A-4F19-888E-048BCEC4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EFF37-3B38-44AB-A987-206D5028B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467897-8B4C-425A-A591-558D85754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0CA16-9046-4EF8-869C-24CA3ED15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69F85-F868-4DB6-959E-49AA8BF2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192F6-5340-4861-A203-9DECB5ECE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72DF-6840-49F5-8B1B-3BC7D686A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12C0FD-3610-495E-A9E5-59393D07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F15D2-F48F-467D-A007-24911B070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054224-8403-4DD1-927C-34B9E61E2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89373-0CAD-4058-B154-985C1B701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FFA8B-D0EB-4408-B297-2293529F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9618A-A0E5-467E-8FA1-B3552363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0012B-E98F-4818-9A22-994AEAF47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8FDD86-19FE-4D79-A9EE-556AF708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5BA8-879E-4A70-A9F2-2020B40F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042781-4A69-4197-AFA5-772DD832B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F1EF-6CD2-4F6E-9087-9A9A7FFB2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B431A-2AAD-4555-8AEB-6E282F78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88DAA-B0C5-4D80-A9FF-BA4F4022E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48B5D-165E-4931-8B7D-5045D8ADD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E786AB-2861-4D13-83F5-E01A94684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814EF-30EB-42E5-9EF0-E8B26A38B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20B28-4CE5-4307-92DE-1BF016A4A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8269E-9059-47BA-80C7-8FAFCF5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26B5E-033F-4723-94CA-87841593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A0D789-F1D0-4A8C-BBB5-D3E53679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91F50-8CA5-4214-B211-A798B67DC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255-7722-4722-B855-332F12432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86FD56-734A-48E0-B79C-518741060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C84C3C-C9C3-4993-B6DD-3FB1358B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0A4A0-503B-4CF0-B5FB-C2C2EF0F3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5FBA30-0273-448B-AA97-B80245B7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9AD22-5F7D-4E85-B53E-11AC649CD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856B89-752D-46B9-9684-494D832B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482E8-677D-451E-B9C6-141B1F921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EE70F-9D28-484A-B0C2-EC638FC81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A0CAFF-AF6B-4789-A3D7-7A07D8B8A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B6629C-4317-4428-A980-6B25BF79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8885-C89A-4420-A9A9-02F4E7256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A7CF71-1C62-45E3-A132-BED0025EA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A252BD-BC94-44CB-BC3C-486FC8511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936E68-875D-408A-AA9C-3F495819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A995AE-C504-45C0-930F-8E5B08E3B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E293CE-AFF5-4E49-A5BD-40ED38CE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321E4-59C4-4862-984D-6ACCABC2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1A3AF-0370-4D11-A062-43D89B2A4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C34E1-8BEB-4D2F-A56F-A3D7B5D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2C23A7-D7B9-450B-BD8A-C0018C306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88D1A9-DC55-4710-AA03-2DF73787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0E07-B231-482C-AD6A-6B68608C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3905D-56D4-48EA-B962-F8D5D00E0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30A28-A504-4051-82BE-B730A0B6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4160B-92BC-4126-A53A-1C8BADF6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4B01AE-3B3E-462D-97B7-739A34270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57FCF6-EE8F-4172-B18E-0B8A2546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4FADF6-1F90-435E-B87D-3979147B9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493C8-E20F-44C8-8041-B2E1B140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10AF6-0E01-4C7C-8463-280689CB6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663C56-C47F-4BBB-B27C-D853923A6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3F73D8-C619-4CB4-A1C5-E43B52F9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41BE-AB17-4CA8-8D5C-FC56A544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8E0CD-686D-4BE0-B8EA-8B45BF20E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79744-0EFF-49F6-95F1-3EAD5DC64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135CC-F5A2-4626-8133-6196F27E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36F61-9D55-4D82-9744-198365884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0CBD6A-9060-4FD1-848F-DD0B21907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624F9E-E5E6-4DE4-B3E2-59D5B5B03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7167F-53CC-49FE-B91C-D27DD3C3E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4E670-9751-47CE-A8C4-50F93523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518A1-FA62-4AA8-972A-03670D7A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DB5E2-001F-4C18-885F-5B21BD41B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FE77A-4046-4194-A585-58BEA459DA8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12 Conector recto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A1B99-7B40-45D3-A28F-E6F43BFA5ED5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6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6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8 Conector recto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8 Conector recto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11 Conector recto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11 Conector recto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83375-2EB9-4E8D-B42B-617709ACB5F0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12 Conector recto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314F-85C3-4109-8159-6350C27B2FA6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12 Conector recto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C527-1368-4AB7-AB69-5BA3B8F9B892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EB71-8493-4FBD-8013-10EFDCD303CA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12 Conector recto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12 Conector recto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B4D12-A60B-40E9-B49B-EE1D4F0126BC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F4B-8043-4297-9D5B-C7A571721A98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D55DD-CC51-493E-A411-C1FFCCE8942B}" type="slidenum">
              <a:rPr b="0" lang="es-E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5 Rectángulo" descr=""/>
          <p:cNvPicPr/>
          <p:nvPr/>
        </p:nvPicPr>
        <p:blipFill>
          <a:blip r:embed="rId2"/>
          <a:stretch/>
        </p:blipFill>
        <p:spPr>
          <a:xfrm>
            <a:off x="-298440" y="1865160"/>
            <a:ext cx="9534600" cy="2011680"/>
          </a:xfrm>
          <a:prstGeom prst="rect">
            <a:avLst/>
          </a:prstGeom>
          <a:ln w="0">
            <a:noFill/>
          </a:ln>
        </p:spPr>
      </p:pic>
      <p:pic>
        <p:nvPicPr>
          <p:cNvPr id="400" name="8 Rectángulo" descr=""/>
          <p:cNvPicPr/>
          <p:nvPr/>
        </p:nvPicPr>
        <p:blipFill>
          <a:blip r:embed="rId3"/>
          <a:stretch/>
        </p:blipFill>
        <p:spPr>
          <a:xfrm>
            <a:off x="4248000" y="5022720"/>
            <a:ext cx="4670640" cy="13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Es una medida de los agentes ácidos orgánicos en el aceite. Un número de neutralización pequeño muestra un aceite nuevo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ASTM D 974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0,08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0,08 a 0,15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15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Crítico 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20 mg KOH/g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Es un aditivo incorporado al aceite que se encarga de retardar la degradación por oxidación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IEC 666 – ASTM D 2668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0,3 %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0,1 a 0,3 %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0,1 %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Un alto contenido de agua acelera la degradación del aislante sólido, disminuyendo su vida útil.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Método Analítico: ASTM D 1533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Frecuencia: Anual o Semestral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eshidratad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10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lt; 15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15 a 20 pp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&gt; 20 ppm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2" descr=""/>
          <p:cNvPicPr/>
          <p:nvPr/>
        </p:nvPicPr>
        <p:blipFill>
          <a:blip r:embed="rId3"/>
          <a:srcRect l="24611" t="11249" r="20899" b="15628"/>
          <a:stretch/>
        </p:blipFill>
        <p:spPr>
          <a:xfrm>
            <a:off x="642960" y="1428840"/>
            <a:ext cx="778680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304920" y="1500120"/>
            <a:ext cx="86868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Equilibrar adecuadamente los Transformadores logrará que el aceite cubra la totalidad de las partes del interior de los mismos.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Colocar filtros adecuados en los respiradores de los Transformadores, de forma que evite la entrada de la mayor cantidad posible de humedad, polvo y otros partículas.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Comprobar el cierra de tapas, pasacables, mirilla, etc, para evitar tanto el acceso de suciedad como la perdida de aceite. 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Realizar pruebas, test y/o análisis periódicos para poder tomar acciones de mantenimiento antes de que, la excesiva degradación del aceite lo haga irrecuperable e incluso dañe de forma grave el interior del Transformador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El uso de </a:t>
            </a:r>
            <a:r>
              <a:rPr b="1" lang="es-CL" sz="2200" spc="-1" strike="noStrike">
                <a:solidFill>
                  <a:srgbClr val="4e3b30"/>
                </a:solidFill>
                <a:latin typeface="Franklin Gothic Book"/>
              </a:rPr>
              <a:t>Equipos de Purificación y Regeneración de Aceite Aislante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 permite devolver las características funcionales mínimas para continuar usándolo. Este tratamiento debe realizarse antes de que la contaminación del Aceite provoque depósitos en el fondo del Transformador. 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2" descr=""/>
          <p:cNvPicPr/>
          <p:nvPr/>
        </p:nvPicPr>
        <p:blipFill>
          <a:blip r:embed="rId3"/>
          <a:srcRect l="37503" t="33751" r="35548" b="15623"/>
          <a:stretch/>
        </p:blipFill>
        <p:spPr>
          <a:xfrm>
            <a:off x="2428920" y="1428840"/>
            <a:ext cx="400032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3"/>
          <a:stretch/>
        </p:blipFill>
        <p:spPr>
          <a:xfrm>
            <a:off x="1460520" y="2143080"/>
            <a:ext cx="63262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4 Rectángulo" descr=""/>
          <p:cNvPicPr/>
          <p:nvPr/>
        </p:nvPicPr>
        <p:blipFill>
          <a:blip r:embed="rId2"/>
          <a:stretch/>
        </p:blipFill>
        <p:spPr>
          <a:xfrm>
            <a:off x="-311040" y="2639880"/>
            <a:ext cx="975996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3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 txBox="1"/>
          <p:nvPr/>
        </p:nvSpPr>
        <p:spPr>
          <a:xfrm>
            <a:off x="214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Características del Aceite Aisla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Propiedades del Aceite Aislan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Síntomas de Degradación del Ace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Tipos de Ensayos en los Aceit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Significados y Evaluación de Ensay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cciones Correctiv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cciones de Mantenimiento del Aceite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3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4" name=""/>
          <p:cNvSpPr txBox="1"/>
          <p:nvPr/>
        </p:nvSpPr>
        <p:spPr>
          <a:xfrm>
            <a:off x="214200" y="1500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Cumple múltiples funciones en los transformadores eléctricos: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Mejora del aislamiento entre componentes del Transformador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Homogenización de la temperatura interna 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4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Refrigeración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000" spc="-1" strike="noStrike">
                <a:solidFill>
                  <a:srgbClr val="4e3b30"/>
                </a:solidFill>
                <a:latin typeface="Franklin Gothic Book"/>
              </a:rPr>
              <a:t>No experimenta transformaciones físicas o químicas importantes </a:t>
            </a: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El Aceite Aislante se degenera dentro del Transformador durante el funcionamiento normal del mismo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Altas Temperatur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Gradientes Eléctric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1 Título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rigidez dieléctrica suficientemente alta para resistir las alzas de demanda que se presenten en el servicio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viscosidad adecuada para asegurar la circulación convectiva y facilitar la transferencia de calor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 punto de escurrimiento bajo, que asegure la fluidez del aceite a bajas temperatur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spcBef>
                <a:spcPts val="700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e3b30"/>
                </a:solidFill>
                <a:latin typeface="Franklin Gothic Book"/>
              </a:rPr>
              <a:t>Una buena estabilidad a la oxidación, que asegure una larga vida útil(aprox. 20 – 30 años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 txBox="1"/>
          <p:nvPr/>
        </p:nvSpPr>
        <p:spPr>
          <a:xfrm>
            <a:off x="285840" y="1499760"/>
            <a:ext cx="86868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Cambio de color: oscurecimi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Formación de sustancias polare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Formación de áci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Olor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Generación de lodo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La degeneración del aceite puede provocar un envejecimiento prematuro del aislante sólido (barniz, papel kraft, presspan, etc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1 Título" descr=""/>
          <p:cNvPicPr/>
          <p:nvPr/>
        </p:nvPicPr>
        <p:blipFill>
          <a:blip r:embed="rId2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2" descr=""/>
          <p:cNvPicPr/>
          <p:nvPr/>
        </p:nvPicPr>
        <p:blipFill>
          <a:blip r:embed="rId3"/>
          <a:srcRect l="18750" t="17811" r="12109" b="13753"/>
          <a:stretch/>
        </p:blipFill>
        <p:spPr>
          <a:xfrm>
            <a:off x="357120" y="1357200"/>
            <a:ext cx="842976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3200" spc="-1" strike="noStrike">
                <a:solidFill>
                  <a:srgbClr val="4e3b30"/>
                </a:solidFill>
                <a:latin typeface="Franklin Gothic Book"/>
              </a:rPr>
              <a:t>Un aceite limpio y seco tiene una alta rigidez dieléctrica (60 [KV/mm]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Método Analítico: IRAM 2341 o ASTM D 1816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Frecuencia: Anual o Semestral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&gt; 5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30 a 5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600" spc="-1" strike="noStrike">
                <a:solidFill>
                  <a:srgbClr val="4e3b30"/>
                </a:solidFill>
                <a:latin typeface="Franklin Gothic Book"/>
              </a:rPr>
              <a:t>&lt; 30 KV</a:t>
            </a:r>
            <a:endParaRPr b="0" lang="en-US" sz="2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1 Título" descr=""/>
          <p:cNvPicPr/>
          <p:nvPr/>
        </p:nvPicPr>
        <p:blipFill>
          <a:blip r:embed="rId2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700" spc="-1" strike="noStrike">
                <a:solidFill>
                  <a:srgbClr val="4e3b30"/>
                </a:solidFill>
                <a:latin typeface="Franklin Gothic Book"/>
              </a:rPr>
              <a:t>Un aceite con alta tensión interfacial será capaz de mantener elevada rigidez dieléctrica aunque el aceite incorpore agua. Un aceite con baja tensión interfacial no recuperará su rigidez aunque sea deshidratado y purificado.</a:t>
            </a: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Método Analítico: ASTM D 2285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Frecuencia: Anual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Interpretación de Resultados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Satisfactori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&gt; 3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Dudos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25 a 3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Insatisfactorio: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es-CL" sz="2200" spc="-1" strike="noStrike">
                <a:solidFill>
                  <a:srgbClr val="4e3b30"/>
                </a:solidFill>
                <a:latin typeface="Franklin Gothic Book"/>
              </a:rPr>
              <a:t>&lt; 25 dyn/cm</a:t>
            </a:r>
            <a:endParaRPr b="0" lang="en-US" sz="2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lberto Botteselle Doggenweiler</cp:lastModifiedBy>
  <dcterms:modified xsi:type="dcterms:W3CDTF">2008-09-22T00:18:53Z</dcterms:modified>
  <cp:revision>27</cp:revision>
  <dc:subject/>
  <dc:title>Diapositiva 1</dc:title>
</cp:coreProperties>
</file>