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6F2C-FC53-4042-BC09-E389EB59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FEC2-B832-4545-9376-0D50E6E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E1B0-087A-4CFE-8CDF-13C29781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3D0E-BE98-4B9E-B5EE-A1ED6973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AFA7-8D22-487C-ABAF-A6AFA397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E726-6574-411A-BFB1-2D8C555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751B-1B25-4AE3-918A-FD59015A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928F-0D92-4078-8666-4EFBB40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752-0096-47BF-9124-DFF6830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3538-96D2-48AF-ADD1-616511FC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8121-A9F0-4F9B-9161-E7AD9A5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B8C1-F868-4A4F-8037-CACED6DF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247-2084-4D3A-B8FF-948C244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3F63-E44C-49F0-A304-7EC961A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AB5C-8062-42E3-8F29-7A287219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1E9-5FA5-476D-AD40-950F98CF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DA1-C5BD-4E36-883C-1EB7ABFF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3D50-F2C7-4101-ABE8-4E0FFE0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E0F3-701F-4472-8FB9-C785690D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53BC-8995-40CF-962A-81E2B95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CFD4-3862-4F38-AF3E-A8030067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A55E-23D2-4645-A71D-8B77050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190F-0DF1-44D6-8F7D-D609361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BC17-88F7-4469-9972-353F895A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F6D1-B204-4DB2-86D4-9CE7C0D926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C03-F578-4D68-B096-968B85C86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Publicacion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Búsqueda en Internet y Contenido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emoria sobre 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Transformador de Corr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dfdef6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dfdef6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dfdef6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Índice 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be ser ordenado y lo más explicativo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Índice figuras, tablas, cuadro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s recomend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Es de mucha ayuda para una lectura guiada y ordenada. Sobretodo cuando no se necesita revisar la memoria en su tot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2803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s recomendable hacer una especie de introducción, de un párrafo, referida a lo que tratará el capítulo en cu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Los capítulos habituales se dividen en las siguientes temáticas. No necesariamente un sólo capítulo por s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ecisa pero comple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Marco te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Cualquier información preliminar que pueda servir a comprender lo que se desarrollará</a:t>
            </a:r>
            <a:r>
              <a:rPr b="1" i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esarrollo de la A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tallado y explicando los problemas que surgen en el cam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Cálculos complejos se omiten de esta sección y se citan  (siempre y cuando se entreguen como anex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anto resultados directos como los que fueron proce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Deben ser críticas y sinc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Deben dar pie a lo que se podría mejorar o bien agre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  <a:ea typeface="ＭＳ Ｐゴシック"/>
              </a:rPr>
              <a:t>Anexos o Apénd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álculos más complejos, algoritmos que no sean de interés de todo lecto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Criterios o procedimientos u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Hojas de datos de diferentes componentes u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Bibliograf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pleta, sin esconder nada de lo que se utiliz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Se arriesga plagio en caso de o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Transformadores de Corr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Proyecto de un Transformador de Corriente Tipo Barra Para 15 kV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Vicente Guzmán Aray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Santiago – Chi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196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Medir directamente corrientes alternas sobre los 50 A con voltajes sobre 1 kV es problem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C resuelve este problema al transformar una corriente primaria  a alto potencial en una secundaria proporcional a ella y a un potencial prácticamente de tier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Se utiliza una misma corriente secundaria (generalmente 5 A), cualquiera que sea la corriente prim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Permitieron la normalización de los aparatos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as de Búsque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 de Bibliote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buSzPct val="1061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Calibri"/>
              </a:rPr>
              <a:t>Propone un diseño de TC de las siguientes características, para energizar relays de protección de sistemas de 13,2 kV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Clase de aislaci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15 k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Tipo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Bar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Raz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250-500: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Precisi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2,5 L 100 (norma AS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Burde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25 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Frecuencia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50 H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Instalaci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Intemper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reve exposición de la teoría de los 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Importancia de la calidad de los aceros utilizados en la construcción de los 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nteproyec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Núcleo tipo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Núcleo cuad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406600" cy="2658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22525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Se elige la alternativa de núcleo tipo anil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Más livi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75"/>
              </a:spcBef>
              <a:buSzPct val="107451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alibri"/>
              </a:rPr>
              <a:t>Menos peso del núcleo (aprox. 50% del cuadrado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378936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Menos cos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alibri"/>
              </a:rPr>
              <a:t>Relación aprox. entre las planchas de acero de 1:1,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s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úcl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imen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Ais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rra Prim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Ais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Disposición General del 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ijación del núcleo a la c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istancia de la barra primaria a la base de la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ja de Conex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buSzPct val="1061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Calibri"/>
              </a:rPr>
              <a:t>Cálculos y verificaciones de funcionamien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Curva de comportamiento del T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Capacidad térmica de los enrollados al c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Capacidad mecánica de los enrollados al c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Temperatura de régimen con 120% de corriente nominal permanen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Funcionamiento con 120% de corriente nominal permanente y secundario abier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Análisis de Cos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Presentación de las especificaciones completas del 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7988400" cy="3740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Búsqueda Internet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2872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Red de Biblioteca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libri"/>
              </a:rPr>
              <a:t>bibliotecas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179280" y="2428920"/>
            <a:ext cx="8964720" cy="44290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332000" y="4076640"/>
            <a:ext cx="115236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4724280"/>
            <a:ext cx="115236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88000" y="4365720"/>
            <a:ext cx="1224000" cy="1081080"/>
          </a:xfrm>
          <a:prstGeom prst="rightArrow">
            <a:avLst>
              <a:gd name="adj1" fmla="val 63000"/>
              <a:gd name="adj2" fmla="val 30543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VP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Red de Biblioteca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Cybertesis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003320" y="2820960"/>
            <a:ext cx="8140680" cy="40370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423720" y="2979720"/>
            <a:ext cx="872028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Red de Biblioteca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 Be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39640" y="2655720"/>
            <a:ext cx="8604360" cy="4202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608040" y="2679840"/>
            <a:ext cx="8535960" cy="41781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68360" y="2421000"/>
            <a:ext cx="3816360" cy="1150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9640" y="5084640"/>
            <a:ext cx="3816360" cy="1150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2781360"/>
            <a:ext cx="3816360" cy="1150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2449440" y="2649600"/>
            <a:ext cx="6694560" cy="4208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564000" y="5445000"/>
            <a:ext cx="1657440" cy="72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Estruc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ítu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sumen o Abs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Í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pítu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nexos o Apé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ibliograf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Títu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be ser lo más corto posible,  pero debe interpretar fielmente el contenido del traba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Debe tratar de  evitarse  los títulos  demasiado  generales, que complican la denominación de cualquier  memoria posterior  en la misma á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  <a:ea typeface="ＭＳ Ｐゴシック"/>
              </a:rPr>
              <a:t>Resumen o Abstra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Junto con el título, son la parte más importante de una memoria, en lo referido a su legado post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Se explica en una plana de qué habla la memoria y cómo se desarrollará el tema a lo largo de los capítu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22T02:57:14Z</dcterms:modified>
  <cp:revision>45</cp:revision>
  <dc:subject/>
  <dc:title>Diapositiva 1</dc:title>
</cp:coreProperties>
</file>