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7D11-E304-44CA-99A7-5154B4CB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BCB7-6DFE-44C9-9FB5-EB71B178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EC94-4205-4B8F-BE49-C9E9C5C3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BD14-CE32-4D47-996B-D41BE753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E96-B96A-4E33-9799-6E735A94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C4A1-9040-4DE9-A865-511966B3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398C-50F4-4FD0-B432-BCC4229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E370-0B67-4678-A873-ACC03EE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705-417E-4B72-A781-50E798BA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3A6-CC0E-46E8-BBE2-57D40A7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C048-FF87-4267-8036-EB19BA5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AD1C-2CA3-4A28-A651-4051648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882-CBE9-47C7-96AE-0C2ADC0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AB19-A22C-422C-8E31-71A08203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3F9-35CC-4BFC-8B5A-060A347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58D-76CE-400E-B2B3-5C8E9D5E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C772-68B8-4158-97DC-4FA44010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ED92-C75C-4532-B2ED-BD431F0D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BCAF-6158-4815-A6BA-6290FB95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1897-BB0D-4318-8BAE-17480405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6561-E9CB-45C2-86CF-8602C247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D642-4D69-4E00-8567-D86687F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FEF7-3293-491C-BD8E-6495364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9629-8683-41DA-80D0-2A2A725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68A-574F-488A-881B-F383BC6F2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475F-C524-44FA-A414-C93F0C916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Publicacion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Búsqueda en Internet y Contenido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emoria sobre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Transformador de Corr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dfdef6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Índice 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be ser ordenado y lo más explicativo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Índice figuras, tablas, cuadro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s recomend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Es de mucha ayuda para una lectura guiada y ordenada. Sobretodo cuando no se necesita revisar la memoria en su tot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2803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s recomendable hacer una especie de introducción, de un párrafo, referida a lo que tratará el capítulo en cu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Los capítulos habituales se dividen en las siguientes temáticas. No necesariamente un sólo capítulo por s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ecisa pero comple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Marco te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Cualquier información preliminar que pueda servir a comprender lo que se desarrollará</a:t>
            </a:r>
            <a:r>
              <a:rPr b="1" i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esarrollo de la A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tallado y explicando los problemas que surgen en el cam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Cálculos complejos se omiten de esta sección y se citan  (siempre y cuando se entreguen como anex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Capítul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anto resultados directos como los que fueron proce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Deben ser críticas y sinc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Deben dar pie a lo que se podría mejorar o bien agr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  <a:ea typeface="ＭＳ Ｐゴシック"/>
              </a:rPr>
              <a:t>Anexos o Apénd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álculos más complejos, algoritmos que no sean de interés de todo lecto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Criterios o procedimientos u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Hojas de datos de diferentes componentes u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Bibliograf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pleta, sin esconder nada de lo que se utiliz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Se arriesga plagio en caso de o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Transformadores de Corr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Proyecto de un Transformador de Corriente Tipo Barra Para 15 k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Vicente Guzmán Aray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Santiago – Chi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Calibri"/>
              </a:rPr>
              <a:t>196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Medir directamente corrientes alternas sobre los 50 A con voltajes sobre 1 kV es problem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C resuelve este problema al transformar una corriente primaria  a alto potencial en una secundaria proporcional a ella y a un potencial prácticamente de tier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e utiliza una misma corriente secundaria (generalmente 5 A), cualquiera que sea la corriente prim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Permitieron la normalización de los aparatos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s de Bús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 de Bibliote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Calibri"/>
              </a:rPr>
              <a:t>Propone un diseño de TC de las siguientes características, para energizar relays de protección de sistemas de 13,2 kV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Clase de aislac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15 k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Tipo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Bar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Raz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50-500: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Precis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,5 L 100 (norma AS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Burde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25 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Frecuencia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50 H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Instalación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ffffff"/>
                </a:solidFill>
                <a:latin typeface="Calibri"/>
              </a:rPr>
              <a:t>Intemp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reve exposición de la teoría de los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Importancia de la calidad de los aceros utilizados en la construcción de los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nteproyec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Núcleo tipo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Núcleo cuad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406600" cy="2658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22525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e elige la alternativa de núcleo tipo anil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Más livi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75"/>
              </a:spcBef>
              <a:buSzPct val="10745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alibri"/>
              </a:rPr>
              <a:t>Menos peso del núcleo (aprox. 50% del cuadrado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378936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Menos cos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alibri"/>
              </a:rPr>
              <a:t>Relación aprox. entre las planchas de acero de 1:1,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s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úcl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men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is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rra Prim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is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Disposición General del 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ijación del núcleo a la c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stancia de la barra primaria a la base de la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ja de Conex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Calibri"/>
              </a:rPr>
              <a:t>Cálculos y verificaciones de funcionamien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urva de comportamiento del T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apacidad térmica de los enrollados al c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Capacidad mecánica de los enrollados al c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Temperatura de régimen con 120% de corriente nominal permanen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Calibri"/>
              </a:rPr>
              <a:t>Funcionamiento con 120% de corriente nominal permanente y secundario abier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Calibri"/>
              </a:rPr>
              <a:t>Tema de Memoria I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Análisis de Co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Presentación de las especificaciones completas del 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7988400" cy="3740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Búsqueda Internet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2872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Calibri"/>
              </a:rPr>
              <a:t>bibliotecas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79280" y="2428920"/>
            <a:ext cx="8964720" cy="44290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332000" y="4076640"/>
            <a:ext cx="115236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4724280"/>
            <a:ext cx="115236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88000" y="4365720"/>
            <a:ext cx="1224000" cy="1081080"/>
          </a:xfrm>
          <a:prstGeom prst="rightArrow">
            <a:avLst>
              <a:gd name="adj1" fmla="val 63000"/>
              <a:gd name="adj2" fmla="val 30543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VP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Cybertesis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003320" y="2820960"/>
            <a:ext cx="8140680" cy="40370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423720" y="2979720"/>
            <a:ext cx="872028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Calibri"/>
              </a:rPr>
              <a:t>Red de Biblioteca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39640" y="2655720"/>
            <a:ext cx="8604360" cy="4202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608040" y="2679840"/>
            <a:ext cx="8535960" cy="41781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68360" y="242100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508464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2781360"/>
            <a:ext cx="3816360" cy="1150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2449440" y="2649600"/>
            <a:ext cx="6694560" cy="4208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564000" y="5445000"/>
            <a:ext cx="1657440" cy="72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ítu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sumen o Abs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Í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pítu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nexos o Apé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ibliograf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</a:rPr>
              <a:t>Títu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be ser lo más corto posible,  pero debe interpretar fielmente el contenido del traba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Debe tratar de  evitarse  los títulos  demasiado  generales, que complican la denominación de cualquier  memoria posterior  en la misma á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fdef6"/>
                </a:solidFill>
                <a:latin typeface="Calibri"/>
                <a:ea typeface="ＭＳ Ｐゴシック"/>
              </a:rPr>
              <a:t>Resumen o Abstra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unto con el título, son la parte más importante de una memoria, en lo referido a su legado pos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 Se explica en una plana de qué habla la memoria y cómo se desarrollará el tema a lo largo de los capítu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22T02:57:14Z</dcterms:modified>
  <cp:revision>45</cp:revision>
  <dc:subject/>
  <dc:title>Diapositiva 1</dc:title>
</cp:coreProperties>
</file>