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D5C-2BCB-4FAB-81F8-C02CA50B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A3E2-F3D1-448B-8E40-1EE84EA8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7F8-EC13-4FFE-BBDA-F0EBAF79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062-7CB7-40DF-BF18-0686995D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A1E1-01EB-4F7E-AC35-1222E57A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519D-E98F-4A8B-B4DF-EB37FBB3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31E6-7836-44A8-B2E3-8C31A401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F431-2B1F-4776-A831-30E09066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A5B8-F645-473B-814B-C4D0A479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B5EC-938A-4FCB-9937-7F7E4356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D69E-B1FD-43BA-A1B8-08BEAF82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A61-BADE-4CAF-8F93-B12FF2A6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39FF-153D-460F-A377-9BE0CC95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89F8-FFC5-4D7B-9075-FDC402CB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7ECA-B4B9-4B27-BC1D-8BA2CDD1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E6EE-21EA-4702-863E-8D6618F2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6AFC-1AF7-4E35-82C1-65F84997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4A587-8457-452F-9507-C8A1E9D5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984A1-54DE-49AF-A434-42D5FD10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D67BB-0DEE-4D57-9888-15F3CCEE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E8B5A-2824-4272-8DA0-2885B1E6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2DE1B-0BA9-4E19-8641-A49D232B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371-2A71-462A-A75B-D42A0066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3BD41-0D00-4DC0-8C5C-A5BFC45F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45A32-0A7F-4F79-9C68-C0DACD97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1845F-69B1-434A-9784-7EBE0588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D8451-6D7B-4A83-8FC6-DBD519EE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3A3C9-31DD-4BDD-8D7C-DB378A24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3FA55-B045-4F69-809C-92461107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1D898-2637-4661-A6AE-1E4C11AA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D9FD0-4FCD-4EE2-88D8-9782AF00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B242E-3929-4F68-85D4-CA8AD8E3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D378E-0299-4573-8CA4-ADB6CF59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3F65-F088-40A2-950D-525A908D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6B686-63C1-4F33-899D-9BF15B79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DB9C7-9185-4A73-9A02-72860F7B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1FF26-F6B4-4352-B2F6-2433AEDE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60258-8E75-4366-AA60-9942E10E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E5495-F830-411D-9717-C8DA9174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F6A41-31DC-4F18-B89B-FB3EB654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B6BF8-48D8-4B2D-832E-6689D944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314C5-55F2-41E1-943D-D4AC87B5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F10F6-F452-4D46-8F22-424D82A3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1449-A42B-4CEA-9507-C0591793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15D7-FE73-40B3-A093-AC987CD9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CAE-6BD8-41FF-9354-7F800A21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0B7-5280-4C85-AA23-1B666862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97F-8E29-475E-86CC-71919C16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F339-E1E2-44F0-AD4C-99BED7CBC362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8594-C186-4CA9-99B6-997026244260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2EC3-F77A-4A94-B472-754B89EB8D6E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2DE7-EDDB-4791-ACA7-AD910A0D98EA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Alejandro Vásquez 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José Miguel Vera 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ller de diseño en Sistemas de Potencia I.</a:t>
            </a: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as de venta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(I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957240" y="1143000"/>
            <a:ext cx="6578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as de venta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(II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785880" y="1928880"/>
            <a:ext cx="7858080" cy="336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5" name="4 CuadroTexto"/>
          <p:cNvSpPr/>
          <p:nvPr/>
        </p:nvSpPr>
        <p:spPr>
          <a:xfrm>
            <a:off x="3643200" y="557208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Fuente: Chilnet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tálogo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(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214200" y="1500120"/>
            <a:ext cx="8648640" cy="4714920"/>
          </a:xfrm>
          <a:prstGeom prst="rect">
            <a:avLst/>
          </a:prstGeom>
          <a:ln w="0">
            <a:noFill/>
          </a:ln>
        </p:spPr>
      </p:pic>
      <p:sp>
        <p:nvSpPr>
          <p:cNvPr id="228" name="4 CuadroTexto"/>
          <p:cNvSpPr/>
          <p:nvPr/>
        </p:nvSpPr>
        <p:spPr>
          <a:xfrm>
            <a:off x="4714920" y="642924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Fuente: Ulbrich (méx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tálogo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(I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1143000" y="1689120"/>
            <a:ext cx="6929280" cy="4635360"/>
          </a:xfrm>
          <a:prstGeom prst="rect">
            <a:avLst/>
          </a:prstGeom>
          <a:ln w="0">
            <a:noFill/>
          </a:ln>
        </p:spPr>
      </p:pic>
      <p:sp>
        <p:nvSpPr>
          <p:cNvPr id="231" name="4 CuadroTexto"/>
          <p:cNvSpPr/>
          <p:nvPr/>
        </p:nvSpPr>
        <p:spPr>
          <a:xfrm>
            <a:off x="4071960" y="12142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Fuente: Sintecrom (Argent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atos relevan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dificación en alguna Norm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didas en el núcleo. Dato fundamental para el diseñ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4: acero al silicio más común en Empresas chilenas que lo requieren (fabricantes de transformadore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19: acero al silicio no orientado más común. No se usa en Chil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Seria todo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regunt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Dud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ontenid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>
              <a:lnSpc>
                <a:spcPct val="200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otiv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terias prim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ceso de fabric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to fin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ormas de ven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tálog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atos relevan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Motiv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El Acero Silicoso (Silicon Stee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Usado desde pequeños relés hasta grandes motore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esponde a las continuas necesidades de bajar las pérdidas para minimizar el tamaño de equipo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Presente en dos variedades: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Grano Orienta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Grano No Orienta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Materias Prim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Hierro (para generar acero) y el Sil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Son elementos muy abundantes en la naturaleza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No están en forma pura, deben ser procesados mediante hornos y procesos químico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La proporción de ambos elementos típicamente es de un 3% de Silicio y el resto en Acero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Proceso de Fabricación (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2 Marcador de contenido" descr=""/>
          <p:cNvPicPr/>
          <p:nvPr/>
        </p:nvPicPr>
        <p:blipFill>
          <a:blip r:embed="rId2"/>
          <a:stretch/>
        </p:blipFill>
        <p:spPr>
          <a:xfrm>
            <a:off x="371520" y="1925640"/>
            <a:ext cx="8321760" cy="5499000"/>
          </a:xfrm>
          <a:prstGeom prst="rect">
            <a:avLst/>
          </a:prstGeom>
          <a:ln w="0">
            <a:noFill/>
          </a:ln>
        </p:spPr>
      </p:pic>
      <p:sp>
        <p:nvSpPr>
          <p:cNvPr id="205" name="3 Flecha abajo"/>
          <p:cNvSpPr/>
          <p:nvPr/>
        </p:nvSpPr>
        <p:spPr>
          <a:xfrm>
            <a:off x="3786120" y="3500280"/>
            <a:ext cx="64296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4 Flecha abajo"/>
          <p:cNvSpPr/>
          <p:nvPr/>
        </p:nvSpPr>
        <p:spPr>
          <a:xfrm>
            <a:off x="4000680" y="4572000"/>
            <a:ext cx="285480" cy="42876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Flecha derecha"/>
          <p:cNvSpPr/>
          <p:nvPr/>
        </p:nvSpPr>
        <p:spPr>
          <a:xfrm>
            <a:off x="3429000" y="5214960"/>
            <a:ext cx="357120" cy="7128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Proceso de Fabricación (I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Refinado del Sil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15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Minerales con Óxido de Silicio     o     Silicato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(Sílic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HORNO DE ARCO ELECTRICO(3000º C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Silicio al 99% de purez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Acero Silico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47200" indent="-207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4 Flecha doblada hacia arriba"/>
          <p:cNvSpPr/>
          <p:nvPr/>
        </p:nvSpPr>
        <p:spPr>
          <a:xfrm rot="5400000">
            <a:off x="2678760" y="3321720"/>
            <a:ext cx="714600" cy="64296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5 Flecha doblada"/>
          <p:cNvSpPr/>
          <p:nvPr/>
        </p:nvSpPr>
        <p:spPr>
          <a:xfrm rot="10800000">
            <a:off x="4785840" y="4285800"/>
            <a:ext cx="357480" cy="42876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l Producto Final (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Propieda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2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Aumento de resistividad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5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Disminuye pérdidas de histéresi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5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Incrementa permeabilidad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5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Mejora en la Temperatura de Curi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l Producto Final (I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Grano Orientado (M-3 hasta M-14/ 3.25% S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Transformadores de distribución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Generadores de turbinas a vapor (y otros)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Grano No-Orientado (M-15-∞/ 0.5 a 3.25% S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Máquinas rotatoria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elés (1.25% a 2.5% de Si)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Láminas larga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as de venta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(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2071800"/>
            <a:ext cx="8229600" cy="21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cero Silicoso grano orientado y no orientado: en Rollos o laminado: EI para transformad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to exclusivo de importación: grano orient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cipales productores: China, Japón, Estados unid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3 Imagen" descr="silicio_foto.gif"/>
          <p:cNvPicPr/>
          <p:nvPr/>
        </p:nvPicPr>
        <p:blipFill>
          <a:blip r:embed="rId2"/>
          <a:stretch/>
        </p:blipFill>
        <p:spPr>
          <a:xfrm>
            <a:off x="857160" y="4071960"/>
            <a:ext cx="2930760" cy="2286000"/>
          </a:xfrm>
          <a:prstGeom prst="rect">
            <a:avLst/>
          </a:prstGeom>
          <a:ln w="0">
            <a:noFill/>
          </a:ln>
        </p:spPr>
      </p:pic>
      <p:pic>
        <p:nvPicPr>
          <p:cNvPr id="219" name="4 Imagen" descr="acero laminas.jpg"/>
          <p:cNvPicPr/>
          <p:nvPr/>
        </p:nvPicPr>
        <p:blipFill>
          <a:blip r:embed="rId3"/>
          <a:stretch/>
        </p:blipFill>
        <p:spPr>
          <a:xfrm>
            <a:off x="5072040" y="4000680"/>
            <a:ext cx="2857680" cy="2286000"/>
          </a:xfrm>
          <a:prstGeom prst="rect">
            <a:avLst/>
          </a:prstGeom>
          <a:ln w="0">
            <a:noFill/>
          </a:ln>
        </p:spPr>
      </p:pic>
      <p:sp>
        <p:nvSpPr>
          <p:cNvPr id="220" name="5 CuadroTexto"/>
          <p:cNvSpPr/>
          <p:nvPr/>
        </p:nvSpPr>
        <p:spPr>
          <a:xfrm>
            <a:off x="2714760" y="65008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Fuente: Sintec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23:34:37Z</dcterms:created>
  <dc:creator>José Miguel</dc:creator>
  <dc:description/>
  <dc:language>en-US</dc:language>
  <cp:lastModifiedBy>Alberto Botteselle Doggenweiler</cp:lastModifiedBy>
  <dcterms:modified xsi:type="dcterms:W3CDTF">2008-09-22T02:48:15Z</dcterms:modified>
  <cp:revision>32</cp:revision>
  <dc:subject/>
  <dc:title>Diapositiva 1</dc:title>
</cp:coreProperties>
</file>