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109-5257-4228-8420-182D7CAC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B09-4A21-4729-A531-88D7F8C8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D75-E586-4202-BFF8-D0FB6897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2F7-DB56-446F-82AF-9B6969C5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CF72-15A0-4F7B-8F99-39F603F1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0922-9064-4B15-8E6D-743E9A81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79D6-0B84-4ACC-A277-EFEBDDF2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0BD9-D840-4FC2-8ADE-74090140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A78B-01EB-415B-A3E3-02988C12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80C3-85B5-407B-A78B-AD4CEC63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085F-7710-4E02-9AC4-37E5DBD6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F4C-FEEA-4AFA-8A90-1C2AD2D8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D7E5-3095-46E1-A58F-69F22BFB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DABD-003F-471E-A567-74DA9A3D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E0CB-4022-4693-9D75-4F5E3FED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2E32-CA28-43C3-B417-B3CD0511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F848-0C26-48B2-83F1-BAD56897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AAD26-636F-4163-85C6-9BB2A83E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12B3E-B23B-405D-AA19-0933A62C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AC87-DAD5-4F9E-B078-C2A82BEF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E9C57-E747-4C0F-A902-3F250DF3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9551-06B6-40D4-B150-C642AB58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E92-3644-4A64-AAB6-E3B6BCED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146B4-C5B4-445A-A0CE-2C466ACF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D2686-248D-4C03-A471-2CB94710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EB917-0EA6-499E-8EEA-7A954B40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466AF-6A1E-4E80-B702-57E05E1A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751F-F229-4D3A-8C4B-881C1DA3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96596-21E0-4E75-BD5E-17C78C19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363B8-EB83-4663-BD0C-2E465C93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71EEC-6231-4AB0-AF78-F552FDD5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DBEA9-F7BE-4E7B-8870-3BBE51C8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18C4-3705-44A6-89AE-26439B2A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52E-D35B-42DC-88DC-D1F34615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70A46-702B-43B9-B5DC-9B04BF68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EE45A-7A65-4F57-8F41-D8F065E5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A83CB-50EA-43AF-8560-BA4FFE55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98E4-4D60-4AB2-A558-E4D27B61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A458C-525B-45D3-9377-E43284CA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2D53D-5657-4E76-BD4B-2A5AD903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45E10-9F69-473D-9CF3-53864923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67A3-F054-4B3C-A754-7538F6B8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981F7-DC34-4BEB-BDE1-BFB264E7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612-A4BA-49BD-BF5E-C5B1F1A1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90A-0821-4B82-9E29-6D04288D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2F4-0530-4B0E-A314-971BA0E3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D11-E3B3-40B6-8A51-139F9354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D63-392F-4AEE-BBAB-2EC6C6BD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3C50-42C9-42ED-BA8E-CE66F4D13DEC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63F0-B745-45FA-8C82-0B4A89A3D345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0A5D-C81B-4EE6-AEC9-B92222C98106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DA5F-B02D-4C6A-90A9-4A1086ED3191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Alejandro Vásquez 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José Miguel Vera 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ller de diseño en Sistemas de Potencia I.</a:t>
            </a: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as de vent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957240" y="1143000"/>
            <a:ext cx="6578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as de vent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858080" cy="336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5" name="4 CuadroTexto"/>
          <p:cNvSpPr/>
          <p:nvPr/>
        </p:nvSpPr>
        <p:spPr>
          <a:xfrm>
            <a:off x="3643200" y="55720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Chilnet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tálogo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8648640" cy="4714920"/>
          </a:xfrm>
          <a:prstGeom prst="rect">
            <a:avLst/>
          </a:prstGeom>
          <a:ln w="0">
            <a:noFill/>
          </a:ln>
        </p:spPr>
      </p:pic>
      <p:sp>
        <p:nvSpPr>
          <p:cNvPr id="228" name="4 CuadroTexto"/>
          <p:cNvSpPr/>
          <p:nvPr/>
        </p:nvSpPr>
        <p:spPr>
          <a:xfrm>
            <a:off x="4714920" y="6429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Ulbrich (méx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tálogo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1143000" y="1689120"/>
            <a:ext cx="6929280" cy="4635360"/>
          </a:xfrm>
          <a:prstGeom prst="rect">
            <a:avLst/>
          </a:prstGeom>
          <a:ln w="0">
            <a:noFill/>
          </a:ln>
        </p:spPr>
      </p:pic>
      <p:sp>
        <p:nvSpPr>
          <p:cNvPr id="231" name="4 CuadroTexto"/>
          <p:cNvSpPr/>
          <p:nvPr/>
        </p:nvSpPr>
        <p:spPr>
          <a:xfrm>
            <a:off x="4071960" y="1214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Sintecrom (Argent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relevan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dificación en alguna Nor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didas en el núcleo. Dato fundamental para el diseñ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4: acero al silicio más común en Empresas chilenas que lo requieren (fabricantes de transformadore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19: acero al silicio no orientado más común. No se usa en Chi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eria todo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regunt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Dud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nteni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lnSpc>
                <a:spcPct val="20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otiv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terias pri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ceso de fabric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to fi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mas de ven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tálog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tos relevan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Motiv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l Acero Silicoso (Silicon Stee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Usado desde pequeños relés hasta grandes motore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esponde a las continuas necesidades de bajar las pérdidas para minimizar el tamaño de equip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Presente en dos variedades: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Grano Orient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Grano No Orient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Materias Prim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Hierro (para generar acero) y el Sil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Son elementos muy abundantes en la naturalez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o están en forma pura, deben ser procesados mediante hornos y procesos químic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La proporción de ambos elementos típicamente es de un 3% de Silicio y el resto en Acer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roceso de Fabricación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2 Marcador de contenido" descr=""/>
          <p:cNvPicPr/>
          <p:nvPr/>
        </p:nvPicPr>
        <p:blipFill>
          <a:blip r:embed="rId2"/>
          <a:stretch/>
        </p:blipFill>
        <p:spPr>
          <a:xfrm>
            <a:off x="371520" y="1925640"/>
            <a:ext cx="8321760" cy="5499000"/>
          </a:xfrm>
          <a:prstGeom prst="rect">
            <a:avLst/>
          </a:prstGeom>
          <a:ln w="0">
            <a:noFill/>
          </a:ln>
        </p:spPr>
      </p:pic>
      <p:sp>
        <p:nvSpPr>
          <p:cNvPr id="205" name="3 Flecha abajo"/>
          <p:cNvSpPr/>
          <p:nvPr/>
        </p:nvSpPr>
        <p:spPr>
          <a:xfrm>
            <a:off x="3786120" y="3500280"/>
            <a:ext cx="6429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4 Flecha abajo"/>
          <p:cNvSpPr/>
          <p:nvPr/>
        </p:nvSpPr>
        <p:spPr>
          <a:xfrm>
            <a:off x="4000680" y="4572000"/>
            <a:ext cx="285480" cy="42876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lecha derecha"/>
          <p:cNvSpPr/>
          <p:nvPr/>
        </p:nvSpPr>
        <p:spPr>
          <a:xfrm>
            <a:off x="3429000" y="5214960"/>
            <a:ext cx="357120" cy="712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roceso de Fabricación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Refinado del Sil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inerales con Óxido de Silicio     o     Silicat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(Sílic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HORNO DE ARCO ELECTRICO(3000º C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Silicio al 99% de purez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cero Silico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4 Flecha doblada hacia arriba"/>
          <p:cNvSpPr/>
          <p:nvPr/>
        </p:nvSpPr>
        <p:spPr>
          <a:xfrm rot="5400000">
            <a:off x="2678760" y="3321720"/>
            <a:ext cx="714600" cy="6429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5 Flecha doblada"/>
          <p:cNvSpPr/>
          <p:nvPr/>
        </p:nvSpPr>
        <p:spPr>
          <a:xfrm rot="10800000">
            <a:off x="4785840" y="4285800"/>
            <a:ext cx="357480" cy="4287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l Producto Final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Propieda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2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Aumento de resistivida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Disminuye pérdidas de histéresi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Incrementa permeabilida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ejora en la Temperatura de Curi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l Producto Final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Grano Orientado (M-3 hasta M-14/ 3.25% S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ransformadores de distribución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Generadores de turbinas a vapor (y otros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Grano No-Orientado (M-15-∞/ 0.5 a 3.25% S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áquinas rotatoria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elés (1.25% a 2.5% de Si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Láminas larga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as de vent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2071800"/>
            <a:ext cx="822960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ero Silicoso grano orientado y no orientado: en Rollos o laminado: EI para transformad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to exclusivo de importación: grano orien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ales productores: China, Japón, Estados uni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3 Imagen" descr="silicio_foto.gif"/>
          <p:cNvPicPr/>
          <p:nvPr/>
        </p:nvPicPr>
        <p:blipFill>
          <a:blip r:embed="rId2"/>
          <a:stretch/>
        </p:blipFill>
        <p:spPr>
          <a:xfrm>
            <a:off x="857160" y="4071960"/>
            <a:ext cx="293076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4 Imagen" descr="acero laminas.jpg"/>
          <p:cNvPicPr/>
          <p:nvPr/>
        </p:nvPicPr>
        <p:blipFill>
          <a:blip r:embed="rId3"/>
          <a:stretch/>
        </p:blipFill>
        <p:spPr>
          <a:xfrm>
            <a:off x="5072040" y="400068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5 CuadroTexto"/>
          <p:cNvSpPr/>
          <p:nvPr/>
        </p:nvSpPr>
        <p:spPr>
          <a:xfrm>
            <a:off x="2714760" y="65008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Sintec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23:34:37Z</dcterms:created>
  <dc:creator>José Miguel</dc:creator>
  <dc:description/>
  <dc:language>en-US</dc:language>
  <cp:lastModifiedBy>Alberto Botteselle Doggenweiler</cp:lastModifiedBy>
  <dcterms:modified xsi:type="dcterms:W3CDTF">2008-09-22T02:48:15Z</dcterms:modified>
  <cp:revision>32</cp:revision>
  <dc:subject/>
  <dc:title>Diapositiva 1</dc:title>
</cp:coreProperties>
</file>