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BAAF-36F8-4C6B-9951-4780BE1D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855B-7304-4BF5-9A2F-D5548800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DFD1-6498-4AC3-9C25-B2FFE29D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779-B4AF-4AB8-A91B-9F8AE5BF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33A5-017D-44D8-B521-E5155F58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FE82-F49C-4835-A6A6-1DF7C70D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79E6-B47E-41AE-BA47-B847F33C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5D89-EA91-4B8C-A524-6381EC23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72D1-8C63-4D99-8E0F-FE1F4DAB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ADA3-751F-4C9D-AA4E-B6749ECC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BDDE-4632-4E2C-B98E-BBD746B2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E4A9-5D42-450B-875E-86C16F3B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8011-6B34-4BB3-8E10-9A92C35F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75ED-1398-4FCD-88D5-352FF467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2E2B-AA44-4130-89C0-28324292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F285-2674-4865-A134-4E7AAFFB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68AA-B1B3-4106-8ED6-98773533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B8544-C69A-41BD-A544-9577733B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3FC06-41D0-4279-BFAE-DCC0734E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A2415-ED87-4115-A9A9-9C691EE5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C0B9E-896A-48AE-BD82-59386F6D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1DF7F-7512-4C6B-903C-1405B8DA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EAFC-428F-4AA7-955B-88A90C9F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5B76A-CB51-41C5-9D7C-342320AE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93561-ACA1-4642-B381-D818B579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D71D0-1FD4-40A4-890A-FDD70A85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2954B-C443-40A6-A424-26F760AD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C8380-F752-4BC6-B05D-BC64335C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0FCE1-1104-4CE3-BDC4-BF116CFE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C443A-BB2E-4319-B48B-0ABFC84F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9B3A6-FAD9-4345-BF0A-A449FA2D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DDD9A-00B5-4DBB-98BD-E53919BA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7602D-F6E6-427F-B934-D836B9CF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E24B-7359-4B0E-BBD7-A412E752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72A4A-5077-4A50-B9E2-0797198B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1F1CD-6BC5-4722-8795-F8535190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9BDC6-1D50-48FD-AE39-1071DB0C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8284F-A08F-4932-83DB-37BF59F0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08BF3-43B6-432B-BE31-5E007742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F27FE-DDCB-476B-A706-F9E6D7D0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FE010-CF72-4061-89AD-3EF08C6F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AD764-1191-40CD-97E5-4187E02A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29781-2217-4FAA-9919-48509A34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DC42-C140-407E-A297-BCE30B92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EE63-74DE-40F1-A768-BAC9A3E6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6ED-DDCA-465B-BBF2-3C2F1AB9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B1DA-646F-4C3F-89A4-AF44B4C1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C2CE-F088-449B-8F34-61A4D517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8FAF-94DF-4559-BB04-6B3B4D0C1779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6307-A7A7-4A33-AFDB-BBEB654595DA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41FA-7D71-41F4-839C-83F8D1F71DBF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4393-B8D1-4BD6-ABAC-968B8AD0F3F9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Alejandro Vásquez 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José Miguel Vera 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ller de diseño en Sistemas de Potencia I.</a:t>
            </a: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ormas de venta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 (I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957240" y="1143000"/>
            <a:ext cx="6578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ormas de venta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 (II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785880" y="1928880"/>
            <a:ext cx="7858080" cy="336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5" name="4 CuadroTexto"/>
          <p:cNvSpPr/>
          <p:nvPr/>
        </p:nvSpPr>
        <p:spPr>
          <a:xfrm>
            <a:off x="3643200" y="557208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Fuente: Chilnet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tálogo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 (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214200" y="1500120"/>
            <a:ext cx="8648640" cy="4714920"/>
          </a:xfrm>
          <a:prstGeom prst="rect">
            <a:avLst/>
          </a:prstGeom>
          <a:ln w="0">
            <a:noFill/>
          </a:ln>
        </p:spPr>
      </p:pic>
      <p:sp>
        <p:nvSpPr>
          <p:cNvPr id="228" name="4 CuadroTexto"/>
          <p:cNvSpPr/>
          <p:nvPr/>
        </p:nvSpPr>
        <p:spPr>
          <a:xfrm>
            <a:off x="4714920" y="642924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Fuente: Ulbrich (méx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tálogo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 (I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1143000" y="1689120"/>
            <a:ext cx="6929280" cy="4635360"/>
          </a:xfrm>
          <a:prstGeom prst="rect">
            <a:avLst/>
          </a:prstGeom>
          <a:ln w="0">
            <a:noFill/>
          </a:ln>
        </p:spPr>
      </p:pic>
      <p:sp>
        <p:nvSpPr>
          <p:cNvPr id="231" name="4 CuadroTexto"/>
          <p:cNvSpPr/>
          <p:nvPr/>
        </p:nvSpPr>
        <p:spPr>
          <a:xfrm>
            <a:off x="4071960" y="12142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Fuente: Sintecrom (Argent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atos relevan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dificación en alguna Norm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didas en el núcleo. Dato fundamental para el diseñ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4: acero al silicio más común en Empresas chilenas que lo requieren (fabricantes de transformadore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19: acero al silicio no orientado más común. No se usa en Chil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Seria todo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Pregunt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Dud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ontenid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46240">
              <a:lnSpc>
                <a:spcPct val="200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otiv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aterias prim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ceso de fabric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ducto fin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ormas de ven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tálog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atos relevan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Motiv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El Acero Silicoso (Silicon Stee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Usado desde pequeños relés hasta grandes motore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Responde a las continuas necesidades de bajar las pérdidas para minimizar el tamaño de equipo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Presente en dos variedades: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Grano Orienta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Grano No Orienta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Materias Prim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Hierro (para generar acero) y el Silic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Son elementos muy abundantes en la naturaleza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No están en forma pura, deben ser procesados mediante hornos y procesos químico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La proporción de ambos elementos típicamente es de un 3% de Silicio y el resto en Acero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Proceso de Fabricación (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2 Marcador de contenido" descr=""/>
          <p:cNvPicPr/>
          <p:nvPr/>
        </p:nvPicPr>
        <p:blipFill>
          <a:blip r:embed="rId2"/>
          <a:stretch/>
        </p:blipFill>
        <p:spPr>
          <a:xfrm>
            <a:off x="371520" y="1925640"/>
            <a:ext cx="8321760" cy="5499000"/>
          </a:xfrm>
          <a:prstGeom prst="rect">
            <a:avLst/>
          </a:prstGeom>
          <a:ln w="0">
            <a:noFill/>
          </a:ln>
        </p:spPr>
      </p:pic>
      <p:sp>
        <p:nvSpPr>
          <p:cNvPr id="205" name="3 Flecha abajo"/>
          <p:cNvSpPr/>
          <p:nvPr/>
        </p:nvSpPr>
        <p:spPr>
          <a:xfrm>
            <a:off x="3786120" y="3500280"/>
            <a:ext cx="64296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4 Flecha abajo"/>
          <p:cNvSpPr/>
          <p:nvPr/>
        </p:nvSpPr>
        <p:spPr>
          <a:xfrm>
            <a:off x="4000680" y="4572000"/>
            <a:ext cx="285480" cy="42876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Flecha derecha"/>
          <p:cNvSpPr/>
          <p:nvPr/>
        </p:nvSpPr>
        <p:spPr>
          <a:xfrm>
            <a:off x="3429000" y="5214960"/>
            <a:ext cx="357120" cy="7128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Proceso de Fabricación (I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Refinado del Silic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15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Minerales con Óxido de Silicio     o     Silicato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(Sílic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HORNO DE ARCO ELECTRICO(3000º C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Silicio al 99% de purez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Acero Silicos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4 Flecha doblada hacia arriba"/>
          <p:cNvSpPr/>
          <p:nvPr/>
        </p:nvSpPr>
        <p:spPr>
          <a:xfrm rot="5400000">
            <a:off x="2678760" y="3321720"/>
            <a:ext cx="714600" cy="64296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5 Flecha doblada"/>
          <p:cNvSpPr/>
          <p:nvPr/>
        </p:nvSpPr>
        <p:spPr>
          <a:xfrm rot="10800000">
            <a:off x="4785840" y="4285800"/>
            <a:ext cx="357480" cy="42876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El Producto Final (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Propieda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2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Aumento de resistividad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5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Disminuye pérdidas de histéresi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5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Incrementa permeabilidad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5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Mejora en la Temperatura de Curie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El Producto Final (I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Grano Orientado (M-3 hasta M-14/ 3.25% S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Transformadores de distribución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Generadores de turbinas a vapor (y otros)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Grano No-Orientado (M-15-∞/ 0.5 a 3.25% S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Máquinas rotatoria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Relés (1.25% a 2.5% de Si)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Láminas larga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ormas de venta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 (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2071800"/>
            <a:ext cx="8229600" cy="21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cero Silicoso grano orientado y no orientado: en Rollos o laminado: EI para transformad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ducto exclusivo de importación: grano orient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cipales productores: China, Japón, Estados unid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3 Imagen" descr="silicio_foto.gif"/>
          <p:cNvPicPr/>
          <p:nvPr/>
        </p:nvPicPr>
        <p:blipFill>
          <a:blip r:embed="rId2"/>
          <a:stretch/>
        </p:blipFill>
        <p:spPr>
          <a:xfrm>
            <a:off x="857160" y="4071960"/>
            <a:ext cx="2930760" cy="2286000"/>
          </a:xfrm>
          <a:prstGeom prst="rect">
            <a:avLst/>
          </a:prstGeom>
          <a:ln w="0">
            <a:noFill/>
          </a:ln>
        </p:spPr>
      </p:pic>
      <p:pic>
        <p:nvPicPr>
          <p:cNvPr id="219" name="4 Imagen" descr="acero laminas.jpg"/>
          <p:cNvPicPr/>
          <p:nvPr/>
        </p:nvPicPr>
        <p:blipFill>
          <a:blip r:embed="rId3"/>
          <a:stretch/>
        </p:blipFill>
        <p:spPr>
          <a:xfrm>
            <a:off x="5072040" y="4000680"/>
            <a:ext cx="2857680" cy="2286000"/>
          </a:xfrm>
          <a:prstGeom prst="rect">
            <a:avLst/>
          </a:prstGeom>
          <a:ln w="0">
            <a:noFill/>
          </a:ln>
        </p:spPr>
      </p:pic>
      <p:sp>
        <p:nvSpPr>
          <p:cNvPr id="220" name="5 CuadroTexto"/>
          <p:cNvSpPr/>
          <p:nvPr/>
        </p:nvSpPr>
        <p:spPr>
          <a:xfrm>
            <a:off x="2714760" y="65008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Fuente: Sintec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23:34:37Z</dcterms:created>
  <dc:creator>José Miguel</dc:creator>
  <dc:description/>
  <dc:language>en-US</dc:language>
  <cp:lastModifiedBy>Alberto Botteselle Doggenweiler</cp:lastModifiedBy>
  <dcterms:modified xsi:type="dcterms:W3CDTF">2008-09-22T02:48:15Z</dcterms:modified>
  <cp:revision>32</cp:revision>
  <dc:subject/>
  <dc:title>Diapositiva 1</dc:title>
</cp:coreProperties>
</file>