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0D0-6E39-49D1-B569-61E240E6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DF5-8423-4EE4-B41F-B8C72F8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702-4ECC-4587-83BC-EACCBA83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819-B9C9-4850-9EBC-BA9689CC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7D5-B67C-4F7B-A3E2-8B99FFA9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9273-F589-40F3-A1A6-E07A81A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E6C3-0C0A-45CC-A74F-491F9576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DF67-DDED-4B65-8924-FAA0A57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CD9F-AA07-4EFC-A1AC-D26CA2D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775E-5841-4664-A44D-0E63C9E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9606-3B30-4739-831A-562EA38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5C9-3207-4EC2-B507-25B3C855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9106-3B49-4FC4-9180-6F332F0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C7C3-7DBA-4362-B1F6-DE6DBAE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A48-B3AA-4AB3-9B05-79DF0B69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B56-E966-422B-9813-3AFE951F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BFE0-978E-4AEA-97C5-8427E18C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F67F-C0A7-4B9F-BFFD-EB6EDA9C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43E2-B1AB-4B17-8630-5DB0BD32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89656-F283-4E2A-BE30-03DF54C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E0A5-F702-43FD-B468-8AC00A4C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412B-2C25-4075-84E6-D892E17B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CEA-F09F-4312-855D-DBA0C8CC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FE03-6B6B-4321-8039-4C019A2B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5509-B061-4A35-81A3-B9FCFE4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BEB9-4F66-4A7E-B3A5-2FB1A66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CCE0-C00D-4619-9DDD-8E5551D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D059-1A05-4082-964A-32D6AB79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4AAD-B68E-435D-B6EA-BD0C41E2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6267-6431-4C9A-9A6B-05A7246C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682F-67F0-421C-92F6-DF992DD8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3DA2-1EB0-48E9-A258-1655F17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722F-FDBA-44FB-B4E1-5506ADB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886-3B29-4E2E-9649-2D739F15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AF17-B452-4C80-91F6-6B32564C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32D8-FAB2-417B-A6D9-FCD356B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91AF0-B62D-47D7-B674-CA5BC38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CF51-7F7B-438B-AA07-A3F8BFD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B338-722C-4880-96F3-5290D32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DB6E-843D-45AB-A6FA-0AEFD15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F80D-09CB-4102-8677-38ACF61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FD2C-97BF-4456-BFB6-09ABD074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4B5A-DB02-43E2-8179-402440B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2B1-9EB0-4819-9448-50AB705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53F-ECF3-4FBD-B062-57E22F0E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C98-C042-4CDD-8CBD-FEBEA60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963-4A4E-4C9F-B129-DD52EB8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1FF-6E9F-4FDB-A85B-D200E5E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62E-8DF4-4237-B980-925E6356CED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D74-7380-4001-AAAE-78B0D2BBFBE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6EE-379B-42B5-AE28-30B25459BA42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C13-3986-4FB0-A7A5-5269956DBAB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de diseño en Sistemas de Potencia I.</a:t>
            </a: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957240" y="1143000"/>
            <a:ext cx="65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858080" cy="33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4 CuadroTexto"/>
          <p:cNvSpPr/>
          <p:nvPr/>
        </p:nvSpPr>
        <p:spPr>
          <a:xfrm>
            <a:off x="3643200" y="5572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Chilnet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648640" cy="4714920"/>
          </a:xfrm>
          <a:prstGeom prst="rect">
            <a:avLst/>
          </a:prstGeom>
          <a:ln w="0">
            <a:noFill/>
          </a:ln>
        </p:spPr>
      </p:pic>
      <p:sp>
        <p:nvSpPr>
          <p:cNvPr id="228" name="4 CuadroTexto"/>
          <p:cNvSpPr/>
          <p:nvPr/>
        </p:nvSpPr>
        <p:spPr>
          <a:xfrm>
            <a:off x="4714920" y="6429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Ulbrich (méx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143000" y="1689120"/>
            <a:ext cx="6929280" cy="4635360"/>
          </a:xfrm>
          <a:prstGeom prst="rect">
            <a:avLst/>
          </a:prstGeom>
          <a:ln w="0">
            <a:noFill/>
          </a:ln>
        </p:spPr>
      </p:pic>
      <p:sp>
        <p:nvSpPr>
          <p:cNvPr id="231" name="4 CuadroTexto"/>
          <p:cNvSpPr/>
          <p:nvPr/>
        </p:nvSpPr>
        <p:spPr>
          <a:xfrm>
            <a:off x="4071960" y="1214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 (Argen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releva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dificación en algun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didas en el núcleo. Dato fundamental para el dise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4: acero al silicio más común en Empresas chilenas que lo requieren (fabricantes de transformador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19: acero al silicio no orientado más común. No se usa en Chi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eria todo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nten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lnSpc>
                <a:spcPct val="20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otiv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erias pr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de fabr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fi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mas de v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tálo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tos relev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otiv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l Acero Silicoso (Silicon Stee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sado desde pequeños relés hasta grandes motor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sponde a las continuas necesidades de bajar las pérdidas para minimizar el tamaño de equip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resente en dos variedades: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aterias Pr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ierro (para generar acero) y 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n elementos muy abundantes en la naturalez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o están en forma pura, deben ser procesados mediante hornos y procesos químic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a proporción de ambos elementos típicamente es de un 3% de Silicio y el resto en Acer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2 Marcador de contenido" descr=""/>
          <p:cNvPicPr/>
          <p:nvPr/>
        </p:nvPicPr>
        <p:blipFill>
          <a:blip r:embed="rId2"/>
          <a:stretch/>
        </p:blipFill>
        <p:spPr>
          <a:xfrm>
            <a:off x="371520" y="1925640"/>
            <a:ext cx="8321760" cy="5499000"/>
          </a:xfrm>
          <a:prstGeom prst="rect">
            <a:avLst/>
          </a:prstGeom>
          <a:ln w="0">
            <a:noFill/>
          </a:ln>
        </p:spPr>
      </p:pic>
      <p:sp>
        <p:nvSpPr>
          <p:cNvPr id="205" name="3 Flecha abajo"/>
          <p:cNvSpPr/>
          <p:nvPr/>
        </p:nvSpPr>
        <p:spPr>
          <a:xfrm>
            <a:off x="3786120" y="3500280"/>
            <a:ext cx="6429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4 Flecha abajo"/>
          <p:cNvSpPr/>
          <p:nvPr/>
        </p:nvSpPr>
        <p:spPr>
          <a:xfrm>
            <a:off x="4000680" y="4572000"/>
            <a:ext cx="285480" cy="42876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derecha"/>
          <p:cNvSpPr/>
          <p:nvPr/>
        </p:nvSpPr>
        <p:spPr>
          <a:xfrm>
            <a:off x="3429000" y="5214960"/>
            <a:ext cx="35712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finado d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inerales con Óxido de Silicio     o     Silicat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Síli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HORNO DE ARCO ELECTRICO(3000º 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Silicio al 99% de pur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cero Silic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4 Flecha doblada hacia arriba"/>
          <p:cNvSpPr/>
          <p:nvPr/>
        </p:nvSpPr>
        <p:spPr>
          <a:xfrm rot="5400000">
            <a:off x="2678760" y="3321720"/>
            <a:ext cx="714600" cy="642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Flecha doblada"/>
          <p:cNvSpPr/>
          <p:nvPr/>
        </p:nvSpPr>
        <p:spPr>
          <a:xfrm rot="10800000">
            <a:off x="4785840" y="4285800"/>
            <a:ext cx="357480" cy="428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pie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2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Aumento de resistiv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isminuye pérdidas de histére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Incrementa permeabil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ejora en la Temperatura de Curi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Orientado (M-3 hasta M-14/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ransformadores de distribució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Generadores de turbinas a vapor (y otros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No-Orientado (M-15-∞/ 0.5 a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áquinas rotato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lés (1.25% a 2.5% de Si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áminas larg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207180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ero Silicoso grano orientado y no orientado: en Rollos o laminado: EI para transform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exclusivo de importación: grano orien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ales productores: China, Japón, Estados uni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3 Imagen" descr="silicio_foto.gif"/>
          <p:cNvPicPr/>
          <p:nvPr/>
        </p:nvPicPr>
        <p:blipFill>
          <a:blip r:embed="rId2"/>
          <a:stretch/>
        </p:blipFill>
        <p:spPr>
          <a:xfrm>
            <a:off x="857160" y="4071960"/>
            <a:ext cx="29307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4 Imagen" descr="acero laminas.jpg"/>
          <p:cNvPicPr/>
          <p:nvPr/>
        </p:nvPicPr>
        <p:blipFill>
          <a:blip r:embed="rId3"/>
          <a:stretch/>
        </p:blipFill>
        <p:spPr>
          <a:xfrm>
            <a:off x="5072040" y="4000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5 CuadroTexto"/>
          <p:cNvSpPr/>
          <p:nvPr/>
        </p:nvSpPr>
        <p:spPr>
          <a:xfrm>
            <a:off x="2714760" y="6500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23:34:37Z</dcterms:created>
  <dc:creator>José Miguel</dc:creator>
  <dc:description/>
  <dc:language>en-US</dc:language>
  <cp:lastModifiedBy>Alberto Botteselle Doggenweiler</cp:lastModifiedBy>
  <dcterms:modified xsi:type="dcterms:W3CDTF">2008-09-22T02:48:15Z</dcterms:modified>
  <cp:revision>32</cp:revision>
  <dc:subject/>
  <dc:title>Diapositiva 1</dc:title>
</cp:coreProperties>
</file>