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28.jpeg" ContentType="image/jpeg"/>
  <Override PartName="/ppt/media/image26.png" ContentType="image/png"/>
  <Override PartName="/ppt/media/image1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0F44-33BD-4BF3-A005-AEF8D2091D0A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896A-AA27-46E0-A19A-6FE916F45F3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llegar a la superficie dio origen a diversos ya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tiformes: vetas con alto contenido de cobre. En la superficie de forma pura o natu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fíricos: cobre disperso, mezclado con materiales mineralizados y con roca estéril. Explotados gracias a las habilidades metalúrgicas. El porcentaje de cobre en estos minerales es conocido como ley de cobre: porcentaje de cobre que tiene una muestra. Ej. 1% entonces cada 100kg de roca mineralizada hay 1kg de co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1399-8B30-4A81-AE3A-0E9E0418746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CAB3-1A43-44F0-8E4E-78DA137CB07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ductor eléctrico: capacidad de transmisión de voz y datos. Solo superado por la plata. Unos de los metales con menor índice de resistencia, y una mayor capacidad de conducción. Usos: cables, telefonía, electrónica, computa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ductor térmico: Permite distribución uniforme del calor. Usos: utensilios de cocina, paneles so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istencia a la Corrosión: Vida Útil muy larga. Durabilidad que supera los 100 años. Resistente al fuego. Usos: Cascos de embarcaciones. Cubiertas, techumbres y desagües. Pernos, clav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eación:  aleaciones duras presentan mayor resistencia pero no se usa para aplicaciones eléctricas. Ejemplos latón y bro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leable y Dúctil: Se pueden obtener láminas muy delgadas y es capaz de alargarse y estirarse. Trabajo en cobre se relativamente fácil. Usos: cañerías tuberías y alam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ciclable: 100% reciclable, manteniendo las propie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actericida: evita proliferación de ciertas bacte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hancado: reducir el tamaño de los elementos may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olienda: se continua reduciendo el tamaño  0,1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canismo de clasificación se obtiene 30% del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urificación posterior se realiza en hornos que permite obtener blister o ánodos con 99% de pure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ectrorefinación permite transformar los ánodos en cátodos con 99,99% de pure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BDAE-D80A-4FC2-8A67-33521E4CE37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xiviación: solución ácida de agua con ácido sulfúrico, que produce soluciones de sulfato de c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luciones son sometidas a proceso de extracción con solventes, se libera de impurezas y se concentra su contenido de cobre mediante extracción i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5627-67DD-4BF1-AE11-203E61FCF6F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efilado: Proceso de adelgazamiento del cobre a través del estiramiento mecá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bleado: se reúnen y tuercen varios alambres o conductores para generar otro de mayor diáme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rusión: da aislamiento al 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raccionado: Cables son empacados en longitudes requer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pantallado: Cubrimiento de conductor aislado por hilos o conductores de cobre, formando una panta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maltado: Aislamiento mediante aplicación técnica de una capa de barniz de  (poliesterim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6855-514E-47E1-B1C0-811C1B62158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09A-BFAF-403F-92DC-506BE0A2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B76-1DBA-4693-BEFB-56C6D4AE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035-38D3-4D85-9965-DF2122D9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B74-34DF-4005-979D-04473531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0BDB-9498-4158-8683-37B14F1F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480A-A741-4314-B667-00C75C9A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7FB2-074B-4D91-95FC-4EB84D3B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460F-7451-4BCD-916B-313D49C2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05FF-D51A-4BDF-9276-D65B4F4D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C122-A834-40FE-9165-946E8FFF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7F54-8DAF-4E72-AED9-6290823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E4F-C6DB-453D-9236-C42DFDB5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A0AE-14C8-4621-9E08-7C512999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67C8-E4EC-4064-9D38-56233DF7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1802-D6EA-4596-99AF-3D32065E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0978-C71E-41A3-9A2F-AB22C749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23DA-15BD-42F9-BC70-3CB24D26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85BE-211E-4CD0-845B-B7CDE008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5C4C-5CB7-40AB-82E3-14A5E16A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552A5-B56A-4724-B622-C0430101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50B0-EADD-47C1-B184-47EA37E2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514C6-964B-4FBE-8D15-AA25610E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7D3-9645-4F57-81EE-4EAE0899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B4877-6D38-412E-8B21-FF4700C0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31B24-5E1A-41AF-910D-264CFBF4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D793-768B-44D8-B06F-ECA59E53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6A2C-EC0C-48C9-8B30-1E9AF373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7E779-DF7A-4BF4-91D0-12C697D0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0A31-4713-49CF-9692-0057E422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878D0-7403-423B-94E2-29084E87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172-6C44-4FC8-B7E1-058EFB32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93B-C89F-4EFB-ACAA-5E1ADAE4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A82-1DD6-42C1-9647-608DDA8C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A92-4944-455C-BD7B-1F437A2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980-79B7-4ADA-9F70-0ACBA05E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943-82C8-4C68-A7EB-47EDFB76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BC63-CEE9-4F91-BB9D-A625C1964AC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7542-049D-4E64-B39D-A77562C6ADE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B811-DC39-4081-B9F5-9D709345C4C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Stranded_lamp_wire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es.wikipedia.org/wiki/Imagen:CO1EURO_50SV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es.wikipedia.org/wiki/Imagen:100_1871.jpg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1500120" y="3746520"/>
            <a:ext cx="3214800" cy="2158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15000" y="4071960"/>
            <a:ext cx="2749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drigo Gutiérrez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bastián Medel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logo"/>
          <p:cNvPicPr/>
          <p:nvPr/>
        </p:nvPicPr>
        <p:blipFill>
          <a:blip r:embed="rId2"/>
          <a:stretch/>
        </p:blipFill>
        <p:spPr>
          <a:xfrm>
            <a:off x="6572160" y="857160"/>
            <a:ext cx="2143080" cy="720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9976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33"/>
                </a:solidFill>
                <a:latin typeface="Times New Roman"/>
              </a:rPr>
              <a:t>Materiales Eléctricos: </a:t>
            </a:r>
            <a:br>
              <a:rPr sz="4400"/>
            </a:br>
            <a:r>
              <a:rPr b="0" lang="es-ES_tradnl" sz="4400" spc="-1" strike="noStrike">
                <a:solidFill>
                  <a:srgbClr val="660033"/>
                </a:solidFill>
                <a:latin typeface="Times New Roman"/>
              </a:rPr>
              <a:t>Cobre Conductor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Footer Placeholder 7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Alambr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383868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conductividad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istentes a la corro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 resistencia mecán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067280" y="4076640"/>
            <a:ext cx="4608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ob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eutros y puestas 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alambre"/>
          <p:cNvPicPr/>
          <p:nvPr/>
        </p:nvPicPr>
        <p:blipFill>
          <a:blip r:embed="rId1"/>
          <a:stretch/>
        </p:blipFill>
        <p:spPr>
          <a:xfrm>
            <a:off x="5076720" y="1916280"/>
            <a:ext cx="2087640" cy="1900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alambre"/>
          <p:cNvPicPr/>
          <p:nvPr/>
        </p:nvPicPr>
        <p:blipFill>
          <a:blip r:embed="rId2"/>
          <a:stretch/>
        </p:blipFill>
        <p:spPr>
          <a:xfrm>
            <a:off x="1476360" y="4149720"/>
            <a:ext cx="1905120" cy="1876320"/>
          </a:xfrm>
          <a:prstGeom prst="rect">
            <a:avLst/>
          </a:prstGeom>
          <a:ln w="0">
            <a:noFill/>
          </a:ln>
        </p:spPr>
      </p:pic>
      <p:sp>
        <p:nvSpPr>
          <p:cNvPr id="200" name="Footer Placeholder 7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Cabl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08000" y="1980720"/>
            <a:ext cx="490212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conductividad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istentes a la corro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 resistencia mecán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yor flexibilidad que el alambre por su construc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11280" y="4005360"/>
            <a:ext cx="4608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Transmisión y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eutros y puestas 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ar trenzado, coaxia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foto04"/>
          <p:cNvPicPr/>
          <p:nvPr/>
        </p:nvPicPr>
        <p:blipFill>
          <a:blip r:embed="rId1"/>
          <a:stretch/>
        </p:blipFill>
        <p:spPr>
          <a:xfrm>
            <a:off x="1692360" y="1773360"/>
            <a:ext cx="1428840" cy="2085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owerCblIllustration"/>
          <p:cNvPicPr/>
          <p:nvPr/>
        </p:nvPicPr>
        <p:blipFill>
          <a:blip r:embed="rId2"/>
          <a:stretch/>
        </p:blipFill>
        <p:spPr>
          <a:xfrm>
            <a:off x="5148360" y="4005360"/>
            <a:ext cx="2547720" cy="183348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7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Calibre AWG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772000" cy="335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330200" y="2076480"/>
            <a:ext cx="684216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Parámetros de Interé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6704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libre A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cción transversal en mm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le. Suave, Semiduro, D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so en kg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rriente máxima 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fuerzo a la ruptura en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sistencia eléctrica  en Ohm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rmas de fabr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diag01"/>
          <p:cNvPicPr/>
          <p:nvPr/>
        </p:nvPicPr>
        <p:blipFill>
          <a:blip r:embed="rId1"/>
          <a:stretch/>
        </p:blipFill>
        <p:spPr>
          <a:xfrm>
            <a:off x="4859280" y="2041560"/>
            <a:ext cx="3809880" cy="23241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4751280" y="4508640"/>
            <a:ext cx="439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is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b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6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Catalog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5964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Proveedor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1280" y="3860640"/>
            <a:ext cx="432108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ww.comlarrain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ww.covisa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www.topcab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ww.selcon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71640" y="1989000"/>
          <a:ext cx="7278480" cy="1646280"/>
        </p:xfrm>
        <a:graphic>
          <a:graphicData uri="http://schemas.openxmlformats.org/drawingml/2006/table">
            <a:tbl>
              <a:tblPr/>
              <a:tblGrid>
                <a:gridCol w="2050920"/>
                <a:gridCol w="1195560"/>
                <a:gridCol w="1695240"/>
                <a:gridCol w="1177920"/>
                <a:gridCol w="115884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bre AW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o de heb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[kg/k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[$/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mbre desnudo d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1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desnudo d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67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bla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79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Orige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2040" y="4357800"/>
            <a:ext cx="2120760" cy="1741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856800" y="1571400"/>
            <a:ext cx="6286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ino de las profundidades de la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acimientos “vetiform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actualidad se encuentra en los yacimientos porfí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bre Sulfu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bre Oxi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6548400" y="2857680"/>
            <a:ext cx="2433600" cy="18237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Propiedad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4240" y="1499760"/>
            <a:ext cx="723744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a Conductividad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o Grado de Conductividad Té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ente para Procesos de Maqu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an Resistencia a la Corro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a Capacidad de Aleación Metá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uy Buena Capacidad de Deformación en Caliente y Fr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iene sus Propiedades Indefinidamente en el Recic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piedades Bacter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istencia Metálica en Estado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5643720" y="500040"/>
            <a:ext cx="2473200" cy="2290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7215120" y="3286080"/>
            <a:ext cx="1714680" cy="131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6572160" y="5143680"/>
            <a:ext cx="1714680" cy="1314360"/>
          </a:xfrm>
          <a:prstGeom prst="rect">
            <a:avLst/>
          </a:prstGeom>
          <a:ln w="0">
            <a:noFill/>
          </a:ln>
        </p:spPr>
      </p:pic>
      <p:sp>
        <p:nvSpPr>
          <p:cNvPr id="166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Procesos de Producció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eral Sulfu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hancado y Mol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0% del 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r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nodo con 99% 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ectro refin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todo con 99,99% 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929200" y="4000680"/>
            <a:ext cx="2805120" cy="1866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6143760" y="1928880"/>
            <a:ext cx="2417760" cy="1571400"/>
          </a:xfrm>
          <a:prstGeom prst="rect">
            <a:avLst/>
          </a:prstGeom>
          <a:ln w="0">
            <a:noFill/>
          </a:ln>
        </p:spPr>
      </p:pic>
      <p:sp>
        <p:nvSpPr>
          <p:cNvPr id="171" name="Footer Placeholder 7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344680" y="357120"/>
            <a:ext cx="45846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Procesos de Producció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eral Oxi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ol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ixivi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lfato de c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tracción con solv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beración de impurez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ectro obte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todo con 99,99% 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6357960" y="42861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5924520" y="1714680"/>
            <a:ext cx="32194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429000" y="357120"/>
            <a:ext cx="29242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efi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ble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tru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raccion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antal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mal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 rot="1837800">
            <a:off x="7113240" y="4255920"/>
            <a:ext cx="124308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Proceso de Producción: </a:t>
            </a:r>
            <a:br>
              <a:rPr sz="4200"/>
            </a:b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Conductor de Cobr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ImgProduct.asp"/>
          <p:cNvPicPr/>
          <p:nvPr/>
        </p:nvPicPr>
        <p:blipFill>
          <a:blip r:embed="rId2"/>
          <a:stretch/>
        </p:blipFill>
        <p:spPr>
          <a:xfrm>
            <a:off x="3857760" y="1857240"/>
            <a:ext cx="2655720" cy="1973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4127400" y="419400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4"/>
          <a:stretch/>
        </p:blipFill>
        <p:spPr>
          <a:xfrm>
            <a:off x="7072200" y="200016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Aplicaciones del Cobr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ambres y C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ñ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adi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strucción y orna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ne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Cable eléctrico de cobr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852640"/>
            <a:ext cx="1714680" cy="1724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canerias"/>
          <p:cNvPicPr/>
          <p:nvPr/>
        </p:nvPicPr>
        <p:blipFill>
          <a:blip r:embed="rId3"/>
          <a:stretch/>
        </p:blipFill>
        <p:spPr>
          <a:xfrm>
            <a:off x="5724360" y="4292640"/>
            <a:ext cx="209556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Moneda de un euro. Disco interior de cuproníquel y exterior de níquel-latón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3284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Bobina de alambre desnudo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2000" y="1773360"/>
            <a:ext cx="1428480" cy="1847880"/>
          </a:xfrm>
          <a:prstGeom prst="rect">
            <a:avLst/>
          </a:prstGeom>
          <a:ln w="0">
            <a:noFill/>
          </a:ln>
        </p:spPr>
      </p:pic>
      <p:sp>
        <p:nvSpPr>
          <p:cNvPr id="194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2:26:42Z</dcterms:created>
  <dc:creator>WinuE</dc:creator>
  <dc:description/>
  <dc:language>en-US</dc:language>
  <cp:lastModifiedBy>Alberto Botteselle Doggenweiler</cp:lastModifiedBy>
  <dcterms:modified xsi:type="dcterms:W3CDTF">2008-09-14T20:02:20Z</dcterms:modified>
  <cp:revision>43</cp:revision>
  <dc:subject/>
  <dc:title>Cobre Conductor</dc:title>
</cp:coreProperties>
</file>