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png" ContentType="image/png"/>
  <Override PartName="/ppt/media/image10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8.jpeg" ContentType="image/jpeg"/>
  <Override PartName="/ppt/media/image4.png" ContentType="image/png"/>
  <Override PartName="/ppt/media/image27.png" ContentType="image/png"/>
  <Override PartName="/ppt/media/image28.jpeg" ContentType="image/jpeg"/>
  <Override PartName="/ppt/media/image26.png" ContentType="image/png"/>
  <Override PartName="/ppt/media/image1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17.png" ContentType="image/pn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D8AE1-0D6F-4D7C-AD9B-022241139A86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C17A-F491-4F8F-9462-945972B3493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_trad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 llegar a la superficie dio origen a diversos yacimi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Vetiformes: vetas con alto contenido de cobre. En la superficie de forma pura o natu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orfíricos: cobre disperso, mezclado con materiales mineralizados y con roca estéril. Explotados gracias a las habilidades metalúrgicas. El porcentaje de cobre en estos minerales es conocido como ley de cobre: porcentaje de cobre que tiene una muestra. Ej. 1% entonces cada 100kg de roca mineralizada hay 1kg de co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F7CDA-3A55-4D4D-B0DE-66828345526D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66C2-408F-4DAD-8AE8-07073EAE57C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ductor eléctrico: capacidad de transmisión de voz y datos. Solo superado por la plata. Unos de los metales con menor índice de resistencia, y una mayor capacidad de conducción. Usos: cables, telefonía, electrónica, computad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ductor térmico: Permite distribución uniforme del calor. Usos: utensilios de cocina, paneles sola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sistencia a la Corrosión: Vida Útil muy larga. Durabilidad que supera los 100 años. Resistente al fuego. Usos: Cascos de embarcaciones. Cubiertas, techumbres y desagües. Pernos, clav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leación:  aleaciones duras presentan mayor resistencia pero no se usa para aplicaciones eléctricas. Ejemplos latón y bro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aleable y Dúctil: Se pueden obtener láminas muy delgadas y es capaz de alargarse y estirarse. Trabajo en cobre se relativamente fácil. Usos: cañerías tuberías y alamb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Reciclable: 100% reciclable, manteniendo las propie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Bactericida: evita proliferación de ciertas bacteri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hancado: reducir el tamaño de los elementos may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olienda: se continua reduciendo el tamaño  0,18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Mecanismo de clasificación se obtiene 30% del met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urificación posterior se realiza en hornos que permite obtener blister o ánodos con 99% de pure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ectrorefinación permite transformar los ánodos en cátodos con 99,99% de purez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CADEC-306B-4892-9748-6DD673450AE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Lixiviación: solución ácida de agua con ácido sulfúrico, que produce soluciones de sulfato de cob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Soluciones son sometidas a proceso de extracción con solventes, se libera de impurezas y se concentra su contenido de cobre mediante extracción ión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F7644-8519-40DB-9921-4C0990C85F2E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Trefilado: Proceso de adelgazamiento del cobre a través del estiramiento mecán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ableado: se reúnen y tuercen varios alambres o conductores para generar otro de mayor diáme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xtrusión: da aislamiento al cond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Fraccionado: Cables son empacados en longitudes requerid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pantallado: Cubrimiento de conductor aislado por hilos o conductores de cobre, formando una panta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smaltado: Aislamiento mediante aplicación técnica de una capa de barniz de  (poliesterimid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F8F2-FC7B-4601-B133-F5EBAB0A7204}" type="slidenum">
              <a:rPr b="0" lang="es-E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2CA11-397D-420E-B6AE-C37E338B3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6CB9-708D-4BFF-A4A5-75BDDB31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F5A4-EC16-4F47-A10E-27A2BDCA7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7A31-785E-48E5-A931-D817F9987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D40A-EDB0-403A-8B7A-508E53AE2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52E0-D6C1-46CF-A23B-97DB777D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91231-5FB1-4B41-809C-F368268F6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69949-A363-481E-8765-D1ECB3B5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C062-7D24-4AAB-B1C8-D7C53FF41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3DB51-0A04-448D-B0AB-6015942AF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60B0B-2966-4A55-9C4C-207E0D24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4BAE-7914-4028-91CF-CF5B76A71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3CEC8-2EB9-41F1-8E0E-CB7E6CC95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CAA68-CCC3-4A07-B37C-F2B573A07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6F5B7-092C-4DEE-BED1-FE9188159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53FA-1BED-4B99-97C8-ABE74C6B2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FB47-5361-4C07-9F0F-24D361C5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18098-D3CB-42C8-806C-5570CF29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DAEE8-F399-4F7C-85BE-D1904C699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7B64D-27F8-4403-8D05-20C24CC3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EFF4B-8806-466E-88DF-11F38D15D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3D4DBB-1A27-488D-A586-3B88D1BAF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4A40-5985-4E1C-AEBA-6FAEE6A21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8B835-D423-475A-BA34-A7C83B23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95051-74FA-4232-B71F-BD4C8DCEF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827FA2-8C51-4DD9-A175-CCA06E5AE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53ECE-9669-464C-846F-FD557BE9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2C820-0FD0-47F9-BBFA-63B13F4D6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A0482-9908-488F-B780-759807C12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CA334-520F-441B-ADC4-1AC18AEECB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C74-9722-49BD-9007-8A6613CBA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BBA4-4BF9-482F-9202-62F970ED6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1144-DD6D-404C-8E98-5ABC9B237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4F93-83CE-45ED-A325-43FA2CD51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BF92-282A-49DC-A3FF-337DFC667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3253-5487-49DC-B061-E6949A42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235C4-90C3-4390-8467-B573ED731D96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D11A7-28F1-4E86-8F35-8F18879E2FD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98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95a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100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2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66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cccc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5a3d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946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Times New Roman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990E-16A3-49B0-9EBC-028034CF4A2C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es.wikipedia.org/wiki/Imagen:Stranded_lamp_wire.jp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hyperlink" Target="http://es.wikipedia.org/wiki/Imagen:CO1EURO_50SV.JPG" TargetMode="External"/><Relationship Id="rId5" Type="http://schemas.openxmlformats.org/officeDocument/2006/relationships/image" Target="../media/image20.jpeg"/><Relationship Id="rId6" Type="http://schemas.openxmlformats.org/officeDocument/2006/relationships/hyperlink" Target="http://es.wikipedia.org/wiki/Imagen:100_1871.jpg" TargetMode="External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8" descr=""/>
          <p:cNvPicPr/>
          <p:nvPr/>
        </p:nvPicPr>
        <p:blipFill>
          <a:blip r:embed="rId1"/>
          <a:stretch/>
        </p:blipFill>
        <p:spPr>
          <a:xfrm>
            <a:off x="1500120" y="3746520"/>
            <a:ext cx="3214800" cy="215892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715000" y="4071960"/>
            <a:ext cx="274968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odrigo Gutiérrez 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bastián Medel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7" descr="logo"/>
          <p:cNvPicPr/>
          <p:nvPr/>
        </p:nvPicPr>
        <p:blipFill>
          <a:blip r:embed="rId2"/>
          <a:stretch/>
        </p:blipFill>
        <p:spPr>
          <a:xfrm>
            <a:off x="6572160" y="857160"/>
            <a:ext cx="2143080" cy="720720"/>
          </a:xfrm>
          <a:prstGeom prst="rect">
            <a:avLst/>
          </a:prstGeom>
          <a:ln w="0">
            <a:noFill/>
          </a:ln>
        </p:spPr>
      </p:pic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49976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0033"/>
                </a:solidFill>
                <a:latin typeface="Times New Roman"/>
              </a:rPr>
              <a:t>Materiales Eléctricos: </a:t>
            </a:r>
            <a:br>
              <a:rPr sz="4400"/>
            </a:br>
            <a:r>
              <a:rPr b="0" lang="es-ES_tradnl" sz="4400" spc="-1" strike="noStrike">
                <a:solidFill>
                  <a:srgbClr val="660033"/>
                </a:solidFill>
                <a:latin typeface="Times New Roman"/>
              </a:rPr>
              <a:t>Cobre Conductor</a:t>
            </a:r>
            <a:endParaRPr b="0" lang="en-US" sz="44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55" name="Footer Placeholder 7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Alambr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3838680" cy="23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a conductividad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istentes a la corro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n resistencia mecán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4067280" y="4076640"/>
            <a:ext cx="4608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5a84d8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Bob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5a84d8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eutros y puestas 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5a84d8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C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alambre"/>
          <p:cNvPicPr/>
          <p:nvPr/>
        </p:nvPicPr>
        <p:blipFill>
          <a:blip r:embed="rId1"/>
          <a:stretch/>
        </p:blipFill>
        <p:spPr>
          <a:xfrm>
            <a:off x="5076720" y="1916280"/>
            <a:ext cx="2087640" cy="19000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alambre"/>
          <p:cNvPicPr/>
          <p:nvPr/>
        </p:nvPicPr>
        <p:blipFill>
          <a:blip r:embed="rId2"/>
          <a:stretch/>
        </p:blipFill>
        <p:spPr>
          <a:xfrm>
            <a:off x="1476360" y="4149720"/>
            <a:ext cx="1905120" cy="1876320"/>
          </a:xfrm>
          <a:prstGeom prst="rect">
            <a:avLst/>
          </a:prstGeom>
          <a:ln w="0">
            <a:noFill/>
          </a:ln>
        </p:spPr>
      </p:pic>
      <p:sp>
        <p:nvSpPr>
          <p:cNvPr id="200" name="Footer Placeholder 7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Cabl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708000" y="1980720"/>
            <a:ext cx="490212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racterís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lta conductividad eléct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Resistentes a la corros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ran resistencia mecán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yor flexibilidad que el alambre por su construc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11280" y="4005360"/>
            <a:ext cx="4608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95a3d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plic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5a84d8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Líneas de Transmisión y Distribu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5a84d8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Neutros y puestas a t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88840" indent="-439560">
              <a:lnSpc>
                <a:spcPct val="100000"/>
              </a:lnSpc>
              <a:spcBef>
                <a:spcPts val="499"/>
              </a:spcBef>
              <a:buClr>
                <a:srgbClr val="5a84d8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  <a:ea typeface="Arial"/>
              </a:rPr>
              <a:t>Par trenzado, coaxial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foto04"/>
          <p:cNvPicPr/>
          <p:nvPr/>
        </p:nvPicPr>
        <p:blipFill>
          <a:blip r:embed="rId1"/>
          <a:stretch/>
        </p:blipFill>
        <p:spPr>
          <a:xfrm>
            <a:off x="1692360" y="1773360"/>
            <a:ext cx="1428840" cy="208584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8" descr="powerCblIllustration"/>
          <p:cNvPicPr/>
          <p:nvPr/>
        </p:nvPicPr>
        <p:blipFill>
          <a:blip r:embed="rId2"/>
          <a:stretch/>
        </p:blipFill>
        <p:spPr>
          <a:xfrm>
            <a:off x="5148360" y="4005360"/>
            <a:ext cx="2547720" cy="1833480"/>
          </a:xfrm>
          <a:prstGeom prst="rect">
            <a:avLst/>
          </a:prstGeom>
          <a:ln w="0">
            <a:noFill/>
          </a:ln>
        </p:spPr>
      </p:pic>
      <p:sp>
        <p:nvSpPr>
          <p:cNvPr id="206" name="Footer Placeholder 7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Calibre AWG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826920" y="1628640"/>
            <a:ext cx="2772000" cy="33516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1330200" y="2076480"/>
            <a:ext cx="6842160" cy="406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Parámetros de Interé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3767040" cy="367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alibre AW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Sección transversal en mm</a:t>
            </a:r>
            <a:r>
              <a:rPr b="0" lang="es-MX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Temple. Suave, Semiduro, Du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eso en kg/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rriente máxima en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fuerzo a la ruptura en 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sistencia eléctrica  en Ohm/k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Normas de fabric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5" descr="diag01"/>
          <p:cNvPicPr/>
          <p:nvPr/>
        </p:nvPicPr>
        <p:blipFill>
          <a:blip r:embed="rId1"/>
          <a:stretch/>
        </p:blipFill>
        <p:spPr>
          <a:xfrm>
            <a:off x="4859280" y="2041560"/>
            <a:ext cx="3809880" cy="23241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6"/>
          <p:cNvSpPr/>
          <p:nvPr/>
        </p:nvSpPr>
        <p:spPr>
          <a:xfrm>
            <a:off x="4751280" y="4508640"/>
            <a:ext cx="439272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anta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isla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499"/>
              </a:spcBef>
              <a:buClr>
                <a:srgbClr val="95a3d1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ubier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ooter Placeholder 6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Catalogo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8459640" cy="408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931680" y="96480"/>
            <a:ext cx="715788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Proveedor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71280" y="3860640"/>
            <a:ext cx="4321080" cy="20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ww.comlarrain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ww.covisa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www.topcable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ww.selcon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71640" y="1989000"/>
          <a:ext cx="7278480" cy="1646280"/>
        </p:xfrm>
        <a:graphic>
          <a:graphicData uri="http://schemas.openxmlformats.org/drawingml/2006/table">
            <a:tbl>
              <a:tblPr/>
              <a:tblGrid>
                <a:gridCol w="2050920"/>
                <a:gridCol w="1195560"/>
                <a:gridCol w="1695240"/>
                <a:gridCol w="1177920"/>
                <a:gridCol w="1158840"/>
              </a:tblGrid>
              <a:tr h="733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libre AW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ero de heb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so [kg/km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[$/kg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ambre desnudo d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61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le desnudo du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67,5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ble blan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447840" indent="-44784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79,7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0" name="Footer Placeholder 5"/>
          <p:cNvSpPr/>
          <p:nvPr/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660033"/>
                </a:solidFill>
                <a:latin typeface="Times New Roman"/>
              </a:rPr>
              <a:t>Origen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072040" y="4357800"/>
            <a:ext cx="2120760" cy="17413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 txBox="1"/>
          <p:nvPr/>
        </p:nvSpPr>
        <p:spPr>
          <a:xfrm>
            <a:off x="856800" y="1571400"/>
            <a:ext cx="62866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rovino de las profundidades de la Tier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acimientos “vetiforme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la actualidad se encuentra en los yacimientos porfír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bre Sulfu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bre Oxid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2"/>
          <a:stretch/>
        </p:blipFill>
        <p:spPr>
          <a:xfrm>
            <a:off x="6548400" y="2857680"/>
            <a:ext cx="2433600" cy="1823760"/>
          </a:xfrm>
          <a:prstGeom prst="rect">
            <a:avLst/>
          </a:prstGeom>
          <a:ln w="0">
            <a:noFill/>
          </a:ln>
        </p:spPr>
      </p:pic>
      <p:sp>
        <p:nvSpPr>
          <p:cNvPr id="160" name="Footer Placeholder 9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660033"/>
                </a:solidFill>
                <a:latin typeface="Times New Roman"/>
              </a:rPr>
              <a:t>Propiedades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4240" y="1499760"/>
            <a:ext cx="7237440" cy="472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ta Conductividad Eléc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to Grado de Conductividad Tér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celente para Procesos de Maquin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Gran Resistencia a la Corros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lta Capacidad de Aleación Metál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uy Buena Capacidad de Deformación en Caliente y Frí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Mantiene sus Propiedades Indefinidamente en el Recicla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ropiedades Bactericid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5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xistencia Metálica en Estado Natu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"/>
          <p:cNvPicPr/>
          <p:nvPr/>
        </p:nvPicPr>
        <p:blipFill>
          <a:blip r:embed="rId1"/>
          <a:stretch/>
        </p:blipFill>
        <p:spPr>
          <a:xfrm>
            <a:off x="5643720" y="500040"/>
            <a:ext cx="2473200" cy="22906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"/>
          <p:cNvPicPr/>
          <p:nvPr/>
        </p:nvPicPr>
        <p:blipFill>
          <a:blip r:embed="rId2"/>
          <a:stretch/>
        </p:blipFill>
        <p:spPr>
          <a:xfrm>
            <a:off x="7215120" y="3286080"/>
            <a:ext cx="1714680" cy="1314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"/>
          <p:cNvPicPr/>
          <p:nvPr/>
        </p:nvPicPr>
        <p:blipFill>
          <a:blip r:embed="rId3"/>
          <a:stretch/>
        </p:blipFill>
        <p:spPr>
          <a:xfrm>
            <a:off x="6572160" y="5143680"/>
            <a:ext cx="1714680" cy="1314360"/>
          </a:xfrm>
          <a:prstGeom prst="rect">
            <a:avLst/>
          </a:prstGeom>
          <a:ln w="0">
            <a:noFill/>
          </a:ln>
        </p:spPr>
      </p:pic>
      <p:sp>
        <p:nvSpPr>
          <p:cNvPr id="166" name="Footer Placeholder 9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660033"/>
                </a:solidFill>
                <a:latin typeface="Times New Roman"/>
              </a:rPr>
              <a:t>Procesos de Producción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eral Sulfur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hancado y Moli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lasif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30% del me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urific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ánodo con 99% 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ectro refin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átodo con 99,99% 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5929200" y="4000680"/>
            <a:ext cx="2805120" cy="18666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6143760" y="1928880"/>
            <a:ext cx="2417760" cy="1571400"/>
          </a:xfrm>
          <a:prstGeom prst="rect">
            <a:avLst/>
          </a:prstGeom>
          <a:ln w="0">
            <a:noFill/>
          </a:ln>
        </p:spPr>
      </p:pic>
      <p:sp>
        <p:nvSpPr>
          <p:cNvPr id="171" name="Footer Placeholder 7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Footer Placeholder 3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2344680" y="357120"/>
            <a:ext cx="4584600" cy="621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660033"/>
                </a:solidFill>
                <a:latin typeface="Times New Roman"/>
              </a:rPr>
              <a:t>Procesos de Producción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ineral Oxid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Molien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Lixivi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ulfato de co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xtracción con solv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iberación de impurez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ectro obten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átodo con 99,99% pur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5a3d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3" descr=""/>
          <p:cNvPicPr/>
          <p:nvPr/>
        </p:nvPicPr>
        <p:blipFill>
          <a:blip r:embed="rId1"/>
          <a:stretch/>
        </p:blipFill>
        <p:spPr>
          <a:xfrm>
            <a:off x="6357960" y="42861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" descr=""/>
          <p:cNvPicPr/>
          <p:nvPr/>
        </p:nvPicPr>
        <p:blipFill>
          <a:blip r:embed="rId2"/>
          <a:stretch/>
        </p:blipFill>
        <p:spPr>
          <a:xfrm>
            <a:off x="5924520" y="1714680"/>
            <a:ext cx="321948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3429000" y="357120"/>
            <a:ext cx="292428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Trefil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Cable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xtrus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Fraccion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Apantall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smaltad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 rot="1837800">
            <a:off x="7113240" y="4255920"/>
            <a:ext cx="1243080" cy="190512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200" spc="-1" strike="noStrike">
                <a:solidFill>
                  <a:srgbClr val="660033"/>
                </a:solidFill>
                <a:latin typeface="Times New Roman"/>
              </a:rPr>
              <a:t>Proceso de Producción: </a:t>
            </a:r>
            <a:br>
              <a:rPr sz="4200"/>
            </a:br>
            <a:r>
              <a:rPr b="0" lang="es-ES_tradnl" sz="4200" spc="-1" strike="noStrike">
                <a:solidFill>
                  <a:srgbClr val="660033"/>
                </a:solidFill>
                <a:latin typeface="Times New Roman"/>
              </a:rPr>
              <a:t>Conductor de Cobr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4" name="Footer Placeholder 3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5" descr="ImgProduct.asp"/>
          <p:cNvPicPr/>
          <p:nvPr/>
        </p:nvPicPr>
        <p:blipFill>
          <a:blip r:embed="rId2"/>
          <a:stretch/>
        </p:blipFill>
        <p:spPr>
          <a:xfrm>
            <a:off x="3857760" y="1857240"/>
            <a:ext cx="2655720" cy="19735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4" descr=""/>
          <p:cNvPicPr/>
          <p:nvPr/>
        </p:nvPicPr>
        <p:blipFill>
          <a:blip r:embed="rId3"/>
          <a:stretch/>
        </p:blipFill>
        <p:spPr>
          <a:xfrm>
            <a:off x="4127400" y="4194000"/>
            <a:ext cx="2382840" cy="16765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5" descr=""/>
          <p:cNvPicPr/>
          <p:nvPr/>
        </p:nvPicPr>
        <p:blipFill>
          <a:blip r:embed="rId4"/>
          <a:stretch/>
        </p:blipFill>
        <p:spPr>
          <a:xfrm>
            <a:off x="7072200" y="2000160"/>
            <a:ext cx="1724040" cy="1724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660033"/>
                </a:solidFill>
                <a:latin typeface="Times New Roman"/>
              </a:rPr>
              <a:t>Aplicaciones del Cobre</a:t>
            </a:r>
            <a:endParaRPr b="0" lang="en-US" sz="4200" spc="-1" strike="noStrike">
              <a:solidFill>
                <a:srgbClr val="6600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49320" y="1981080"/>
            <a:ext cx="3478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lambres y C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ñerí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Radi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strucción y ornamen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cc99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one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Cable eléctrico de cobre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76720" y="2852640"/>
            <a:ext cx="1714680" cy="172404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1" descr="canerias"/>
          <p:cNvPicPr/>
          <p:nvPr/>
        </p:nvPicPr>
        <p:blipFill>
          <a:blip r:embed="rId3"/>
          <a:stretch/>
        </p:blipFill>
        <p:spPr>
          <a:xfrm>
            <a:off x="5724360" y="4292640"/>
            <a:ext cx="2095560" cy="16002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7" descr="Moneda de un euro. Disco interior de cuproníquel y exterior de níquel-latón.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59640" y="3284640"/>
            <a:ext cx="1428840" cy="14284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Bobina de alambre desnudo.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012000" y="1773360"/>
            <a:ext cx="1428480" cy="1847880"/>
          </a:xfrm>
          <a:prstGeom prst="rect">
            <a:avLst/>
          </a:prstGeom>
          <a:ln w="0">
            <a:noFill/>
          </a:ln>
        </p:spPr>
      </p:pic>
      <p:sp>
        <p:nvSpPr>
          <p:cNvPr id="194" name="Footer Placeholder 9"/>
          <p:cNvSpPr/>
          <p:nvPr/>
        </p:nvSpPr>
        <p:spPr>
          <a:xfrm>
            <a:off x="3352680" y="6248520"/>
            <a:ext cx="2894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57C Taller de Diseño en Sistemas de Potencia 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4T22:26:42Z</dcterms:created>
  <dc:creator>WinuE</dc:creator>
  <dc:description/>
  <dc:language>en-US</dc:language>
  <cp:lastModifiedBy>Alberto Botteselle Doggenweiler</cp:lastModifiedBy>
  <dcterms:modified xsi:type="dcterms:W3CDTF">2008-09-14T20:02:20Z</dcterms:modified>
  <cp:revision>43</cp:revision>
  <dc:subject/>
  <dc:title>Cobre Conductor</dc:title>
</cp:coreProperties>
</file>