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28.jpeg" ContentType="image/jpeg"/>
  <Override PartName="/ppt/media/image26.png" ContentType="image/png"/>
  <Override PartName="/ppt/media/image1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7F53-B13F-4D92-BC79-E10A2B098D0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65EB-62E2-44B9-B949-57F6B04A4F5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llegar a la superficie dio origen a diversos ya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tiformes: vetas con alto contenido de cobre. En la superficie de forma pura o natu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fíricos: cobre disperso, mezclado con materiales mineralizados y con roca estéril. Explotados gracias a las habilidades metalúrgicas. El porcentaje de cobre en estos minerales es conocido como ley de cobre: porcentaje de cobre que tiene una muestra. Ej. 1% entonces cada 100kg de roca mineralizada hay 1kg de co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9C50-F633-4174-936B-0DD682EBFFF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143C-6D76-4235-8031-3AE927478B0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ductor eléctrico: capacidad de transmisión de voz y datos. Solo superado por la plata. Unos de los metales con menor índice de resistencia, y una mayor capacidad de conducción. Usos: cables, telefonía, electrónica, computa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ductor térmico: Permite distribución uniforme del calor. Usos: utensilios de cocina, paneles s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istencia a la Corrosión: Vida Útil muy larga. Durabilidad que supera los 100 años. Resistente al fuego. Usos: Cascos de embarcaciones. Cubiertas, techumbres y desagües. Pernos, clav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eación:  aleaciones duras presentan mayor resistencia pero no se usa para aplicaciones eléctricas. Ejemplos latón y bro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leable y Dúctil: Se pueden obtener láminas muy delgadas y es capaz de alargarse y estirarse. Trabajo en cobre se relativamente fácil. Usos: cañerías tuberías y alam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iclable: 100% reciclable, manteniendo las propie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ctericida: evita proliferación de ciertas bacte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hancado: reducir el tamaño de los elementos may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lienda: se continua reduciendo el tamaño  0,1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canismo de clasificación se obtiene 30% del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urificación posterior se realiza en hornos que permite obtener blister o ánodos con 99% de pure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ectrorefinación permite transformar los ánodos en cátodos con 99,99% de pure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84B9-B9B1-448D-B5D6-A5D2AF572FC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xiviación: solución ácida de agua con ácido sulfúrico, que produce soluciones de sulfato de c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luciones son sometidas a proceso de extracción con solventes, se libera de impurezas y se concentra su contenido de cobre mediante extracción i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C271-6DAB-456A-8C05-D77EA53ABFC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efilado: Proceso de adelgazamiento del cobre a través del estiramiento mecá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bleado: se reúnen y tuercen varios alambres o conductores para generar otro de mayor diáme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usión: da aislamiento al 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raccionado: Cables son empacados en longitudes requer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pantallado: Cubrimiento de conductor aislado por hilos o conductores de cobre, formando una pant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maltado: Aislamiento mediante aplicación técnica de una capa de barniz de  (poliesterim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7C42-3F6C-439E-A57F-86E10FCF6CD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9E5-3D74-4CD9-9370-4D97C929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499-19D8-45F2-A1E2-DE76C670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F16-028D-489A-AAFE-E2350EBF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E20-FB41-402D-8347-E80A5EA1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9879-618E-4471-B51F-2C92D709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52FF-98B1-47F7-B18A-E2E1923D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F4DD-7E07-41CC-93C5-AF2C8D9C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CAEE-ACD3-45F4-9C4E-6A15EB98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4ED3-2413-478D-ABB8-FC280F8E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3AE1-7E62-49C0-9D8C-DAF8BB04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0BAD-FEAC-4B8D-8648-EE5B868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876-4E45-4A7B-BCFE-10D8D2EE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C6B8-2520-4286-8B1B-25FB401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FA0B-D9A6-48FB-BFD3-EC1B0B1E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E351-FD90-438D-B9F9-44BF1461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4703-DF6E-4E53-9D54-20C0359E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3717-0FC7-4A11-9359-43E99733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2E64-07B4-4353-8377-255BAC7C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3A07-0F0B-4657-9652-FCF15718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D999-8E66-49E2-9C2F-2964571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54B4-529F-44C4-8FF9-A1B1CA33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7053A-8466-4EC3-BCCF-77F581EB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924-0635-4409-A4D0-D3BE2ADE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E58D-AFE9-47EB-9B1C-6AA624FB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612C-4692-4D18-A460-FE09BD74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F9A4-FBF2-4B7D-88D2-84D4AAC3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7EA9-C0D0-42E2-A9B2-6E44498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EB36-64F8-4D39-B214-C682B71F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7095-E86C-4675-A33D-93401288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F2D7-89D7-4B8F-BE2A-89542CB4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DC1-0521-48A6-8BDE-615B1C1F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71E-8828-4A78-A556-3008EFC7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9BB-6882-4B35-971A-27FE0ADB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FF4-0295-43B6-8369-31A2B3C8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F98-553F-46D2-892E-F0A55F20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A5E-FE59-459B-957C-92C26357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03CF-C89E-4041-A25D-FC72108D669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5A94-6752-476E-9A4F-7EF88EFDEC4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E9B2-E99B-45AC-9EC3-39ADC43B116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Stranded_lamp_wire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es.wikipedia.org/wiki/Imagen:CO1EURO_50SV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es.wikipedia.org/wiki/Imagen:100_1871.jpg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1500120" y="3746520"/>
            <a:ext cx="3214800" cy="2158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15000" y="4071960"/>
            <a:ext cx="2749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drigo Gutiérrez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bastián Medel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logo"/>
          <p:cNvPicPr/>
          <p:nvPr/>
        </p:nvPicPr>
        <p:blipFill>
          <a:blip r:embed="rId2"/>
          <a:stretch/>
        </p:blipFill>
        <p:spPr>
          <a:xfrm>
            <a:off x="6572160" y="857160"/>
            <a:ext cx="2143080" cy="720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9976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33"/>
                </a:solidFill>
                <a:latin typeface="Times New Roman"/>
              </a:rPr>
              <a:t>Materiales Eléctricos: </a:t>
            </a:r>
            <a:br>
              <a:rPr sz="4400"/>
            </a:br>
            <a:r>
              <a:rPr b="0" lang="es-ES_tradnl" sz="4400" spc="-1" strike="noStrike">
                <a:solidFill>
                  <a:srgbClr val="660033"/>
                </a:solidFill>
                <a:latin typeface="Times New Roman"/>
              </a:rPr>
              <a:t>Cobre Conductor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Footer Placeholder 7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Alambr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383868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conductividad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tes a la corro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 resistencia mecán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067280" y="4076640"/>
            <a:ext cx="4608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ob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eutros y puestas 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alambre"/>
          <p:cNvPicPr/>
          <p:nvPr/>
        </p:nvPicPr>
        <p:blipFill>
          <a:blip r:embed="rId1"/>
          <a:stretch/>
        </p:blipFill>
        <p:spPr>
          <a:xfrm>
            <a:off x="5076720" y="1916280"/>
            <a:ext cx="2087640" cy="1900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alambre"/>
          <p:cNvPicPr/>
          <p:nvPr/>
        </p:nvPicPr>
        <p:blipFill>
          <a:blip r:embed="rId2"/>
          <a:stretch/>
        </p:blipFill>
        <p:spPr>
          <a:xfrm>
            <a:off x="1476360" y="4149720"/>
            <a:ext cx="1905120" cy="1876320"/>
          </a:xfrm>
          <a:prstGeom prst="rect">
            <a:avLst/>
          </a:prstGeom>
          <a:ln w="0">
            <a:noFill/>
          </a:ln>
        </p:spPr>
      </p:pic>
      <p:sp>
        <p:nvSpPr>
          <p:cNvPr id="200" name="Footer Placeholder 7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Cabl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08000" y="1980720"/>
            <a:ext cx="490212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conductividad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tes a la corro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 resistencia mecán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yor flexibilidad que el alambre por su constru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11280" y="4005360"/>
            <a:ext cx="4608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Transmisión y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eutros y puestas 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ar trenzado, coaxia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foto04"/>
          <p:cNvPicPr/>
          <p:nvPr/>
        </p:nvPicPr>
        <p:blipFill>
          <a:blip r:embed="rId1"/>
          <a:stretch/>
        </p:blipFill>
        <p:spPr>
          <a:xfrm>
            <a:off x="1692360" y="1773360"/>
            <a:ext cx="1428840" cy="2085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owerCblIllustration"/>
          <p:cNvPicPr/>
          <p:nvPr/>
        </p:nvPicPr>
        <p:blipFill>
          <a:blip r:embed="rId2"/>
          <a:stretch/>
        </p:blipFill>
        <p:spPr>
          <a:xfrm>
            <a:off x="5148360" y="4005360"/>
            <a:ext cx="2547720" cy="183348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7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Calibre AWG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772000" cy="335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330200" y="2076480"/>
            <a:ext cx="684216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Parámetros de Interé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6704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libre A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cción transversal en mm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le. Suave, Semiduro, D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so en kg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rriente máxima 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fuerzo a la ruptura en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sistencia eléctrica  en Ohm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rmas de fabr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diag01"/>
          <p:cNvPicPr/>
          <p:nvPr/>
        </p:nvPicPr>
        <p:blipFill>
          <a:blip r:embed="rId1"/>
          <a:stretch/>
        </p:blipFill>
        <p:spPr>
          <a:xfrm>
            <a:off x="4859280" y="2041560"/>
            <a:ext cx="3809880" cy="23241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751280" y="4508640"/>
            <a:ext cx="439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is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b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6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Catalog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5964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Proveedor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280" y="3860640"/>
            <a:ext cx="432108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comlarrain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covisa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www.topcab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selcon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1989000"/>
          <a:ext cx="7278480" cy="1646280"/>
        </p:xfrm>
        <a:graphic>
          <a:graphicData uri="http://schemas.openxmlformats.org/drawingml/2006/table">
            <a:tbl>
              <a:tblPr/>
              <a:tblGrid>
                <a:gridCol w="2050920"/>
                <a:gridCol w="1195560"/>
                <a:gridCol w="1695240"/>
                <a:gridCol w="1177920"/>
                <a:gridCol w="115884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bre AW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o de heb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[kg/k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[$/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bre desnudo d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1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desnudo d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7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bla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79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Orige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2040" y="4357800"/>
            <a:ext cx="2120760" cy="1741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856800" y="1571400"/>
            <a:ext cx="6286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ino de las profundidades de la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acimientos “vetiform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actualidad se encuentra en los yacimientos porfí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bre Sulfu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bre Oxi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6548400" y="2857680"/>
            <a:ext cx="2433600" cy="18237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piedad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23744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a Condu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o Grado de Conductividad 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ente para Procesos de Maqu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an Resistencia a la Corro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a Capacidad de Aleación Metá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y Buena Capacidad de Deformación en Caliente y Fr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iene sus Propiedades Indefinidamente en el Recic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piedades Bacter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istencia Metálica en Estado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643720" y="500040"/>
            <a:ext cx="247320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7215120" y="3286080"/>
            <a:ext cx="171468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6572160" y="5143680"/>
            <a:ext cx="1714680" cy="131436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cesos de Producció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eral Sulfu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hancado y Mol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% del 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r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nodo con 99% 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ectro refin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todo con 99,99% 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929200" y="4000680"/>
            <a:ext cx="2805120" cy="1866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6143760" y="1928880"/>
            <a:ext cx="2417760" cy="1571400"/>
          </a:xfrm>
          <a:prstGeom prst="rect">
            <a:avLst/>
          </a:prstGeom>
          <a:ln w="0">
            <a:noFill/>
          </a:ln>
        </p:spPr>
      </p:pic>
      <p:sp>
        <p:nvSpPr>
          <p:cNvPr id="171" name="Footer Placeholder 7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344680" y="357120"/>
            <a:ext cx="45846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cesos de Producció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eral Oxi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ol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ixivi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lfato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tracción con solv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beración de impure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ectro obte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todo con 99,99% 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6357960" y="42861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5924520" y="1714680"/>
            <a:ext cx="32194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429000" y="357120"/>
            <a:ext cx="29242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efi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bl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tru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raccio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antal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mal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 rot="1837800">
            <a:off x="7113240" y="4255920"/>
            <a:ext cx="124308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ceso de Producción: </a:t>
            </a:r>
            <a:br>
              <a:rPr sz="4200"/>
            </a:b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Conductor de Cobr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ImgProduct.asp"/>
          <p:cNvPicPr/>
          <p:nvPr/>
        </p:nvPicPr>
        <p:blipFill>
          <a:blip r:embed="rId2"/>
          <a:stretch/>
        </p:blipFill>
        <p:spPr>
          <a:xfrm>
            <a:off x="3857760" y="1857240"/>
            <a:ext cx="2655720" cy="1973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4127400" y="419400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4"/>
          <a:stretch/>
        </p:blipFill>
        <p:spPr>
          <a:xfrm>
            <a:off x="7072200" y="200016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Aplicaciones del Cobr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ambres y C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ñ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adi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strucción y orna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ne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Cable eléctrico de cobr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852640"/>
            <a:ext cx="1714680" cy="1724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canerias"/>
          <p:cNvPicPr/>
          <p:nvPr/>
        </p:nvPicPr>
        <p:blipFill>
          <a:blip r:embed="rId3"/>
          <a:stretch/>
        </p:blipFill>
        <p:spPr>
          <a:xfrm>
            <a:off x="5724360" y="4292640"/>
            <a:ext cx="209556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Moneda de un euro. Disco interior de cuproníquel y exterior de níquel-latón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3284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Bobina de alambre desnudo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2000" y="1773360"/>
            <a:ext cx="1428480" cy="1847880"/>
          </a:xfrm>
          <a:prstGeom prst="rect">
            <a:avLst/>
          </a:prstGeom>
          <a:ln w="0">
            <a:noFill/>
          </a:ln>
        </p:spPr>
      </p:pic>
      <p:sp>
        <p:nvSpPr>
          <p:cNvPr id="194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2:26:42Z</dcterms:created>
  <dc:creator>WinuE</dc:creator>
  <dc:description/>
  <dc:language>en-US</dc:language>
  <cp:lastModifiedBy>Alberto Botteselle Doggenweiler</cp:lastModifiedBy>
  <dcterms:modified xsi:type="dcterms:W3CDTF">2008-09-14T20:02:20Z</dcterms:modified>
  <cp:revision>43</cp:revision>
  <dc:subject/>
  <dc:title>Cobre Conductor</dc:title>
</cp:coreProperties>
</file>