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3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3.png" ContentType="image/png"/>
  <Override PartName="/ppt/media/image26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4.wmf" ContentType="image/x-wmf"/>
  <Override PartName="/ppt/media/image12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F27D-2B94-42DA-8BA3-C221E468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A86E-79AA-4861-9A31-EFBFDE53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D11D0-1ACB-4D41-80E3-1D3DFC0D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3A429-C6B0-41A0-B3EA-76F2C24C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DD43-F35C-407E-8D02-BC1B283A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96DE-7CF5-4FB8-B59B-35E3ABBF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B8B1-134F-4955-97FC-24594AEA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5FB6-C63A-4004-ABA6-1812CADE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CC92-512E-4791-BCE2-6679E6CF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3FAC-84BF-449F-94CF-5CFB2ED4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B31E-9C76-47C7-9C66-16E1C46B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D2CE2-0CB0-4F14-BCA2-2998340C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7282-068E-4C85-AFF0-D54742D1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D6E6-614D-4B49-B9FB-F02A3974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D282-C406-4749-BC9C-949B5CA6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FA53-947E-43DD-B2B2-ADB505E0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6FAE-AB2A-4E49-A6E0-6DE0BA0F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2337-53FD-45E8-9595-28100599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B3135-DE99-4451-A9B8-3994E52A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DA62-281F-401F-8404-A8A2804A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48F9-C71C-483E-8611-318EF7C3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E37F-3446-44C6-9178-CB97378D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991F-43F6-4F37-B106-474A164C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FF05-72A6-4546-8DCC-5DBA71DA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9D30-FBC9-4824-8276-D342FD3B3FE0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BE44-8C2B-4FF1-9BC2-FCADA5101915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189000"/>
            <a:ext cx="853272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orcelana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u aplicación como aislante eléctr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5915160"/>
            <a:ext cx="3095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Nicolás Ra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Rodrigo Sepúlve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Ariel Yu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4005360" y="2403360"/>
            <a:ext cx="5138640" cy="44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351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occión   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Es el proceso mediante el cual la ceramica es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consolidada térmicamente, la cocción se realiza en torno de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2/3 de la temperatura de fu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ermin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afinan los detalles finales a veces se agregan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pigmentos y puede pasar por hornos de nue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539640" y="4319640"/>
            <a:ext cx="2124360" cy="2143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3419640" y="4336920"/>
            <a:ext cx="2152440" cy="21430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6486480" y="4336920"/>
            <a:ext cx="2152800" cy="214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5000760" y="2124000"/>
            <a:ext cx="3333600" cy="347688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Bajo coeficiente de expansión térm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Gran resistencia mecánica a la flexión y compre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Buena resistencia a la torsión y tra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lto módulo de elastic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932360" y="5734080"/>
            <a:ext cx="395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Fig.1 Curva Cualitativa Esfuerzo - De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573600" cy="44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xcelentes propiedades dieléctr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onstante dieléct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Rigidez dieléct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Factor de pérd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8209080" cy="267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V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s propiedades varían según la composi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835280" y="2060640"/>
          <a:ext cx="547344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060640"/>
                    <a:ext cx="54734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plicación de la Porcela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libri"/>
              </a:rPr>
              <a:t>Aislante Eléctr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En todas las tens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istribución en BT y M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Transmi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En equip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Bushings de Transform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Banco de Condens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esconect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ararray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0"/>
          <a:stretch/>
        </p:blipFill>
        <p:spPr>
          <a:xfrm>
            <a:off x="5724360" y="1844640"/>
            <a:ext cx="3106800" cy="241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Normas Aplicable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Normas ANS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1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Test Methods for Electrical Power Insulators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(Low an Medium Voltage Pin Typ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3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Wet Process Porcelain Insulato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(Spool Typ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Wet Process Porcelain Insul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(Strain Type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lgunos Conceptos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ancia de Fu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 la suma de las distancias más cortas medidas a lo largo de la superficie del aislador, entre las partes conduct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ancia de Arco Se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 la 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tancia más corta en aire al exterior del aislador entre dos electr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</a:rPr>
              <a:t>ANSI C29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Tipos de Aisladores.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álo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011240" y="2708280"/>
            <a:ext cx="1085760" cy="129708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2627280" y="3789360"/>
            <a:ext cx="992160" cy="108108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1547640" y="501336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4643280" y="2708280"/>
            <a:ext cx="990720" cy="25909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6948360" y="3933720"/>
            <a:ext cx="15624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tización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2131920" y="1341360"/>
            <a:ext cx="5008680" cy="518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s Pr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ceso de Produ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piedades de la Porcel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plicación en Industria Eléct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tálogos de Aisl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guntas, Comentar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14716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gu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659640" y="5805360"/>
            <a:ext cx="2232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 baseline="-25000">
                <a:solidFill>
                  <a:srgbClr val="ffffff"/>
                </a:solidFill>
                <a:latin typeface="Calibri"/>
              </a:rPr>
              <a:t>F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Materias Prim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0208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Arcil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Síl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Feldesp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2556000" y="3429000"/>
            <a:ext cx="4038480" cy="31338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4067280" y="1484280"/>
            <a:ext cx="460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Buena Plasticidad en Cru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Margen Amplio de T°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Tratamiento Térm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00360" y="1916280"/>
            <a:ext cx="1152360" cy="718920"/>
          </a:xfrm>
          <a:prstGeom prst="rightArrow">
            <a:avLst>
              <a:gd name="adj1" fmla="val 50000"/>
              <a:gd name="adj2" fmla="val 40073"/>
            </a:avLst>
          </a:prstGeom>
          <a:solidFill>
            <a:srgbClr val="0000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Arcilla (Caolinita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49916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oca de grano muy fi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Componente principal del “Suelo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6012000" y="4869000"/>
            <a:ext cx="2028600" cy="17715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468360" y="4797360"/>
            <a:ext cx="2338200" cy="18637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5"/>
          <a:stretch/>
        </p:blipFill>
        <p:spPr>
          <a:xfrm>
            <a:off x="468360" y="2565360"/>
            <a:ext cx="7620120" cy="21430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132000" y="4797360"/>
            <a:ext cx="2592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Al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Si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5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(OH)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Hidról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Lamin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Feldespa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77151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Hay muchos Tipos (T° , 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3370320" cy="2365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5580000" y="3860640"/>
            <a:ext cx="3384720" cy="25178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684360" y="3603600"/>
            <a:ext cx="3095640" cy="27687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971640" y="2276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Plagiocl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Potás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Sílice (Cuarzo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oca hecha solamente de Síl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- SiO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Muy Dura y Resistente a Meteor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971640" y="3821040"/>
            <a:ext cx="3024000" cy="22827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5003640" y="3860640"/>
            <a:ext cx="3038760" cy="225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11280" y="1916280"/>
            <a:ext cx="7856280" cy="3713040"/>
            <a:chOff x="611280" y="1916280"/>
            <a:chExt cx="7856280" cy="3713040"/>
          </a:xfrm>
        </p:grpSpPr>
        <p:pic>
          <p:nvPicPr>
            <p:cNvPr id="542" name="" descr=""/>
            <p:cNvPicPr/>
            <p:nvPr/>
          </p:nvPicPr>
          <p:blipFill>
            <a:blip r:embed="rId1"/>
            <a:stretch/>
          </p:blipFill>
          <p:spPr>
            <a:xfrm>
              <a:off x="611280" y="1916280"/>
              <a:ext cx="7856280" cy="37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611280" y="1916280"/>
              <a:ext cx="7856280" cy="37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Recepción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a materia prima es almacenada en la ind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Beneficio  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a materia prima se procesa para su utilización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            (pulverización, purificación, clasificación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Mezcla      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os elementos son mezclados en agua y se agregan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            elementos específicos segun el requer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2152440" cy="21337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5651640" y="4292640"/>
            <a:ext cx="2152440" cy="215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olado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retira el líquido excedente y se molde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cab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La pieza toma su forma final y se afinan detalles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como pulir superfic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ecado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Típicamente se utilizan hornos de tún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izcoch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cado adi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arniz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aplica barniz protector por roce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6"/>
          <a:stretch/>
        </p:blipFill>
        <p:spPr>
          <a:xfrm>
            <a:off x="482760" y="4149720"/>
            <a:ext cx="2181240" cy="21337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7"/>
          <a:stretch/>
        </p:blipFill>
        <p:spPr>
          <a:xfrm>
            <a:off x="3522600" y="4156200"/>
            <a:ext cx="2200320" cy="21524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8"/>
          <a:stretch/>
        </p:blipFill>
        <p:spPr>
          <a:xfrm>
            <a:off x="6443640" y="4149720"/>
            <a:ext cx="2162160" cy="217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05:18:15Z</dcterms:created>
  <dc:creator>Rodrigo</dc:creator>
  <dc:description/>
  <dc:language>en-US</dc:language>
  <cp:lastModifiedBy>Alberto Botteselle Doggenweiler</cp:lastModifiedBy>
  <dcterms:modified xsi:type="dcterms:W3CDTF">2008-09-14T19:56:16Z</dcterms:modified>
  <cp:revision>26</cp:revision>
  <dc:subject/>
  <dc:title>Diapositiva 1</dc:title>
</cp:coreProperties>
</file>