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.png" ContentType="image/png"/>
  <Override PartName="/ppt/media/image2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4.wmf" ContentType="image/x-wmf"/>
  <Override PartName="/ppt/media/image12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87C0-F8A1-41C3-A24B-12D5168E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35E8-70FE-4C75-80BE-C83CFC55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3863-CFF4-43E1-8DF1-87C371AC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F6FC-D459-4F96-8BC6-372A6C1D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50DA-D9AB-420D-B988-5E26A193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FDD6-0415-4E1E-9D81-CE460A20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B6E0-5571-420C-9280-4A7553B9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6741-33A2-4B40-A333-230C1D5A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F87E-4113-4AC1-913A-68493800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B356-07C0-4431-932B-BD0933E8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5035-355E-4657-A3F9-306CB415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D652-AA87-47F1-B5CB-ED90221C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C4D3-C9F4-4FC1-B039-01375BFD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CBEA-6C7B-4D30-86AC-EE1E6EE8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612A-82B3-4C8E-87A8-71528755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7191-B192-459E-9FE2-800D7C05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1E5A-E99B-423D-BAAC-1E35A6CF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D8B6-5A8A-4DF9-B5BE-06620BB1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8684-9C7B-439C-8DA9-085E57BB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79EB-0A31-40F0-89C5-02E25FA1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B14C-2415-4CF7-BD36-AE934A4A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C7CF-AC64-4A33-9DAE-EC755C23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45B4-11CA-413B-89BA-977C5D33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174A-0696-4B86-B600-9413B77C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DF8F-4B11-44AE-BF48-856ACEA7381E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A79E-ACA3-4039-9D2C-AE848EEB3398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189000"/>
            <a:ext cx="853272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rcelana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u aplicación como aislante eléct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5915160"/>
            <a:ext cx="3095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Nicolás Ra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Rodrigo Sepúlve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Ariel Yu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4005360" y="2403360"/>
            <a:ext cx="5138640" cy="44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351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cción   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Es el proceso mediante el cual la ceramica es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consolidada térmicamente, la cocción se realiza en torno de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2/3 de la temperatura de fu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ermin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afinan los detalles finales a veces se agregan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pigmentos y puede pasar por hornos de nue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539640" y="4319640"/>
            <a:ext cx="2124360" cy="2143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3419640" y="4336920"/>
            <a:ext cx="2152440" cy="21430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6486480" y="433692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5000760" y="2124000"/>
            <a:ext cx="3333600" cy="34768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ajo coeficiente de expansión térm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Gran resistencia mecánica a la flexión y compre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uena resistencia a la torsión y tra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lto módulo de elast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32360" y="5734080"/>
            <a:ext cx="395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Fig.1 Curva Cualitativa Esfuerzo - De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7360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xcelentes propiedades dieléctr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onstante dielé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Rigidez dielé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Factor de pérd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8209080" cy="26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V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s propiedades varían según la composi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835280" y="2060640"/>
          <a:ext cx="54734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060640"/>
                    <a:ext cx="54734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plicación de la Porcela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libri"/>
              </a:rPr>
              <a:t>Aislante Eléct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n todas las ten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istribución en BT y M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Transmi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n equip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ushings de Transform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anco de Condens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esconect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ararray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0"/>
          <a:stretch/>
        </p:blipFill>
        <p:spPr>
          <a:xfrm>
            <a:off x="5724360" y="1844640"/>
            <a:ext cx="3106800" cy="24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Normas Aplicable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Normas AN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Test Methods for Electrical Power Insulators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Low an Medium Voltage Pin Ty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3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Wet Process Porcelain Insulato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Spool Ty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Wet Process Porcelain Insu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(Strain Type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lgunos Conceptos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ia de Fu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 la suma de las distancias más cortas medidas a lo largo de la superficie del aislador, entre las partes conduct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ia de Arco Se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 la 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tancia más corta en aire al exterior del aislador entre dos electr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</a:rPr>
              <a:t>ANSI C29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Tipos de Aisladores.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álo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011240" y="2708280"/>
            <a:ext cx="1085760" cy="12970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992160" cy="108108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1547640" y="501336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4643280" y="2708280"/>
            <a:ext cx="990720" cy="25909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6948360" y="3933720"/>
            <a:ext cx="1562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tización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131920" y="1341360"/>
            <a:ext cx="5008680" cy="518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s Pr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ceso de Prod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piedades de la Porcel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licación en Industria Eléct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tálogos de Ais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, Comenta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1471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59640" y="5805360"/>
            <a:ext cx="2232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baseline="-25000">
                <a:solidFill>
                  <a:srgbClr val="ffffff"/>
                </a:solidFill>
                <a:latin typeface="Calibri"/>
              </a:rPr>
              <a:t>F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Materias Prim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020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Arcil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í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Feldesp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2556000" y="3429000"/>
            <a:ext cx="4038480" cy="31338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067280" y="1484280"/>
            <a:ext cx="460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Buena Plasticidad en Cru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Margen Amplio de T°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Tratamiento Térm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00360" y="1916280"/>
            <a:ext cx="1152360" cy="718920"/>
          </a:xfrm>
          <a:prstGeom prst="rightArrow">
            <a:avLst>
              <a:gd name="adj1" fmla="val 50000"/>
              <a:gd name="adj2" fmla="val 40073"/>
            </a:avLst>
          </a:pr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Arcilla (Caolinita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49916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oca de grano muy fi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omponente principal del “Suelo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6012000" y="4869000"/>
            <a:ext cx="2028600" cy="17715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468360" y="4797360"/>
            <a:ext cx="2338200" cy="1863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5"/>
          <a:stretch/>
        </p:blipFill>
        <p:spPr>
          <a:xfrm>
            <a:off x="468360" y="2565360"/>
            <a:ext cx="7620120" cy="21430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132000" y="4797360"/>
            <a:ext cx="2592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Al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i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5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(OH)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Hidró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Lamin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Feldespa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7715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Hay muchos Tipos (T° , 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3370320" cy="2365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5580000" y="3860640"/>
            <a:ext cx="3384720" cy="25178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684360" y="3603600"/>
            <a:ext cx="3095640" cy="27687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971640" y="2276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Plagioc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Potás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Sílice (Cuarzo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oca hecha solamente de Síl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- SiO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uy Dura y Resistente a Meteor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971640" y="3821040"/>
            <a:ext cx="3024000" cy="22827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5003640" y="3860640"/>
            <a:ext cx="3038760" cy="225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11280" y="1916280"/>
            <a:ext cx="7856280" cy="3713040"/>
            <a:chOff x="611280" y="1916280"/>
            <a:chExt cx="7856280" cy="3713040"/>
          </a:xfrm>
        </p:grpSpPr>
        <p:pic>
          <p:nvPicPr>
            <p:cNvPr id="542" name="" descr=""/>
            <p:cNvPicPr/>
            <p:nvPr/>
          </p:nvPicPr>
          <p:blipFill>
            <a:blip r:embed="rId1"/>
            <a:stretch/>
          </p:blipFill>
          <p:spPr>
            <a:xfrm>
              <a:off x="611280" y="1916280"/>
              <a:ext cx="7856280" cy="37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611280" y="1916280"/>
              <a:ext cx="7856280" cy="37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ecepción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a materia prima es almacenada en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eneficio  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a materia prima se procesa para su utilizació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            (pulverización, purificación, clasificación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ezcla      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os elementos son mezclados en agua y se agrega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            elementos específicos segun el requer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2152440" cy="21337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5651640" y="4292640"/>
            <a:ext cx="2152440" cy="215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lado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retira el líquido excedente y se mold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cab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La pieza toma su forma final y se afinan detalles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como pulir superfi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ecado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Típicamente se utilizan hornos de tún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izcoch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cado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arniz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aplica barniz protector por roc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482760" y="4149720"/>
            <a:ext cx="2181240" cy="21337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7"/>
          <a:stretch/>
        </p:blipFill>
        <p:spPr>
          <a:xfrm>
            <a:off x="3522600" y="4156200"/>
            <a:ext cx="2200320" cy="21524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8"/>
          <a:stretch/>
        </p:blipFill>
        <p:spPr>
          <a:xfrm>
            <a:off x="6443640" y="4149720"/>
            <a:ext cx="2162160" cy="217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05:18:15Z</dcterms:created>
  <dc:creator>Rodrigo</dc:creator>
  <dc:description/>
  <dc:language>en-US</dc:language>
  <cp:lastModifiedBy>Alberto Botteselle Doggenweiler</cp:lastModifiedBy>
  <dcterms:modified xsi:type="dcterms:W3CDTF">2008-09-14T19:56:16Z</dcterms:modified>
  <cp:revision>26</cp:revision>
  <dc:subject/>
  <dc:title>Diapositiva 1</dc:title>
</cp:coreProperties>
</file>