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7.png" ContentType="image/png"/>
  <Override PartName="/ppt/media/image33.jpeg" ContentType="image/jpeg"/>
  <Override PartName="/ppt/media/image23.png" ContentType="image/png"/>
  <Override PartName="/ppt/media/image20.png" ContentType="image/png"/>
  <Override PartName="/ppt/media/image18.png" ContentType="image/png"/>
  <Override PartName="/ppt/media/image6.jpeg" ContentType="image/jpeg"/>
  <Override PartName="/ppt/media/image13.png" ContentType="image/png"/>
  <Override PartName="/ppt/media/image3.png" ContentType="image/png"/>
  <Override PartName="/ppt/media/image26.png" ContentType="image/png"/>
  <Override PartName="/ppt/media/image7.jpeg" ContentType="image/jpeg"/>
  <Override PartName="/ppt/media/image28.png" ContentType="image/png"/>
  <Override PartName="/ppt/media/image5.png" ContentType="image/png"/>
  <Override PartName="/ppt/media/image8.jpeg" ContentType="image/jpeg"/>
  <Override PartName="/ppt/media/image30.png" ContentType="image/png"/>
  <Override PartName="/ppt/media/image9.png" ContentType="image/png"/>
  <Override PartName="/ppt/media/image4.wmf" ContentType="image/x-wmf"/>
  <Override PartName="/ppt/media/image12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1.jpeg" ContentType="image/jpe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F590E-E49E-4389-8D3F-D1F075176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35C81-79E0-465D-8E05-D8820C4F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947CE-F2BE-42BE-A517-29832E075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8AE4E-4D72-4118-A4A8-940B39BEED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37E8-4C23-48D1-B753-7ACC926A8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BEFB0-21EA-4A80-BDE6-DB0C23C85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26565-E601-41FA-AA6D-78C52604A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E2979-88FB-495C-8DEB-67B52384D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846DF-1796-4056-B6D6-FCAB0F245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F45CE-DCCB-432A-BB2D-C74053A75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A2483-EDD6-4F5B-85FD-7EE027B8E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302E74-DA1B-42F0-99CD-08EEB130D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3284-E87D-4A68-8742-91F89718A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6F711-41CF-45DC-9F9F-13398A06F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6EB60-89B6-4891-9AFA-EE0672256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8C933-0051-457B-BEC0-FCA8032C7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80B7D-2743-4E4C-A3D8-3BF768068B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E1F5E-5BF5-49C8-AEEC-2F62A2414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5BFDA9-795A-4DA7-B435-E28AD7844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244AE0-FDFA-497A-9571-06F2976FD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CF189-74D8-4EF5-A459-495E7764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398E8-5BB0-4421-9A24-E444D3BF7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207AD-9787-4057-B3D1-D8FE1BFFB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BEA59-AFA7-4718-97E5-07443B1FA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E892F-07B1-4AE7-97B6-6CD2210D65FA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F7EA-35EE-4E58-A51A-837F832751F4}" type="slidenum">
              <a:rPr b="0" lang="es-ES_tradnl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27.png"/><Relationship Id="rId1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189000"/>
            <a:ext cx="8532720" cy="16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en-US" sz="5400" spc="-1" strike="noStrike">
                <a:solidFill>
                  <a:srgbClr val="ffffff"/>
                </a:solidFill>
                <a:latin typeface="Calibri"/>
              </a:rPr>
              <a:t>Porcelana: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                      </a:t>
            </a:r>
            <a:r>
              <a:rPr b="1" lang="en-US" sz="3200" spc="-1" strike="noStrike">
                <a:solidFill>
                  <a:srgbClr val="ffffff"/>
                </a:solidFill>
                <a:latin typeface="Calibri"/>
              </a:rPr>
              <a:t>Su aplicación como aislante eléctri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0" y="5915160"/>
            <a:ext cx="309564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alibri"/>
              </a:rPr>
              <a:t>Nicolás Ra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alibri"/>
              </a:rPr>
              <a:t>Rodrigo Sepúlved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Calibri"/>
              </a:rPr>
              <a:t>Ariel Yung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6" name="" descr=""/>
          <p:cNvPicPr/>
          <p:nvPr/>
        </p:nvPicPr>
        <p:blipFill>
          <a:blip r:embed="rId1"/>
          <a:stretch/>
        </p:blipFill>
        <p:spPr>
          <a:xfrm>
            <a:off x="4005360" y="2403360"/>
            <a:ext cx="5138640" cy="445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Proceso de Produ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68000" y="1699920"/>
            <a:ext cx="835164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Cocción      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Es el proceso mediante el cual la ceramica es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    consolidada térmicamente, la cocción se realiza en torno de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    2/3 de la temperatura de fu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erminado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Se afinan los detalles finales a veces se agregan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   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   pigmentos y puede pasar por hornos de nuev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3"/>
          <a:stretch/>
        </p:blipFill>
        <p:spPr>
          <a:xfrm>
            <a:off x="539640" y="4319640"/>
            <a:ext cx="2124360" cy="214308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4"/>
          <a:stretch/>
        </p:blipFill>
        <p:spPr>
          <a:xfrm>
            <a:off x="3419640" y="4336920"/>
            <a:ext cx="2152440" cy="2143080"/>
          </a:xfrm>
          <a:prstGeom prst="rect">
            <a:avLst/>
          </a:prstGeom>
          <a:ln w="0">
            <a:noFill/>
          </a:ln>
        </p:spPr>
      </p:pic>
      <p:pic>
        <p:nvPicPr>
          <p:cNvPr id="557" name="" descr=""/>
          <p:cNvPicPr/>
          <p:nvPr/>
        </p:nvPicPr>
        <p:blipFill>
          <a:blip r:embed="rId5"/>
          <a:stretch/>
        </p:blipFill>
        <p:spPr>
          <a:xfrm>
            <a:off x="6486480" y="4336920"/>
            <a:ext cx="2152800" cy="2143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Calibri"/>
              </a:rPr>
              <a:t>Propiedades 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59" name="" descr=""/>
          <p:cNvPicPr/>
          <p:nvPr/>
        </p:nvPicPr>
        <p:blipFill>
          <a:blip r:embed="rId1"/>
          <a:stretch/>
        </p:blipFill>
        <p:spPr>
          <a:xfrm>
            <a:off x="5000760" y="2124000"/>
            <a:ext cx="3333600" cy="3476880"/>
          </a:xfrm>
          <a:prstGeom prst="rect">
            <a:avLst/>
          </a:prstGeom>
          <a:ln w="0">
            <a:noFill/>
          </a:ln>
        </p:spPr>
      </p:pic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Bajo coeficiente de expansión térmic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Gran resistencia mecánica a la flexión y compres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Buena resistencia a la torsión y tracció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25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Alto módulo de elasticidad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4932360" y="5734080"/>
            <a:ext cx="3959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baseline="-25000">
                <a:solidFill>
                  <a:srgbClr val="ffffff"/>
                </a:solidFill>
                <a:latin typeface="Arial"/>
              </a:rPr>
              <a:t>Fig.1 Curva Cualitativa Esfuerzo - Deformac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66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Calibri"/>
              </a:rPr>
              <a:t>Propiedades I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332000" y="1557360"/>
            <a:ext cx="6573600" cy="4464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9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Calibri"/>
              </a:rPr>
              <a:t>Propiedades III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Excelentes propiedades dieléctric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Constante dieléct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Rigidez dieléct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Calibri"/>
              </a:rPr>
              <a:t>Factor de pérdi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468360" y="3573360"/>
            <a:ext cx="8209080" cy="2671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dfdef6"/>
                </a:solidFill>
                <a:latin typeface="Calibri"/>
              </a:rPr>
              <a:t>Propiedades IV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643880" cy="67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Calibri"/>
              </a:rPr>
              <a:t>Las propiedades varían según la composició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1835280" y="2060640"/>
          <a:ext cx="5473440" cy="43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35280" y="2060640"/>
                    <a:ext cx="5473440" cy="43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Aplicación de la Porcelan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Calibri"/>
              </a:rPr>
              <a:t>Aislante Eléctr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En todas las tension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Distribución en BT y M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Transmis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lnSpc>
                <a:spcPct val="100000"/>
              </a:lnSpc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En equip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Bushings de Transforma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Banco de Condensa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Desconectador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Pararrayo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0"/>
          <a:stretch/>
        </p:blipFill>
        <p:spPr>
          <a:xfrm>
            <a:off x="5724360" y="1844640"/>
            <a:ext cx="3106800" cy="24145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Normas Aplicables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Calibri"/>
              </a:rPr>
              <a:t>Normas ANS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29.1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Test Methods for Electrical Power Insulators 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(Low an Medium Voltage Pin Typ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29.3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Wet Process Porcelain Insulato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Calibri"/>
              </a:rPr>
              <a:t>(Spool Type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C29.4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Calibri"/>
              </a:rPr>
              <a:t>Wet Process Porcelain Insulato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i="1" lang="es-ES_tradnl" sz="2000" spc="-1" strike="noStrike">
                <a:solidFill>
                  <a:srgbClr val="ffffff"/>
                </a:solidFill>
                <a:latin typeface="Calibri"/>
              </a:rPr>
              <a:t>(Strain Type)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Algunos Conceptos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tancia de Fug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s la suma de las distancias más cortas medidas a lo largo de la superficie del aislador, entre las partes conduct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stancia de Arco Sec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Es la d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istancia más corta en aire al exterior del aislador entre dos electro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alibri"/>
              </a:rPr>
              <a:t>ANSI C29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Tipos de Aisladores.</a:t>
            </a: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tálog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1011240" y="2708280"/>
            <a:ext cx="1085760" cy="1297080"/>
          </a:xfrm>
          <a:prstGeom prst="rect">
            <a:avLst/>
          </a:prstGeom>
          <a:ln w="0">
            <a:noFill/>
          </a:ln>
        </p:spPr>
      </p:pic>
      <p:pic>
        <p:nvPicPr>
          <p:cNvPr id="581" name="" descr=""/>
          <p:cNvPicPr/>
          <p:nvPr/>
        </p:nvPicPr>
        <p:blipFill>
          <a:blip r:embed="rId2"/>
          <a:stretch/>
        </p:blipFill>
        <p:spPr>
          <a:xfrm>
            <a:off x="2627280" y="3789360"/>
            <a:ext cx="992160" cy="1081080"/>
          </a:xfrm>
          <a:prstGeom prst="rect">
            <a:avLst/>
          </a:prstGeom>
          <a:ln w="0">
            <a:noFill/>
          </a:ln>
        </p:spPr>
      </p:pic>
      <p:pic>
        <p:nvPicPr>
          <p:cNvPr id="582" name="" descr=""/>
          <p:cNvPicPr/>
          <p:nvPr/>
        </p:nvPicPr>
        <p:blipFill>
          <a:blip r:embed="rId3"/>
          <a:stretch/>
        </p:blipFill>
        <p:spPr>
          <a:xfrm>
            <a:off x="1547640" y="5013360"/>
            <a:ext cx="817560" cy="1079640"/>
          </a:xfrm>
          <a:prstGeom prst="rect">
            <a:avLst/>
          </a:prstGeom>
          <a:ln w="0">
            <a:noFill/>
          </a:ln>
        </p:spPr>
      </p:pic>
      <p:pic>
        <p:nvPicPr>
          <p:cNvPr id="583" name="" descr=""/>
          <p:cNvPicPr/>
          <p:nvPr/>
        </p:nvPicPr>
        <p:blipFill>
          <a:blip r:embed="rId4"/>
          <a:stretch/>
        </p:blipFill>
        <p:spPr>
          <a:xfrm>
            <a:off x="4643280" y="2708280"/>
            <a:ext cx="990720" cy="2590920"/>
          </a:xfrm>
          <a:prstGeom prst="rect">
            <a:avLst/>
          </a:prstGeom>
          <a:ln w="0">
            <a:noFill/>
          </a:ln>
        </p:spPr>
      </p:pic>
      <p:pic>
        <p:nvPicPr>
          <p:cNvPr id="584" name="" descr=""/>
          <p:cNvPicPr/>
          <p:nvPr/>
        </p:nvPicPr>
        <p:blipFill>
          <a:blip r:embed="rId5"/>
          <a:stretch/>
        </p:blipFill>
        <p:spPr>
          <a:xfrm>
            <a:off x="6948360" y="3933720"/>
            <a:ext cx="1562400" cy="18288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3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6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09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2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5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otización.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2131920" y="1341360"/>
            <a:ext cx="5008680" cy="51832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Agenda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terias Prima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ceso de Producció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opiedades de la Porcelan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Aplicación en Industria Eléctric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atálogos de Aislador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guntas, Comentari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14716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Pregunt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om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6659640" y="5805360"/>
            <a:ext cx="2232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 baseline="-25000">
                <a:solidFill>
                  <a:srgbClr val="ffffff"/>
                </a:solidFill>
                <a:latin typeface="Calibri"/>
              </a:rPr>
              <a:t>F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Materias Primas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0208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Calibri"/>
              </a:rPr>
              <a:t>Arcilla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Síli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Feldespa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1" name="" descr=""/>
          <p:cNvPicPr/>
          <p:nvPr/>
        </p:nvPicPr>
        <p:blipFill>
          <a:blip r:embed="rId4"/>
          <a:stretch/>
        </p:blipFill>
        <p:spPr>
          <a:xfrm>
            <a:off x="2556000" y="3429000"/>
            <a:ext cx="4038480" cy="313380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4067280" y="1484280"/>
            <a:ext cx="460836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Buena Plasticidad en Crud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Margen Amplio de T° 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Tratamiento Térmic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700360" y="1916280"/>
            <a:ext cx="1152360" cy="718920"/>
          </a:xfrm>
          <a:prstGeom prst="rightArrow">
            <a:avLst>
              <a:gd name="adj1" fmla="val 50000"/>
              <a:gd name="adj2" fmla="val 40073"/>
            </a:avLst>
          </a:prstGeom>
          <a:solidFill>
            <a:srgbClr val="0000ff"/>
          </a:solidFill>
          <a:ln w="1260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" dur="2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fdef6"/>
                </a:solidFill>
                <a:latin typeface="Calibri"/>
              </a:rPr>
              <a:t>Arcilla (Caolinita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68000" y="1125360"/>
            <a:ext cx="7499160" cy="10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Roca de grano muy fin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Componente principal del “Suelo”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3"/>
          <a:stretch/>
        </p:blipFill>
        <p:spPr>
          <a:xfrm>
            <a:off x="6012000" y="4869000"/>
            <a:ext cx="2028600" cy="17715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4"/>
          <a:stretch/>
        </p:blipFill>
        <p:spPr>
          <a:xfrm>
            <a:off x="468360" y="4797360"/>
            <a:ext cx="2338200" cy="18637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5"/>
          <a:stretch/>
        </p:blipFill>
        <p:spPr>
          <a:xfrm>
            <a:off x="468360" y="2565360"/>
            <a:ext cx="7620120" cy="214308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132000" y="4797360"/>
            <a:ext cx="259236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- Al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Si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Calibri"/>
              </a:rPr>
              <a:t>2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O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Calibri"/>
              </a:rPr>
              <a:t>5 </a:t>
            </a: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(OH)</a:t>
            </a:r>
            <a:r>
              <a:rPr b="0" lang="es-CL" sz="2800" spc="-1" strike="noStrike" baseline="-25000">
                <a:solidFill>
                  <a:srgbClr val="ffffff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Hidrólis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ffff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Lamin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5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fdef6"/>
                </a:solidFill>
                <a:latin typeface="Calibri"/>
              </a:rPr>
              <a:t>Feldespato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68000" y="1557000"/>
            <a:ext cx="7715160" cy="74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Hay muchos Tipos (T° , P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5580000" y="1341360"/>
            <a:ext cx="3370320" cy="2365560"/>
          </a:xfrm>
          <a:prstGeom prst="rect">
            <a:avLst/>
          </a:prstGeom>
          <a:ln w="0">
            <a:noFill/>
          </a:ln>
        </p:spPr>
      </p:pic>
      <p:pic>
        <p:nvPicPr>
          <p:cNvPr id="533" name="" descr=""/>
          <p:cNvPicPr/>
          <p:nvPr/>
        </p:nvPicPr>
        <p:blipFill>
          <a:blip r:embed="rId3"/>
          <a:stretch/>
        </p:blipFill>
        <p:spPr>
          <a:xfrm>
            <a:off x="5580000" y="3860640"/>
            <a:ext cx="3384720" cy="2517840"/>
          </a:xfrm>
          <a:prstGeom prst="rect">
            <a:avLst/>
          </a:prstGeom>
          <a:ln w="0">
            <a:noFill/>
          </a:ln>
        </p:spPr>
      </p:pic>
      <p:pic>
        <p:nvPicPr>
          <p:cNvPr id="534" name="" descr=""/>
          <p:cNvPicPr/>
          <p:nvPr/>
        </p:nvPicPr>
        <p:blipFill>
          <a:blip r:embed="rId4"/>
          <a:stretch/>
        </p:blipFill>
        <p:spPr>
          <a:xfrm>
            <a:off x="684360" y="3603600"/>
            <a:ext cx="3095640" cy="276876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971640" y="2276640"/>
            <a:ext cx="2087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- Plagiocla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ffffff"/>
                </a:solidFill>
                <a:latin typeface="Calibri"/>
              </a:rPr>
              <a:t>- Potásic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dfdef6"/>
                </a:solidFill>
                <a:latin typeface="Calibri"/>
              </a:rPr>
              <a:t>Sílice (Cuarzo)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93116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Roca hecha solamente de Síl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- SiO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Calibri"/>
              </a:rPr>
              <a:t>Muy Dura y Resistente a Meteor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3"/>
          <a:stretch/>
        </p:blipFill>
        <p:spPr>
          <a:xfrm>
            <a:off x="971640" y="3821040"/>
            <a:ext cx="3024000" cy="2282760"/>
          </a:xfrm>
          <a:prstGeom prst="rect">
            <a:avLst/>
          </a:prstGeom>
          <a:ln w="0">
            <a:noFill/>
          </a:ln>
        </p:spPr>
      </p:pic>
      <p:pic>
        <p:nvPicPr>
          <p:cNvPr id="539" name="" descr=""/>
          <p:cNvPicPr/>
          <p:nvPr/>
        </p:nvPicPr>
        <p:blipFill>
          <a:blip r:embed="rId4"/>
          <a:stretch/>
        </p:blipFill>
        <p:spPr>
          <a:xfrm>
            <a:off x="5003640" y="3860640"/>
            <a:ext cx="3038760" cy="22510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Proceso de Produ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541" name=""/>
          <p:cNvGrpSpPr/>
          <p:nvPr/>
        </p:nvGrpSpPr>
        <p:grpSpPr>
          <a:xfrm>
            <a:off x="611280" y="1916280"/>
            <a:ext cx="7856280" cy="3713040"/>
            <a:chOff x="611280" y="1916280"/>
            <a:chExt cx="7856280" cy="3713040"/>
          </a:xfrm>
        </p:grpSpPr>
        <p:pic>
          <p:nvPicPr>
            <p:cNvPr id="542" name="" descr=""/>
            <p:cNvPicPr/>
            <p:nvPr/>
          </p:nvPicPr>
          <p:blipFill>
            <a:blip r:embed="rId1"/>
            <a:stretch/>
          </p:blipFill>
          <p:spPr>
            <a:xfrm>
              <a:off x="611280" y="1916280"/>
              <a:ext cx="7856280" cy="37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3" name=""/>
            <p:cNvSpPr/>
            <p:nvPr/>
          </p:nvSpPr>
          <p:spPr>
            <a:xfrm>
              <a:off x="611280" y="1916280"/>
              <a:ext cx="7856280" cy="371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>
    <p:fad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7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Proceso de Produ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79280" y="1600200"/>
            <a:ext cx="896472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Recepción :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La materia prima es almacenada en la indust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Beneficio   :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La materia prima se procesa para su utilización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                (pulverización, purificación, clasificación, etc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Mezcla       :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Los elementos son mezclados en agua y se agregan 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                 elementos específicos segun el requeri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4"/>
          <a:stretch/>
        </p:blipFill>
        <p:spPr>
          <a:xfrm>
            <a:off x="1258920" y="4221000"/>
            <a:ext cx="2152440" cy="213372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5"/>
          <a:stretch/>
        </p:blipFill>
        <p:spPr>
          <a:xfrm>
            <a:off x="5651640" y="4292640"/>
            <a:ext cx="2152440" cy="2152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Calibri"/>
              </a:rPr>
              <a:t>Proceso de Producción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835164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Colado   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Se retira el líquido excedente y se molde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Acabado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La pieza toma su forma final y se afinan detalles     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            como pulir superfici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Secado   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Típicamente se utilizan hornos de túne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Bizcocho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Secado adicion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499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Barnizado:</a:t>
            </a:r>
            <a:r>
              <a:rPr b="0" lang="en-GB" sz="2000" spc="-1" strike="noStrike">
                <a:solidFill>
                  <a:srgbClr val="ffffff"/>
                </a:solidFill>
                <a:latin typeface="Calibri"/>
              </a:rPr>
              <a:t> Se aplica barniz protector por rocead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0" name="" descr=""/>
          <p:cNvPicPr/>
          <p:nvPr/>
        </p:nvPicPr>
        <p:blipFill>
          <a:blip r:embed="rId6"/>
          <a:stretch/>
        </p:blipFill>
        <p:spPr>
          <a:xfrm>
            <a:off x="482760" y="4149720"/>
            <a:ext cx="2181240" cy="2133720"/>
          </a:xfrm>
          <a:prstGeom prst="rect">
            <a:avLst/>
          </a:prstGeom>
          <a:ln w="0">
            <a:noFill/>
          </a:ln>
        </p:spPr>
      </p:pic>
      <p:pic>
        <p:nvPicPr>
          <p:cNvPr id="551" name="" descr=""/>
          <p:cNvPicPr/>
          <p:nvPr/>
        </p:nvPicPr>
        <p:blipFill>
          <a:blip r:embed="rId7"/>
          <a:stretch/>
        </p:blipFill>
        <p:spPr>
          <a:xfrm>
            <a:off x="3522600" y="4156200"/>
            <a:ext cx="2200320" cy="2152440"/>
          </a:xfrm>
          <a:prstGeom prst="rect">
            <a:avLst/>
          </a:prstGeom>
          <a:ln w="0">
            <a:noFill/>
          </a:ln>
        </p:spPr>
      </p:pic>
      <p:pic>
        <p:nvPicPr>
          <p:cNvPr id="552" name="" descr=""/>
          <p:cNvPicPr/>
          <p:nvPr/>
        </p:nvPicPr>
        <p:blipFill>
          <a:blip r:embed="rId8"/>
          <a:stretch/>
        </p:blipFill>
        <p:spPr>
          <a:xfrm>
            <a:off x="6443640" y="4149720"/>
            <a:ext cx="2162160" cy="21718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3T05:18:15Z</dcterms:created>
  <dc:creator>Rodrigo</dc:creator>
  <dc:description/>
  <dc:language>en-US</dc:language>
  <cp:lastModifiedBy>Alberto Botteselle Doggenweiler</cp:lastModifiedBy>
  <dcterms:modified xsi:type="dcterms:W3CDTF">2008-09-14T19:56:16Z</dcterms:modified>
  <cp:revision>26</cp:revision>
  <dc:subject/>
  <dc:title>Diapositiva 1</dc:title>
</cp:coreProperties>
</file>