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33.jpeg" ContentType="image/jpeg"/>
  <Override PartName="/ppt/media/image23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3.png" ContentType="image/png"/>
  <Override PartName="/ppt/media/image3.png" ContentType="image/png"/>
  <Override PartName="/ppt/media/image26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9.png" ContentType="image/png"/>
  <Override PartName="/ppt/media/image4.wmf" ContentType="image/x-wmf"/>
  <Override PartName="/ppt/media/image12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A01C2-623A-4F3A-B50F-831EC32B2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3CD9E-BEFB-4239-BDCB-3007EF67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69D99-91D6-4827-8A82-0AE142A17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7104D-FB4F-4B6D-91D9-C22AE9862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A744-F504-4F23-84CF-B0EBAC636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D7FB-C774-4536-8A93-C0E8D2EF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63AA-8714-4AF6-BC90-6915B5B2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7FFF7-BC60-4291-B867-C48CE650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D649-B328-4B8C-8389-51C193D2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9B56C-71BB-4038-8F8B-C771FBC3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B517-85D9-4072-90C1-6FC8AB24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E6CA2-F0D3-44B7-B03A-3C057314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B997-82AB-4A1C-A7A2-13CF0205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74AA-6F01-4D18-AAFE-A24D4250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EED3A-ECEB-4552-A1D2-C1DE9A00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655D-658D-4F9A-B401-4B3EABBBA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039A-C6C3-432B-9A6C-8BF001A68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9099B-7546-4FB7-94D3-4E924FA9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42783-9948-470B-A3AD-BCA95A29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CA113-CF01-4C29-B823-DD23A0A9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9E0BB-F16D-4E70-AEC7-0929A385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C6DD7-8F24-40BF-908F-22F78374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912F2-F0BD-46BC-9B44-03EAFD1E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6248F-84E8-4C7A-B2AB-8AC47E1B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037B-D491-4E40-A96D-D9CFA81AB54F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F21A-ECB2-4AF6-A41D-869554528BD6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189000"/>
            <a:ext cx="8532720" cy="16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Porcelana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u aplicación como aislante eléctr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0" y="5915160"/>
            <a:ext cx="30956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alibri"/>
              </a:rPr>
              <a:t>Nicolás Ra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alibri"/>
              </a:rPr>
              <a:t>Rodrigo Sepúlve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alibri"/>
              </a:rPr>
              <a:t>Ariel Yu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4005360" y="2403360"/>
            <a:ext cx="5138640" cy="445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Proceso de Producció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3516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Cocción      :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Es el proceso mediante el cual la ceramica es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                consolidada térmicamente, la cocción se realiza en torno de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                2/3 de la temperatura de fus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Terminado: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Se afinan los detalles finales a veces se agregan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               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               pigmentos y puede pasar por hornos de nuev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3"/>
          <a:stretch/>
        </p:blipFill>
        <p:spPr>
          <a:xfrm>
            <a:off x="539640" y="4319640"/>
            <a:ext cx="2124360" cy="214308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4"/>
          <a:stretch/>
        </p:blipFill>
        <p:spPr>
          <a:xfrm>
            <a:off x="3419640" y="4336920"/>
            <a:ext cx="2152440" cy="214308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5"/>
          <a:stretch/>
        </p:blipFill>
        <p:spPr>
          <a:xfrm>
            <a:off x="6486480" y="4336920"/>
            <a:ext cx="2152800" cy="214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fdef6"/>
                </a:solidFill>
                <a:latin typeface="Calibri"/>
              </a:rPr>
              <a:t>Propiedades 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5000760" y="2124000"/>
            <a:ext cx="3333600" cy="347688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25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Bajo coeficiente de expansión térm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25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Gran resistencia mecánica a la flexión y compres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25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Buena resistencia a la torsión y trac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25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Alto módulo de elastic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932360" y="5734080"/>
            <a:ext cx="3959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Fig.1 Curva Cualitativa Esfuerzo - Deform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fdef6"/>
                </a:solidFill>
                <a:latin typeface="Calibri"/>
              </a:rPr>
              <a:t>Propiedades I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573600" cy="446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fdef6"/>
                </a:solidFill>
                <a:latin typeface="Calibri"/>
              </a:rPr>
              <a:t>Propiedades II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Excelentes propiedades dieléctric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Constante dieléct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Rigidez dieléct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Factor de pérdi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468360" y="3573360"/>
            <a:ext cx="8209080" cy="267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fdef6"/>
                </a:solidFill>
                <a:latin typeface="Calibri"/>
              </a:rPr>
              <a:t>Propiedades IV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64388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Las propiedades varían según la composi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1835280" y="2060640"/>
          <a:ext cx="5473440" cy="431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2060640"/>
                    <a:ext cx="547344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Aplicación de la Porcelan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libri"/>
              </a:rPr>
              <a:t>Aislante Eléctr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En todas las tens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Distribución en BT y M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Transmis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En equip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Bushings de Transforma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Banco de Condensa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Desconecta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Pararray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0"/>
          <a:stretch/>
        </p:blipFill>
        <p:spPr>
          <a:xfrm>
            <a:off x="5724360" y="1844640"/>
            <a:ext cx="3106800" cy="2414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Normas Aplicables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Normas ANS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C29.1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Test Methods for Electrical Power Insulators 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(Low an Medium Voltage Pin Typ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C29.3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Wet Process Porcelain Insulato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(Spool Typ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C29.4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Calibri"/>
              </a:rPr>
              <a:t>Wet Process Porcelain Insula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Calibri"/>
              </a:rPr>
              <a:t>(Strain Type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Algunos Conceptos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stancia de Fug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s la suma de las distancias más cortas medidas a lo largo de la superficie del aislador, entre las partes conductor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stancia de Arco Se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s la d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stancia más corta en aire al exterior del aislador entre dos electro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alibri"/>
              </a:rPr>
              <a:t>ANSI C29.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Tipos de Aisladores.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álog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1011240" y="2708280"/>
            <a:ext cx="1085760" cy="129708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2"/>
          <a:stretch/>
        </p:blipFill>
        <p:spPr>
          <a:xfrm>
            <a:off x="2627280" y="3789360"/>
            <a:ext cx="992160" cy="108108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3"/>
          <a:stretch/>
        </p:blipFill>
        <p:spPr>
          <a:xfrm>
            <a:off x="1547640" y="5013360"/>
            <a:ext cx="817560" cy="107964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4"/>
          <a:stretch/>
        </p:blipFill>
        <p:spPr>
          <a:xfrm>
            <a:off x="4643280" y="2708280"/>
            <a:ext cx="990720" cy="259092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5"/>
          <a:stretch/>
        </p:blipFill>
        <p:spPr>
          <a:xfrm>
            <a:off x="6948360" y="3933720"/>
            <a:ext cx="1562400" cy="1828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tización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2131920" y="1341360"/>
            <a:ext cx="5008680" cy="518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terias Pri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ceso de Produc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piedades de la Porcela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plicación en Industria Eléctr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tálogos de Aislado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eguntas, Comentari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14716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egun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m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659640" y="5805360"/>
            <a:ext cx="22320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 baseline="-25000">
                <a:solidFill>
                  <a:srgbClr val="ffffff"/>
                </a:solidFill>
                <a:latin typeface="Calibri"/>
              </a:rPr>
              <a:t>F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Materias Prima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0208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Calibri"/>
              </a:rPr>
              <a:t>Arcil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Síl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Feldespa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4"/>
          <a:stretch/>
        </p:blipFill>
        <p:spPr>
          <a:xfrm>
            <a:off x="2556000" y="3429000"/>
            <a:ext cx="4038480" cy="313380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4067280" y="1484280"/>
            <a:ext cx="4608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Buena Plasticidad en Cru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Margen Amplio de T°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Tratamiento Térm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700360" y="1916280"/>
            <a:ext cx="1152360" cy="718920"/>
          </a:xfrm>
          <a:prstGeom prst="rightArrow">
            <a:avLst>
              <a:gd name="adj1" fmla="val 50000"/>
              <a:gd name="adj2" fmla="val 40073"/>
            </a:avLst>
          </a:prstGeom>
          <a:solidFill>
            <a:srgbClr val="0000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dfdef6"/>
                </a:solidFill>
                <a:latin typeface="Calibri"/>
              </a:rPr>
              <a:t>Arcilla (Caolinita)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749916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Roca de grano muy fi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Componente principal del “Suelo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3"/>
          <a:stretch/>
        </p:blipFill>
        <p:spPr>
          <a:xfrm>
            <a:off x="6012000" y="4869000"/>
            <a:ext cx="2028600" cy="177156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4"/>
          <a:stretch/>
        </p:blipFill>
        <p:spPr>
          <a:xfrm>
            <a:off x="468360" y="4797360"/>
            <a:ext cx="2338200" cy="186372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5"/>
          <a:stretch/>
        </p:blipFill>
        <p:spPr>
          <a:xfrm>
            <a:off x="468360" y="2565360"/>
            <a:ext cx="7620120" cy="214308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3132000" y="4797360"/>
            <a:ext cx="2592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- Al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Calibri"/>
              </a:rPr>
              <a:t>2 </a:t>
            </a: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Si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Calibri"/>
              </a:rPr>
              <a:t>2 </a:t>
            </a: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Calibri"/>
              </a:rPr>
              <a:t>5 </a:t>
            </a: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(OH)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Hidról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Lamin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dfdef6"/>
                </a:solidFill>
                <a:latin typeface="Calibri"/>
              </a:rPr>
              <a:t>Feldespat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771516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Hay muchos Tipos (T° , 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5580000" y="1341360"/>
            <a:ext cx="3370320" cy="236556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3"/>
          <a:stretch/>
        </p:blipFill>
        <p:spPr>
          <a:xfrm>
            <a:off x="5580000" y="3860640"/>
            <a:ext cx="3384720" cy="251784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4"/>
          <a:stretch/>
        </p:blipFill>
        <p:spPr>
          <a:xfrm>
            <a:off x="684360" y="3603600"/>
            <a:ext cx="3095640" cy="276876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971640" y="2276640"/>
            <a:ext cx="20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- Plagiocla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- Potásic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dfdef6"/>
                </a:solidFill>
                <a:latin typeface="Calibri"/>
              </a:rPr>
              <a:t>Sílice (Cuarzo)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3116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Roca hecha solamente de Síl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- SiO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Muy Dura y Resistente a Meteoriz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3"/>
          <a:stretch/>
        </p:blipFill>
        <p:spPr>
          <a:xfrm>
            <a:off x="971640" y="3821040"/>
            <a:ext cx="3024000" cy="228276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4"/>
          <a:stretch/>
        </p:blipFill>
        <p:spPr>
          <a:xfrm>
            <a:off x="5003640" y="3860640"/>
            <a:ext cx="3038760" cy="2251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Proceso de Producció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611280" y="1916280"/>
            <a:ext cx="7856280" cy="3713040"/>
            <a:chOff x="611280" y="1916280"/>
            <a:chExt cx="7856280" cy="3713040"/>
          </a:xfrm>
        </p:grpSpPr>
        <p:pic>
          <p:nvPicPr>
            <p:cNvPr id="542" name="" descr=""/>
            <p:cNvPicPr/>
            <p:nvPr/>
          </p:nvPicPr>
          <p:blipFill>
            <a:blip r:embed="rId1"/>
            <a:stretch/>
          </p:blipFill>
          <p:spPr>
            <a:xfrm>
              <a:off x="611280" y="1916280"/>
              <a:ext cx="7856280" cy="37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"/>
            <p:cNvSpPr/>
            <p:nvPr/>
          </p:nvSpPr>
          <p:spPr>
            <a:xfrm>
              <a:off x="611280" y="1916280"/>
              <a:ext cx="7856280" cy="371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Proceso de Producció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Recepción :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 La materia prima es almacenada en la indus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Beneficio   :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 La materia prima se procesa para su utilización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                 (pulverización, purificación, clasificación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Mezcla       :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 Los elementos son mezclados en agua y se agregan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                 elementos específicos segun el requeri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4"/>
          <a:stretch/>
        </p:blipFill>
        <p:spPr>
          <a:xfrm>
            <a:off x="1258920" y="4221000"/>
            <a:ext cx="2152440" cy="213372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5"/>
          <a:stretch/>
        </p:blipFill>
        <p:spPr>
          <a:xfrm>
            <a:off x="5651640" y="4292640"/>
            <a:ext cx="2152440" cy="2152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Proceso de Producció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Colado   :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Se retira el líquido excedente y se molde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Acabado: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La pieza toma su forma final y se afinan detalles    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            como pulir superfic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Secado   :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Típicamente se utilizan hornos de tún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Bizcocho: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Secado adi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Barnizado: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Se aplica barniz protector por roce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6"/>
          <a:stretch/>
        </p:blipFill>
        <p:spPr>
          <a:xfrm>
            <a:off x="482760" y="4149720"/>
            <a:ext cx="2181240" cy="213372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7"/>
          <a:stretch/>
        </p:blipFill>
        <p:spPr>
          <a:xfrm>
            <a:off x="3522600" y="4156200"/>
            <a:ext cx="2200320" cy="215244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8"/>
          <a:stretch/>
        </p:blipFill>
        <p:spPr>
          <a:xfrm>
            <a:off x="6443640" y="4149720"/>
            <a:ext cx="2162160" cy="2171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3T05:18:15Z</dcterms:created>
  <dc:creator>Rodrigo</dc:creator>
  <dc:description/>
  <dc:language>en-US</dc:language>
  <cp:lastModifiedBy>Alberto Botteselle Doggenweiler</cp:lastModifiedBy>
  <dcterms:modified xsi:type="dcterms:W3CDTF">2008-09-14T19:56:16Z</dcterms:modified>
  <cp:revision>26</cp:revision>
  <dc:subject/>
  <dc:title>Diapositiva 1</dc:title>
</cp:coreProperties>
</file>