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33.jpeg" ContentType="image/jpeg"/>
  <Override PartName="/ppt/media/image23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3.png" ContentType="image/png"/>
  <Override PartName="/ppt/media/image3.png" ContentType="image/png"/>
  <Override PartName="/ppt/media/image26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9.png" ContentType="image/png"/>
  <Override PartName="/ppt/media/image4.wmf" ContentType="image/x-wmf"/>
  <Override PartName="/ppt/media/image12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C0C9A-24F8-451B-B8CC-25836B9C6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837A4-C039-4B83-9CB9-21B52623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25218-7693-4BBF-9561-48669DB21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1C1BA-1715-4B1F-928B-B12037F8F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D343-5ACF-4F7C-ACD9-8D98CB886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C9BC-A62C-422B-9A8D-DF99F219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2844-93E1-4DF9-8667-1AC44B5E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B18D-6702-4993-A8A2-A46DB332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6D33-903C-45F2-8AFC-DACE3012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A4F8-0EAD-4096-8932-A2DBEB0B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40CD-6F0D-4F18-8D2E-3C2A74F7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9ECAE-A3F9-4338-B7F9-1743E06D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E7A2-64CD-448A-8855-284D55C6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5791-BD0F-4369-9A89-05F46ED3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5E3D-16C4-4ECB-B7E3-225EC29C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9287-5507-4611-A53B-2686FA663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1BE5-E127-4944-8D4C-D8EE9A3E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80A03-5166-4AFB-A709-EC4A43CD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E8C83-4940-4A1E-B974-9F146B62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18BBB-7E1A-49A1-8250-78C5483A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D19C4-F965-4B3E-A032-40618CEE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DBEA6-0410-425A-9538-511628C1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9F94D-0C90-4E5A-B9F0-56C2FBAE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65B1C-9313-4C19-91BA-2433E43E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D14F-9B5F-4D41-A174-1FC2FDE09147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6608-3AE3-47F1-87BF-2AF37B0A66A7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189000"/>
            <a:ext cx="8532720" cy="16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Porcelana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u aplicación como aislante eléctr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5915160"/>
            <a:ext cx="30956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alibri"/>
              </a:rPr>
              <a:t>Nicolás Ra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alibri"/>
              </a:rPr>
              <a:t>Rodrigo Sepúlve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alibri"/>
              </a:rPr>
              <a:t>Ariel Yu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4005360" y="2403360"/>
            <a:ext cx="5138640" cy="445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Proceso de Produ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351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Cocción      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Es el proceso mediante el cual la ceramica es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    consolidada térmicamente, la cocción se realiza en torno de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    2/3 de la temperatura de fus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Terminado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Se afinan los detalles finales a veces se agregan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   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   pigmentos y puede pasar por hornos de nue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539640" y="4319640"/>
            <a:ext cx="2124360" cy="214308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4"/>
          <a:stretch/>
        </p:blipFill>
        <p:spPr>
          <a:xfrm>
            <a:off x="3419640" y="4336920"/>
            <a:ext cx="2152440" cy="214308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5"/>
          <a:stretch/>
        </p:blipFill>
        <p:spPr>
          <a:xfrm>
            <a:off x="6486480" y="4336920"/>
            <a:ext cx="2152800" cy="214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Calibri"/>
              </a:rPr>
              <a:t>Propiedades 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5000760" y="2124000"/>
            <a:ext cx="3333600" cy="347688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25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Bajo coeficiente de expansión térm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Gran resistencia mecánica a la flexión y compres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Buena resistencia a la torsión y trac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Alto módulo de elastic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932360" y="5734080"/>
            <a:ext cx="395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Fig.1 Curva Cualitativa Esfuerzo - De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Calibri"/>
              </a:rPr>
              <a:t>Propiedades I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573600" cy="446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Calibri"/>
              </a:rPr>
              <a:t>Propiedades II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Excelentes propiedades dieléctric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Constante dieléct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Rigidez dieléct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Factor de pérd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8209080" cy="267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Calibri"/>
              </a:rPr>
              <a:t>Propiedades IV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Las propiedades varían según la composi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1835280" y="2060640"/>
          <a:ext cx="5473440" cy="431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2060640"/>
                    <a:ext cx="547344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Aplicación de la Porcelan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libri"/>
              </a:rPr>
              <a:t>Aislante Eléctr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En todas las tens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Distribución en BT y M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Transmis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En equip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Bushings de Transforma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Banco de Condensa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Desconecta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Pararray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0"/>
          <a:stretch/>
        </p:blipFill>
        <p:spPr>
          <a:xfrm>
            <a:off x="5724360" y="1844640"/>
            <a:ext cx="3106800" cy="2414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Normas Aplicables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Normas ANS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C29.1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Test Methods for Electrical Power Insulators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(Low an Medium Voltage Pin Typ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C29.3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Wet Process Porcelain Insulato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(Spool Typ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C29.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Calibri"/>
              </a:rPr>
              <a:t>Wet Process Porcelain Insul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Calibri"/>
              </a:rPr>
              <a:t>(Strain Type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Algunos Conceptos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tancia de Fug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s la suma de las distancias más cortas medidas a lo largo de la superficie del aislador, entre las partes conducto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tancia de Arco Se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s la d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stancia más corta en aire al exterior del aislador entre dos electr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</a:rPr>
              <a:t>ANSI C29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Tipos de Aisladores.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álo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1011240" y="2708280"/>
            <a:ext cx="1085760" cy="129708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2627280" y="3789360"/>
            <a:ext cx="992160" cy="108108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3"/>
          <a:stretch/>
        </p:blipFill>
        <p:spPr>
          <a:xfrm>
            <a:off x="1547640" y="5013360"/>
            <a:ext cx="817560" cy="107964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4"/>
          <a:stretch/>
        </p:blipFill>
        <p:spPr>
          <a:xfrm>
            <a:off x="4643280" y="2708280"/>
            <a:ext cx="990720" cy="259092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5"/>
          <a:stretch/>
        </p:blipFill>
        <p:spPr>
          <a:xfrm>
            <a:off x="6948360" y="3933720"/>
            <a:ext cx="1562400" cy="182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tización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2131920" y="1341360"/>
            <a:ext cx="5008680" cy="518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terias Pr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ceso de Produ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piedades de la Porcel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plicación en Industria Eléctr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tálogos de Aislad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guntas, Comentari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14716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gun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659640" y="5805360"/>
            <a:ext cx="2232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 baseline="-25000">
                <a:solidFill>
                  <a:srgbClr val="ffffff"/>
                </a:solidFill>
                <a:latin typeface="Calibri"/>
              </a:rPr>
              <a:t>F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Materias Prima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0208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Calibri"/>
              </a:rPr>
              <a:t>Arcil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Síl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Feldespa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4"/>
          <a:stretch/>
        </p:blipFill>
        <p:spPr>
          <a:xfrm>
            <a:off x="2556000" y="3429000"/>
            <a:ext cx="4038480" cy="313380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4067280" y="1484280"/>
            <a:ext cx="4608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Buena Plasticidad en Cru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Margen Amplio de T°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Tratamiento Térm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700360" y="1916280"/>
            <a:ext cx="1152360" cy="718920"/>
          </a:xfrm>
          <a:prstGeom prst="rightArrow">
            <a:avLst>
              <a:gd name="adj1" fmla="val 50000"/>
              <a:gd name="adj2" fmla="val 40073"/>
            </a:avLst>
          </a:prstGeom>
          <a:solidFill>
            <a:srgbClr val="0000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dfdef6"/>
                </a:solidFill>
                <a:latin typeface="Calibri"/>
              </a:rPr>
              <a:t>Arcilla (Caolinita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749916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Roca de grano muy fi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Componente principal del “Suelo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6012000" y="4869000"/>
            <a:ext cx="2028600" cy="177156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4"/>
          <a:stretch/>
        </p:blipFill>
        <p:spPr>
          <a:xfrm>
            <a:off x="468360" y="4797360"/>
            <a:ext cx="2338200" cy="186372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5"/>
          <a:stretch/>
        </p:blipFill>
        <p:spPr>
          <a:xfrm>
            <a:off x="468360" y="2565360"/>
            <a:ext cx="7620120" cy="214308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132000" y="4797360"/>
            <a:ext cx="2592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- Al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Calibri"/>
              </a:rPr>
              <a:t>2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Si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Calibri"/>
              </a:rPr>
              <a:t>2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Calibri"/>
              </a:rPr>
              <a:t>5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(OH)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Hidról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Lamin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dfdef6"/>
                </a:solidFill>
                <a:latin typeface="Calibri"/>
              </a:rPr>
              <a:t>Feldespat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771516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Hay muchos Tipos (T° , 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5580000" y="1341360"/>
            <a:ext cx="3370320" cy="23655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5580000" y="3860640"/>
            <a:ext cx="3384720" cy="25178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4"/>
          <a:stretch/>
        </p:blipFill>
        <p:spPr>
          <a:xfrm>
            <a:off x="684360" y="3603600"/>
            <a:ext cx="3095640" cy="276876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971640" y="227664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- Plagiocl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- Potás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dfdef6"/>
                </a:solidFill>
                <a:latin typeface="Calibri"/>
              </a:rPr>
              <a:t>Sílice (Cuarzo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Roca hecha solamente de Síl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- SiO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Muy Dura y Resistente a Meteoriz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971640" y="3821040"/>
            <a:ext cx="3024000" cy="228276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5003640" y="3860640"/>
            <a:ext cx="3038760" cy="225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Proceso de Produ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11280" y="1916280"/>
            <a:ext cx="7856280" cy="3713040"/>
            <a:chOff x="611280" y="1916280"/>
            <a:chExt cx="7856280" cy="3713040"/>
          </a:xfrm>
        </p:grpSpPr>
        <p:pic>
          <p:nvPicPr>
            <p:cNvPr id="542" name="" descr=""/>
            <p:cNvPicPr/>
            <p:nvPr/>
          </p:nvPicPr>
          <p:blipFill>
            <a:blip r:embed="rId1"/>
            <a:stretch/>
          </p:blipFill>
          <p:spPr>
            <a:xfrm>
              <a:off x="611280" y="1916280"/>
              <a:ext cx="7856280" cy="37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611280" y="1916280"/>
              <a:ext cx="7856280" cy="37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Proceso de Produ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Recepción :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La materia prima es almacenada en la ind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Beneficio   :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La materia prima se procesa para su utilización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                (pulverización, purificación, clasificación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Mezcla       :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Los elementos son mezclados en agua y se agregan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                elementos específicos segun el requer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>
            <a:off x="1258920" y="4221000"/>
            <a:ext cx="2152440" cy="213372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5"/>
          <a:stretch/>
        </p:blipFill>
        <p:spPr>
          <a:xfrm>
            <a:off x="5651640" y="4292640"/>
            <a:ext cx="2152440" cy="215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Proceso de Produ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Colado   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Se retira el líquido excedente y se molde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Acabado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La pieza toma su forma final y se afinan detalles    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como pulir superfic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Secado   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Típicamente se utilizan hornos de tún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Bizcocho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Secado adi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Barnizado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Se aplica barniz protector por roce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6"/>
          <a:stretch/>
        </p:blipFill>
        <p:spPr>
          <a:xfrm>
            <a:off x="482760" y="4149720"/>
            <a:ext cx="2181240" cy="213372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7"/>
          <a:stretch/>
        </p:blipFill>
        <p:spPr>
          <a:xfrm>
            <a:off x="3522600" y="4156200"/>
            <a:ext cx="2200320" cy="215244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8"/>
          <a:stretch/>
        </p:blipFill>
        <p:spPr>
          <a:xfrm>
            <a:off x="6443640" y="4149720"/>
            <a:ext cx="2162160" cy="217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3T05:18:15Z</dcterms:created>
  <dc:creator>Rodrigo</dc:creator>
  <dc:description/>
  <dc:language>en-US</dc:language>
  <cp:lastModifiedBy>Alberto Botteselle Doggenweiler</cp:lastModifiedBy>
  <dcterms:modified xsi:type="dcterms:W3CDTF">2008-09-14T19:56:16Z</dcterms:modified>
  <cp:revision>26</cp:revision>
  <dc:subject/>
  <dc:title>Diapositiva 1</dc:title>
</cp:coreProperties>
</file>