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4.wmf" ContentType="image/x-wmf"/>
  <Override PartName="/ppt/media/image12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8D7D-0B49-47F3-AF7C-0F378B57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B3754-9792-4C68-BFEA-072EC4FED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DBC9A-E513-40B3-BBCC-C4F7C78C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E5EBA-5245-4240-81D4-6B1E8D0B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BEF4-45E9-4471-9714-93097BF5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641FF-37BA-4498-A151-9AADC0EB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8CA5-BECC-4199-9CB2-6650D743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F2C1-87A4-412D-BC93-53C1E099D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741A-1D29-4773-B058-D224CDB5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1CB0-8264-4EDC-B3B4-43D4CEA5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843E-ADC0-43A1-92C3-1826CCB66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BC598-53C6-4DCD-B2AF-8748F935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B6CA-5BD5-43BD-AF49-4F378894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4445C-FE53-4754-8B94-D8994D76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B28A-C895-40CC-A99E-50843FC0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738F-70B2-48C3-9713-C74BC24C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69FB-9D8F-4466-B943-89273B5C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59426-38A6-484B-9A69-85BAC796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ACE86-6AFC-47C0-8D65-715A6A73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5F88-1F23-4A9A-9026-BF6F41F6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DA09-20B9-4CE6-A4AE-1144BF73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0931-9FC5-401E-8DD9-1EDD794C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FB26-7442-459B-9F81-DD35CC73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C8C2-8413-4732-9F4C-BF7DBF5B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1AC4-1A56-4185-8D51-050A50BD1110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EE0C-FF75-453F-BF63-66EF093B734F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189000"/>
            <a:ext cx="853272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rcelana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u aplicación como aislante eléct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9151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Nicolás R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Rodrigo Sepúlv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Ariel Y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005360" y="2403360"/>
            <a:ext cx="5138640" cy="44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cción   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Es el proceso mediante el cual la ceramica e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consolidada térmicamente, la cocción se realiza en torno de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2/3 de la temperatura de fu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ermin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finan los detalles finales a veces se agregan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pigmentos y puede pasar por hornos de nue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5000760" y="2124000"/>
            <a:ext cx="3333600" cy="34768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ajo coeficiente de expansión tér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Gran resistencia mecánica a la flexión y com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uena resistencia a la torsión y tra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lt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32360" y="5734080"/>
            <a:ext cx="395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ig.1 Curva Cualitativa Esfuerzo - De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7360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xcelentes propiedades dieléctr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nstante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Rigidez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Factor de pérd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8209080" cy="26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s propiedades varían según la composi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835280" y="2060640"/>
          <a:ext cx="54734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060640"/>
                    <a:ext cx="5473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plicación de la Porcela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Aislante Eléct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todas las ten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tribución en BT y M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Transmi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equip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ushings de Transform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anco de Condens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esconect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rarray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0"/>
          <a:stretch/>
        </p:blipFill>
        <p:spPr>
          <a:xfrm>
            <a:off x="5724360" y="1844640"/>
            <a:ext cx="3106800" cy="24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Normas Aplicable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Normas AN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st Methods for Electrical Power Insulators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Low an Medium Voltage Pin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et Process Porcelain Insul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Spool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Wet Process Porcelain Ins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(Strain Type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lgunos Concepto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suma de las distancias más cortas medidas a lo largo de la superficie del aislador, entre las partes conduct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Arco Se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tancia más corta en aire al exterior del aislador entre dos electr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ANSI C29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Tipos de Aisladores.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álo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11240" y="2708280"/>
            <a:ext cx="1085760" cy="12970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992160" cy="10810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1547640" y="501336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990720" cy="2590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6948360" y="3933720"/>
            <a:ext cx="1562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tización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31920" y="1341360"/>
            <a:ext cx="500868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s Pr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so de 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iedades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licación en Industria 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álogos de Ais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, Coment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59640" y="5805360"/>
            <a:ext cx="223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baseline="-25000">
                <a:solidFill>
                  <a:srgbClr val="ffffff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Materias Pr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020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Arci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í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Feldesp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2556000" y="3429000"/>
            <a:ext cx="4038480" cy="3133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067280" y="148428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Buena Plasticidad en Cr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Margen Amplio de T°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Tratamiento Térm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00360" y="1916280"/>
            <a:ext cx="1152360" cy="718920"/>
          </a:xfrm>
          <a:prstGeom prst="rightArrow">
            <a:avLst>
              <a:gd name="adj1" fmla="val 50000"/>
              <a:gd name="adj2" fmla="val 40073"/>
            </a:avLst>
          </a:pr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Arcilla (Caolinita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499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de grano muy fi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omponente principal del “Suel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012000" y="4869000"/>
            <a:ext cx="2028600" cy="17715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468360" y="4797360"/>
            <a:ext cx="2338200" cy="1863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468360" y="2565360"/>
            <a:ext cx="7620120" cy="2143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132000" y="4797360"/>
            <a:ext cx="2592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Al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i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5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(OH)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Hidró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La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Feldespa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715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Hay muchos Tipos (T° , 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370320" cy="2365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5580000" y="3860640"/>
            <a:ext cx="3384720" cy="2517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84360" y="3603600"/>
            <a:ext cx="3095640" cy="2768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971640" y="2276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lagioc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ot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Sílice (Cuarzo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hecha solamente de Síl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- Si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uy Dura y Resistente a Meteor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971640" y="3821040"/>
            <a:ext cx="3024000" cy="22827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5003640" y="3860640"/>
            <a:ext cx="3038760" cy="225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11280" y="1916280"/>
            <a:ext cx="7856280" cy="3713040"/>
            <a:chOff x="611280" y="1916280"/>
            <a:chExt cx="7856280" cy="3713040"/>
          </a:xfrm>
        </p:grpSpPr>
        <p:pic>
          <p:nvPicPr>
            <p:cNvPr id="542" name="" descr=""/>
            <p:cNvPicPr/>
            <p:nvPr/>
          </p:nvPicPr>
          <p:blipFill>
            <a:blip r:embed="rId1"/>
            <a:stretch/>
          </p:blipFill>
          <p:spPr>
            <a:xfrm>
              <a:off x="611280" y="1916280"/>
              <a:ext cx="785628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611280" y="1916280"/>
              <a:ext cx="785628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cepción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eneficio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se procesa para su utilizació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(pulverización, purificación, clasificación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zcla    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os elementos son mezclados en agua y se agrega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elementos específicos segun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2152440" cy="21337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651640" y="4292640"/>
            <a:ext cx="2152440" cy="215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l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retira el líquido excedente y se mold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cab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La pieza toma su forma final y se afinan detalles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como pulir superfi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ec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Típicamente se utilizan hornos de tú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izcoch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cado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arniz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plica barniz protector por roc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482760" y="4149720"/>
            <a:ext cx="2181240" cy="2133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3522600" y="4156200"/>
            <a:ext cx="2200320" cy="2152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8"/>
          <a:stretch/>
        </p:blipFill>
        <p:spPr>
          <a:xfrm>
            <a:off x="6443640" y="4149720"/>
            <a:ext cx="2162160" cy="21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5:18:15Z</dcterms:created>
  <dc:creator>Rodrigo</dc:creator>
  <dc:description/>
  <dc:language>en-US</dc:language>
  <cp:lastModifiedBy>Alberto Botteselle Doggenweiler</cp:lastModifiedBy>
  <dcterms:modified xsi:type="dcterms:W3CDTF">2008-09-14T19:56:16Z</dcterms:modified>
  <cp:revision>26</cp:revision>
  <dc:subject/>
  <dc:title>Diapositiva 1</dc:title>
</cp:coreProperties>
</file>