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e3a5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dfe3a5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DFB4-EAB4-456A-B796-C975105E546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DF54D-A536-4E98-9615-503B56F8F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EB0F2-89F7-435E-B26C-30DA2639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F4EB8-EA16-4456-B66E-962BCC95A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779AA-C45B-4B7E-B5D8-F4029E64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BE54-CA62-4D3A-A019-0E268A5AF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717B-C230-4DF4-B6DC-71D00EEB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291A-68E0-4800-B486-830D46D0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294E-46A2-4356-8E92-72C37965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94C2-144A-4728-9146-B6FFF07B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B6FE-E40B-41B7-9DE3-85F5F1AB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17C5-1892-4EAF-913E-2ABC9999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E2316-DAB5-4375-8449-EE6E6D2C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6737-E2DB-409B-808D-E0B26764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E01E-D439-4D4F-97CE-399E2D7E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567D-4DB7-40C6-B5D7-429B856F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34E4-C5E9-4C62-800E-30E3D9D9C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3C77-168C-4080-AF3D-66D6C4433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34DD0-7FE2-4DF6-B205-C880A0B5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FA7BD-1011-472C-AC1F-34220661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B9084-A837-489D-AF54-0CB738D6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1A16E-C4C1-4066-9FD9-B59572F4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C0CC3-62F7-42B4-8104-906E59A5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88A5D-7040-449F-A8B9-E67E6AC5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F3670-30F2-47BE-8449-583DD40F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6C14-404E-4944-9E86-8D100756F51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e3a5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fe3a5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4BF4-3858-4E6D-BDCC-E521E2A1718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dgf.uchile.cl/chaiten/logo2_VerticalOficialfcfm_JPG.jpg&amp;imgrefurl=http://www.dgf.uchile.cl/chaiten/&amp;h=239&amp;w=300&amp;sz=17&amp;hl=es&amp;start=5&amp;tbnid=WLvkSMYPmbDiTM:&amp;tbnh=92&amp;tbnw=116&amp;prev=/images%3Fq%3Dfacultad%2Bciencias%2Bf%25C3%25ADsicas%2By%2Bmatem%25C3%25A1ticas%2Blogo%26gbv%3D2%26hl%3Des%26sa%3DG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dfe3a5"/>
                </a:solidFill>
                <a:latin typeface="Garamond"/>
              </a:rPr>
              <a:t>Silicona Industrial</a:t>
            </a:r>
            <a:endParaRPr b="1" lang="en-US" sz="6000" spc="-1" strike="noStrike">
              <a:solidFill>
                <a:srgbClr val="dfe3a5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Javiera Gutiérrez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ndrés Varg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" descr="">
            <a:hlinkClick r:id="rId2"/>
          </p:cNvPr>
          <p:cNvPicPr/>
          <p:nvPr/>
        </p:nvPicPr>
        <p:blipFill>
          <a:blip r:embed="rId3"/>
          <a:srcRect l="-6484" t="-8176" r="-6484" b="-8176"/>
          <a:stretch/>
        </p:blipFill>
        <p:spPr>
          <a:xfrm>
            <a:off x="157320" y="171360"/>
            <a:ext cx="1627200" cy="12589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2700360" y="6308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Taller de Diseño de Potencia I- EL57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ntaj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Resiste altas temperatur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Baja toxicidad e inflamabilida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Excelentes propiedades dieléctric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manejan fácilmente y sin peligr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No producen corro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onsistencia uniforme, poca variación con la T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conómico Desmoldan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Obtenció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utiliza un </a:t>
            </a:r>
            <a:r>
              <a:rPr b="0" i="1" lang="es-ES" sz="3400" spc="-1" strike="noStrike" u="sng">
                <a:solidFill>
                  <a:srgbClr val="ffffff"/>
                </a:solidFill>
                <a:uFillTx/>
                <a:latin typeface="Garamond"/>
              </a:rPr>
              <a:t>método de destilación molecular a vací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que asegura la desaparición, casi por completo, de componentes de bajo peso molecular, obteniendo un aceite de gran grado de pure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419640" y="3860640"/>
            <a:ext cx="25192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Aislante para Transformado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La silicona para transformadores es un agente aislante a base de silicona dimetílica, cuyas propiedades proporcionan seguridad y alto rendimiento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La silicona dimetílica, es un elemento químico de los menos peligrosos, por lo se utiliza como sustituto para askareles a base de PCB (policloruro bifenilo), además es menos dañino para el medio ambient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Refrigerante Dieléctrico, con alta estabilidad y más resistente al fuego que los aceites minerales o combustibles.</a:t>
            </a:r>
            <a:br>
              <a:rPr sz="2600"/>
            </a:b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jemplos de Usos en Transformado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796000" y="1197000"/>
            <a:ext cx="2951280" cy="1833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95280" y="1339920"/>
            <a:ext cx="5508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SUBESTACIONES UNITAR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 ocupan en intemperie o interior, auto-refrigerado, sumergido en aceite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SILICONA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 miner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2922120"/>
            <a:ext cx="554508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Garamond"/>
              </a:rPr>
              <a:t>TRANSFORMADORES DE DISTRIBU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e ocupan en intemperie o interior, auto-refrigerados, sumergidos en aceite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Garamond"/>
              </a:rPr>
              <a:t>SILICONA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o mine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Garamond"/>
              </a:rPr>
              <a:t>Ejemplos: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Transformadores de distribución monofásicos, desde 3 kVA hasta 25 kVA, y 24,5 kV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Transformadores de distribución trifásicos desde 10 kVA hasta 25000 kVA y 34,5 kV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796000" y="3429000"/>
            <a:ext cx="2951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specificaciones Técnic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258920" y="2565360"/>
            <a:ext cx="6626160" cy="3527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189080" y="6165720"/>
            <a:ext cx="68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Garamond"/>
              </a:rPr>
              <a:t>Fuente:</a:t>
            </a:r>
            <a:r>
              <a:rPr b="0" lang="es-ES" sz="1600" spc="-1" strike="noStrike">
                <a:solidFill>
                  <a:srgbClr val="ffffff"/>
                </a:solidFill>
                <a:latin typeface="Garamond"/>
              </a:rPr>
              <a:t> http://www.talleresnorte.com.ar/pdf/DOWCORNING_561.pd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003640" y="1197000"/>
            <a:ext cx="1872000" cy="12556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1268280"/>
            <a:ext cx="60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ceite de Silicon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ara Transformado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OW CORNING® 56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dfe3a5"/>
                </a:solidFill>
                <a:latin typeface="Garamond"/>
              </a:rPr>
              <a:t>Aisladores para Líneas de Transmisión</a:t>
            </a:r>
            <a:endParaRPr b="1" lang="en-US" sz="6000" spc="-1" strike="noStrike">
              <a:solidFill>
                <a:srgbClr val="dfe3a5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68360" y="1628640"/>
            <a:ext cx="8207280" cy="4537080"/>
          </a:xfrm>
          <a:prstGeom prst="rect">
            <a:avLst/>
          </a:prstGeom>
          <a:solidFill>
            <a:srgbClr val="000514">
              <a:alpha val="40000"/>
            </a:srgbClr>
          </a:solidFill>
          <a:ln w="31680">
            <a:solidFill>
              <a:srgbClr val="000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Estructu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851280" y="1628640"/>
            <a:ext cx="1177920" cy="4562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V="1">
            <a:off x="2916360" y="4723920"/>
            <a:ext cx="1511280" cy="505080"/>
          </a:xfrm>
          <a:prstGeom prst="line">
            <a:avLst/>
          </a:prstGeom>
          <a:ln w="34920">
            <a:solidFill>
              <a:srgbClr val="ffcc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4724280"/>
            <a:ext cx="287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Varilla central generalmente de resina epoxy reforzada con fibra de vid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5003640" y="3789000"/>
            <a:ext cx="1152720" cy="431640"/>
          </a:xfrm>
          <a:prstGeom prst="line">
            <a:avLst/>
          </a:prstGeom>
          <a:ln w="34920">
            <a:solidFill>
              <a:srgbClr val="ffcc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6000" y="4221000"/>
            <a:ext cx="28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Revestimiento de silico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916360" y="2133360"/>
            <a:ext cx="1295280" cy="431640"/>
          </a:xfrm>
          <a:prstGeom prst="line">
            <a:avLst/>
          </a:prstGeom>
          <a:ln w="34920">
            <a:solidFill>
              <a:srgbClr val="ffcc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32000" y="256536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Herraje term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Propiedad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nstalación más fácil que aisladores de porcelana o vidrio por su menor peso y el hecho que son de una sola pieza (no hace falta armar cadena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ejor resistencia a ataques vandálicos que aisladores de porcelana o vidrio, pues no se quiebran por golp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lta resistencia al desgarro y a la tracció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jo costo de mantenimien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ena resistencia a contamin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Hidrofobicida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Hidrofobicidad →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ayor resistencia superficia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Factibilidad de recuperar esta propied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619280" y="2349360"/>
            <a:ext cx="2663640" cy="1800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5418000" y="2355840"/>
            <a:ext cx="2678400" cy="1801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835280" y="414972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Hidrofílico (Porcelana)</a:t>
            </a: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Hidrofóbico (Silicona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Recuperación de Hidrofobicida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09760" y="1757520"/>
            <a:ext cx="8124480" cy="3342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2556000" y="5157720"/>
            <a:ext cx="396072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La Silicon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Es un polímero inoloro e incoloro, principalmente compuesto por Silici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132000" y="3213000"/>
            <a:ext cx="2735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Proveedores en Chi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ilpak S.A. (aisladores Silpak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unelec (aisladores Salisbury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Global Soluciones (aisladores Avato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Mathiesen (aceites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ow Corning</a:t>
            </a: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Precio Referencial del Acei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istribuidora Mathies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$ 720.000 los 200 litros de aceite de silicon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$ 580.000 los 200 litros de aceite minera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¿Preguntas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900000" y="1197000"/>
            <a:ext cx="7355160" cy="4968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700360" y="2637000"/>
            <a:ext cx="3887640" cy="825480"/>
          </a:xfrm>
          <a:prstGeom prst="rect">
            <a:avLst/>
          </a:prstGeom>
          <a:solidFill>
            <a:srgbClr val="000514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Gracias por su Aten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Propiedad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stabilidad Térmica (-100 a 250 °C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epele el agu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xcelente resistencia a oxígeno, ozono y radiación sol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lexi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lta resistividad eléctric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Baja reactividad químic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Baja toxicid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lta permeabilidad a ga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Obtenció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La silicona elemental se obtiene al calentar roca de cuarzo en presencia de carbo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Haciendo reaccionar la silicona elemental con otros elementos químicos, se obtienen distintos estados de ést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17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G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17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Líquido (Aceit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17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Sólid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292720" y="4005360"/>
            <a:ext cx="2592360" cy="1839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651640" y="55180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Cristal de Cuarz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e5ff"/>
                </a:solidFill>
                <a:latin typeface="Garamond"/>
              </a:rPr>
              <a:t>Aplicaciones en la Industria Eléctric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ceite para transformado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isladores para líneas de transmis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ubierta Exterior de Pararray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analiz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Barnices aisladores para bobin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Recubrimiento de cables y alamb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Y muchas aplicaciones más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rnices y Resin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islamiento eléctrico: Aislante de bobinas de motores, transformadores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esistencia a la humeda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epele Agu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Buenas propiedades eléctric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348000" y="4149720"/>
            <a:ext cx="2448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ucho RTV-Silicon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7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Buen Dieléctric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esistencia al fueg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e fabrican mold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asticida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conómic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003640" y="155736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dfe3a5"/>
                </a:solidFill>
                <a:latin typeface="Garamond"/>
              </a:rPr>
              <a:t>Aceite Para Transformadores</a:t>
            </a:r>
            <a:endParaRPr b="1" lang="en-US" sz="6000" spc="-1" strike="noStrike">
              <a:solidFill>
                <a:srgbClr val="dfe3a5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276720" y="3716280"/>
            <a:ext cx="2519280" cy="1629000"/>
          </a:xfrm>
          <a:prstGeom prst="rect">
            <a:avLst/>
          </a:prstGeom>
          <a:ln w="57240">
            <a:solidFill>
              <a:srgbClr val="ff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Definición y Composició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El aceite de silicona es un f</a:t>
            </a: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luido poco viscoso </a:t>
            </a: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, incoloro y claro, insoluble en agua y menos denso que ést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Polímero – Dimetilpolisiloxa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 disuelve con disolventes orgánicos usuales, como percloroetileno, bencina, entre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01:55:13Z</dcterms:created>
  <dc:creator>Vargas Serrano</dc:creator>
  <dc:description/>
  <dc:language>en-US</dc:language>
  <cp:lastModifiedBy>Alberto Botteselle Doggenweiler</cp:lastModifiedBy>
  <dcterms:modified xsi:type="dcterms:W3CDTF">2008-09-14T19:52:53Z</dcterms:modified>
  <cp:revision>44</cp:revision>
  <dc:subject/>
  <dc:title>Aislantes de Silicona</dc:title>
</cp:coreProperties>
</file>