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e3a5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BB9B-8A23-40BD-9603-E3F046D82B3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4B020-29E6-4067-BF10-8BA3FC1CF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0C5D2-6BC6-4C0B-A731-1DBDF028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0A59A-75BC-41D4-B8C5-7A4EC4DF2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8E288-9604-4877-BE65-D6CC4445E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417CA-0C13-4BC7-BB00-B85DDBF1C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7D798-1277-4D96-ADEB-56A056690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C1FD4-D196-4D4E-8C66-1A3A048E9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27E1-5EA8-4422-A5CD-42354022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E8DB2-6DEF-4933-8FC2-186F0BE7A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98DB9-349B-4F4E-87AE-004E24085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5A701-1612-4DD9-B024-C82486A48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600AA7-581C-4263-A873-DA15E539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0D11-9876-4B0A-A6B9-F826606B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4E82-6864-487E-B9B3-98566FC98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00400-66AF-4173-98C4-AB650EC00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11681-E44C-4167-ADDA-6CFBCC5CD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9A42-9A22-48AA-88DD-8267E01E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38BDFE-3DF8-4BC5-88A0-3FB4555D7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CB43E-B627-4328-99D4-4F5BE513F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C5F8FF-FBFA-42DF-A2E6-5D3AEDF38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D3E32-0BB3-44FA-8E8D-0094C485C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AA181-49CD-452F-833F-FB7A60FD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11F355-7BC7-42E3-8904-9790E7971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4F4FF-7763-4814-B93F-367283CC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E0810-C9C2-4C1C-9AB2-25EE1864CB5B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dfe3a5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C6CE3-BEB3-44FB-AEC5-C63B6EFEF694}" type="slidenum">
              <a:rPr b="0" lang="es-E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l/imgres?imgurl=http://www.dgf.uchile.cl/chaiten/logo2_VerticalOficialfcfm_JPG.jpg&amp;imgrefurl=http://www.dgf.uchile.cl/chaiten/&amp;h=239&amp;w=300&amp;sz=17&amp;hl=es&amp;start=5&amp;tbnid=WLvkSMYPmbDiTM:&amp;tbnh=92&amp;tbnw=116&amp;prev=/images%3Fq%3Dfacultad%2Bciencias%2Bf%25C3%25ADsicas%2By%2Bmatem%25C3%25A1ticas%2Blogo%26gbv%3D2%26hl%3Des%26sa%3DG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dfe3a5"/>
                </a:solidFill>
                <a:latin typeface="Garamond"/>
              </a:rPr>
              <a:t>Silicona Industrial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Javiera Gutiérrez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ndrés Varg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1" name="" descr="">
            <a:hlinkClick r:id="rId2"/>
          </p:cNvPr>
          <p:cNvPicPr/>
          <p:nvPr/>
        </p:nvPicPr>
        <p:blipFill>
          <a:blip r:embed="rId3"/>
          <a:srcRect l="-6484" t="-8176" r="-6484" b="-8176"/>
          <a:stretch/>
        </p:blipFill>
        <p:spPr>
          <a:xfrm>
            <a:off x="157320" y="171360"/>
            <a:ext cx="1627200" cy="1258920"/>
          </a:xfrm>
          <a:prstGeom prst="rect">
            <a:avLst/>
          </a:prstGeom>
          <a:ln w="38160">
            <a:solidFill>
              <a:srgbClr val="8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2700360" y="630864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Taller de Diseño de Potencia I- EL57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Ventaj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Resiste altas temperatur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ja toxicidad e inflamabilidad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xcelentes propiedades dieléctricas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manejan fácilmente y sin peligr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No producen corrosión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Consistencia uniforme, poca variación con la Tº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Económico Desmoldant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Obten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e utiliza un </a:t>
            </a:r>
            <a:r>
              <a:rPr b="0" i="1" lang="es-ES" sz="3400" spc="-1" strike="noStrike" u="sng">
                <a:solidFill>
                  <a:srgbClr val="ffffff"/>
                </a:solidFill>
                <a:uFillTx/>
                <a:latin typeface="Garamond"/>
              </a:rPr>
              <a:t>método de destilación molecular a vacío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 que asegura la desaparición, casi por completo, de componentes de bajo peso molecular, obteniendo un aceite de gran grado de purez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2519280" cy="20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Aislante para Transformador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La silicona para transformadores es un agente aislante a base de silicona dimetílica, cuyas propiedades proporcionan seguridad y alto rendimiento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La silicona dimetílica, es un elemento químico de los menos peligrosos, por lo se utiliza como sustituto para askareles a base de PCB (policloruro bifenilo), además es menos dañino para el medio ambiente.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80000"/>
              </a:lnSpc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Refrigerante Dieléctrico, con alta estabilidad y más resistente al fuego que los aceites minerales o combustibles.</a:t>
            </a:r>
            <a:br>
              <a:rPr sz="2600"/>
            </a:br>
            <a:r>
              <a:rPr b="0" lang="es-ES" sz="26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6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jemplos de Usos en Transformadore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796000" y="1197000"/>
            <a:ext cx="2951280" cy="18334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95280" y="1339920"/>
            <a:ext cx="550872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Garamond"/>
              </a:rPr>
              <a:t>SUBESTACIONES UNI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 ocupan en intemperie o interior, auto-refrigerado, sumergido en aceite </a:t>
            </a:r>
            <a:r>
              <a:rPr b="0" i="1" lang="en-US" sz="2000" spc="-1" strike="noStrike" u="sng">
                <a:solidFill>
                  <a:srgbClr val="ffffff"/>
                </a:solidFill>
                <a:uFillTx/>
                <a:latin typeface="Garamond"/>
              </a:rPr>
              <a:t>SILICONA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o miner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2922120"/>
            <a:ext cx="554508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Garamond"/>
              </a:rPr>
              <a:t>TRANSFORMADORES DE DISTRIBU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Se ocupan en intemperie o interior, auto-refrigerados, sumergidos en aceite </a:t>
            </a:r>
            <a:r>
              <a:rPr b="0" i="1" lang="es-ES" sz="2000" spc="-1" strike="noStrike" u="sng">
                <a:solidFill>
                  <a:srgbClr val="ffffff"/>
                </a:solidFill>
                <a:uFillTx/>
                <a:latin typeface="Garamond"/>
              </a:rPr>
              <a:t>SILICONA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o mine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Garamond"/>
              </a:rPr>
              <a:t>Ejemplos: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Transformadores de distribución monofásicos, desde 3 kVA hasta 25 kVA, y 24,5 k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s-ES" sz="2000" spc="-1" strike="noStrike">
                <a:solidFill>
                  <a:srgbClr val="ffffff"/>
                </a:solidFill>
                <a:latin typeface="Garamond"/>
              </a:rPr>
              <a:t>Transformadores de distribución trifásicos desde 10 kVA hasta 25000 kVA y 34,5 kV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796000" y="3429000"/>
            <a:ext cx="2951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specificaciones Técnic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258920" y="2565360"/>
            <a:ext cx="6626160" cy="3527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189080" y="6165720"/>
            <a:ext cx="680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Garamond"/>
              </a:rPr>
              <a:t>Fuente:</a:t>
            </a:r>
            <a:r>
              <a:rPr b="0" lang="es-ES" sz="1600" spc="-1" strike="noStrike">
                <a:solidFill>
                  <a:srgbClr val="ffffff"/>
                </a:solidFill>
                <a:latin typeface="Garamond"/>
              </a:rPr>
              <a:t> http://www.talleresnorte.com.ar/pdf/DOWCORNING_561.pd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1197000"/>
            <a:ext cx="1872000" cy="1255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0" y="1268280"/>
            <a:ext cx="60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Aceite de Silicon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Para Transformador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DOW CORNING® 561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dfe3a5"/>
                </a:solidFill>
                <a:latin typeface="Garamond"/>
              </a:rPr>
              <a:t>Aisladores para Líneas de Transmisión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468360" y="1628640"/>
            <a:ext cx="8207280" cy="4537080"/>
          </a:xfrm>
          <a:prstGeom prst="rect">
            <a:avLst/>
          </a:prstGeom>
          <a:solidFill>
            <a:srgbClr val="000514">
              <a:alpha val="40000"/>
            </a:srgbClr>
          </a:solidFill>
          <a:ln w="31680">
            <a:solidFill>
              <a:srgbClr val="000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Estructur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851280" y="1628640"/>
            <a:ext cx="1177920" cy="45626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V="1">
            <a:off x="2916360" y="4723920"/>
            <a:ext cx="1511280" cy="505080"/>
          </a:xfrm>
          <a:prstGeom prst="line">
            <a:avLst/>
          </a:prstGeom>
          <a:ln w="3492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4724280"/>
            <a:ext cx="287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Varilla central generalmente de resina epoxy reforzada con fibra de vidr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5003640" y="3789000"/>
            <a:ext cx="1152720" cy="431640"/>
          </a:xfrm>
          <a:prstGeom prst="line">
            <a:avLst/>
          </a:prstGeom>
          <a:ln w="3492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796000" y="4221000"/>
            <a:ext cx="287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Revestimiento de silicon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916360" y="2133360"/>
            <a:ext cx="1295280" cy="431640"/>
          </a:xfrm>
          <a:prstGeom prst="line">
            <a:avLst/>
          </a:prstGeom>
          <a:ln w="34920">
            <a:solidFill>
              <a:srgbClr val="ffcc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32000" y="256536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Garamond"/>
              </a:rPr>
              <a:t>Herraje term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opie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Instalación más fácil que aisladores de porcelana o vidrio por su menor peso y el hecho que son de una sola pieza (no hace falta armar cadenas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ejor resistencia a ataques vandálicos que aisladores de porcelana o vidrio, pues no se quiebran por golp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Alta resistencia al desgarro y a la tracción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jo costo de mantenimiento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uena resistencia a contamin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Hidrofobicid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Hidrofobicidad →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ayor resistencia superfici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Factibilidad de recuperar esta propieda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619280" y="2349360"/>
            <a:ext cx="2663640" cy="18003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18000" y="2355840"/>
            <a:ext cx="2678400" cy="1801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835280" y="414972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drofílico (Porcelana)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CL" sz="1800" spc="-1" strike="noStrike">
                <a:solidFill>
                  <a:srgbClr val="ffffff"/>
                </a:solidFill>
                <a:latin typeface="Garamond"/>
              </a:rPr>
              <a:t>Hidrofóbico (Silicona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Recuperación de Hidrofobicidad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09760" y="1757520"/>
            <a:ext cx="8124480" cy="33429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2556000" y="5157720"/>
            <a:ext cx="396072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La Silico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s un polímero inoloro e incoloro, principalmente compuesto por Silici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3132000" y="3213000"/>
            <a:ext cx="27352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oveedores en Chi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Silpak S.A. (aisladores Silpak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Munelec (aisladores Salisbury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Global Soluciones (aisladores Avator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Mathiesen (aceites 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ow Corning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ecio Referencial del Aceit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Distribuidora Mathiese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$ 720.000 los 200 litros de aceite de silicona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s-ES" sz="3200" spc="-1" strike="noStrike">
                <a:solidFill>
                  <a:srgbClr val="ffffff"/>
                </a:solidFill>
                <a:latin typeface="Garamond"/>
              </a:rPr>
              <a:t>$ 580.000 los 200 litros de aceite mineral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¿Pregunta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?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900000" y="1197000"/>
            <a:ext cx="7355160" cy="4968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00360" y="2637000"/>
            <a:ext cx="3887640" cy="825480"/>
          </a:xfrm>
          <a:prstGeom prst="rect">
            <a:avLst/>
          </a:prstGeom>
          <a:solidFill>
            <a:srgbClr val="000514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Garamond"/>
              </a:rPr>
              <a:t>Gracias por su Aten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Propiedad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stabilidad Térmica (-100 a 250 °C)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pele el agua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Excelente resistencia a oxígeno, ozono y radiación solar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Flexibl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lta resistividad eléctr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aja reactividad químic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aja toxic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lta permeabilidad a gase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Obten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a silicona elemental se obtiene al calentar roca de cuarzo en presencia de carbo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Haciendo reaccionar la silicona elemental con otros elementos químicos, se obtienen distintos estados de ésta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G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Líquido (Aceite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085760" indent="-217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Garamond"/>
              </a:rPr>
              <a:t>Sólido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5292720" y="4005360"/>
            <a:ext cx="2592360" cy="183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5651640" y="551808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Garamond"/>
              </a:rPr>
              <a:t>Cristal de Cuarz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e5e5ff"/>
                </a:solidFill>
                <a:latin typeface="Garamond"/>
              </a:rPr>
              <a:t>Aplicaciones en la Industria Eléctrica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ceite para transformado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Aisladores para líneas de transmis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ubierta Exterior de Pararrayo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Canalizació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Barnices aisladores para bobina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Recubrimiento de cables y alambr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Y muchas aplicaciones más…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arnices y Resin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Aislamiento eléctrico: Aislante de bobinas de motores, transformadores, etc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istencia a la hume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pele Agua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uenas propiedades eléctrica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348000" y="4149720"/>
            <a:ext cx="244800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aucho RTV-Silicona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7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Buen Dieléctr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Resistencia al fueg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Garamond"/>
              </a:rPr>
              <a:t>Se fabrican moldes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lasticidad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Garamond"/>
              </a:rPr>
              <a:t>Económico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5003640" y="1557360"/>
            <a:ext cx="23050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dfe3a5"/>
                </a:solidFill>
                <a:latin typeface="Garamond"/>
              </a:rPr>
              <a:t>Aceite Para Transformadores</a:t>
            </a:r>
            <a:endParaRPr b="1" lang="en-US" sz="6000" spc="-1" strike="noStrike">
              <a:solidFill>
                <a:srgbClr val="dfe3a5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276720" y="3716280"/>
            <a:ext cx="2519280" cy="1629000"/>
          </a:xfrm>
          <a:prstGeom prst="rect">
            <a:avLst/>
          </a:prstGeom>
          <a:ln w="57240">
            <a:solidFill>
              <a:srgbClr val="ffff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e5e5ff"/>
                </a:solidFill>
                <a:latin typeface="Garamond"/>
              </a:rPr>
              <a:t>Definición y Composició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4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El aceite de silicona es un f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luido poco viscoso </a:t>
            </a: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, incoloro y claro, insoluble en agua y menos denso que ésta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Polímero – Dimetilpolisiloxano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Garamond"/>
              </a:rPr>
              <a:t>Se disuelve con disolventes orgánicos usuales, como percloroetileno, bencina, entre otros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2T01:55:13Z</dcterms:created>
  <dc:creator>Vargas Serrano</dc:creator>
  <dc:description/>
  <dc:language>en-US</dc:language>
  <cp:lastModifiedBy>Alberto Botteselle Doggenweiler</cp:lastModifiedBy>
  <dcterms:modified xsi:type="dcterms:W3CDTF">2008-09-14T19:52:53Z</dcterms:modified>
  <cp:revision>44</cp:revision>
  <dc:subject/>
  <dc:title>Aislantes de Silicona</dc:title>
</cp:coreProperties>
</file>