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19.gif" ContentType="image/gif"/>
  <Override PartName="/ppt/media/image1.jpeg" ContentType="image/jpeg"/>
  <Override PartName="/ppt/media/image17.gif" ContentType="image/gif"/>
  <Override PartName="/ppt/media/image2.jpeg" ContentType="image/jpeg"/>
  <Override PartName="/ppt/media/image16.gif" ContentType="image/gif"/>
  <Override PartName="/ppt/media/image14.png" ContentType="image/png"/>
  <Override PartName="/ppt/media/image3.wmf" ContentType="image/x-wmf"/>
  <Override PartName="/ppt/media/image4.png" ContentType="image/png"/>
  <Override PartName="/ppt/media/image18.gif" ContentType="image/gif"/>
  <Override PartName="/ppt/media/image13.jpeg" ContentType="image/jpeg"/>
  <Override PartName="/ppt/media/image20.gif" ContentType="image/gif"/>
  <Override PartName="/ppt/media/image15.gif" ContentType="image/gif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DD2F-9EA2-4355-8811-05D623073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9C87-DE2D-4118-B339-0D805E48C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BE4-ECB8-4E8E-8957-CCDDF5C2B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88EF-C043-46A2-B2EB-E17726D2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7305-26E7-4257-BCAB-55D61F4FE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9A66-302E-4418-BA1D-0A0CB0C0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8319-5F05-46EF-B3C5-5A75C01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E3FC8-B60B-47AC-8C89-8B45F17BF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2C8B-F53F-42D4-BBF0-564BB1B9F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B2BE-3347-4326-942B-29E92AF4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D356-4CC1-458E-894A-E4FD0076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8255-C3C0-462D-8BA8-F4C2C94D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4B57-3BB3-4E36-B9DB-35B4421DC095}" type="slidenum">
              <a:rPr b="0" lang="es-C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slide" Target="slide4.xml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4996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 u="sng">
                <a:solidFill>
                  <a:srgbClr val="000000"/>
                </a:solidFill>
                <a:uFillTx/>
                <a:latin typeface="Calibri"/>
              </a:rPr>
              <a:t>EL MI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743200" y="5285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Integrantes: Luis Carlos Bolvarán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Javier Barona Osori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2876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MIDEL® 7131 es un fluido aislante dieléctrico para transformadores, conmutadores de tomas y equipos eléctricos de control. MIDEL® 7131 cumple con IEC 61099:1992 “Especificaciones para esteres orgánicos sintéticos sin usar para fines eléctricos”. Se clasifica como tipo T1, un éster pentaeritritol carente de halógen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¿Qué es el MIDE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de Característic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10" descr=""/>
          <p:cNvPicPr/>
          <p:nvPr/>
        </p:nvPicPr>
        <p:blipFill>
          <a:blip r:embed="rId1"/>
          <a:stretch/>
        </p:blipFill>
        <p:spPr>
          <a:xfrm>
            <a:off x="1928880" y="1071720"/>
            <a:ext cx="5313240" cy="58053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1857240" y="64296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Propiedad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42960" y="1785600"/>
            <a:ext cx="585792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umplimiento Normas IE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mpatibilidad ecológ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oca toxicidad aguda y crón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térm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ropiedades dieléctric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Piroresistenc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spetuoso con el Medio Ambien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Normat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3" descr=""/>
          <p:cNvPicPr/>
          <p:nvPr/>
        </p:nvPicPr>
        <p:blipFill>
          <a:blip r:embed="rId1"/>
          <a:stretch/>
        </p:blipFill>
        <p:spPr>
          <a:xfrm>
            <a:off x="6680160" y="2071800"/>
            <a:ext cx="2463840" cy="400032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7">
            <a:hlinkClick r:id="rId2" action="ppaction://hlinksldjump"/>
          </p:cNvPr>
          <p:cNvSpPr/>
          <p:nvPr/>
        </p:nvSpPr>
        <p:spPr>
          <a:xfrm>
            <a:off x="3567240" y="4352760"/>
            <a:ext cx="504720" cy="505080"/>
          </a:xfrm>
          <a:custGeom>
            <a:avLst/>
            <a:gdLst>
              <a:gd name="textAreaLeft" fmla="*/ 32400 w 504720"/>
              <a:gd name="textAreaRight" fmla="*/ 472320 w 504720"/>
              <a:gd name="textAreaTop" fmla="*/ 32400 h 505080"/>
              <a:gd name="textAreaBottom" fmla="*/ 472680 h 50508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309"/>
                </a:moveTo>
                <a:lnTo>
                  <a:pt x="4707" y="7309"/>
                </a:lnTo>
                <a:lnTo>
                  <a:pt x="5090" y="7674"/>
                </a:lnTo>
                <a:lnTo>
                  <a:pt x="14299" y="7674"/>
                </a:lnTo>
                <a:lnTo>
                  <a:pt x="14856" y="8231"/>
                </a:lnTo>
                <a:lnTo>
                  <a:pt x="14856" y="8780"/>
                </a:lnTo>
                <a:lnTo>
                  <a:pt x="16701" y="8780"/>
                </a:lnTo>
                <a:lnTo>
                  <a:pt x="17067" y="8231"/>
                </a:lnTo>
                <a:lnTo>
                  <a:pt x="17806" y="8231"/>
                </a:lnTo>
                <a:lnTo>
                  <a:pt x="17806" y="13384"/>
                </a:lnTo>
                <a:lnTo>
                  <a:pt x="17067" y="13384"/>
                </a:lnTo>
                <a:lnTo>
                  <a:pt x="16701" y="12836"/>
                </a:lnTo>
                <a:lnTo>
                  <a:pt x="14856" y="12836"/>
                </a:lnTo>
                <a:lnTo>
                  <a:pt x="14856" y="14115"/>
                </a:lnTo>
                <a:lnTo>
                  <a:pt x="5273" y="14115"/>
                </a:lnTo>
                <a:lnTo>
                  <a:pt x="5273" y="9885"/>
                </a:lnTo>
                <a:lnTo>
                  <a:pt x="5090" y="9885"/>
                </a:lnTo>
                <a:lnTo>
                  <a:pt x="4707" y="10251"/>
                </a:lnTo>
                <a:lnTo>
                  <a:pt x="3794" y="10251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Tabla Comparativ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643040" y="1428840"/>
            <a:ext cx="6072120" cy="535608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1857240" y="57168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4f6228"/>
                </a:solidFill>
                <a:latin typeface="Arial"/>
              </a:rPr>
              <a:t>Aplicac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42960" y="1856880"/>
            <a:ext cx="585792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Energí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2 Marcador de contenido"/>
          <p:cNvSpPr/>
          <p:nvPr/>
        </p:nvSpPr>
        <p:spPr>
          <a:xfrm>
            <a:off x="642960" y="2357280"/>
            <a:ext cx="585792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Distribu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2 Marcador de contenido"/>
          <p:cNvSpPr/>
          <p:nvPr/>
        </p:nvSpPr>
        <p:spPr>
          <a:xfrm>
            <a:off x="642960" y="285768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Ferrocar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 Marcador de contenido"/>
          <p:cNvSpPr/>
          <p:nvPr/>
        </p:nvSpPr>
        <p:spPr>
          <a:xfrm>
            <a:off x="642960" y="335772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Costa afu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2 Marcador de contenido"/>
          <p:cNvSpPr/>
          <p:nvPr/>
        </p:nvSpPr>
        <p:spPr>
          <a:xfrm>
            <a:off x="642960" y="385776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Aeropuer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2 Marcador de contenido"/>
          <p:cNvSpPr/>
          <p:nvPr/>
        </p:nvSpPr>
        <p:spPr>
          <a:xfrm>
            <a:off x="642960" y="4357800"/>
            <a:ext cx="58579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2800" spc="-1" strike="noStrike">
                <a:solidFill>
                  <a:srgbClr val="000000"/>
                </a:solidFill>
                <a:latin typeface="Calibri"/>
              </a:rPr>
              <a:t>Retrolle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" descr="transformador"/>
          <p:cNvPicPr/>
          <p:nvPr/>
        </p:nvPicPr>
        <p:blipFill>
          <a:blip r:embed="rId1"/>
          <a:stretch/>
        </p:blipFill>
        <p:spPr>
          <a:xfrm>
            <a:off x="3357720" y="2214720"/>
            <a:ext cx="2900160" cy="2214360"/>
          </a:xfrm>
          <a:prstGeom prst="rect">
            <a:avLst/>
          </a:prstGeom>
          <a:ln w="0">
            <a:noFill/>
          </a:ln>
        </p:spPr>
      </p:pic>
      <p:pic>
        <p:nvPicPr>
          <p:cNvPr id="67" name="22 Imagen" descr="metroLigero.jpg"/>
          <p:cNvPicPr/>
          <p:nvPr/>
        </p:nvPicPr>
        <p:blipFill>
          <a:blip r:embed="rId2"/>
          <a:stretch/>
        </p:blipFill>
        <p:spPr>
          <a:xfrm>
            <a:off x="4143240" y="1857240"/>
            <a:ext cx="3929040" cy="2705400"/>
          </a:xfrm>
          <a:prstGeom prst="rect">
            <a:avLst/>
          </a:prstGeom>
          <a:ln w="0">
            <a:noFill/>
          </a:ln>
        </p:spPr>
      </p:pic>
      <p:pic>
        <p:nvPicPr>
          <p:cNvPr id="68" name="23 Imagen" descr="mareas.jpg"/>
          <p:cNvPicPr/>
          <p:nvPr/>
        </p:nvPicPr>
        <p:blipFill>
          <a:blip r:embed="rId3"/>
          <a:stretch/>
        </p:blipFill>
        <p:spPr>
          <a:xfrm>
            <a:off x="3929040" y="1857240"/>
            <a:ext cx="4286160" cy="2868840"/>
          </a:xfrm>
          <a:prstGeom prst="rect">
            <a:avLst/>
          </a:prstGeom>
          <a:ln w="0">
            <a:noFill/>
          </a:ln>
        </p:spPr>
      </p:pic>
      <p:pic>
        <p:nvPicPr>
          <p:cNvPr id="69" name="24 Imagen" descr="energia-eolica-marina.jpg"/>
          <p:cNvPicPr/>
          <p:nvPr/>
        </p:nvPicPr>
        <p:blipFill>
          <a:blip r:embed="rId4"/>
          <a:stretch/>
        </p:blipFill>
        <p:spPr>
          <a:xfrm>
            <a:off x="6929280" y="1643040"/>
            <a:ext cx="1987560" cy="2909880"/>
          </a:xfrm>
          <a:prstGeom prst="rect">
            <a:avLst/>
          </a:prstGeom>
          <a:ln w="0">
            <a:noFill/>
          </a:ln>
        </p:spPr>
      </p:pic>
      <p:pic>
        <p:nvPicPr>
          <p:cNvPr id="70" name="25 Imagen" descr="plataforma.jpg"/>
          <p:cNvPicPr/>
          <p:nvPr/>
        </p:nvPicPr>
        <p:blipFill>
          <a:blip r:embed="rId5"/>
          <a:stretch/>
        </p:blipFill>
        <p:spPr>
          <a:xfrm>
            <a:off x="6191280" y="2214720"/>
            <a:ext cx="2952720" cy="2214360"/>
          </a:xfrm>
          <a:prstGeom prst="rect">
            <a:avLst/>
          </a:prstGeom>
          <a:ln w="0">
            <a:noFill/>
          </a:ln>
        </p:spPr>
      </p:pic>
      <p:pic>
        <p:nvPicPr>
          <p:cNvPr id="71" name="26 Imagen" descr="aeropuerto20panama6is.jpg"/>
          <p:cNvPicPr/>
          <p:nvPr/>
        </p:nvPicPr>
        <p:blipFill>
          <a:blip r:embed="rId6"/>
          <a:stretch/>
        </p:blipFill>
        <p:spPr>
          <a:xfrm>
            <a:off x="3786120" y="1714680"/>
            <a:ext cx="4143600" cy="2900160"/>
          </a:xfrm>
          <a:prstGeom prst="rect">
            <a:avLst/>
          </a:prstGeom>
          <a:ln w="0">
            <a:noFill/>
          </a:ln>
        </p:spPr>
      </p:pic>
      <p:pic>
        <p:nvPicPr>
          <p:cNvPr id="72" name="27 Imagen" descr="01-02-07_1202banco.jpg"/>
          <p:cNvPicPr/>
          <p:nvPr/>
        </p:nvPicPr>
        <p:blipFill>
          <a:blip r:embed="rId7"/>
          <a:stretch/>
        </p:blipFill>
        <p:spPr>
          <a:xfrm>
            <a:off x="3143160" y="1643040"/>
            <a:ext cx="3762360" cy="2928960"/>
          </a:xfrm>
          <a:prstGeom prst="rect">
            <a:avLst/>
          </a:prstGeom>
          <a:ln w="0">
            <a:noFill/>
          </a:ln>
        </p:spPr>
      </p:pic>
      <p:pic>
        <p:nvPicPr>
          <p:cNvPr id="73" name="28 Imagen" descr="mantenimiento003.jpg"/>
          <p:cNvPicPr/>
          <p:nvPr/>
        </p:nvPicPr>
        <p:blipFill>
          <a:blip r:embed="rId8"/>
          <a:stretch/>
        </p:blipFill>
        <p:spPr>
          <a:xfrm>
            <a:off x="3929040" y="1714680"/>
            <a:ext cx="4214880" cy="31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4f6228"/>
                </a:solidFill>
                <a:latin typeface="Calibri"/>
              </a:rPr>
              <a:t>Contac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500280" y="1785960"/>
            <a:ext cx="1986120" cy="285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3"/>
          <p:cNvSpPr/>
          <p:nvPr/>
        </p:nvSpPr>
        <p:spPr>
          <a:xfrm>
            <a:off x="1714680" y="2071800"/>
            <a:ext cx="55432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66"/>
                </a:solidFill>
                <a:latin typeface="Arial"/>
              </a:rPr>
              <a:t>http://www.midel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&amp;I Materials Lt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ibernia Way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fford Park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anchester 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32 0ZD</a:t>
            </a:r>
            <a:br>
              <a:rPr sz="1400"/>
            </a:b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Reino Un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rincipal proveedor de MIDEL, producto registrado, especialistas en materiales para la industria y la minería  la cual cuenta con una red de socios y proveedores a nivel mundial en distintas localidades del mu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btangd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!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d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4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Taller de Diseño en Sistdmas $e Pot%nca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2 CuadroTexto"/>
          <p:cNvSpPr/>
          <p:nvPr/>
        </p:nvSpPr>
        <p:spPr>
          <a:xfrm>
            <a:off x="2214720" y="928800"/>
            <a:ext cx="49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8800" spc="-1" strike="noStrike">
                <a:solidFill>
                  <a:srgbClr val="4f6228"/>
                </a:solidFill>
                <a:latin typeface="Arial"/>
              </a:rPr>
              <a:t>FI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ignition_oil80"/>
          <p:cNvPicPr/>
          <p:nvPr/>
        </p:nvPicPr>
        <p:blipFill>
          <a:blip r:embed="rId1"/>
          <a:stretch/>
        </p:blipFill>
        <p:spPr>
          <a:xfrm>
            <a:off x="1515960" y="236844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Aceite mineral 3 minutos, "/>
          <p:cNvPicPr/>
          <p:nvPr/>
        </p:nvPicPr>
        <p:blipFill>
          <a:blip r:embed="rId2"/>
          <a:stretch/>
        </p:blipFill>
        <p:spPr>
          <a:xfrm>
            <a:off x="3963960" y="238284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" descr="Ensayo de resistencia al fuego: el aceite mineral se inflama"/>
          <p:cNvPicPr/>
          <p:nvPr/>
        </p:nvPicPr>
        <p:blipFill>
          <a:blip r:embed="rId3"/>
          <a:stretch/>
        </p:blipFill>
        <p:spPr>
          <a:xfrm>
            <a:off x="6340320" y="2357280"/>
            <a:ext cx="1303560" cy="9036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Fluido dieléctrico resistente al fuego Midel 7131, "/>
          <p:cNvPicPr/>
          <p:nvPr/>
        </p:nvPicPr>
        <p:blipFill>
          <a:blip r:embed="rId4"/>
          <a:stretch/>
        </p:blipFill>
        <p:spPr>
          <a:xfrm>
            <a:off x="1658880" y="4529160"/>
            <a:ext cx="1303560" cy="903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Fluido dieléctrico resistente al fuego Midel 7131, "/>
          <p:cNvPicPr/>
          <p:nvPr/>
        </p:nvPicPr>
        <p:blipFill>
          <a:blip r:embed="rId5"/>
          <a:stretch/>
        </p:blipFill>
        <p:spPr>
          <a:xfrm>
            <a:off x="3963960" y="4529160"/>
            <a:ext cx="1303200" cy="903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Temperatura de inflabamibilidad espontánea elevada del Midel 7131"/>
          <p:cNvPicPr/>
          <p:nvPr/>
        </p:nvPicPr>
        <p:blipFill>
          <a:blip r:embed="rId6"/>
          <a:stretch/>
        </p:blipFill>
        <p:spPr>
          <a:xfrm>
            <a:off x="6340320" y="4518000"/>
            <a:ext cx="1303560" cy="90324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1"/>
          <p:cNvSpPr/>
          <p:nvPr/>
        </p:nvSpPr>
        <p:spPr>
          <a:xfrm>
            <a:off x="144648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1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6269400" y="3438360"/>
            <a:ext cx="1456200" cy="459000"/>
          </a:xfrm>
          <a:prstGeom prst="rect">
            <a:avLst/>
          </a:prstGeom>
          <a:solidFill>
            <a:srgbClr val="d5dde9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4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3"/>
          <p:cNvSpPr/>
          <p:nvPr/>
        </p:nvSpPr>
        <p:spPr>
          <a:xfrm>
            <a:off x="3823200" y="344952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Aceite miner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4"/>
          <p:cNvSpPr/>
          <p:nvPr/>
        </p:nvSpPr>
        <p:spPr>
          <a:xfrm>
            <a:off x="1591200" y="5610240"/>
            <a:ext cx="1456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3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5"/>
          <p:cNvSpPr/>
          <p:nvPr/>
        </p:nvSpPr>
        <p:spPr>
          <a:xfrm>
            <a:off x="3925080" y="5608800"/>
            <a:ext cx="154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Después de 70 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6"/>
          <p:cNvSpPr/>
          <p:nvPr/>
        </p:nvSpPr>
        <p:spPr>
          <a:xfrm>
            <a:off x="6270840" y="5572080"/>
            <a:ext cx="1593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Mi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0000"/>
                </a:solidFill>
                <a:latin typeface="Arial"/>
              </a:rPr>
              <a:t>Combustión a 324°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7"/>
          <p:cNvSpPr/>
          <p:nvPr/>
        </p:nvSpPr>
        <p:spPr>
          <a:xfrm>
            <a:off x="795240" y="884160"/>
            <a:ext cx="7705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300" spc="-1" strike="noStrike" u="sng">
                <a:solidFill>
                  <a:srgbClr val="4f6228"/>
                </a:solidFill>
                <a:uFillTx/>
                <a:latin typeface="Arial"/>
              </a:rPr>
              <a:t>Prueba de seguridad contra incendios con un soplet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8">
            <a:hlinkClick r:id="rId7" action="ppaction://hlinksldjump"/>
          </p:cNvPr>
          <p:cNvSpPr/>
          <p:nvPr/>
        </p:nvSpPr>
        <p:spPr>
          <a:xfrm>
            <a:off x="8211960" y="6130800"/>
            <a:ext cx="503280" cy="370080"/>
          </a:xfrm>
          <a:custGeom>
            <a:avLst/>
            <a:gdLst>
              <a:gd name="textAreaLeft" fmla="*/ 23760 w 503280"/>
              <a:gd name="textAreaRight" fmla="*/ 479520 w 503280"/>
              <a:gd name="textAreaTop" fmla="*/ 23760 h 370080"/>
              <a:gd name="textAreaBottom" fmla="*/ 346320 h 370080"/>
            </a:gdLst>
            <a:ahLst/>
            <a:rect l="textAreaLeft" t="textAreaTop" r="textAreaRight" b="textAreaBottom"/>
            <a:pathLst>
              <a:path w="29367" h="21600">
                <a:moveTo>
                  <a:pt x="0" y="0"/>
                </a:moveTo>
                <a:lnTo>
                  <a:pt x="29367" y="0"/>
                </a:lnTo>
                <a:lnTo>
                  <a:pt x="29367" y="21600"/>
                </a:lnTo>
                <a:lnTo>
                  <a:pt x="0" y="21600"/>
                </a:lnTo>
                <a:close/>
              </a:path>
              <a:path fill="lightenLess" w="29367" h="21600">
                <a:moveTo>
                  <a:pt x="0" y="0"/>
                </a:moveTo>
                <a:lnTo>
                  <a:pt x="29367" y="0"/>
                </a:lnTo>
                <a:lnTo>
                  <a:pt x="27967" y="1400"/>
                </a:lnTo>
                <a:lnTo>
                  <a:pt x="1400" y="1400"/>
                </a:lnTo>
                <a:close/>
              </a:path>
              <a:path fill="darken" w="29367" h="21600">
                <a:moveTo>
                  <a:pt x="29367" y="0"/>
                </a:moveTo>
                <a:lnTo>
                  <a:pt x="29367" y="21600"/>
                </a:lnTo>
                <a:lnTo>
                  <a:pt x="27967" y="20200"/>
                </a:lnTo>
                <a:lnTo>
                  <a:pt x="27967" y="1400"/>
                </a:lnTo>
                <a:close/>
              </a:path>
              <a:path fill="darkenLess" w="29367" h="21600">
                <a:moveTo>
                  <a:pt x="293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7" y="20200"/>
                </a:lnTo>
                <a:close/>
              </a:path>
              <a:path fill="lighten" w="293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7" h="21600">
                <a:moveTo>
                  <a:pt x="7677" y="10800"/>
                </a:moveTo>
                <a:lnTo>
                  <a:pt x="21690" y="3794"/>
                </a:lnTo>
                <a:lnTo>
                  <a:pt x="21690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4f62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3276720" y="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Taller de Diseño en Sistemas de Potencia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alibri"/>
              </a:rPr>
              <a:t>Semestre Otoño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8T20:28:24Z</dcterms:created>
  <dc:creator>Lap</dc:creator>
  <dc:description/>
  <dc:language>en-US</dc:language>
  <cp:lastModifiedBy> Alberto Botteselle Doggenweiler</cp:lastModifiedBy>
  <dcterms:modified xsi:type="dcterms:W3CDTF">2008-09-10T12:53:00Z</dcterms:modified>
  <cp:revision>37</cp:revision>
  <dc:subject/>
  <dc:title>EL MIDEL</dc:title>
</cp:coreProperties>
</file>