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19.gif" ContentType="image/gif"/>
  <Override PartName="/ppt/media/image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png" ContentType="image/png"/>
  <Override PartName="/ppt/media/image3.wmf" ContentType="image/x-wmf"/>
  <Override PartName="/ppt/media/image4.png" ContentType="image/png"/>
  <Override PartName="/ppt/media/image18.gif" ContentType="image/gif"/>
  <Override PartName="/ppt/media/image13.jpeg" ContentType="image/jpeg"/>
  <Override PartName="/ppt/media/image20.gif" ContentType="image/gif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E82-9CF1-469C-ACF9-08A837A2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E30-8AAB-45D9-AAAC-033B193C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4D9-877D-4AFB-A515-B79FFB43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88A-46DB-4518-B531-23BE98A3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723-8ECB-47EE-8D97-D8E59EAA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842-0081-48B2-9BBB-07AF2126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F98-6FA6-42B7-9B5D-D1F0221A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8B1-B217-4BE4-AA54-AE91BDAA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55F-4F3E-419A-AD5E-86FBEA23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5EE-5472-4BF2-87CA-C97B1A5D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EA1-833F-4001-A4B2-43FE03D5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E3E-2B2C-437D-BA20-66398003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A1DC-9757-41DA-8A69-C59F8C542B8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 u="sng">
                <a:solidFill>
                  <a:srgbClr val="000000"/>
                </a:solidFill>
                <a:uFillTx/>
                <a:latin typeface="Calibri"/>
              </a:rPr>
              <a:t>EL MI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285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Integrantes: Luis Carlos Bolvarán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Javier Barona Os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MIDEL® 7131 es un fluido aislante dieléctrico para transformadores, conmutadores de tomas y equipos eléctricos de control. MIDEL® 7131 cumple con IEC 61099:1992 “Especificaciones para esteres orgánicos sintéticos sin usar para fines eléctricos”. Se clasifica como tipo T1, un éster pentaeritritol carente de halóge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57240" y="64296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6228"/>
                </a:solidFill>
                <a:latin typeface="Arial"/>
              </a:rPr>
              <a:t>¿Qué es el MI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f6228"/>
                </a:solidFill>
                <a:latin typeface="Calibri"/>
              </a:rPr>
              <a:t>Tabla de Caracterís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1928880" y="1071720"/>
            <a:ext cx="5313240" cy="5805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57240" y="64296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6228"/>
                </a:solidFill>
                <a:latin typeface="Arial"/>
              </a:rPr>
              <a:t>Propie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2960" y="1785600"/>
            <a:ext cx="5857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umplimiento Normas I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mpatibilidad ecológ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oca toxicidad aguda y cró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ropiedades térm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ropiedades dieléctr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iroresiste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Retrolle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Respetuoso con el Medio Amb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Norma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1"/>
          <a:stretch/>
        </p:blipFill>
        <p:spPr>
          <a:xfrm>
            <a:off x="6680160" y="2071800"/>
            <a:ext cx="2463840" cy="40003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>
            <a:hlinkClick r:id="rId2" action="ppaction://hlinksldjump"/>
          </p:cNvPr>
          <p:cNvSpPr/>
          <p:nvPr/>
        </p:nvSpPr>
        <p:spPr>
          <a:xfrm>
            <a:off x="3567240" y="43527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7309"/>
                </a:moveTo>
                <a:lnTo>
                  <a:pt x="4707" y="7309"/>
                </a:lnTo>
                <a:lnTo>
                  <a:pt x="5090" y="7674"/>
                </a:lnTo>
                <a:lnTo>
                  <a:pt x="14299" y="7674"/>
                </a:lnTo>
                <a:lnTo>
                  <a:pt x="14856" y="8231"/>
                </a:lnTo>
                <a:lnTo>
                  <a:pt x="14856" y="8780"/>
                </a:lnTo>
                <a:lnTo>
                  <a:pt x="16701" y="8780"/>
                </a:lnTo>
                <a:lnTo>
                  <a:pt x="17067" y="8231"/>
                </a:lnTo>
                <a:lnTo>
                  <a:pt x="17806" y="8231"/>
                </a:lnTo>
                <a:lnTo>
                  <a:pt x="17806" y="13384"/>
                </a:lnTo>
                <a:lnTo>
                  <a:pt x="17067" y="13384"/>
                </a:lnTo>
                <a:lnTo>
                  <a:pt x="16701" y="12836"/>
                </a:lnTo>
                <a:lnTo>
                  <a:pt x="14856" y="12836"/>
                </a:lnTo>
                <a:lnTo>
                  <a:pt x="14856" y="14115"/>
                </a:lnTo>
                <a:lnTo>
                  <a:pt x="5273" y="14115"/>
                </a:lnTo>
                <a:lnTo>
                  <a:pt x="5273" y="9885"/>
                </a:lnTo>
                <a:lnTo>
                  <a:pt x="5090" y="9885"/>
                </a:lnTo>
                <a:lnTo>
                  <a:pt x="4707" y="10251"/>
                </a:lnTo>
                <a:lnTo>
                  <a:pt x="3794" y="1025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f6228"/>
                </a:solidFill>
                <a:latin typeface="Calibri"/>
              </a:rPr>
              <a:t>Tabla Compar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6072120" cy="5356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857240" y="5716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6228"/>
                </a:solidFill>
                <a:latin typeface="Arial"/>
              </a:rPr>
              <a:t>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2960" y="1856880"/>
            <a:ext cx="58579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ner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2 Marcador de contenido"/>
          <p:cNvSpPr/>
          <p:nvPr/>
        </p:nvSpPr>
        <p:spPr>
          <a:xfrm>
            <a:off x="642960" y="2357280"/>
            <a:ext cx="5857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 Marcador de contenido"/>
          <p:cNvSpPr/>
          <p:nvPr/>
        </p:nvSpPr>
        <p:spPr>
          <a:xfrm>
            <a:off x="642960" y="2857680"/>
            <a:ext cx="585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errocar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 Marcador de contenido"/>
          <p:cNvSpPr/>
          <p:nvPr/>
        </p:nvSpPr>
        <p:spPr>
          <a:xfrm>
            <a:off x="642960" y="3357720"/>
            <a:ext cx="585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sta afu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 Marcador de contenido"/>
          <p:cNvSpPr/>
          <p:nvPr/>
        </p:nvSpPr>
        <p:spPr>
          <a:xfrm>
            <a:off x="642960" y="3857760"/>
            <a:ext cx="585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Aeropue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 Marcador de contenido"/>
          <p:cNvSpPr/>
          <p:nvPr/>
        </p:nvSpPr>
        <p:spPr>
          <a:xfrm>
            <a:off x="642960" y="4357800"/>
            <a:ext cx="585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Retrolle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transformador"/>
          <p:cNvPicPr/>
          <p:nvPr/>
        </p:nvPicPr>
        <p:blipFill>
          <a:blip r:embed="rId1"/>
          <a:stretch/>
        </p:blipFill>
        <p:spPr>
          <a:xfrm>
            <a:off x="3357720" y="2214720"/>
            <a:ext cx="2900160" cy="2214360"/>
          </a:xfrm>
          <a:prstGeom prst="rect">
            <a:avLst/>
          </a:prstGeom>
          <a:ln w="0">
            <a:noFill/>
          </a:ln>
        </p:spPr>
      </p:pic>
      <p:pic>
        <p:nvPicPr>
          <p:cNvPr id="67" name="22 Imagen" descr="metroLigero.jpg"/>
          <p:cNvPicPr/>
          <p:nvPr/>
        </p:nvPicPr>
        <p:blipFill>
          <a:blip r:embed="rId2"/>
          <a:stretch/>
        </p:blipFill>
        <p:spPr>
          <a:xfrm>
            <a:off x="4143240" y="1857240"/>
            <a:ext cx="3929040" cy="2705400"/>
          </a:xfrm>
          <a:prstGeom prst="rect">
            <a:avLst/>
          </a:prstGeom>
          <a:ln w="0">
            <a:noFill/>
          </a:ln>
        </p:spPr>
      </p:pic>
      <p:pic>
        <p:nvPicPr>
          <p:cNvPr id="68" name="23 Imagen" descr="mareas.jpg"/>
          <p:cNvPicPr/>
          <p:nvPr/>
        </p:nvPicPr>
        <p:blipFill>
          <a:blip r:embed="rId3"/>
          <a:stretch/>
        </p:blipFill>
        <p:spPr>
          <a:xfrm>
            <a:off x="3929040" y="1857240"/>
            <a:ext cx="4286160" cy="2868840"/>
          </a:xfrm>
          <a:prstGeom prst="rect">
            <a:avLst/>
          </a:prstGeom>
          <a:ln w="0">
            <a:noFill/>
          </a:ln>
        </p:spPr>
      </p:pic>
      <p:pic>
        <p:nvPicPr>
          <p:cNvPr id="69" name="24 Imagen" descr="energia-eolica-marina.jpg"/>
          <p:cNvPicPr/>
          <p:nvPr/>
        </p:nvPicPr>
        <p:blipFill>
          <a:blip r:embed="rId4"/>
          <a:stretch/>
        </p:blipFill>
        <p:spPr>
          <a:xfrm>
            <a:off x="6929280" y="1643040"/>
            <a:ext cx="1987560" cy="2909880"/>
          </a:xfrm>
          <a:prstGeom prst="rect">
            <a:avLst/>
          </a:prstGeom>
          <a:ln w="0">
            <a:noFill/>
          </a:ln>
        </p:spPr>
      </p:pic>
      <p:pic>
        <p:nvPicPr>
          <p:cNvPr id="70" name="25 Imagen" descr="plataforma.jpg"/>
          <p:cNvPicPr/>
          <p:nvPr/>
        </p:nvPicPr>
        <p:blipFill>
          <a:blip r:embed="rId5"/>
          <a:stretch/>
        </p:blipFill>
        <p:spPr>
          <a:xfrm>
            <a:off x="6191280" y="221472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71" name="26 Imagen" descr="aeropuerto20panama6is.jpg"/>
          <p:cNvPicPr/>
          <p:nvPr/>
        </p:nvPicPr>
        <p:blipFill>
          <a:blip r:embed="rId6"/>
          <a:stretch/>
        </p:blipFill>
        <p:spPr>
          <a:xfrm>
            <a:off x="3786120" y="1714680"/>
            <a:ext cx="4143600" cy="290016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01-02-07_1202banco.jpg"/>
          <p:cNvPicPr/>
          <p:nvPr/>
        </p:nvPicPr>
        <p:blipFill>
          <a:blip r:embed="rId7"/>
          <a:stretch/>
        </p:blipFill>
        <p:spPr>
          <a:xfrm>
            <a:off x="3143160" y="1643040"/>
            <a:ext cx="376236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mantenimiento003.jpg"/>
          <p:cNvPicPr/>
          <p:nvPr/>
        </p:nvPicPr>
        <p:blipFill>
          <a:blip r:embed="rId8"/>
          <a:stretch/>
        </p:blipFill>
        <p:spPr>
          <a:xfrm>
            <a:off x="3929040" y="1714680"/>
            <a:ext cx="421488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f6228"/>
                </a:solidFill>
                <a:latin typeface="Calibri"/>
              </a:rPr>
              <a:t>Contac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500280" y="1785960"/>
            <a:ext cx="1986120" cy="285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714680" y="2071800"/>
            <a:ext cx="554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http://www.mide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&amp;I Materials Ltd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ibernia Way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fford Park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nchester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32 0ZD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ino U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incipal proveedor de MIDEL, producto registrado, especialistas en materiales para la industria y la minería  la cual cuenta con una red de socios y proveedores a nivel mundial en distintas localidades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btangd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!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d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4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ller de Diseño en Sistdmas $e Pot%nca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2 CuadroTexto"/>
          <p:cNvSpPr/>
          <p:nvPr/>
        </p:nvSpPr>
        <p:spPr>
          <a:xfrm>
            <a:off x="2214720" y="928800"/>
            <a:ext cx="492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800" spc="-1" strike="noStrike">
                <a:solidFill>
                  <a:srgbClr val="4f6228"/>
                </a:solidFill>
                <a:latin typeface="Arial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ignition_oil80"/>
          <p:cNvPicPr/>
          <p:nvPr/>
        </p:nvPicPr>
        <p:blipFill>
          <a:blip r:embed="rId1"/>
          <a:stretch/>
        </p:blipFill>
        <p:spPr>
          <a:xfrm>
            <a:off x="1515960" y="2368440"/>
            <a:ext cx="1303560" cy="90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ceite mineral 3 minutos, "/>
          <p:cNvPicPr/>
          <p:nvPr/>
        </p:nvPicPr>
        <p:blipFill>
          <a:blip r:embed="rId2"/>
          <a:stretch/>
        </p:blipFill>
        <p:spPr>
          <a:xfrm>
            <a:off x="3963960" y="2382840"/>
            <a:ext cx="1303200" cy="90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Ensayo de resistencia al fuego: el aceite mineral se inflama"/>
          <p:cNvPicPr/>
          <p:nvPr/>
        </p:nvPicPr>
        <p:blipFill>
          <a:blip r:embed="rId3"/>
          <a:stretch/>
        </p:blipFill>
        <p:spPr>
          <a:xfrm>
            <a:off x="6340320" y="2357280"/>
            <a:ext cx="1303560" cy="90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Fluido dieléctrico resistente al fuego Midel 7131, "/>
          <p:cNvPicPr/>
          <p:nvPr/>
        </p:nvPicPr>
        <p:blipFill>
          <a:blip r:embed="rId4"/>
          <a:stretch/>
        </p:blipFill>
        <p:spPr>
          <a:xfrm>
            <a:off x="1658880" y="4529160"/>
            <a:ext cx="1303560" cy="90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Fluido dieléctrico resistente al fuego Midel 7131, "/>
          <p:cNvPicPr/>
          <p:nvPr/>
        </p:nvPicPr>
        <p:blipFill>
          <a:blip r:embed="rId5"/>
          <a:stretch/>
        </p:blipFill>
        <p:spPr>
          <a:xfrm>
            <a:off x="3963960" y="4529160"/>
            <a:ext cx="1303200" cy="90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Temperatura de inflabamibilidad espontánea elevada del Midel 7131"/>
          <p:cNvPicPr/>
          <p:nvPr/>
        </p:nvPicPr>
        <p:blipFill>
          <a:blip r:embed="rId6"/>
          <a:stretch/>
        </p:blipFill>
        <p:spPr>
          <a:xfrm>
            <a:off x="6340320" y="4518000"/>
            <a:ext cx="1303560" cy="903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1446480" y="3449520"/>
            <a:ext cx="145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Aceite min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1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6269400" y="3438360"/>
            <a:ext cx="1456200" cy="459000"/>
          </a:xfrm>
          <a:prstGeom prst="rect">
            <a:avLst/>
          </a:prstGeom>
          <a:solidFill>
            <a:srgbClr val="d5dde9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Aceite min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4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823200" y="3449520"/>
            <a:ext cx="145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Aceite min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3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591200" y="5610240"/>
            <a:ext cx="145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M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3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925080" y="560880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M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7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270840" y="5572080"/>
            <a:ext cx="159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M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Combustión a 324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95240" y="884160"/>
            <a:ext cx="7705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 u="sng">
                <a:solidFill>
                  <a:srgbClr val="4f6228"/>
                </a:solidFill>
                <a:uFillTx/>
                <a:latin typeface="Arial"/>
              </a:rPr>
              <a:t>Prueba de seguridad contra incendios con un sople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8">
            <a:hlinkClick r:id="rId7" action="ppaction://hlinksldjump"/>
          </p:cNvPr>
          <p:cNvSpPr/>
          <p:nvPr/>
        </p:nvSpPr>
        <p:spPr>
          <a:xfrm>
            <a:off x="8211960" y="6130800"/>
            <a:ext cx="503280" cy="370080"/>
          </a:xfrm>
          <a:custGeom>
            <a:avLst/>
            <a:gdLst>
              <a:gd name="textAreaLeft" fmla="*/ 23760 w 503280"/>
              <a:gd name="textAreaRight" fmla="*/ 479520 w 503280"/>
              <a:gd name="textAreaTop" fmla="*/ 23760 h 370080"/>
              <a:gd name="textAreaBottom" fmla="*/ 346320 h 370080"/>
            </a:gdLst>
            <a:ahLst/>
            <a:rect l="textAreaLeft" t="textAreaTop" r="textAreaRight" b="textAreaBottom"/>
            <a:pathLst>
              <a:path w="29367" h="21600">
                <a:moveTo>
                  <a:pt x="0" y="0"/>
                </a:moveTo>
                <a:lnTo>
                  <a:pt x="29367" y="0"/>
                </a:lnTo>
                <a:lnTo>
                  <a:pt x="29367" y="21600"/>
                </a:lnTo>
                <a:lnTo>
                  <a:pt x="0" y="21600"/>
                </a:lnTo>
                <a:close/>
              </a:path>
              <a:path fill="lightenLess" w="29367" h="21600">
                <a:moveTo>
                  <a:pt x="0" y="0"/>
                </a:moveTo>
                <a:lnTo>
                  <a:pt x="29367" y="0"/>
                </a:lnTo>
                <a:lnTo>
                  <a:pt x="27967" y="1400"/>
                </a:lnTo>
                <a:lnTo>
                  <a:pt x="1400" y="1400"/>
                </a:lnTo>
                <a:close/>
              </a:path>
              <a:path fill="darken" w="29367" h="21600">
                <a:moveTo>
                  <a:pt x="29367" y="0"/>
                </a:moveTo>
                <a:lnTo>
                  <a:pt x="29367" y="21600"/>
                </a:lnTo>
                <a:lnTo>
                  <a:pt x="27967" y="20200"/>
                </a:lnTo>
                <a:lnTo>
                  <a:pt x="27967" y="1400"/>
                </a:lnTo>
                <a:close/>
              </a:path>
              <a:path fill="darkenLess" w="29367" h="21600">
                <a:moveTo>
                  <a:pt x="2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7" y="20200"/>
                </a:lnTo>
                <a:close/>
              </a:path>
              <a:path fill="lighten" w="2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7" h="21600">
                <a:moveTo>
                  <a:pt x="7677" y="10800"/>
                </a:moveTo>
                <a:lnTo>
                  <a:pt x="21690" y="3794"/>
                </a:lnTo>
                <a:lnTo>
                  <a:pt x="2169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0:28:24Z</dcterms:created>
  <dc:creator>Lap</dc:creator>
  <dc:description/>
  <dc:language>en-US</dc:language>
  <cp:lastModifiedBy> Alberto Botteselle Doggenweiler</cp:lastModifiedBy>
  <dcterms:modified xsi:type="dcterms:W3CDTF">2008-09-10T12:53:00Z</dcterms:modified>
  <cp:revision>37</cp:revision>
  <dc:subject/>
  <dc:title>EL MIDEL</dc:title>
</cp:coreProperties>
</file>