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F535E-97EC-48A9-8F33-057F9EA39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B5272-AE86-4A6A-BD4B-2B3F58B62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0754B-6D45-4D22-B89A-3AC258286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D2AD2-FBC1-413C-9443-A24D7B30F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C939F-4506-4A6D-92EF-7A2F0190E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A6665-6921-427A-92D5-ED65BF7D1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416E4-01AF-4FEF-B6F9-6237F4F06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141C9-21BC-47AE-A491-AD14A4153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371C2-6AEB-48C6-9552-78FE8D7ED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BC814-7C4E-40E5-998E-244F7AF71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C8C3B-8943-468B-8C30-917EA585E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27851-CF3D-4B31-AD45-20686E78C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9DA6F-0D02-438B-9BBB-817735553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68B10-588B-46C3-88D1-5C6B8BADC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5EAB3-D750-4F48-B01B-1224B3224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7F21E-603F-4990-9316-297081AE1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895D9-7879-482B-8542-A611A1946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7652B-8CF6-4B8F-94AD-10A44B30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68EC-FBB1-42DD-AFD9-D8C144212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761AC-811E-4828-8FBE-8D3F619AE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47815-D07A-495A-A116-653E4EFE7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1C994-0D4E-4018-81B6-7A53E44AF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DBEA-12FB-4E32-B2DD-5D8D0FA81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6EC4-E041-468C-97C7-13FD1A97E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9B3D-7538-45F5-8271-CA49074F0EB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7188-04DB-48DE-8EE6-A9EE26A1840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CEA4-6F2F-45ED-8A5F-93F101257EE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B29F-6950-4BA7-9FBF-A6D67122F2F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8</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DB094A64-5604-4FF7-AB55-233DDD3540B1}" type="datetime">
              <a:rPr b="1" lang="es-ES_tradnl" sz="600" spc="-1" strike="noStrike">
                <a:solidFill>
                  <a:srgbClr val="000000"/>
                </a:solidFill>
                <a:latin typeface="Times New Roman"/>
              </a:rPr>
              <a:t>30/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D612-11B0-418C-887D-31C23A9C2F6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21B8-89EB-4DCB-9FF6-FE7B94DEA1E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1" name="Object 3"/>
          <p:cNvGraphicFramePr/>
          <p:nvPr/>
        </p:nvGraphicFramePr>
        <p:xfrm>
          <a:off x="957240" y="3541680"/>
          <a:ext cx="5313240" cy="3800520"/>
        </p:xfrm>
        <a:graphic>
          <a:graphicData uri="http://schemas.openxmlformats.org/presentationml/2006/ole">
            <p:oleObj progId="Word.Document.12" r:id="rId1" spid="">
              <p:embed/>
              <p:pic>
                <p:nvPicPr>
                  <p:cNvPr id="122"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3"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23B8-1765-4B98-9A93-8E462F97E6A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35C2-06C5-40F8-8774-575CC7575D6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27"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B5C3-47A7-4275-A05F-FBCF3CBA8141}"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9F58-AC08-4C26-9714-B4EBCEC477A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1"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2"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3"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7DE1-84B5-45E1-BABB-7D7E0552E366}"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3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9C4D-A30A-4614-B974-BEABB118514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37"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38"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412F-B64D-49CA-82D0-4A2364E8C09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4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7311-95A6-49A1-8B9F-3E134C267D7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2"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3"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5"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5A09-6627-4795-AE0B-A5AACFBA9B2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4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6FD9-4CA2-4DA1-8628-0BC64D74974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49"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0"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5F57-4403-4FCD-8037-187FBADC0468}"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E208-F724-47F7-8CE7-37C6C3EB721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4"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11C8-23AE-4B81-AEAC-37E5DC156C7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FCE0-80EC-40BA-83D6-414B16025C9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58"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E923-2D3F-4AD4-907A-589A81B5BA11}"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295D-0E59-4ECA-A5D6-8A1A64397CB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DA8D-E7BB-4653-95C7-C89B497127A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79A6-AB1A-433E-A191-664683691A5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8648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383 - Presidente Errázuriz 2943 </a:t>
            </a:r>
            <a:endParaRPr b="0" lang="en-US" sz="1400" spc="-1" strike="noStrike">
              <a:solidFill>
                <a:srgbClr val="000000"/>
              </a:solidFill>
              <a:latin typeface="Tahoma"/>
            </a:endParaRPr>
          </a:p>
          <a:p>
            <a:pPr lvl="4" marL="201924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2622 – 207-070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elular</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09-9874-6514 – 7768-8581</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 electrónic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8648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3</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B4AB-87E8-441C-9D1E-5654DD0F88A7}"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E602-627C-4D8D-A312-B8967ED0CB8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66"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63B5-D840-42F3-95C1-38B40900596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6AAC-25D1-4C11-B0CC-7F57D116A5E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0"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0D70-E2E6-451B-81D0-91602B819E2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2"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1D0A-188C-4975-8BE1-9D870F9A115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4"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1D7E-D02F-449E-BF01-FD192BE4A5E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D766-B483-40C5-96FF-809E2A0A209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0"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9B8D-C3B6-4E43-8AF9-CA9647DB86E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95DE-3E4D-4BB9-B755-FCF711D3757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5"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86"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A5CA-6D34-40B2-B423-0A5FFEE44406}"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9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84AC-E3A7-4D0C-A978-DCF55BE9AC6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96"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7"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1908-6563-433B-B6CD-0DF38526126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0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5491-541A-4B77-A001-26EB49B66A7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8"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0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9971-0B9A-4629-8C63-457CA9354C7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1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9C72-5BF6-4315-AAD0-4DF3B160223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8"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1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3FE7-81DA-4E49-991A-A7853BFBFAB6}"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398C-71CA-4DD5-821C-73838064D1E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7"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28"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5D00-EB75-45C3-B54C-05C34DD84A6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9BDF-65DA-4BA7-8DCD-3F126CF4C0B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relacionarse con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97BF-AE0E-487E-8998-B390527576B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3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0C67-94F0-4F0B-A868-43049B78B4C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6"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37"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8"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1110-4B25-4DBB-A417-6A8B0CD4F02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6F6F-1D9C-43CA-8DB6-C32CD3B0544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3"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0C38-E965-4CF5-8DDE-4997C1ED314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5"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3C16-5A1B-407F-AC19-8EC9A4DB9E7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67"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68"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4F11-9E48-4BAC-B838-1BADEEC2689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EA8A-47F2-477C-AA02-4B8230CAAC6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2" name="Object 0"/>
          <p:cNvGraphicFramePr/>
          <p:nvPr/>
        </p:nvGraphicFramePr>
        <p:xfrm>
          <a:off x="981000" y="2733840"/>
          <a:ext cx="5496120" cy="4219560"/>
        </p:xfrm>
        <a:graphic>
          <a:graphicData uri="http://schemas.openxmlformats.org/presentationml/2006/ole">
            <p:oleObj progId="Word.Document.12" r:id="rId1" spid="">
              <p:embed/>
              <p:pic>
                <p:nvPicPr>
                  <p:cNvPr id="273"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6A41-2CE0-4C38-BB3B-54AC3F45B3F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07F1-9564-458A-A0F6-E3F522FF03B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77"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9B74-B8D7-48A3-8D37-2BC94D89643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0D8D-43B0-4647-B2BF-13224DC98A5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B9C1-CC14-498E-B18F-E5DE6FDFEB4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0C8C-8231-4B0C-91AF-F8AF6E20CC8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D128-0A04-45CC-A5E3-B7A3CF66C94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C2A1-0575-4BEF-8484-121588711B8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1000"/>
          </a:bodyPr>
          <a:p>
            <a:pPr marL="173160" indent="-17316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uebas de Recepción del Equipo Construido</a:t>
            </a:r>
            <a:endParaRPr b="0" lang="en-US" sz="1500" spc="-1" strike="noStrike">
              <a:solidFill>
                <a:srgbClr val="000000"/>
              </a:solidFill>
              <a:latin typeface="Tahoma"/>
            </a:endParaRPr>
          </a:p>
          <a:p>
            <a:pPr marL="17316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4652-2C42-40C4-B272-F4E3BD95CCA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B165-8FBA-4868-9D97-8A4CD87CD56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F256-1F0A-4112-B02C-0FEACA70FEAD}"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18C1-48D6-4720-B9D8-31F022F0F55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29E3-BBC3-499C-97DC-B3B0BB8CFFE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4BBD-0B67-476B-ACC1-F633ACA417B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09"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C19C-B82C-40AF-82CE-899B397A5D58}"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66B8-B4BF-46F5-AB08-B22ED5C27BC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B5D5-10AD-4ED3-9FA3-8F9FA471F110}"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ABF5-2C80-460D-AD28-5676E9BE8D0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17"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8-08-06T14:08:43Z</dcterms:modified>
  <cp:revision>286</cp:revision>
  <dc:subject>Taller de Diseño en Sistemas de Potencia I - EL-57C - TALLER DISEÑO I - U.CH. - 1997</dc:subject>
  <dc:title>Apuntes del Curso EL-57C</dc:title>
</cp:coreProperties>
</file>