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9FC73-4C5F-4C77-BF7A-79E4A7C9C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FA20-6BAE-4CB4-9F73-AB34DA6D4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BF2CB-B81C-4548-B917-15A08B7C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0A23E-439F-410E-A0C1-261DAEFD8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656F7-0BC0-4E08-B09F-B4F04921E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2619E-8656-4444-961A-98AF9BF4D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BEFB-8DFC-47AB-AA7C-83ACD91F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39C6A-1A9D-45AC-857B-B55A6E9A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503D-A005-47A7-938D-70A26DF1F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F3BB4-B562-4499-B687-BD1325A95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EB79-14B3-471E-BEE9-E1902DF73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2424-4D5E-4ABC-A516-C74F5F43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5B6E7-9399-4C88-AD44-E101A7F85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B527-3A72-4C97-B35C-1F5205810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A6BCB-C3F7-4313-9C64-FCD855E5F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CCF33-6B15-43D5-91D7-1CA947F1C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091FE-74FE-4E20-B7CB-B0CCB9299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6632-E62E-4589-95B1-5F0BDD8F2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6D85-4D9E-4609-B786-731B2FAF3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8D23-020D-471E-95C2-376686B00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8241-D321-4D5F-9BBF-F5660691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FB0E-C54B-49E0-9C60-4DA36255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0A5D-9CD7-44DA-AB8D-B746A2F14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E2E8-9603-43F6-ADD8-CCB0FBFD6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0847-A5F9-4910-936C-8134F244664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640C-B993-46DE-BB8C-CC7AA80E22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9D7F-1315-47E1-BE03-DB8F3331101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3228-E36E-4B05-A52E-EF653F13679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9F6B45CF-8992-4E8E-B447-209070F52F91}" type="datetime">
              <a:rPr b="1" lang="es-ES_tradnl" sz="600" spc="-1" strike="noStrike">
                <a:solidFill>
                  <a:srgbClr val="000000"/>
                </a:solidFill>
                <a:latin typeface="Times New Roman"/>
              </a:rPr>
              <a:t>30/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5AE6-37E9-4573-B64E-7890AD576B8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09E9-26D5-4DBF-9DE6-40B558808E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B828-7F70-4820-B182-47C6EC75A02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F0D8-F5ED-4347-8CB5-2062A3A791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3C03-CEFA-4CE6-A60C-59381D8DDF9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2056-E97F-45B6-8F57-1AB97B301B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3161-39E7-421E-9E45-8E9A5EDB4C7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5670-9756-4922-8C6F-11640E38030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312C-0170-4029-9BDC-351991946A5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7ACF-A721-4195-9EA0-7A0ABF5C25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3FE2-7B3C-4822-B194-A75AA59DF22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0B9E-1B2E-4AFF-B7E6-5A9398F2349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43C3-6EA5-4BDD-B47D-A34E2A30A3A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5B35-47FF-4D7E-8E40-6A445F7E681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3D97-E86B-42D1-A445-F0052AF0AB7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D1BE-8967-4AA8-BFA6-AD55DAB261A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9B94-5A11-4752-AE00-BEEF2D4C368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97EF-F1AF-4E03-94CF-3EF00707DF6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37AD-F2F0-44DB-B0DC-61875F2A860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BB75-FBC1-4815-B720-A079F8D7B8E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46B7-51C1-42D0-9EEC-5D1DEFC3715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E0B5-09CD-41EA-BADD-73D951D6D9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F80D-A170-4437-A367-BF946D1910F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162F-C2BF-4BFE-B1E2-7D721D58FC7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716F-5B05-4464-A657-ED62846CA82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B35A-0357-49F9-AB8A-3B078ACC59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E54B-6B51-4F5A-8F12-732FE68EA73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5571-1EC7-43BE-ABD5-488F3FE6542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33A1-6221-45B9-B3F5-84D85CB2118A}"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F0A1-A0E3-477B-94A6-0471960922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EE9D-1541-49DD-B624-E71D23690D2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7337-27E1-47B6-97B3-C517F2CBF22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0334-747A-4598-8795-92F79561A05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9941-184D-4400-AA79-D8C29184E4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0336-698C-426E-9188-7BB64DE80CB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8156-8C8B-4FDC-8CCA-3F1EB44B27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DF50-44B0-476D-B191-ED07DB9555B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B5B6-0EDA-4593-8424-8444A6D1CCF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28A5-7490-4C71-BF5E-E391A604B0F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2112-541E-4407-841C-BD55B25D89B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ADE7-AE48-430E-94E4-F9A9C27B0B8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52EE-5AF0-43DD-B609-562463A6630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3E17-830D-4C5C-B409-F7F90B4824C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B22B-4B49-48D9-A7FE-8C2B25889BC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DF9D-92B1-4C55-8E87-3791E93BADC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94E5-4CD5-4FB3-94B9-BD0919A15DA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40BC-6315-460E-A2E6-35CC43FC1C3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D8C5-BA94-4B6C-9E23-0BC48771539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324F-581B-433D-BAAA-EA329067FFE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4F91-78A5-48C5-9087-30E869B375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40AB-E457-476F-A039-CC9FD5F990C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548F-EA8D-4E0F-A148-36ABBB400D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6075-C282-4B01-A406-2427323DE2B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5A60-23C7-4C60-8861-D33B0090C8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1FB9-2491-49FA-97E7-5D2151210B0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E974-F25C-47CA-B9BE-C5B5C71B649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CA78-7979-456E-A475-302A13C1EBA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CF5B-7FB2-40E5-8A81-CAE5023860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386B-EB27-49B3-9933-646C5F20EC9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7159-F541-4041-BAEE-34A118A69C5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226B-9139-4D66-B7C8-386A1C79237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174D-4C0E-4718-B906-12EC2AB2420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E004-7338-4EAB-943D-E09D1485488A}"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881C-9E0F-4D74-AEEE-02C40BAFFEF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7033-2593-4C77-ACFB-69D332ABD03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3185-12EB-4C7B-BD93-562C595B382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