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media/image29.wmf" ContentType="image/x-wmf"/>
  <Override PartName="/ppt/media/image31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12.png" ContentType="image/png"/>
  <Override PartName="/ppt/media/image32.wmf" ContentType="image/x-wmf"/>
  <Override PartName="/ppt/media/image8.png" ContentType="image/png"/>
  <Override PartName="/ppt/media/image13.png" ContentType="image/png"/>
  <Override PartName="/ppt/media/image33.wmf" ContentType="image/x-wmf"/>
  <Override PartName="/ppt/media/image17.wmf" ContentType="image/x-wmf"/>
  <Override PartName="/ppt/media/image9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34.wmf" ContentType="image/x-wmf"/>
  <Override PartName="/ppt/media/image14.png" ContentType="image/png"/>
  <Override PartName="/ppt/media/image6.png" ContentType="image/png"/>
  <Override PartName="/ppt/media/image5.wmf" ContentType="image/x-wmf"/>
  <Override PartName="/ppt/media/image28.wmf" ContentType="image/x-wmf"/>
  <Override PartName="/ppt/media/image4.png" ContentType="image/png"/>
  <Override PartName="/ppt/media/image30.wmf" ContentType="image/x-wmf"/>
  <Override PartName="/ppt/media/image27.png" ContentType="image/png"/>
  <Override PartName="/ppt/media/image1.wmf" ContentType="image/x-wmf"/>
  <Override PartName="/ppt/media/image15.png" ContentType="image/png"/>
  <Override PartName="/ppt/media/image16.png" ContentType="image/png"/>
  <Override PartName="/ppt/media/image19.wmf" ContentType="image/x-wmf"/>
  <Override PartName="/ppt/media/image21.wmf" ContentType="image/x-wmf"/>
  <Override PartName="/ppt/media/image18.wmf" ContentType="image/x-wmf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C5B6-31FD-4603-94A7-F1A3828C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14FE-DD23-49B1-AF86-58D9B05F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F9DE-B727-48D8-ABF0-3EDFE6813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506B-82A2-464D-997D-DEE53EC01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7B52-DB9D-46D3-8349-39F21785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F3DB-FB58-475B-B75D-CFEFE18D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68EA-82F1-4AD8-B6F4-A36FF674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73E7-32B3-4094-9206-63A1EED0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368E-26A6-4D20-B7E7-4F1FCD25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F85D-C1FE-4327-9B1B-8B4AEAF5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F099-13B6-44EB-900A-33E2CB3A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9208-A5DA-44F6-8F1D-E922F389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3240-5105-402A-A5FD-84C22B25E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22400" y="550800"/>
          <a:ext cx="7369200" cy="606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2400" y="550800"/>
                    <a:ext cx="7369200" cy="60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2362320" y="0"/>
          <a:ext cx="472428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0"/>
                    <a:ext cx="47242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652760" y="6019200"/>
            <a:ext cx="654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topología punto multipunto de la figura también puede ser con tecnología WiMax 802.16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0"/>
            <a:ext cx="230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0"/>
            <a:ext cx="3711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unto Multipunto WiFi Wi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-1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057400" y="0"/>
          <a:ext cx="563868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0"/>
                    <a:ext cx="563868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3352680" y="0"/>
            <a:ext cx="3733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d en Malla WiFi o Wi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17120" y="608760"/>
            <a:ext cx="41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deraciones de alcance máx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676520" y="1295280"/>
          <a:ext cx="5968800" cy="4254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95280"/>
                    <a:ext cx="5968800" cy="42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37720" y="227880"/>
            <a:ext cx="67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ción de modulación según distancia a la Estación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>
            <a:alphaModFix amt="95000"/>
          </a:blip>
          <a:srcRect l="0" t="3247" r="0" b="3247"/>
          <a:stretch/>
        </p:blipFill>
        <p:spPr>
          <a:xfrm>
            <a:off x="1219320" y="1143000"/>
            <a:ext cx="598176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0640" y="304200"/>
            <a:ext cx="779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nsibilidad y throughput versus Ancho de Banda del canal de rad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436760"/>
            <a:ext cx="838188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819880" y="151560"/>
            <a:ext cx="24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odelo Radioenlac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5969160" cy="3111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95280" y="3690360"/>
            <a:ext cx="701064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érdida Espacio Libre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= 32,4 + 20Log10(Frecuencia MHz) + 20Log10(Distancia 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stimación pérdida conector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= 0.10 * raíz cuadrada (frecuencia en GHz); 0,5 dB/conector aproximadamen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eñal recibida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=  Potencia transmitida - pérdidas en cables y conectores + ganancia antena de transmisión - pérdida de espacio libre + ganancia de antena del receptor -pérdidas en cable y conectores en el recept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Margen ante desvanecimiento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= Nivel de señal recibida – sensibilidad del receptor. Consideraremos un valor práctico entre 10dB y 15d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04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2857680" cy="438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124160" y="1121040"/>
            <a:ext cx="929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con d &gt; d</a:t>
            </a:r>
            <a:r>
              <a:rPr b="0" lang="en-US" sz="9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65520" y="304920"/>
            <a:ext cx="33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O DE CAM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4200" y="1673280"/>
            <a:ext cx="4819320" cy="16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 qu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L = Pérdidas de propagación en d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   = 20 log</a:t>
            </a: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4πd</a:t>
            </a: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γ    = a - bh</a:t>
            </a: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+ c/h</a:t>
            </a: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 altura de la antena de la estación base sobre el nivel de sue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λ     = longitud de onda en 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,b y c segú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838080" y="3124080"/>
          <a:ext cx="2743200" cy="1128600"/>
        </p:xfrm>
        <a:graphic>
          <a:graphicData uri="http://schemas.openxmlformats.org/drawingml/2006/table">
            <a:tbl>
              <a:tblPr/>
              <a:tblGrid>
                <a:gridCol w="649440"/>
                <a:gridCol w="722160"/>
                <a:gridCol w="685800"/>
                <a:gridCol w="68580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áme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reno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reno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reno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 (m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 (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167400" y="4342680"/>
            <a:ext cx="5160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erreno A: máximas pérdidas, terreno con cerros, densidad de follaje moderado a al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erreno B: terrenos planos con densidades moderadas a latas, o terrenos con cerros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aja densidad de árbol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erreno C: mínima pérdida de espacio libre, terreno plano, densidad ligera de árbol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480" y="5025960"/>
            <a:ext cx="252144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    = distancia a la estación base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 100 m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73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62120" y="5486400"/>
            <a:ext cx="304560" cy="276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03680" y="5455440"/>
            <a:ext cx="31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295280" y="5410080"/>
            <a:ext cx="1009800" cy="419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426400" y="5474880"/>
            <a:ext cx="86976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f en 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762120" y="5943600"/>
            <a:ext cx="285480" cy="190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303920" y="5755320"/>
            <a:ext cx="2876400" cy="9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=  -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0.8log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γ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/ 2000)    para terrenos tipo A y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0.0log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γ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/ 2000)    para terrenos tipo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28188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γ   =  altura sobre el nivel de piso de la Estación de Suscrip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73600" y="3428280"/>
            <a:ext cx="473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 =  es un factor de distribución que considera el efecto sombra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árboles y otros objetos y varía entre 8,2dB y 10,6 d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19320" y="1655640"/>
            <a:ext cx="252144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    = distancia a la estación base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 100 m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304920" cy="276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60880" y="2635920"/>
            <a:ext cx="31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990720" y="2514600"/>
            <a:ext cx="1009440" cy="419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74120" y="2518560"/>
            <a:ext cx="8697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f en 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52280" y="4114800"/>
            <a:ext cx="362160" cy="241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19480" y="4050000"/>
            <a:ext cx="845424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=  -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0.8log</a:t>
            </a: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0" lang="es-E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γ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/ 2000)    para terrenos tipo A y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=                -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0.0log</a:t>
            </a: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0" lang="es-E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γ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/ 2000)    para terrenos tipo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 </a:t>
            </a:r>
            <a:r>
              <a:rPr b="0" lang="es-E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γ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=  altura sobre el nivel de piso de la Estación de Suscrip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3006"/>
              <a:buBlip>
                <a:blip r:embed="rId4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 =  es un factor de distribución que considera el efecto sombra de árboles y otros objetos y varía entre 8,2dB y 10,6 d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209680" y="228240"/>
            <a:ext cx="50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ancias máximas por tipo de mod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cuencia 3,5GHz; canal 3,5MHz;MF&gt;14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905120" y="1066680"/>
          <a:ext cx="554040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066680"/>
                    <a:ext cx="55404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89360" y="152280"/>
            <a:ext cx="442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stancias máximas por tipo de modul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recuencia 5,8 GHz; canal 10MHz; MF &gt;15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838080"/>
          <a:ext cx="549756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838080"/>
                    <a:ext cx="54975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16760" y="380160"/>
            <a:ext cx="31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as de Frecu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1117440"/>
            <a:ext cx="8229600" cy="4413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1219320"/>
            <a:ext cx="99072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1866960" y="304920"/>
          <a:ext cx="554184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6960" y="304920"/>
                    <a:ext cx="554184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16440" y="197280"/>
            <a:ext cx="549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asa Bruta de Transmisión en Bandas Normalizadas por WiMAX (Mbps)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219320" y="762120"/>
          <a:ext cx="6060960" cy="2835000"/>
        </p:xfrm>
        <a:graphic>
          <a:graphicData uri="http://schemas.openxmlformats.org/drawingml/2006/table">
            <a:tbl>
              <a:tblPr/>
              <a:tblGrid>
                <a:gridCol w="760320"/>
                <a:gridCol w="633600"/>
                <a:gridCol w="755640"/>
                <a:gridCol w="755640"/>
                <a:gridCol w="788760"/>
                <a:gridCol w="789120"/>
                <a:gridCol w="789120"/>
                <a:gridCol w="78876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da Canal (GH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ho Canal (MH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PS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PS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Q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Q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Q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Q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914400" y="4266360"/>
            <a:ext cx="9474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*No considera encabezamientos de MAC, preámbulos ni ARQ, solo FE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lación Tiempo Guarda / Tiempo símbolo útil G = 1/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749240" y="425880"/>
            <a:ext cx="538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asa Neta de Transmisión en Bandas Normalizadas por WiMAX (Mbps)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90720" y="1066680"/>
          <a:ext cx="6060960" cy="2835360"/>
        </p:xfrm>
        <a:graphic>
          <a:graphicData uri="http://schemas.openxmlformats.org/drawingml/2006/table">
            <a:tbl>
              <a:tblPr/>
              <a:tblGrid>
                <a:gridCol w="760320"/>
                <a:gridCol w="633600"/>
                <a:gridCol w="755640"/>
                <a:gridCol w="755640"/>
                <a:gridCol w="788760"/>
                <a:gridCol w="789120"/>
                <a:gridCol w="789120"/>
                <a:gridCol w="78876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da Canal (GH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ho Canal (MH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PS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PS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Q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Q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Q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Q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,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,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,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,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,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,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,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,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,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,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,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,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1296000" y="4266360"/>
            <a:ext cx="402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*Estima MAC en 10% de la capacidad disponi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lación Tiempo Guarda / Tiempo símbolo útil = 1/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14680" y="1371600"/>
            <a:ext cx="6514920" cy="4886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976120" y="685800"/>
            <a:ext cx="357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jemplo uso WiMax en VI Reg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362320" y="3124080"/>
            <a:ext cx="4940280" cy="1638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438280" y="1143000"/>
            <a:ext cx="4813560" cy="1530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124080" y="5181480"/>
            <a:ext cx="3565800" cy="1131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505320" y="228600"/>
            <a:ext cx="21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OS TIP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304200"/>
            <a:ext cx="784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pectro bandas licenciadas y no licenciadas sistemas WiFi y Wi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1725480"/>
            <a:ext cx="845820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45360" y="532800"/>
            <a:ext cx="31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ructura Sistema Wi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96916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820240" y="456480"/>
            <a:ext cx="27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ción de Suscrip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143000" y="1066680"/>
          <a:ext cx="6858000" cy="208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6858000" cy="20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838080" y="3505320"/>
            <a:ext cx="1866960" cy="1701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895480" y="3505320"/>
            <a:ext cx="1384560" cy="1676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4419720" y="3200400"/>
            <a:ext cx="1841400" cy="228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6095880" y="3124080"/>
            <a:ext cx="2146320" cy="2349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358640" y="575136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  I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89640" y="579132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 ex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295280" y="228600"/>
          <a:ext cx="6438960" cy="173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8600"/>
                    <a:ext cx="643896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914400" y="1066680"/>
          <a:ext cx="6629400" cy="1193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066680"/>
                    <a:ext cx="662940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371600" y="2666880"/>
            <a:ext cx="863640" cy="3149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3809880" y="3048120"/>
            <a:ext cx="298476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905480" y="456840"/>
            <a:ext cx="470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btramas de Bajada y Subida en Wi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596916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77600" y="532800"/>
            <a:ext cx="48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btramas de Bajada y Subida Duplex T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596880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447920" y="380520"/>
            <a:ext cx="53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btramas de Bajada y Subida con duplex FD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589284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8T02:18:02Z</dcterms:created>
  <dc:creator>Jorge Fritis</dc:creator>
  <dc:description/>
  <dc:language>en-US</dc:language>
  <cp:lastModifiedBy>Jorge Fritis</cp:lastModifiedBy>
  <dcterms:modified xsi:type="dcterms:W3CDTF">2008-09-12T02:19:52Z</dcterms:modified>
  <cp:revision>8</cp:revision>
  <dc:subject/>
  <dc:title>Diapositiva 1</dc:title>
</cp:coreProperties>
</file>