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media/image29.wmf" ContentType="image/x-wmf"/>
  <Override PartName="/ppt/media/image31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32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4.wmf" ContentType="image/x-wmf"/>
  <Override PartName="/ppt/media/image14.png" ContentType="image/png"/>
  <Override PartName="/ppt/media/image6.png" ContentType="image/png"/>
  <Override PartName="/ppt/media/image5.wmf" ContentType="image/x-wmf"/>
  <Override PartName="/ppt/media/image28.wmf" ContentType="image/x-wmf"/>
  <Override PartName="/ppt/media/image4.png" ContentType="image/png"/>
  <Override PartName="/ppt/media/image30.wmf" ContentType="image/x-wmf"/>
  <Override PartName="/ppt/media/image27.png" ContentType="image/png"/>
  <Override PartName="/ppt/media/image1.wmf" ContentType="image/x-wmf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D18-B130-4127-A700-E93F006E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DA7B-3EC3-4817-9271-3AE19F0E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C83-6A61-4D57-8C75-36CB0506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D9A-C8D7-4CFD-839E-EABD8A3A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4692-7E56-45BF-B5A2-10D0C898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5A0-3BB2-4985-A286-83F797AF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8CE1-6272-4BC9-A5CB-1D84A612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6F4-D41E-4C35-A835-0CEAA470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4BB9-F947-45C2-B01B-5975AB43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2843-0C0E-4C02-A1F6-16618722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CE2-1448-4139-8E90-22CD609F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A7CC-A255-416C-AD2C-FB4D2E5C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15B2-59C6-4F95-AF5F-48CAF8F7D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22400" y="550800"/>
          <a:ext cx="7369200" cy="60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550800"/>
                    <a:ext cx="73692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362320" y="0"/>
          <a:ext cx="47242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47242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652760" y="6019200"/>
            <a:ext cx="654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topología punto multipunto de la figura también puede ser con tecnología WiMax 802.16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0"/>
            <a:ext cx="3711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nto Multipunto WiFi W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-1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057400" y="0"/>
          <a:ext cx="563868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0"/>
                    <a:ext cx="56386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352680" y="0"/>
            <a:ext cx="3733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d en Malla WiFi o W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17120" y="6087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deraciones de alcance máx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676520" y="1295280"/>
          <a:ext cx="5968800" cy="425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596880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7720" y="227880"/>
            <a:ext cx="67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ción de modulación según distancia a la Estació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>
            <a:alphaModFix amt="95000"/>
          </a:blip>
          <a:srcRect l="0" t="3247" r="0" b="3247"/>
          <a:stretch/>
        </p:blipFill>
        <p:spPr>
          <a:xfrm>
            <a:off x="1219320" y="1143000"/>
            <a:ext cx="598176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0640" y="304200"/>
            <a:ext cx="77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nsibilidad y throughput versus Ancho de Banda del canal de ra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436760"/>
            <a:ext cx="83818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19880" y="151560"/>
            <a:ext cx="24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delo Radioenlac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5969160" cy="3111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95280" y="3690360"/>
            <a:ext cx="70106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érdida Espacio Libre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32,4 + 20Log10(Frecuencia MHz) + 20Log10(Distancia 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timación pérdida conecto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= 0.10 * raíz cuadrada (frecuencia en GHz); 0,5 dB/conector aproximadam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ñal recibid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=  Potencia transmitida - pérdidas en cables y conectores + ganancia antena de transmisión - pérdida de espacio libre + ganancia de antena del receptor -pérdidas en cable y conectores en el recep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argen ante desvanecimient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= Nivel de señal recibida – sensibilidad del receptor. Consideraremos un valor práctico entre 10dB y 15d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2857680" cy="438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124160" y="1121040"/>
            <a:ext cx="929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on d &gt; d</a:t>
            </a:r>
            <a:r>
              <a:rPr b="0" lang="en-US" sz="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65520" y="30492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O DE CAM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4200" y="1673280"/>
            <a:ext cx="481932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q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L = Pérdidas de propagación en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  = 20 log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4πd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γ    = a - bh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+ c/h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altura de la antena de la estación base sobre el nivel de sue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λ     = longitud de onda en 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,b y c segú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38080" y="3124080"/>
          <a:ext cx="2743200" cy="1128600"/>
        </p:xfrm>
        <a:graphic>
          <a:graphicData uri="http://schemas.openxmlformats.org/drawingml/2006/table">
            <a:tbl>
              <a:tblPr/>
              <a:tblGrid>
                <a:gridCol w="649440"/>
                <a:gridCol w="722160"/>
                <a:gridCol w="685800"/>
                <a:gridCol w="6858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á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eno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eno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eno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(m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(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167400" y="4342680"/>
            <a:ext cx="5160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rreno A: máximas pérdidas, terreno con cerros, densidad de follaje moderado a al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rreno B: terrenos planos con densidades moderadas a latas, o terrenos con cerro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aja densidad de árbol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rreno C: mínima pérdida de espacio libre, terreno plano, densidad ligera de árbo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480" y="5025960"/>
            <a:ext cx="25214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    = distancia a la estación base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100 m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73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62120" y="5486400"/>
            <a:ext cx="304560" cy="276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03680" y="5455440"/>
            <a:ext cx="31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95280" y="5410080"/>
            <a:ext cx="1009800" cy="419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426400" y="5474880"/>
            <a:ext cx="86976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f en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62120" y="5943600"/>
            <a:ext cx="285480" cy="190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03920" y="5755320"/>
            <a:ext cx="287640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  -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0.8log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/ 2000)    para terrenos tipo A y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.0log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/ 2000)    para terrenos tipo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28188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γ   =  altura sobre el nivel de piso de la Estación de Suscrip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73600" y="3428280"/>
            <a:ext cx="473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 =  es un factor de distribución que considera el efecto sombr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árboles y otros objetos y varía entre 8,2dB y 10,6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19320" y="1655640"/>
            <a:ext cx="25214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    = distancia a la estación base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100 m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304920" cy="276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60880" y="2635920"/>
            <a:ext cx="31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90720" y="2514600"/>
            <a:ext cx="1009440" cy="419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74120" y="2518560"/>
            <a:ext cx="8697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f en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52280" y="4114800"/>
            <a:ext cx="362160" cy="241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9480" y="4050000"/>
            <a:ext cx="845424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  -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0.8log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/ 2000)    para terrenos tipo A y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                -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.0log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/ 2000)    para terrenos tipo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altura sobre el nivel de piso de la Estación de Suscrip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3006"/>
              <a:buBlip>
                <a:blip r:embed="rId4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 =  es un factor de distribución que considera el efecto sombra de árboles y otros objetos y varía entre 8,2dB y 10,6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09680" y="228240"/>
            <a:ext cx="50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ancias máximas por tipo de mod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cuencia 3,5GHz; canal 3,5MHz;MF&gt;14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905120" y="1066680"/>
          <a:ext cx="554040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66680"/>
                    <a:ext cx="55404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89360" y="152280"/>
            <a:ext cx="442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tancias máximas por tipo de modu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recuencia 5,8 GHz; canal 10MHz; MF &gt;15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838080"/>
          <a:ext cx="549756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838080"/>
                    <a:ext cx="54975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16760" y="38016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as de Fr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1117440"/>
            <a:ext cx="8229600" cy="4413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1219320"/>
            <a:ext cx="9907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866960" y="304920"/>
          <a:ext cx="554184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304920"/>
                    <a:ext cx="554184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16440" y="197280"/>
            <a:ext cx="549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asa Bruta de Transmisión en Bandas Normalizadas por WiMAX (Mbps)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19320" y="762120"/>
          <a:ext cx="6060960" cy="2835000"/>
        </p:xfrm>
        <a:graphic>
          <a:graphicData uri="http://schemas.openxmlformats.org/drawingml/2006/table">
            <a:tbl>
              <a:tblPr/>
              <a:tblGrid>
                <a:gridCol w="760320"/>
                <a:gridCol w="633600"/>
                <a:gridCol w="755640"/>
                <a:gridCol w="755640"/>
                <a:gridCol w="788760"/>
                <a:gridCol w="789120"/>
                <a:gridCol w="789120"/>
                <a:gridCol w="7887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da Canal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 Canal (M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14400" y="4266360"/>
            <a:ext cx="947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No considera encabezamientos de MAC, preámbulos ni ARQ, solo FE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lación Tiempo Guarda / Tiempo símbolo útil G = 1/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49240" y="425880"/>
            <a:ext cx="538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asa Neta de Transmisión en Bandas Normalizadas por WiMAX (Mbps)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1066680"/>
          <a:ext cx="6060960" cy="2835360"/>
        </p:xfrm>
        <a:graphic>
          <a:graphicData uri="http://schemas.openxmlformats.org/drawingml/2006/table">
            <a:tbl>
              <a:tblPr/>
              <a:tblGrid>
                <a:gridCol w="760320"/>
                <a:gridCol w="633600"/>
                <a:gridCol w="755640"/>
                <a:gridCol w="755640"/>
                <a:gridCol w="788760"/>
                <a:gridCol w="789120"/>
                <a:gridCol w="789120"/>
                <a:gridCol w="7887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da Canal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 Canal (M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,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,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296000" y="4266360"/>
            <a:ext cx="40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Estima MAC en 10% de la capacidad disponi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lación Tiempo Guarda / Tiempo símbolo útil = 1/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14680" y="1371600"/>
            <a:ext cx="6514920" cy="488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976120" y="68580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mplo uso WiMax en VI Reg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940280" cy="163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438280" y="1143000"/>
            <a:ext cx="4813560" cy="1530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124080" y="5181480"/>
            <a:ext cx="3565800" cy="1131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505320" y="22860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OS TIP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200"/>
            <a:ext cx="78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ctro bandas licenciadas y no licenciadas sistemas WiFi y Wi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1725480"/>
            <a:ext cx="845820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5360" y="532800"/>
            <a:ext cx="31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ructura Sistema Wi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96916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20240" y="4564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ción de Suscrip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066680"/>
          <a:ext cx="6858000" cy="208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685800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1866960" cy="1701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895480" y="3505320"/>
            <a:ext cx="1384560" cy="1676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419720" y="3200400"/>
            <a:ext cx="18414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6095880" y="3124080"/>
            <a:ext cx="2146320" cy="234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58640" y="5751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  I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9640" y="579132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 ex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295280" y="228600"/>
          <a:ext cx="6438960" cy="173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"/>
                    <a:ext cx="643896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914400" y="1066680"/>
          <a:ext cx="6629400" cy="1193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066680"/>
                    <a:ext cx="66294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371600" y="2666880"/>
            <a:ext cx="863640" cy="314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809880" y="3048120"/>
            <a:ext cx="298476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05480" y="456840"/>
            <a:ext cx="47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tramas de Bajada y Subida en Wi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596916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7600" y="53280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tramas de Bajada y Subida Duplex T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59688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47920" y="380520"/>
            <a:ext cx="53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tramas de Bajada y Subida con duplex FD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58928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02:18:02Z</dcterms:created>
  <dc:creator>Jorge Fritis</dc:creator>
  <dc:description/>
  <dc:language>en-US</dc:language>
  <cp:lastModifiedBy>Jorge Fritis</cp:lastModifiedBy>
  <dcterms:modified xsi:type="dcterms:W3CDTF">2008-09-12T02:19:52Z</dcterms:modified>
  <cp:revision>8</cp:revision>
  <dc:subject/>
  <dc:title>Diapositiva 1</dc:title>
</cp:coreProperties>
</file>