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29.wmf" ContentType="image/x-wmf"/>
  <Override PartName="/ppt/media/image3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B62-19B0-4797-936F-36D428C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416-713F-4698-B013-6E3C18A7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EAF-FD07-4ED9-99CB-87DF1468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E1E-071C-496E-874F-067C635C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950-B093-4234-8F16-08D8DBBB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6CB-DF37-47F8-9D0D-A0AC7105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AEF-6772-4997-BD82-6EF24987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13B-BC94-4FCD-875B-357EE039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745-4CEF-4EFE-AD95-B039CA3C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4B4-6159-460A-BAB7-475F234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62D-C16D-420E-A508-DE278B00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B9B-06EF-4098-B943-3008DB5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28AC-C47F-4F4C-979F-891AF32F5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22400" y="550800"/>
          <a:ext cx="7369200" cy="60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550800"/>
                    <a:ext cx="73692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362320" y="0"/>
          <a:ext cx="47242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4724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652760" y="6019200"/>
            <a:ext cx="654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topología punto multipunto de la figura también puede ser con tecnología WiMax 802.16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0"/>
            <a:ext cx="371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nto Multipunto WiFi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0"/>
          <a:ext cx="56386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0"/>
                    <a:ext cx="5638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352680" y="0"/>
            <a:ext cx="3733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 en Malla WiFi o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7120" y="6087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ciones de alcance 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76520" y="1295280"/>
          <a:ext cx="596880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9688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7720" y="227880"/>
            <a:ext cx="67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ción de modulación según distancia a la Estació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95000"/>
          </a:blip>
          <a:srcRect l="0" t="3247" r="0" b="3247"/>
          <a:stretch/>
        </p:blipFill>
        <p:spPr>
          <a:xfrm>
            <a:off x="1219320" y="1143000"/>
            <a:ext cx="59817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0640" y="30420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ibilidad y throughput versus Ancho de Banda del canal de ra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436760"/>
            <a:ext cx="83818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19880" y="151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o Radioenlac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969160" cy="3111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5280" y="3690360"/>
            <a:ext cx="7010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érdida Espacio Libr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32,4 + 20Log10(Frecuencia MHz) + 20Log10(Distancia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imación pérdida conecto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0.10 * raíz cuadrada (frecuencia en GHz); 0,5 dB/conector aproximadam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ñal recibid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=  Potencia transmitida - pérdidas en cables y conectores + ganancia antena de transmisión - pérdida de espacio libre + ganancia de antena del receptor -pérdidas en cable y conectores en el recep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rgen ante desvanecimient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Nivel de señal recibida – sensibilidad del receptor. Consideraremos un valor práctico entre 10dB y 15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857680" cy="43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24160" y="1121040"/>
            <a:ext cx="929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 d &gt; d</a:t>
            </a:r>
            <a:r>
              <a:rPr b="0" lang="en-US" sz="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5520" y="30492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DE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200" y="1673280"/>
            <a:ext cx="48193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L = Pérdidas de propagación en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  = 20 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πd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    = a - b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c/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altura de la antena de la estación base sobre el nivel de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     = longitud de onda e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b y c segú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3124080"/>
          <a:ext cx="2743200" cy="1128600"/>
        </p:xfrm>
        <a:graphic>
          <a:graphicData uri="http://schemas.openxmlformats.org/drawingml/2006/table">
            <a:tbl>
              <a:tblPr/>
              <a:tblGrid>
                <a:gridCol w="649440"/>
                <a:gridCol w="722160"/>
                <a:gridCol w="685800"/>
                <a:gridCol w="6858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(m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7400" y="4342680"/>
            <a:ext cx="516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A: máximas pérdidas, terreno con cerros, densidad de follaje moderado a 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B: terrenos planos con densidades moderadas a latas, o terrenos con cerr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densidad de árbo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C: mínima pérdida de espacio libre, terreno plano, densidad ligera de árbo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480" y="502596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304560" cy="27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3680" y="545544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1009800" cy="41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26400" y="5474880"/>
            <a:ext cx="8697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285480" cy="19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03920" y="5755320"/>
            <a:ext cx="28764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28188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γ   =  altura sobre el nivel de piso de la 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73600" y="3428280"/>
            <a:ext cx="473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 =  es un factor de distribución que considera el efecto sombr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320" y="165564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0880" y="263592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1009440" cy="41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74120" y="2518560"/>
            <a:ext cx="869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62160" cy="24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9480" y="4050000"/>
            <a:ext cx="8454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            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altura sobre el nivel de piso de la Estación de Suscrip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=  es un factor de distribución que considera el efecto sombra de 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22824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cuencia 3,5GHz; canal 3,5MHz;MF&gt;14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5120" y="1066680"/>
          <a:ext cx="554040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540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9360" y="152280"/>
            <a:ext cx="442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recuencia 5,8 GHz; canal 10MHz; MF &gt;15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838080"/>
          <a:ext cx="54975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497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6760" y="3801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as de Fr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8229600" cy="441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219320"/>
            <a:ext cx="99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866960" y="304920"/>
          <a:ext cx="554184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304920"/>
                    <a:ext cx="55418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6440" y="197280"/>
            <a:ext cx="54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Bru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19320" y="762120"/>
          <a:ext cx="6060960" cy="283500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14400" y="4266360"/>
            <a:ext cx="947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No considera encabezamientos de MAC, preámbulos ni ARQ, solo FE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G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49240" y="425880"/>
            <a:ext cx="538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Ne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066680"/>
          <a:ext cx="6060960" cy="283536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296000" y="4266360"/>
            <a:ext cx="40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Estima MAC en 10% de la capacidad dispon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6514920" cy="488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6120" y="6858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uso WiMax en VI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40280" cy="163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481356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124080" y="5181480"/>
            <a:ext cx="3565800" cy="11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22860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TI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200"/>
            <a:ext cx="78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 bandas licenciadas y no licenciadas sistemas WiFi y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725480"/>
            <a:ext cx="84582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5360" y="53280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 Sistema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691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0240" y="4564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6858000" cy="20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8580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186696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3505320"/>
            <a:ext cx="138456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3200400"/>
            <a:ext cx="18414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095880" y="3124080"/>
            <a:ext cx="2146320" cy="234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58640" y="575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9640" y="57913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295280" y="228600"/>
          <a:ext cx="643896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4389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14400" y="1066680"/>
          <a:ext cx="6629400" cy="1193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6629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371600" y="2666880"/>
            <a:ext cx="863640" cy="314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09880" y="3048120"/>
            <a:ext cx="29847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480" y="45684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en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5969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7600" y="5328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Duplex T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59688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380520"/>
            <a:ext cx="53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con duplex F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5892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2:18:02Z</dcterms:created>
  <dc:creator>Jorge Fritis</dc:creator>
  <dc:description/>
  <dc:language>en-US</dc:language>
  <cp:lastModifiedBy>Jorge Fritis</cp:lastModifiedBy>
  <dcterms:modified xsi:type="dcterms:W3CDTF">2008-09-12T02:19:52Z</dcterms:modified>
  <cp:revision>8</cp:revision>
  <dc:subject/>
  <dc:title>Diapositiva 1</dc:title>
</cp:coreProperties>
</file>