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937-3766-43D9-932A-A353808C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A76-04F1-4C98-95D1-8204EDA5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D38-08C4-4970-B22E-F7E8DA53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08E-C809-42D4-9C56-D0A6110C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0BD-555B-4C05-9168-5683B647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0D6-3FD2-4681-AE70-D9DBBBE5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235-A970-4317-B9CF-F96474A1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E43-CBC5-4F5D-88E9-47D1620E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8EA-D6F7-4369-918E-6EC6D3AF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78B-1C30-472E-BEED-993FE8D6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55D-0A8F-4407-AE92-C61B8AEA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1CE-3B36-4AAF-8B55-CA044966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EDE7-D8DC-4A36-B3E4-DF0332E4A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6560" y="37980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ización de la banda anc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44480" y="1218240"/>
            <a:ext cx="53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cho de Banda (bps)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rresponde a la tasa de transfer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ruta de bits que soporta el sistema de transm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2680" y="1857600"/>
            <a:ext cx="575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tardo o Latencia (ms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Es el tiempo que toma un paquete en viaj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un punto emisor a un punto recept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5920" y="2437200"/>
            <a:ext cx="434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Jitter (ms)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[9] Corresponde a variaciones de ret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un período de tiempo da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8720" y="2970720"/>
            <a:ext cx="66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érdida de Paquetes (%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sponde a los paquetes que por distintos mo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llegan a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0440" y="3656520"/>
            <a:ext cx="82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hroughput o flujo de datos(bps)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 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tasa de transferencia neta de datos confiab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11480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cuenciamiento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ntrega de paquetes fuera de or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16120" y="4646880"/>
            <a:ext cx="613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es (%)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 expresa como porcentaje de paquetes erróneos recibi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relación a paquetes correctamente enviad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920" y="41184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es de Servic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71600" y="1295280"/>
          <a:ext cx="6781320" cy="4952880"/>
        </p:xfrm>
        <a:graphic>
          <a:graphicData uri="http://schemas.openxmlformats.org/drawingml/2006/table">
            <a:tbl>
              <a:tblPr/>
              <a:tblGrid>
                <a:gridCol w="1757520"/>
                <a:gridCol w="999000"/>
                <a:gridCol w="999000"/>
                <a:gridCol w="1049400"/>
                <a:gridCol w="900000"/>
                <a:gridCol w="10764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B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a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érdida de Paque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jo da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foní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confre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Multi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ulación de Circui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 de arch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vegación Intern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ones críticas (cirugí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y Ba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ión Crí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Come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ontrol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7000" y="680760"/>
            <a:ext cx="868320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ases de servicios má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.-Tasa de transferencia garantizada o UG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Unsolicited Grant Services) o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Continuos Gran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n a aquellos que envían paquetes de largo fijo en intervalos periódicos como por ejemplo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oz  sin supresión de silencios o la emulación de circuitos no canalizados E1. Este servicio es equival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 CIR (Committed Information Rate) de AT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-Servicios con solicitud de tiempo real o rtP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real time Polling Servic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n a servicios que generan paquetes de largo variable sobre una base periódica y ret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áximo acotado, como por ejemplo la transmisión de voz IP con supresión de silencios, o el video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rmato MP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.-Servicios con solicitud de tiempo no real o nrtP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non real time Polling Servic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responden a servicios con altas tasas de transferencias que ocurren en tiempo no real, como p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jemplo transferencias de archivos FTP, pero que están acotados a un retardo máximo y capacidad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misión míni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-Mejor esfuerzo o BE (Best Effort)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Corresponde a tráfico que es transferido según la disponibilidad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pacidad remanente de las clases de servicios anteriores. Por ejemplo, tráfico http de navegación e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eb o de correo SM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22040" y="227160"/>
            <a:ext cx="30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ases de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762120"/>
          <a:ext cx="6062760" cy="5289480"/>
        </p:xfrm>
        <a:graphic>
          <a:graphicData uri="http://schemas.openxmlformats.org/drawingml/2006/table">
            <a:tbl>
              <a:tblPr/>
              <a:tblGrid>
                <a:gridCol w="1554120"/>
                <a:gridCol w="790560"/>
                <a:gridCol w="581040"/>
                <a:gridCol w="2057400"/>
                <a:gridCol w="1079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Re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 de 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 de Banda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GS; 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efonía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 6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con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- 38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egos inter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últiples Jugadores en 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85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de Mú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úsica y v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– 128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de V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y videocli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bps – 1M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aming de pelícu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o a películas bajo ped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M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arga de Conten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rt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o a archiv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28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vegación 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ta a páginas w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28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vío corre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vío de mai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28Kb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nques E1 emul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nques PB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2M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nques n x 64Kbps emul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ulación circuitos n x 6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n x 64Kb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534680" y="612072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 Medido a la salida del Co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2320" y="608760"/>
            <a:ext cx="43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isión de Banda Ancha vía WiMA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56520"/>
            <a:ext cx="79246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acterística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WiMAX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tiliza dos capas del modelo OSI: La capa física o PHY correspondiente al nivel 1, la  de control de acceso al medio físico o MAC de nivel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C en WiMAX opera como protocolo universal en el sentido que es capaz de interactuar con diferentes capas PHY’s de nivel 1. La selección de la capa PHY a utilizar dependerá de las condiciones del entorno en que deberá operar el sistem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C se basó en los protocolos utilizados en DOCSIS para el acceso a los abonados de TV Cable bajo un ambiente compartido en que se administra el flujo de datos (throughput) de cada usu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 WiMAX existen adicionalmente otras complejidades, puesto que el canal de transmisión a compartir posee throughput variable, ya que el medio de propagación es esencialmente cambiante, ya sea por condiciones de propagación o por la modulación a emplear, función de la ubicación de cada suscriptor. MAC es un protocolo orientado a conexión que adapta los datos a ser enviados a las condiciones de la capa PHY. Previo a la transferencia de los datos, WiMAX diferencia los servicios y los clasifica dentro de las cuatro Clases de Servicios básicas ya mencionadas, utilizando mecanismos que permiten garantizar rangos de parámetros de transmisión  según el tipo de aplicac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C provee seguridad de acceso a las estaciones de suscriptor y funciones de convergencia ATM para redes de paquetes y sistemas multiacceso de cel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0760" y="228600"/>
            <a:ext cx="503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ales diferencias Sistemas de Banda An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95280" y="838080"/>
          <a:ext cx="6086520" cy="4175280"/>
        </p:xfrm>
        <a:graphic>
          <a:graphicData uri="http://schemas.openxmlformats.org/drawingml/2006/table">
            <a:tbl>
              <a:tblPr/>
              <a:tblGrid>
                <a:gridCol w="1089000"/>
                <a:gridCol w="806400"/>
                <a:gridCol w="609840"/>
                <a:gridCol w="453960"/>
                <a:gridCol w="758880"/>
                <a:gridCol w="857160"/>
                <a:gridCol w="885600"/>
                <a:gridCol w="625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pacid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T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tos Inver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lexibil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tos Opera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c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bras óp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on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 C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F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telit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SL2, 2+, +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DSL, VDSL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1293120" y="5105160"/>
            <a:ext cx="45514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: Muy Alto;  A: Alto;  R: Regular;  B: Baj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hroughpu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idad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Qo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TM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iempo de Implementación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stos Inversión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Nuevas instalaciones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stos Operativos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Operación, Mantención y Reparación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ilidad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Servicios diferentes, atención nueva demanda en sector nuevo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Longitud del bucle de abon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uente: Tesis de grado Carlos Su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5520" y="304200"/>
            <a:ext cx="36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NDARIZACIÓN DE W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iMAX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217880"/>
            <a:ext cx="74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ldwide Interoperability for Microwave Access”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ste organismo cuenta con más de 340 integrantes de las más importantes compañías fabricantes de equipos de telecomunicaciones, de circuitos integrados y proveedores de servicios del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055960"/>
            <a:ext cx="6400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WiMAX Forum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y s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boratorios de homologación asociados se convirtieron en el referente mundial para la estandarización de sistemas inalámbricos de banda ancha para topologías de acceso fijo punto-multipunto y en malla, y móviles. WiMAX Forum ha trabajado con el IEEE y con ETSI para generar máxima compatibilidad de las respectivas norm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3880" y="3245400"/>
            <a:ext cx="66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iMAX se basa en un subconjunto de opciones especificadas principa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la norma IEEE 802.16 y adoptadas también por ETSI en su norma HiperMA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961080"/>
            <a:ext cx="701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a que equipos producidos por un fabricante puedan ser oficialmente calificados “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WiMAX Forum Certified™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ben satisfacer simultáneamente dos requisit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formidad con estándar IEEE 802.16 e HiperM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roperabilidad con al menos otros dos fabric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4:16:51Z</dcterms:created>
  <dc:creator>Jorge Fritis</dc:creator>
  <dc:description/>
  <dc:language>en-US</dc:language>
  <cp:lastModifiedBy>Jorge Fritis</cp:lastModifiedBy>
  <dcterms:modified xsi:type="dcterms:W3CDTF">2007-05-11T15:07:53Z</dcterms:modified>
  <cp:revision>3</cp:revision>
  <dc:subject/>
  <dc:title>Diapositiva 1</dc:title>
</cp:coreProperties>
</file>