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13D-3397-4762-BFC8-EB69B2EA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470-9EA6-4DE2-998B-182DA53B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EA5-8F5D-4C1C-AE2B-4CF1C6F6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704-C42E-4C21-898D-B8B0D67F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B31-484B-421A-8EC7-3196A5AB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784-5555-4952-98F0-E598885B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B37-4D78-479E-98F8-0497868B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64D-C2DC-42DA-80B5-BF16C3C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309-9658-4BBE-83A9-280F06AB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969-45F1-4AC7-9592-3E95DBE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AA4-40FF-40D7-841C-43ABED8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B81-A4B3-4345-9E4A-9F838C0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1148-9F70-49C1-89B8-AD8BCC8ED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6560" y="37980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zación de la banda anc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4480" y="121824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cho de Banda (bps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rresponde a la tasa de transfer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ruta de bits que soporta el sistema de transm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2680" y="1857600"/>
            <a:ext cx="57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ardo o Latencia (ms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Es el tiempo que toma un paquete en via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un punto emisor a un punto recept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5920" y="2437200"/>
            <a:ext cx="43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itter (ms)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[9] Corresponde a variaciones de ret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un período de tiempo d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720" y="2970720"/>
            <a:ext cx="66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érdida de Paquetes (%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 a los paquetes que por distintos mo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llegan a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0440" y="3656520"/>
            <a:ext cx="82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hroughput o flujo de datos(bps)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 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tasa de transferencia neta de datos confiab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1148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uenciamiento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trega de paquetes fuera de o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6120" y="4646880"/>
            <a:ext cx="61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es (%)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 expresa como porcentaje de paquetes erróneos recib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relación a paquetes correctamente envia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920" y="4118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es de Servic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1295280"/>
          <a:ext cx="6781320" cy="4952880"/>
        </p:xfrm>
        <a:graphic>
          <a:graphicData uri="http://schemas.openxmlformats.org/drawingml/2006/table">
            <a:tbl>
              <a:tblPr/>
              <a:tblGrid>
                <a:gridCol w="1757520"/>
                <a:gridCol w="999000"/>
                <a:gridCol w="999000"/>
                <a:gridCol w="1049400"/>
                <a:gridCol w="900000"/>
                <a:gridCol w="10764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B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a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dida de Paque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jo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foní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r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Multi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ulación de Circui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 de arch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vegación Inte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ones críticas (cirugí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ión Crí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Come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7000" y="680760"/>
            <a:ext cx="868320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ses de servicios má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-Tasa de transferencia garantizada o UG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Unsolicited Grant Services) 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Continuos Gra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aquellos que envían paquetes de largo fijo en intervalos periódicos como por ejemplo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oz  sin supresión de silencios o la emulación de circuitos no canalizados E1. Este servicio es equival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CIR (Committed Information Rate) de AT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-Servicios con solicitud de tiempo real o rtP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real time Polling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servicios que generan paquetes de largo variable sobre una base periódica y ret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áximo acotado, como por ejemplo la transmisión de voz IP con supresión de silencios, o el video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to MP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-Servicios con solicitud de tiempo no real o nrtP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non real time Polling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servicios con altas tasas de transferencias que ocurren en tiempo no real, como p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emplo transferencias de archivos FTP, pero que están acotados a un retardo máximo y capacidad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misión míni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-Mejor esfuerzo o BE (Best Effort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rresponde a tráfico que es transferido según la disponibilidad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pacidad remanente de las clases de servicios anteriores. Por ejemplo, tráfico http de navegación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eb o de correo SM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22040" y="227160"/>
            <a:ext cx="30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e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762120"/>
          <a:ext cx="6062760" cy="5289480"/>
        </p:xfrm>
        <a:graphic>
          <a:graphicData uri="http://schemas.openxmlformats.org/drawingml/2006/table">
            <a:tbl>
              <a:tblPr/>
              <a:tblGrid>
                <a:gridCol w="1554120"/>
                <a:gridCol w="790560"/>
                <a:gridCol w="581040"/>
                <a:gridCol w="2057400"/>
                <a:gridCol w="1079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R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de Banda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; 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fonía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- 38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egos inter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ltiples Jugadores en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85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Mú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sica y v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y videocl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ps – 1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pelícu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o a películas bajo ped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arga de Conten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o a archiv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vegación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ta a páginas w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ío corre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ío de m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28Kb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E1 emu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PB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2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n x 64Kbps emu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ulación circuitos n x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n x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34680" y="612072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 Medido a la salida del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2320" y="60876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isión de Banda Ancha vía WiMA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56520"/>
            <a:ext cx="79246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tiliza dos capas del modelo OSI: La capa física o PHY correspondiente al nivel 1, la  de control de acceso al medio físico o MAC de nivel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en WiMAX opera como protocolo universal en el sentido que es capaz de interactuar con diferentes capas PHY’s de nivel 1. La selección de la capa PHY a utilizar dependerá de las condiciones del entorno en que deberá operar 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se basó en los protocolos utilizados en DOCSIS para el acceso a los abonados de TV Cable bajo un ambiente compartido en que se administra el flujo de datos (throughput) de cada usu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 WiMAX existen adicionalmente otras complejidades, puesto que el canal de transmisión a compartir posee throughput variable, ya que el medio de propagación es esencialmente cambiante, ya sea por condiciones de propagación o por la modulación a emplear, función de la ubicación de cada suscriptor. MAC es un protocolo orientado a conexión que adapta los datos a ser enviados a las condiciones de la capa PHY. Previo a la transferencia de los datos, WiMAX diferencia los servicios y los clasifica dentro de las cuatro Clases de Servicios básicas ya mencionadas, utilizando mecanismos que permiten garantizar rangos de parámetros de transmisión  según el tipo de apli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provee seguridad de acceso a las estaciones de suscriptor y funciones de convergencia ATM para redes de paquetes y sistemas multiacceso de cel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0760" y="228600"/>
            <a:ext cx="50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es diferencias Sistemas de Banda An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95280" y="838080"/>
          <a:ext cx="6086520" cy="4175280"/>
        </p:xfrm>
        <a:graphic>
          <a:graphicData uri="http://schemas.openxmlformats.org/drawingml/2006/table">
            <a:tbl>
              <a:tblPr/>
              <a:tblGrid>
                <a:gridCol w="1089000"/>
                <a:gridCol w="806400"/>
                <a:gridCol w="609840"/>
                <a:gridCol w="453960"/>
                <a:gridCol w="758880"/>
                <a:gridCol w="857160"/>
                <a:gridCol w="885600"/>
                <a:gridCol w="62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paci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T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s Inver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lexibi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c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as óp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on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 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F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elit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SL2, 2+, 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SL, VDSL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293120" y="5105160"/>
            <a:ext cx="45514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: Muy Alto;  A: Alto;  R: Regular;  B: Baj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hroughpu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Qo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TM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iempo de Implementació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stos Inversión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Nuevas instalacione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stos Operativos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ión, Mantención y Reparació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il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Servicios diferentes, atención nueva demanda en sector nuev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itud del bucle de abon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 Tesis de grado Carlos Su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5520" y="304200"/>
            <a:ext cx="36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NDARIZACIÓN DE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iMAX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21788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ldwide Interoperability for Microwave Access”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ste organismo cuenta con más de 340 integrantes de las más importantes compañías fabricantes de equipos de telecomunicaciones, de circuitos integrados y proveedores de servicios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055960"/>
            <a:ext cx="6400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 Foru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s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boratorios de homologación asociados se convirtieron en el referente mundial para la estandarización de sistemas inalámbricos de banda ancha para topologías de acceso fijo punto-multipunto y en malla, y móviles. WiMAX Forum ha trabajado con el IEEE y con ETSI para generar máxima compatibilidad de las respectivas norm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3880" y="3245400"/>
            <a:ext cx="66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iMAX se basa en un subconjunto de opciones especificadas princip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 norma IEEE 802.16 y adoptadas también por ETSI en su norma HiperM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96108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que equipos producidos por un fabricante puedan ser oficialmente calificados “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 Forum Certified™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ben satisfacer simultáneamente dos requis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formidad con estándar IEEE 802.16 e Hiper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operabilidad con al menos otros dos fabric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4:16:51Z</dcterms:created>
  <dc:creator>Jorge Fritis</dc:creator>
  <dc:description/>
  <dc:language>en-US</dc:language>
  <cp:lastModifiedBy>Jorge Fritis</cp:lastModifiedBy>
  <dcterms:modified xsi:type="dcterms:W3CDTF">2007-05-11T15:07:53Z</dcterms:modified>
  <cp:revision>3</cp:revision>
  <dc:subject/>
  <dc:title>Diapositiva 1</dc:title>
</cp:coreProperties>
</file>