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9.wmf" ContentType="image/x-wmf"/>
  <Override PartName="/ppt/media/image31.png" ContentType="image/png"/>
  <Override PartName="/ppt/media/image29.png" ContentType="image/png"/>
  <Override PartName="/ppt/media/image35.jpeg" ContentType="image/jpeg"/>
  <Override PartName="/ppt/media/image5.png" ContentType="image/png"/>
  <Override PartName="/ppt/media/image8.wmf" ContentType="image/x-wmf"/>
  <Override PartName="/ppt/media/image37.wmf" ContentType="image/x-wmf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138-B60F-4390-89BC-C4897CC2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551-8120-4080-BE0E-7A45FD2C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52C-6D5D-4253-AFC2-E54ED29F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8C4-738A-4ED3-902D-5387E43E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76F-4040-49A7-901D-FA41F095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D46-076A-4B65-A3F1-DA66E704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381-97DF-48F2-9696-AB8E4210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390-246D-4BAB-BF9E-80D6A14F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BA4-0BA0-4429-BC11-971EA2E3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D0D-59E5-4D96-9A5C-0C97CBBD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D83-7495-4BD1-A328-A5FB6C23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1F9-7055-4610-9C78-ACA2139A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4137-4885-4502-9CDC-EEFA0E28F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8305920" cy="62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83059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380880"/>
            <a:ext cx="8305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pectro Electro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09588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1828800"/>
          <a:ext cx="8382240" cy="91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80880" y="2971800"/>
          <a:ext cx="5448600" cy="6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5448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80880" y="4038480"/>
          <a:ext cx="2514600" cy="646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25146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516320" y="34596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ESTÁNDARES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7680" y="1122480"/>
            <a:ext cx="6932520" cy="51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87520" y="395280"/>
            <a:ext cx="79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 EN INTERIORES EN LAS BANDAS DE 2,4 GHz y 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62000" y="-477720"/>
            <a:ext cx="8820000" cy="2865240"/>
            <a:chOff x="162000" y="-477720"/>
            <a:chExt cx="8820000" cy="2865240"/>
          </a:xfrm>
        </p:grpSpPr>
        <p:sp>
          <p:nvSpPr>
            <p:cNvPr id="171" name=""/>
            <p:cNvSpPr/>
            <p:nvPr/>
          </p:nvSpPr>
          <p:spPr>
            <a:xfrm>
              <a:off x="162000" y="-477720"/>
              <a:ext cx="41133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75360" y="-477720"/>
              <a:ext cx="470664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0" y="-477720"/>
            <a:ext cx="360" cy="2865600"/>
            <a:chOff x="0" y="-477720"/>
            <a:chExt cx="360" cy="2865600"/>
          </a:xfrm>
        </p:grpSpPr>
        <p:sp>
          <p:nvSpPr>
            <p:cNvPr id="174" name=""/>
            <p:cNvSpPr/>
            <p:nvPr/>
          </p:nvSpPr>
          <p:spPr>
            <a:xfrm>
              <a:off x="0" y="-477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238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6840" y="38088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CANCE OBTENIDO CON ANTENAS EN E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d" descr=""/>
          <p:cNvPicPr/>
          <p:nvPr/>
        </p:nvPicPr>
        <p:blipFill>
          <a:blip r:embed="rId1"/>
          <a:stretch/>
        </p:blipFill>
        <p:spPr>
          <a:xfrm>
            <a:off x="690480" y="552600"/>
            <a:ext cx="8013960" cy="615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05320" y="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COLEGIOS V REGIÓN (UTFS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Despliegetemuco" descr=""/>
          <p:cNvPicPr/>
          <p:nvPr/>
        </p:nvPicPr>
        <p:blipFill>
          <a:blip r:embed="rId1"/>
          <a:stretch/>
        </p:blipFill>
        <p:spPr>
          <a:xfrm>
            <a:off x="1370160" y="522360"/>
            <a:ext cx="6594480" cy="633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04120" y="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TEMUCO (U de La Fron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10840" y="307800"/>
            <a:ext cx="8170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FERENCIAS ENTRE BLUETOOTH y Wi Fi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" y="4278240"/>
            <a:ext cx="8637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y BLUETOOTH USAN LOS 83 MHz ASIGNADOS EN LA BANDA DE 2,4 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BLUETOOTH USA 79 SALTOS DE FRECUENCIAS CADA 1 MHz EN LA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USA ESPECTRO ENSANCHADO POR SECUENCIA DIRECTA CON PORT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 22 MHz DE ANCHO, EXISTIENDO 11 PORTADORAS SUPERPUESTAS EN LOS 83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PUEDEN OPERAR MAS DE TRES HOT SPOT Wi Fi EN LA CERCAN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 Fi UTILIZA AUTOMATIC REPEAT REQUEST (ARQ). FRENTE A INTERFER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SUME QUE HAY OTRA ESTACIÓN EN LA CERCANÍA Y RETRANSMITE LA DATA D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5,5; 2 y 1 MHz. LA DATA NO SE PIERDE PERO PUEDE LLEGAR A SER INTOLERABL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MO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146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wifi_interference" descr=""/>
          <p:cNvPicPr/>
          <p:nvPr/>
        </p:nvPicPr>
        <p:blipFill>
          <a:blip r:embed="rId1"/>
          <a:stretch/>
        </p:blipFill>
        <p:spPr>
          <a:xfrm>
            <a:off x="1765440" y="858960"/>
            <a:ext cx="5715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990720" y="1295280"/>
            <a:ext cx="7575480" cy="4463640"/>
            <a:chOff x="990720" y="1295280"/>
            <a:chExt cx="7575480" cy="4463640"/>
          </a:xfrm>
        </p:grpSpPr>
        <p:grpSp>
          <p:nvGrpSpPr>
            <p:cNvPr id="187" name=""/>
            <p:cNvGrpSpPr/>
            <p:nvPr/>
          </p:nvGrpSpPr>
          <p:grpSpPr>
            <a:xfrm>
              <a:off x="1619280" y="2363760"/>
              <a:ext cx="5428800" cy="3112560"/>
              <a:chOff x="1619280" y="2363760"/>
              <a:chExt cx="5428800" cy="3112560"/>
            </a:xfrm>
          </p:grpSpPr>
          <p:sp>
            <p:nvSpPr>
              <p:cNvPr id="188" name=""/>
              <p:cNvSpPr/>
              <p:nvPr/>
            </p:nvSpPr>
            <p:spPr>
              <a:xfrm>
                <a:off x="2911320" y="2811240"/>
                <a:ext cx="3003480" cy="133920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13720" y="2584800"/>
                <a:ext cx="4174200" cy="212904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19280" y="2363760"/>
                <a:ext cx="5428800" cy="311256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598920" y="1474560"/>
              <a:ext cx="498960" cy="92160"/>
              <a:chOff x="3598920" y="1474560"/>
              <a:chExt cx="498960" cy="921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598920" y="1474560"/>
                <a:ext cx="498960" cy="92160"/>
                <a:chOff x="3598920" y="1474560"/>
                <a:chExt cx="498960" cy="921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3598920" y="1474560"/>
                  <a:ext cx="498960" cy="92160"/>
                  <a:chOff x="3598920" y="1474560"/>
                  <a:chExt cx="498960" cy="921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3602520" y="1503360"/>
                    <a:ext cx="48492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598920" y="1474560"/>
                    <a:ext cx="498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0">
                        <a:moveTo>
                          <a:pt x="0" y="19"/>
                        </a:moveTo>
                        <a:lnTo>
                          <a:pt x="277" y="19"/>
                        </a:lnTo>
                        <a:lnTo>
                          <a:pt x="251" y="0"/>
                        </a:lnTo>
                        <a:lnTo>
                          <a:pt x="29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>
                  <a:off x="3615120" y="1492920"/>
                  <a:ext cx="470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36763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2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78560" y="1526760"/>
                <a:ext cx="126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39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94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6320" y="1526760"/>
                <a:ext cx="32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01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235240" y="17334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560" y="1630080"/>
              <a:ext cx="95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witch/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81600" y="4860720"/>
              <a:ext cx="1901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USB-2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U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61000" y="15620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4592160" y="5500440"/>
              <a:ext cx="1731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2897280" y="1295280"/>
              <a:ext cx="3682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333440" y="3111120"/>
              <a:ext cx="1843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CC-2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C 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90720" y="2176200"/>
              <a:ext cx="1332000" cy="1003320"/>
              <a:chOff x="990720" y="2176200"/>
              <a:chExt cx="1332000" cy="100332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1938600" y="2974680"/>
                <a:ext cx="299880" cy="173160"/>
                <a:chOff x="1938600" y="2974680"/>
                <a:chExt cx="299880" cy="17316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1938600" y="2974680"/>
                  <a:ext cx="295920" cy="148320"/>
                  <a:chOff x="1938600" y="2974680"/>
                  <a:chExt cx="295920" cy="148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2135880" y="2974680"/>
                    <a:ext cx="9864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938600" y="3101040"/>
                    <a:ext cx="9828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2033640" y="2996640"/>
                    <a:ext cx="197280" cy="12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1941840" y="3125880"/>
                  <a:ext cx="98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036880" y="3021480"/>
                  <a:ext cx="19764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38480" y="2996640"/>
                  <a:ext cx="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2176200"/>
                <a:ext cx="1332000" cy="100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1" name=""/>
            <p:cNvSpPr/>
            <p:nvPr/>
          </p:nvSpPr>
          <p:spPr>
            <a:xfrm>
              <a:off x="3214800" y="1542960"/>
              <a:ext cx="519120" cy="438120"/>
            </a:xfrm>
            <a:custGeom>
              <a:avLst/>
              <a:gdLst/>
              <a:ahLst/>
              <a:rect l="l" t="t" r="r" b="b"/>
              <a:pathLst>
                <a:path w="282" h="366">
                  <a:moveTo>
                    <a:pt x="282" y="0"/>
                  </a:moveTo>
                  <a:lnTo>
                    <a:pt x="282" y="366"/>
                  </a:lnTo>
                  <a:lnTo>
                    <a:pt x="0" y="3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532320" y="4808160"/>
              <a:ext cx="1179000" cy="950760"/>
              <a:chOff x="3532320" y="4808160"/>
              <a:chExt cx="1179000" cy="950760"/>
            </a:xfrm>
          </p:grpSpPr>
          <p:sp>
            <p:nvSpPr>
              <p:cNvPr id="223" name=""/>
              <p:cNvSpPr/>
              <p:nvPr/>
            </p:nvSpPr>
            <p:spPr>
              <a:xfrm>
                <a:off x="3532320" y="5532120"/>
                <a:ext cx="114120" cy="7128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84" y="0"/>
                    </a:moveTo>
                    <a:lnTo>
                      <a:pt x="218" y="0"/>
                    </a:lnTo>
                    <a:lnTo>
                      <a:pt x="180" y="4"/>
                    </a:lnTo>
                    <a:lnTo>
                      <a:pt x="145" y="10"/>
                    </a:lnTo>
                    <a:lnTo>
                      <a:pt x="101" y="19"/>
                    </a:lnTo>
                    <a:lnTo>
                      <a:pt x="66" y="28"/>
                    </a:lnTo>
                    <a:lnTo>
                      <a:pt x="43" y="36"/>
                    </a:lnTo>
                    <a:lnTo>
                      <a:pt x="27" y="46"/>
                    </a:lnTo>
                    <a:lnTo>
                      <a:pt x="15" y="55"/>
                    </a:lnTo>
                    <a:lnTo>
                      <a:pt x="5" y="67"/>
                    </a:lnTo>
                    <a:lnTo>
                      <a:pt x="0" y="80"/>
                    </a:lnTo>
                    <a:lnTo>
                      <a:pt x="1" y="94"/>
                    </a:lnTo>
                    <a:lnTo>
                      <a:pt x="9" y="106"/>
                    </a:lnTo>
                    <a:lnTo>
                      <a:pt x="19" y="113"/>
                    </a:lnTo>
                    <a:lnTo>
                      <a:pt x="40" y="117"/>
                    </a:lnTo>
                    <a:lnTo>
                      <a:pt x="64" y="117"/>
                    </a:lnTo>
                    <a:lnTo>
                      <a:pt x="89" y="115"/>
                    </a:lnTo>
                    <a:lnTo>
                      <a:pt x="122" y="111"/>
                    </a:lnTo>
                    <a:lnTo>
                      <a:pt x="153" y="113"/>
                    </a:lnTo>
                    <a:lnTo>
                      <a:pt x="175" y="117"/>
                    </a:lnTo>
                    <a:lnTo>
                      <a:pt x="198" y="123"/>
                    </a:lnTo>
                    <a:lnTo>
                      <a:pt x="222" y="133"/>
                    </a:lnTo>
                    <a:lnTo>
                      <a:pt x="290" y="177"/>
                    </a:lnTo>
                    <a:lnTo>
                      <a:pt x="286" y="177"/>
                    </a:lnTo>
                    <a:lnTo>
                      <a:pt x="288" y="174"/>
                    </a:lnTo>
                  </a:path>
                </a:pathLst>
              </a:custGeom>
              <a:noFill/>
              <a:ln w="14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3630240" y="5333400"/>
                <a:ext cx="926640" cy="327240"/>
                <a:chOff x="3630240" y="5333400"/>
                <a:chExt cx="926640" cy="327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636360" y="5498640"/>
                  <a:ext cx="920520" cy="162000"/>
                </a:xfrm>
                <a:custGeom>
                  <a:avLst/>
                  <a:gdLst/>
                  <a:ahLst/>
                  <a:rect l="l" t="t" r="r" b="b"/>
                  <a:pathLst>
                    <a:path w="2319" h="410">
                      <a:moveTo>
                        <a:pt x="0" y="25"/>
                      </a:moveTo>
                      <a:lnTo>
                        <a:pt x="0" y="205"/>
                      </a:lnTo>
                      <a:lnTo>
                        <a:pt x="1883" y="410"/>
                      </a:lnTo>
                      <a:lnTo>
                        <a:pt x="2319" y="159"/>
                      </a:lnTo>
                      <a:lnTo>
                        <a:pt x="2319" y="0"/>
                      </a:lnTo>
                      <a:lnTo>
                        <a:pt x="1867" y="21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630240" y="5333400"/>
                  <a:ext cx="750600" cy="252360"/>
                </a:xfrm>
                <a:custGeom>
                  <a:avLst/>
                  <a:gdLst/>
                  <a:ahLst/>
                  <a:rect l="l" t="t" r="r" b="b"/>
                  <a:pathLst>
                    <a:path w="1892" h="633">
                      <a:moveTo>
                        <a:pt x="0" y="0"/>
                      </a:moveTo>
                      <a:lnTo>
                        <a:pt x="1892" y="139"/>
                      </a:lnTo>
                      <a:lnTo>
                        <a:pt x="1892" y="633"/>
                      </a:lnTo>
                      <a:lnTo>
                        <a:pt x="0" y="4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3631680" y="5379480"/>
                  <a:ext cx="748800" cy="100080"/>
                  <a:chOff x="3631680" y="5379480"/>
                  <a:chExt cx="748800" cy="1000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631680" y="5379480"/>
                    <a:ext cx="748800" cy="5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180680" y="5427000"/>
                    <a:ext cx="156600" cy="129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996360" y="5412960"/>
                    <a:ext cx="158400" cy="126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631680" y="5412960"/>
                    <a:ext cx="748800" cy="66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3630240" y="5300280"/>
                <a:ext cx="928440" cy="88920"/>
                <a:chOff x="3630240" y="5300280"/>
                <a:chExt cx="928440" cy="88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630240" y="5300280"/>
                  <a:ext cx="928440" cy="88920"/>
                </a:xfrm>
                <a:custGeom>
                  <a:avLst/>
                  <a:gdLst/>
                  <a:ahLst/>
                  <a:rect l="l" t="t" r="r" b="b"/>
                  <a:pathLst>
                    <a:path w="2342" h="226">
                      <a:moveTo>
                        <a:pt x="0" y="87"/>
                      </a:moveTo>
                      <a:lnTo>
                        <a:pt x="1891" y="226"/>
                      </a:lnTo>
                      <a:lnTo>
                        <a:pt x="2342" y="94"/>
                      </a:lnTo>
                      <a:lnTo>
                        <a:pt x="2183" y="76"/>
                      </a:lnTo>
                      <a:lnTo>
                        <a:pt x="7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41200" y="5319360"/>
                  <a:ext cx="682200" cy="56880"/>
                </a:xfrm>
                <a:custGeom>
                  <a:avLst/>
                  <a:gdLst/>
                  <a:ahLst/>
                  <a:rect l="l" t="t" r="r" b="b"/>
                  <a:pathLst>
                    <a:path w="1721" h="145">
                      <a:moveTo>
                        <a:pt x="139" y="0"/>
                      </a:moveTo>
                      <a:lnTo>
                        <a:pt x="0" y="54"/>
                      </a:lnTo>
                      <a:lnTo>
                        <a:pt x="1389" y="145"/>
                      </a:lnTo>
                      <a:lnTo>
                        <a:pt x="1615" y="81"/>
                      </a:lnTo>
                      <a:lnTo>
                        <a:pt x="1597" y="72"/>
                      </a:lnTo>
                      <a:lnTo>
                        <a:pt x="1721" y="36"/>
                      </a:lnTo>
                      <a:lnTo>
                        <a:pt x="1644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387680" y="4817520"/>
                <a:ext cx="169200" cy="546120"/>
                <a:chOff x="4387680" y="4817520"/>
                <a:chExt cx="169200" cy="5461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4453920" y="4887360"/>
                  <a:ext cx="102960" cy="457200"/>
                  <a:chOff x="4453920" y="4887360"/>
                  <a:chExt cx="102960" cy="457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4453920" y="4887360"/>
                    <a:ext cx="10296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152">
                        <a:moveTo>
                          <a:pt x="24" y="0"/>
                        </a:moveTo>
                        <a:lnTo>
                          <a:pt x="260" y="95"/>
                        </a:lnTo>
                        <a:lnTo>
                          <a:pt x="238" y="544"/>
                        </a:lnTo>
                        <a:lnTo>
                          <a:pt x="213" y="1085"/>
                        </a:lnTo>
                        <a:lnTo>
                          <a:pt x="0" y="115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453920" y="4907880"/>
                    <a:ext cx="100440" cy="382320"/>
                    <a:chOff x="4453920" y="4907880"/>
                    <a:chExt cx="100440" cy="3823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453920" y="4907880"/>
                      <a:ext cx="100440" cy="382320"/>
                      <a:chOff x="4453920" y="4907880"/>
                      <a:chExt cx="100440" cy="382320"/>
                    </a:xfrm>
                  </p:grpSpPr>
                  <p:grpSp>
                    <p:nvGrpSpPr>
                      <p:cNvPr id="240" name=""/>
                      <p:cNvGrpSpPr/>
                      <p:nvPr/>
                    </p:nvGrpSpPr>
                    <p:grpSpPr>
                      <a:xfrm>
                        <a:off x="4453920" y="4907880"/>
                        <a:ext cx="100440" cy="228600"/>
                        <a:chOff x="4453920" y="4907880"/>
                        <a:chExt cx="100440" cy="228600"/>
                      </a:xfrm>
                    </p:grpSpPr>
                    <p:grpSp>
                      <p:nvGrpSpPr>
                        <p:cNvPr id="241" name=""/>
                        <p:cNvGrpSpPr/>
                        <p:nvPr/>
                      </p:nvGrpSpPr>
                      <p:grpSpPr>
                        <a:xfrm>
                          <a:off x="4461480" y="4907880"/>
                          <a:ext cx="92880" cy="122400"/>
                          <a:chOff x="4461480" y="4907880"/>
                          <a:chExt cx="92880" cy="122400"/>
                        </a:xfrm>
                      </p:grpSpPr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>
                            <a:off x="4462920" y="4907880"/>
                            <a:ext cx="91440" cy="34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4461480" y="4926960"/>
                            <a:ext cx="91800" cy="33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4462920" y="4947840"/>
                            <a:ext cx="90000" cy="302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4461480" y="4968360"/>
                            <a:ext cx="9180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4461480" y="4987440"/>
                            <a:ext cx="9036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4461480" y="5006520"/>
                            <a:ext cx="8856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4453920" y="5047920"/>
                          <a:ext cx="93240" cy="187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4453920" y="5066640"/>
                          <a:ext cx="93240" cy="162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4453920" y="5087520"/>
                          <a:ext cx="91800" cy="140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4453920" y="5108040"/>
                          <a:ext cx="9180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4455360" y="5128560"/>
                          <a:ext cx="90000" cy="79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4453920" y="5149440"/>
                        <a:ext cx="89640" cy="140760"/>
                        <a:chOff x="4453920" y="5149440"/>
                        <a:chExt cx="89640" cy="140760"/>
                      </a:xfrm>
                    </p:grpSpPr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4455360" y="5149440"/>
                          <a:ext cx="88200" cy="61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4456800" y="5169960"/>
                          <a:ext cx="8532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4455360" y="5190480"/>
                          <a:ext cx="8676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V="1">
                          <a:off x="4455360" y="5209200"/>
                          <a:ext cx="8532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4455360" y="5226840"/>
                          <a:ext cx="83520" cy="32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4455360" y="5244480"/>
                          <a:ext cx="83520" cy="64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4453920" y="5259960"/>
                          <a:ext cx="8532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4455360" y="5279040"/>
                          <a:ext cx="8208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458240" y="5028840"/>
                      <a:ext cx="90360" cy="1908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4387680" y="4817520"/>
                  <a:ext cx="90000" cy="546120"/>
                  <a:chOff x="4387680" y="4817520"/>
                  <a:chExt cx="90000" cy="5461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387680" y="4817520"/>
                    <a:ext cx="90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375">
                        <a:moveTo>
                          <a:pt x="54" y="0"/>
                        </a:moveTo>
                        <a:lnTo>
                          <a:pt x="214" y="71"/>
                        </a:lnTo>
                        <a:lnTo>
                          <a:pt x="227" y="86"/>
                        </a:lnTo>
                        <a:lnTo>
                          <a:pt x="178" y="1320"/>
                        </a:lnTo>
                        <a:lnTo>
                          <a:pt x="158" y="1335"/>
                        </a:lnTo>
                        <a:lnTo>
                          <a:pt x="0" y="1375"/>
                        </a:lnTo>
                        <a:lnTo>
                          <a:pt x="20" y="1353"/>
                        </a:lnTo>
                        <a:lnTo>
                          <a:pt x="22" y="1336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462200" y="4847760"/>
                    <a:ext cx="14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72" y="182"/>
                        </a:moveTo>
                        <a:arcTo wR="10800" hR="10800" stAng="-4768753" swAng="42439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72" y="182"/>
                        </a:moveTo>
                        <a:arcTo wR="10800" hR="10800" stAng="-4768753" swAng="424398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4422600" y="5639760"/>
                <a:ext cx="288720" cy="119160"/>
                <a:chOff x="4422600" y="5639760"/>
                <a:chExt cx="288720" cy="1191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22600" y="5639760"/>
                  <a:ext cx="288720" cy="77760"/>
                </a:xfrm>
                <a:custGeom>
                  <a:avLst/>
                  <a:gdLst/>
                  <a:ahLst/>
                  <a:rect l="l" t="t" r="r" b="b"/>
                  <a:pathLst>
                    <a:path w="726" h="194">
                      <a:moveTo>
                        <a:pt x="0" y="0"/>
                      </a:moveTo>
                      <a:lnTo>
                        <a:pt x="135" y="9"/>
                      </a:lnTo>
                      <a:lnTo>
                        <a:pt x="235" y="14"/>
                      </a:lnTo>
                      <a:lnTo>
                        <a:pt x="325" y="24"/>
                      </a:lnTo>
                      <a:lnTo>
                        <a:pt x="415" y="35"/>
                      </a:lnTo>
                      <a:lnTo>
                        <a:pt x="479" y="45"/>
                      </a:lnTo>
                      <a:lnTo>
                        <a:pt x="555" y="58"/>
                      </a:lnTo>
                      <a:lnTo>
                        <a:pt x="598" y="66"/>
                      </a:lnTo>
                      <a:lnTo>
                        <a:pt x="631" y="73"/>
                      </a:lnTo>
                      <a:lnTo>
                        <a:pt x="649" y="78"/>
                      </a:lnTo>
                      <a:lnTo>
                        <a:pt x="664" y="82"/>
                      </a:lnTo>
                      <a:lnTo>
                        <a:pt x="681" y="88"/>
                      </a:lnTo>
                      <a:lnTo>
                        <a:pt x="700" y="95"/>
                      </a:lnTo>
                      <a:lnTo>
                        <a:pt x="717" y="104"/>
                      </a:lnTo>
                      <a:lnTo>
                        <a:pt x="725" y="115"/>
                      </a:lnTo>
                      <a:lnTo>
                        <a:pt x="726" y="123"/>
                      </a:lnTo>
                      <a:lnTo>
                        <a:pt x="723" y="136"/>
                      </a:lnTo>
                      <a:lnTo>
                        <a:pt x="717" y="149"/>
                      </a:lnTo>
                      <a:lnTo>
                        <a:pt x="708" y="161"/>
                      </a:lnTo>
                      <a:lnTo>
                        <a:pt x="696" y="169"/>
                      </a:lnTo>
                      <a:lnTo>
                        <a:pt x="680" y="180"/>
                      </a:lnTo>
                      <a:lnTo>
                        <a:pt x="663" y="187"/>
                      </a:lnTo>
                      <a:lnTo>
                        <a:pt x="643" y="190"/>
                      </a:lnTo>
                      <a:lnTo>
                        <a:pt x="621" y="193"/>
                      </a:lnTo>
                      <a:lnTo>
                        <a:pt x="595" y="194"/>
                      </a:lnTo>
                      <a:lnTo>
                        <a:pt x="570" y="192"/>
                      </a:lnTo>
                      <a:lnTo>
                        <a:pt x="529" y="186"/>
                      </a:lnTo>
                    </a:path>
                  </a:pathLst>
                </a:custGeom>
                <a:noFill/>
                <a:ln w="79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4434840" y="5679720"/>
                  <a:ext cx="200880" cy="79200"/>
                  <a:chOff x="4434840" y="5679720"/>
                  <a:chExt cx="200880" cy="79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4434840" y="5679720"/>
                    <a:ext cx="200880" cy="79200"/>
                    <a:chOff x="4434840" y="5679720"/>
                    <a:chExt cx="200880" cy="79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434840" y="5679720"/>
                      <a:ext cx="1252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130">
                          <a:moveTo>
                            <a:pt x="0" y="78"/>
                          </a:moveTo>
                          <a:lnTo>
                            <a:pt x="83" y="0"/>
                          </a:lnTo>
                          <a:lnTo>
                            <a:pt x="317" y="44"/>
                          </a:lnTo>
                          <a:lnTo>
                            <a:pt x="225" y="13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434840" y="5709600"/>
                      <a:ext cx="885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124">
                          <a:moveTo>
                            <a:pt x="0" y="0"/>
                          </a:moveTo>
                          <a:lnTo>
                            <a:pt x="0" y="69"/>
                          </a:lnTo>
                          <a:lnTo>
                            <a:pt x="3" y="69"/>
                          </a:lnTo>
                          <a:lnTo>
                            <a:pt x="225" y="124"/>
                          </a:lnTo>
                          <a:lnTo>
                            <a:pt x="225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523400" y="5695560"/>
                      <a:ext cx="11232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58">
                          <a:moveTo>
                            <a:pt x="0" y="85"/>
                          </a:moveTo>
                          <a:lnTo>
                            <a:pt x="91" y="0"/>
                          </a:lnTo>
                          <a:lnTo>
                            <a:pt x="286" y="22"/>
                          </a:lnTo>
                          <a:lnTo>
                            <a:pt x="286" y="88"/>
                          </a:lnTo>
                          <a:lnTo>
                            <a:pt x="0" y="158"/>
                          </a:lnTo>
                          <a:lnTo>
                            <a:pt x="0" y="85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466160" y="5679720"/>
                      <a:ext cx="169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65">
                          <a:moveTo>
                            <a:pt x="0" y="0"/>
                          </a:moveTo>
                          <a:lnTo>
                            <a:pt x="214" y="16"/>
                          </a:lnTo>
                          <a:lnTo>
                            <a:pt x="429" y="65"/>
                          </a:lnTo>
                          <a:lnTo>
                            <a:pt x="234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434840" y="5703480"/>
                    <a:ext cx="200880" cy="33120"/>
                    <a:chOff x="4434840" y="5703480"/>
                    <a:chExt cx="200880" cy="3312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434840" y="5716080"/>
                      <a:ext cx="88560" cy="2052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V="1">
                      <a:off x="4525200" y="5703480"/>
                      <a:ext cx="36000" cy="3312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561560" y="5703480"/>
                      <a:ext cx="74160" cy="468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8" name=""/>
              <p:cNvSpPr/>
              <p:nvPr/>
            </p:nvSpPr>
            <p:spPr>
              <a:xfrm>
                <a:off x="4383000" y="5493960"/>
                <a:ext cx="172440" cy="168120"/>
              </a:xfrm>
              <a:custGeom>
                <a:avLst/>
                <a:gdLst/>
                <a:ahLst/>
                <a:rect l="l" t="t" r="r" b="b"/>
                <a:pathLst>
                  <a:path w="439" h="421">
                    <a:moveTo>
                      <a:pt x="0" y="211"/>
                    </a:moveTo>
                    <a:lnTo>
                      <a:pt x="439" y="0"/>
                    </a:lnTo>
                    <a:lnTo>
                      <a:pt x="439" y="169"/>
                    </a:lnTo>
                    <a:lnTo>
                      <a:pt x="0" y="42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81200" y="5336640"/>
                <a:ext cx="179280" cy="247680"/>
              </a:xfrm>
              <a:custGeom>
                <a:avLst/>
                <a:gdLst/>
                <a:ahLst/>
                <a:rect l="l" t="t" r="r" b="b"/>
                <a:pathLst>
                  <a:path w="453" h="624">
                    <a:moveTo>
                      <a:pt x="0" y="132"/>
                    </a:moveTo>
                    <a:lnTo>
                      <a:pt x="453" y="0"/>
                    </a:lnTo>
                    <a:lnTo>
                      <a:pt x="453" y="413"/>
                    </a:lnTo>
                    <a:lnTo>
                      <a:pt x="1" y="624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92320" y="4893840"/>
                <a:ext cx="445680" cy="379440"/>
              </a:xfrm>
              <a:custGeom>
                <a:avLst/>
                <a:gdLst/>
                <a:ahLst/>
                <a:rect l="l" t="t" r="r" b="b"/>
                <a:pathLst>
                  <a:path w="1121" h="955">
                    <a:moveTo>
                      <a:pt x="45" y="0"/>
                    </a:moveTo>
                    <a:lnTo>
                      <a:pt x="1121" y="0"/>
                    </a:lnTo>
                    <a:lnTo>
                      <a:pt x="1077" y="955"/>
                    </a:lnTo>
                    <a:lnTo>
                      <a:pt x="0" y="90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03600" y="5530320"/>
                <a:ext cx="828000" cy="173160"/>
              </a:xfrm>
              <a:custGeom>
                <a:avLst/>
                <a:gdLst/>
                <a:ahLst/>
                <a:rect l="l" t="t" r="r" b="b"/>
                <a:pathLst>
                  <a:path w="2087" h="436">
                    <a:moveTo>
                      <a:pt x="340" y="0"/>
                    </a:moveTo>
                    <a:lnTo>
                      <a:pt x="2087" y="177"/>
                    </a:lnTo>
                    <a:lnTo>
                      <a:pt x="1965" y="337"/>
                    </a:lnTo>
                    <a:lnTo>
                      <a:pt x="1845" y="436"/>
                    </a:lnTo>
                    <a:lnTo>
                      <a:pt x="0" y="218"/>
                    </a:lnTo>
                    <a:lnTo>
                      <a:pt x="139" y="156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381200" y="5352480"/>
                <a:ext cx="177480" cy="217440"/>
                <a:chOff x="4381200" y="5352480"/>
                <a:chExt cx="177480" cy="21744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4381200" y="5412600"/>
                  <a:ext cx="177480" cy="66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411080" y="5431680"/>
                  <a:ext cx="145800" cy="58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4411080" y="5451120"/>
                  <a:ext cx="145800" cy="619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4411080" y="5468040"/>
                  <a:ext cx="147240" cy="637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411080" y="5485680"/>
                  <a:ext cx="147240" cy="68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411080" y="5393520"/>
                  <a:ext cx="145800" cy="52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411080" y="5374800"/>
                  <a:ext cx="1458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4411080" y="5352480"/>
                  <a:ext cx="1458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4410720" y="5382720"/>
                  <a:ext cx="1080" cy="187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32200" y="4808160"/>
                <a:ext cx="585360" cy="556920"/>
                <a:chOff x="3832200" y="4808160"/>
                <a:chExt cx="585360" cy="55692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3832200" y="4808160"/>
                  <a:ext cx="585360" cy="556920"/>
                  <a:chOff x="3832200" y="4808160"/>
                  <a:chExt cx="585360" cy="55692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3832200" y="4808160"/>
                    <a:ext cx="585360" cy="556920"/>
                    <a:chOff x="3832200" y="4808160"/>
                    <a:chExt cx="585360" cy="5569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832200" y="4808160"/>
                      <a:ext cx="585360" cy="5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1405">
                          <a:moveTo>
                            <a:pt x="117" y="24"/>
                          </a:moveTo>
                          <a:lnTo>
                            <a:pt x="244" y="17"/>
                          </a:lnTo>
                          <a:lnTo>
                            <a:pt x="416" y="5"/>
                          </a:lnTo>
                          <a:lnTo>
                            <a:pt x="594" y="0"/>
                          </a:lnTo>
                          <a:lnTo>
                            <a:pt x="804" y="0"/>
                          </a:lnTo>
                          <a:lnTo>
                            <a:pt x="951" y="3"/>
                          </a:lnTo>
                          <a:lnTo>
                            <a:pt x="1177" y="11"/>
                          </a:lnTo>
                          <a:lnTo>
                            <a:pt x="1396" y="23"/>
                          </a:lnTo>
                          <a:lnTo>
                            <a:pt x="1448" y="25"/>
                          </a:lnTo>
                          <a:lnTo>
                            <a:pt x="1460" y="30"/>
                          </a:lnTo>
                          <a:lnTo>
                            <a:pt x="1468" y="36"/>
                          </a:lnTo>
                          <a:lnTo>
                            <a:pt x="1475" y="47"/>
                          </a:lnTo>
                          <a:lnTo>
                            <a:pt x="1476" y="58"/>
                          </a:lnTo>
                          <a:lnTo>
                            <a:pt x="1420" y="1378"/>
                          </a:lnTo>
                          <a:lnTo>
                            <a:pt x="1413" y="1399"/>
                          </a:lnTo>
                          <a:lnTo>
                            <a:pt x="1396" y="1405"/>
                          </a:lnTo>
                          <a:lnTo>
                            <a:pt x="919" y="1371"/>
                          </a:lnTo>
                          <a:lnTo>
                            <a:pt x="451" y="1337"/>
                          </a:lnTo>
                          <a:lnTo>
                            <a:pt x="22" y="1305"/>
                          </a:lnTo>
                          <a:lnTo>
                            <a:pt x="0" y="1271"/>
                          </a:lnTo>
                          <a:lnTo>
                            <a:pt x="65" y="67"/>
                          </a:lnTo>
                          <a:lnTo>
                            <a:pt x="117" y="24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4389120" y="4817520"/>
                      <a:ext cx="277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193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1932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857040" y="4817520"/>
                      <a:ext cx="59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21435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21435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832200" y="5292000"/>
                      <a:ext cx="241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3893760" y="4893840"/>
                    <a:ext cx="443520" cy="379440"/>
                    <a:chOff x="3893760" y="4893840"/>
                    <a:chExt cx="443520" cy="37944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893760" y="4893840"/>
                      <a:ext cx="443520" cy="379440"/>
                      <a:chOff x="3893760" y="4893840"/>
                      <a:chExt cx="443520" cy="37944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10680" y="4893840"/>
                        <a:ext cx="4266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5" h="20">
                            <a:moveTo>
                              <a:pt x="0" y="0"/>
                            </a:moveTo>
                            <a:lnTo>
                              <a:pt x="1075" y="1"/>
                            </a:lnTo>
                            <a:lnTo>
                              <a:pt x="1051" y="20"/>
                            </a:lnTo>
                            <a:lnTo>
                              <a:pt x="2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4310640" y="4893840"/>
                        <a:ext cx="26640" cy="37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955">
                            <a:moveTo>
                              <a:pt x="44" y="19"/>
                            </a:moveTo>
                            <a:lnTo>
                              <a:pt x="69" y="0"/>
                            </a:lnTo>
                            <a:lnTo>
                              <a:pt x="45" y="518"/>
                            </a:lnTo>
                            <a:lnTo>
                              <a:pt x="23" y="955"/>
                            </a:lnTo>
                            <a:lnTo>
                              <a:pt x="0" y="928"/>
                            </a:lnTo>
                            <a:lnTo>
                              <a:pt x="44" y="1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893760" y="5241600"/>
                        <a:ext cx="426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6" h="78">
                            <a:moveTo>
                              <a:pt x="25" y="0"/>
                            </a:moveTo>
                            <a:lnTo>
                              <a:pt x="0" y="25"/>
                            </a:lnTo>
                            <a:lnTo>
                              <a:pt x="1076" y="78"/>
                            </a:lnTo>
                            <a:lnTo>
                              <a:pt x="1053" y="52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893760" y="4893840"/>
                        <a:ext cx="2628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901">
                            <a:moveTo>
                              <a:pt x="45" y="0"/>
                            </a:moveTo>
                            <a:lnTo>
                              <a:pt x="68" y="19"/>
                            </a:lnTo>
                            <a:lnTo>
                              <a:pt x="25" y="876"/>
                            </a:lnTo>
                            <a:lnTo>
                              <a:pt x="0" y="90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3902760" y="4901760"/>
                      <a:ext cx="425160" cy="360360"/>
                      <a:chOff x="3902760" y="4901760"/>
                      <a:chExt cx="425160" cy="36036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3902760" y="4901760"/>
                        <a:ext cx="425160" cy="36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2" h="909">
                            <a:moveTo>
                              <a:pt x="44" y="0"/>
                            </a:moveTo>
                            <a:lnTo>
                              <a:pt x="1072" y="0"/>
                            </a:lnTo>
                            <a:lnTo>
                              <a:pt x="1029" y="909"/>
                            </a:lnTo>
                            <a:lnTo>
                              <a:pt x="0" y="857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3916800" y="4916160"/>
                        <a:ext cx="396360" cy="33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9" h="840">
                            <a:moveTo>
                              <a:pt x="37" y="1"/>
                            </a:moveTo>
                            <a:lnTo>
                              <a:pt x="999" y="0"/>
                            </a:lnTo>
                            <a:lnTo>
                              <a:pt x="958" y="840"/>
                            </a:lnTo>
                            <a:lnTo>
                              <a:pt x="0" y="797"/>
                            </a:lnTo>
                            <a:lnTo>
                              <a:pt x="37" y="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3922920" y="4934880"/>
                        <a:ext cx="374400" cy="30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3" h="757">
                            <a:moveTo>
                              <a:pt x="35" y="0"/>
                            </a:moveTo>
                            <a:lnTo>
                              <a:pt x="943" y="0"/>
                            </a:lnTo>
                            <a:lnTo>
                              <a:pt x="905" y="757"/>
                            </a:lnTo>
                            <a:lnTo>
                              <a:pt x="0" y="719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09" name=""/>
                <p:cNvSpPr/>
                <p:nvPr/>
              </p:nvSpPr>
              <p:spPr>
                <a:xfrm>
                  <a:off x="4301640" y="5319360"/>
                  <a:ext cx="24840" cy="9360"/>
                </a:xfrm>
                <a:custGeom>
                  <a:avLst/>
                  <a:gdLst/>
                  <a:ahLst/>
                  <a:rect l="l" t="t" r="r" b="b"/>
                  <a:pathLst>
                    <a:path w="62" h="22">
                      <a:moveTo>
                        <a:pt x="0" y="0"/>
                      </a:moveTo>
                      <a:lnTo>
                        <a:pt x="62" y="1"/>
                      </a:lnTo>
                      <a:lnTo>
                        <a:pt x="62" y="22"/>
                      </a:lnTo>
                      <a:lnTo>
                        <a:pt x="0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0" y="5540040"/>
                <a:ext cx="827640" cy="193680"/>
                <a:chOff x="3603600" y="5540040"/>
                <a:chExt cx="827640" cy="1936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174560" y="5598720"/>
                  <a:ext cx="198000" cy="83880"/>
                </a:xfrm>
                <a:custGeom>
                  <a:avLst/>
                  <a:gdLst/>
                  <a:ahLst/>
                  <a:rect l="l" t="t" r="r" b="b"/>
                  <a:pathLst>
                    <a:path w="501" h="214">
                      <a:moveTo>
                        <a:pt x="193" y="0"/>
                      </a:moveTo>
                      <a:lnTo>
                        <a:pt x="76" y="125"/>
                      </a:lnTo>
                      <a:lnTo>
                        <a:pt x="0" y="178"/>
                      </a:lnTo>
                      <a:lnTo>
                        <a:pt x="328" y="214"/>
                      </a:lnTo>
                      <a:lnTo>
                        <a:pt x="404" y="146"/>
                      </a:lnTo>
                      <a:lnTo>
                        <a:pt x="501" y="29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3603600" y="5540040"/>
                  <a:ext cx="827640" cy="193680"/>
                  <a:chOff x="3603600" y="5540040"/>
                  <a:chExt cx="827640" cy="1936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3603600" y="5616000"/>
                    <a:ext cx="73116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4" h="294">
                        <a:moveTo>
                          <a:pt x="0" y="0"/>
                        </a:moveTo>
                        <a:lnTo>
                          <a:pt x="0" y="76"/>
                        </a:lnTo>
                        <a:lnTo>
                          <a:pt x="1844" y="294"/>
                        </a:lnTo>
                        <a:lnTo>
                          <a:pt x="1843" y="2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334760" y="5600160"/>
                    <a:ext cx="9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35">
                        <a:moveTo>
                          <a:pt x="0" y="259"/>
                        </a:moveTo>
                        <a:lnTo>
                          <a:pt x="0" y="335"/>
                        </a:lnTo>
                        <a:lnTo>
                          <a:pt x="106" y="258"/>
                        </a:lnTo>
                        <a:lnTo>
                          <a:pt x="149" y="213"/>
                        </a:lnTo>
                        <a:lnTo>
                          <a:pt x="242" y="95"/>
                        </a:lnTo>
                        <a:lnTo>
                          <a:pt x="242" y="0"/>
                        </a:lnTo>
                        <a:lnTo>
                          <a:pt x="120" y="159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604680" y="5627160"/>
                    <a:ext cx="731520" cy="8424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650760" y="5540040"/>
                    <a:ext cx="705240" cy="144360"/>
                    <a:chOff x="3650760" y="5540040"/>
                    <a:chExt cx="705240" cy="144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3650760" y="5546160"/>
                      <a:ext cx="5425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5" h="291">
                          <a:moveTo>
                            <a:pt x="235" y="0"/>
                          </a:moveTo>
                          <a:lnTo>
                            <a:pt x="72" y="128"/>
                          </a:lnTo>
                          <a:lnTo>
                            <a:pt x="0" y="167"/>
                          </a:lnTo>
                          <a:lnTo>
                            <a:pt x="1158" y="291"/>
                          </a:lnTo>
                          <a:lnTo>
                            <a:pt x="1241" y="235"/>
                          </a:lnTo>
                          <a:lnTo>
                            <a:pt x="1365" y="117"/>
                          </a:lnTo>
                          <a:lnTo>
                            <a:pt x="23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3664800" y="5540040"/>
                      <a:ext cx="691200" cy="144360"/>
                      <a:chOff x="3664800" y="5540040"/>
                      <a:chExt cx="691200" cy="144360"/>
                    </a:xfrm>
                  </p:grpSpPr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675240" y="5540040"/>
                        <a:ext cx="504000" cy="118800"/>
                        <a:chOff x="3675240" y="5540040"/>
                        <a:chExt cx="504000" cy="118800"/>
                      </a:xfrm>
                    </p:grpSpPr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3675240" y="5540040"/>
                          <a:ext cx="104040" cy="79200"/>
                          <a:chOff x="3675240" y="5540040"/>
                          <a:chExt cx="104040" cy="79200"/>
                        </a:xfrm>
                      </p:grpSpPr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3675240" y="56019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flipV="1">
                            <a:off x="3709800" y="5540040"/>
                            <a:ext cx="694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3716280" y="5544360"/>
                          <a:ext cx="104040" cy="79200"/>
                          <a:chOff x="3716280" y="5544360"/>
                          <a:chExt cx="104040" cy="79200"/>
                        </a:xfrm>
                      </p:grpSpPr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V="1">
                            <a:off x="3716280" y="56044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 flipV="1">
                            <a:off x="3749400" y="554436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3759120" y="5547600"/>
                          <a:ext cx="104040" cy="79200"/>
                          <a:chOff x="3759120" y="5547600"/>
                          <a:chExt cx="104040" cy="7920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V="1">
                            <a:off x="3759120" y="560772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V="1">
                            <a:off x="3792240" y="554760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3797280" y="5552640"/>
                          <a:ext cx="104040" cy="79200"/>
                          <a:chOff x="3797280" y="5552640"/>
                          <a:chExt cx="104040" cy="79200"/>
                        </a:xfrm>
                      </p:grpSpPr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V="1">
                            <a:off x="3797280" y="5614560"/>
                            <a:ext cx="3312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 flipV="1">
                            <a:off x="3830400" y="5552640"/>
                            <a:ext cx="709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3840120" y="5555520"/>
                          <a:ext cx="104040" cy="79200"/>
                          <a:chOff x="3840120" y="5555520"/>
                          <a:chExt cx="104040" cy="79200"/>
                        </a:xfrm>
                      </p:grpSpPr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V="1">
                            <a:off x="3840120" y="561564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V="1">
                            <a:off x="3873240" y="55555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3879720" y="5558760"/>
                          <a:ext cx="104040" cy="79200"/>
                          <a:chOff x="3879720" y="5558760"/>
                          <a:chExt cx="104040" cy="79200"/>
                        </a:xfrm>
                      </p:grpSpPr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V="1">
                            <a:off x="3879720" y="56188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 flipV="1">
                            <a:off x="3912840" y="5558760"/>
                            <a:ext cx="7092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8" name=""/>
                        <p:cNvGrpSpPr/>
                        <p:nvPr/>
                      </p:nvGrpSpPr>
                      <p:grpSpPr>
                        <a:xfrm>
                          <a:off x="3919320" y="5563440"/>
                          <a:ext cx="104400" cy="77760"/>
                          <a:chOff x="3919320" y="5563440"/>
                          <a:chExt cx="104400" cy="77760"/>
                        </a:xfrm>
                      </p:grpSpPr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V="1">
                            <a:off x="3919320" y="5623560"/>
                            <a:ext cx="33120" cy="17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 flipV="1">
                            <a:off x="3952440" y="556344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1" name=""/>
                        <p:cNvGrpSpPr/>
                        <p:nvPr/>
                      </p:nvGrpSpPr>
                      <p:grpSpPr>
                        <a:xfrm>
                          <a:off x="3956040" y="5568120"/>
                          <a:ext cx="105480" cy="79200"/>
                          <a:chOff x="3956040" y="5568120"/>
                          <a:chExt cx="105480" cy="79200"/>
                        </a:xfrm>
                      </p:grpSpPr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V="1">
                            <a:off x="3956040" y="562824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 flipV="1">
                            <a:off x="3990600" y="55681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4" name=""/>
                        <p:cNvGrpSpPr/>
                        <p:nvPr/>
                      </p:nvGrpSpPr>
                      <p:grpSpPr>
                        <a:xfrm>
                          <a:off x="3995640" y="5574600"/>
                          <a:ext cx="105840" cy="79200"/>
                          <a:chOff x="3995640" y="5574600"/>
                          <a:chExt cx="105840" cy="79200"/>
                        </a:xfrm>
                      </p:grpSpPr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V="1">
                            <a:off x="3995640" y="563472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 flipV="1">
                            <a:off x="4030200" y="557460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7" name=""/>
                        <p:cNvGrpSpPr/>
                        <p:nvPr/>
                      </p:nvGrpSpPr>
                      <p:grpSpPr>
                        <a:xfrm>
                          <a:off x="4035240" y="5577840"/>
                          <a:ext cx="105840" cy="77760"/>
                          <a:chOff x="4035240" y="5577840"/>
                          <a:chExt cx="105840" cy="77760"/>
                        </a:xfrm>
                      </p:grpSpPr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V="1">
                            <a:off x="4035240" y="563832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 flipV="1">
                            <a:off x="4069800" y="5577840"/>
                            <a:ext cx="7128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"/>
                        <p:cNvGrpSpPr/>
                        <p:nvPr/>
                      </p:nvGrpSpPr>
                      <p:grpSpPr>
                        <a:xfrm>
                          <a:off x="4073400" y="5579640"/>
                          <a:ext cx="105840" cy="79200"/>
                          <a:chOff x="4073400" y="5579640"/>
                          <a:chExt cx="105840" cy="79200"/>
                        </a:xfrm>
                      </p:grpSpPr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V="1">
                            <a:off x="4073400" y="56415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 flipV="1">
                            <a:off x="4107960" y="5579640"/>
                            <a:ext cx="712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53" name=""/>
                      <p:cNvGrpSpPr/>
                      <p:nvPr/>
                    </p:nvGrpSpPr>
                    <p:grpSpPr>
                      <a:xfrm>
                        <a:off x="4197600" y="5592240"/>
                        <a:ext cx="151560" cy="92160"/>
                        <a:chOff x="4197600" y="5592240"/>
                        <a:chExt cx="151560" cy="92160"/>
                      </a:xfrm>
                    </p:grpSpPr>
                    <p:grpSp>
                      <p:nvGrpSpPr>
                        <p:cNvPr id="354" name=""/>
                        <p:cNvGrpSpPr/>
                        <p:nvPr/>
                      </p:nvGrpSpPr>
                      <p:grpSpPr>
                        <a:xfrm>
                          <a:off x="4260960" y="5598720"/>
                          <a:ext cx="88200" cy="85680"/>
                          <a:chOff x="4260960" y="5598720"/>
                          <a:chExt cx="88200" cy="85680"/>
                        </a:xfrm>
                      </p:grpSpPr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 flipV="1">
                            <a:off x="4260960" y="5662080"/>
                            <a:ext cx="2952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 flipV="1">
                            <a:off x="4290480" y="5598720"/>
                            <a:ext cx="58680" cy="63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560" bIns="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7" name=""/>
                        <p:cNvGrpSpPr/>
                        <p:nvPr/>
                      </p:nvGrpSpPr>
                      <p:grpSpPr>
                        <a:xfrm>
                          <a:off x="4228920" y="5593320"/>
                          <a:ext cx="90000" cy="87840"/>
                          <a:chOff x="4228920" y="5593320"/>
                          <a:chExt cx="90000" cy="87840"/>
                        </a:xfrm>
                      </p:grpSpPr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 flipV="1">
                            <a:off x="4228920" y="5658840"/>
                            <a:ext cx="2988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 flipV="1">
                            <a:off x="4258800" y="5593320"/>
                            <a:ext cx="60120" cy="651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0" name=""/>
                        <p:cNvGrpSpPr/>
                        <p:nvPr/>
                      </p:nvGrpSpPr>
                      <p:grpSpPr>
                        <a:xfrm>
                          <a:off x="4197600" y="5592240"/>
                          <a:ext cx="88200" cy="85680"/>
                          <a:chOff x="4197600" y="5592240"/>
                          <a:chExt cx="88200" cy="85680"/>
                        </a:xfrm>
                      </p:grpSpPr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V="1">
                            <a:off x="4197600" y="5654160"/>
                            <a:ext cx="2988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 flipV="1">
                            <a:off x="4227480" y="5592240"/>
                            <a:ext cx="583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3711960" y="5565240"/>
                        <a:ext cx="644040" cy="633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3689640" y="5581080"/>
                        <a:ext cx="655200" cy="651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664800" y="5598720"/>
                        <a:ext cx="661320" cy="69840"/>
                      </a:xfrm>
                      <a:prstGeom prst="line">
                        <a:avLst/>
                      </a:prstGeom>
                      <a:ln w="792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336560" y="5610960"/>
                    <a:ext cx="92880" cy="100080"/>
                    <a:chOff x="4336560" y="5610960"/>
                    <a:chExt cx="92880" cy="10008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V="1">
                      <a:off x="4336560" y="5668200"/>
                      <a:ext cx="48960" cy="428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V="1">
                      <a:off x="4385520" y="5610960"/>
                      <a:ext cx="43920" cy="572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69" name=""/>
            <p:cNvGrpSpPr/>
            <p:nvPr/>
          </p:nvGrpSpPr>
          <p:grpSpPr>
            <a:xfrm>
              <a:off x="4767480" y="5106600"/>
              <a:ext cx="390240" cy="441360"/>
              <a:chOff x="4767480" y="5106600"/>
              <a:chExt cx="390240" cy="441360"/>
            </a:xfrm>
          </p:grpSpPr>
          <p:sp>
            <p:nvSpPr>
              <p:cNvPr id="370" name=""/>
              <p:cNvSpPr/>
              <p:nvPr/>
            </p:nvSpPr>
            <p:spPr>
              <a:xfrm>
                <a:off x="4767480" y="5224320"/>
                <a:ext cx="39024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4805280" y="5106600"/>
                <a:ext cx="351000" cy="433080"/>
                <a:chOff x="4805280" y="5106600"/>
                <a:chExt cx="351000" cy="4330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805280" y="5360400"/>
                  <a:ext cx="13032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4930200" y="5343120"/>
                  <a:ext cx="17676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4898520" y="54860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138280" y="53650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894200" y="55242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934520" y="54655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961160" y="5394960"/>
                  <a:ext cx="18036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5136840" y="53337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5101560" y="5106600"/>
                  <a:ext cx="38880" cy="297720"/>
                  <a:chOff x="5101560" y="5106600"/>
                  <a:chExt cx="38880" cy="2977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5121000" y="51066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5101920" y="51069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>
                    <a:off x="5101200" y="51188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5113080" y="51084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>
                  <a:off x="4830840" y="54309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848480" y="54475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4543560" y="5414760"/>
              <a:ext cx="260280" cy="38160"/>
            </a:xfrm>
            <a:custGeom>
              <a:avLst/>
              <a:gdLst/>
              <a:ahLst/>
              <a:rect l="l" t="t" r="r" b="b"/>
              <a:pathLst>
                <a:path w="164" h="24">
                  <a:moveTo>
                    <a:pt x="0" y="0"/>
                  </a:moveTo>
                  <a:cubicBezTo>
                    <a:pt x="35" y="11"/>
                    <a:pt x="70" y="22"/>
                    <a:pt x="97" y="23"/>
                  </a:cubicBezTo>
                  <a:cubicBezTo>
                    <a:pt x="124" y="24"/>
                    <a:pt x="144" y="16"/>
                    <a:pt x="164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5680" y="3313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3"/>
            <a:stretch/>
          </p:blipFill>
          <p:spPr>
            <a:xfrm>
              <a:off x="1200240" y="4186080"/>
              <a:ext cx="1332000" cy="100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"/>
            <p:cNvGrpSpPr/>
            <p:nvPr/>
          </p:nvGrpSpPr>
          <p:grpSpPr>
            <a:xfrm>
              <a:off x="2503440" y="3897000"/>
              <a:ext cx="142560" cy="418680"/>
              <a:chOff x="2503440" y="3897000"/>
              <a:chExt cx="142560" cy="418680"/>
            </a:xfrm>
          </p:grpSpPr>
          <p:sp>
            <p:nvSpPr>
              <p:cNvPr id="391" name=""/>
              <p:cNvSpPr/>
              <p:nvPr/>
            </p:nvSpPr>
            <p:spPr>
              <a:xfrm>
                <a:off x="2503440" y="4055760"/>
                <a:ext cx="142560" cy="259920"/>
              </a:xfrm>
              <a:custGeom>
                <a:avLst/>
                <a:gdLst>
                  <a:gd name="textAreaLeft" fmla="*/ 5040 w 142560"/>
                  <a:gd name="textAreaRight" fmla="*/ 137520 w 142560"/>
                  <a:gd name="textAreaTop" fmla="*/ 5040 h 259920"/>
                  <a:gd name="textAreaBottom" fmla="*/ 254880 h 259920"/>
                </a:gdLst>
                <a:ahLst/>
                <a:rect l="textAreaLeft" t="textAreaTop" r="textAreaRight" b="textAreaBottom"/>
                <a:pathLst>
                  <a:path w="21600" h="39337">
                    <a:moveTo>
                      <a:pt x="2699" y="0"/>
                    </a:moveTo>
                    <a:arcTo wR="2699" hR="2699" stAng="16200000" swAng="-5400000"/>
                    <a:lnTo>
                      <a:pt x="0" y="36638"/>
                    </a:lnTo>
                    <a:arcTo wR="2699" hR="2699" stAng="10800000" swAng="-5400000"/>
                    <a:lnTo>
                      <a:pt x="18901" y="39337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535120" y="3897000"/>
                <a:ext cx="0" cy="16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282760" y="4325760"/>
              <a:ext cx="292320" cy="739800"/>
            </a:xfrm>
            <a:custGeom>
              <a:avLst/>
              <a:gdLst/>
              <a:ahLst/>
              <a:rect l="l" t="t" r="r" b="b"/>
              <a:pathLst>
                <a:path w="184" h="466">
                  <a:moveTo>
                    <a:pt x="180" y="0"/>
                  </a:moveTo>
                  <a:cubicBezTo>
                    <a:pt x="182" y="27"/>
                    <a:pt x="184" y="55"/>
                    <a:pt x="180" y="114"/>
                  </a:cubicBezTo>
                  <a:cubicBezTo>
                    <a:pt x="176" y="173"/>
                    <a:pt x="174" y="298"/>
                    <a:pt x="156" y="354"/>
                  </a:cubicBezTo>
                  <a:cubicBezTo>
                    <a:pt x="138" y="410"/>
                    <a:pt x="98" y="434"/>
                    <a:pt x="72" y="450"/>
                  </a:cubicBezTo>
                  <a:cubicBezTo>
                    <a:pt x="46" y="466"/>
                    <a:pt x="17" y="453"/>
                    <a:pt x="0" y="4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22520" y="524952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Base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2225880" y="50781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4"/>
            <a:stretch/>
          </p:blipFill>
          <p:spPr>
            <a:xfrm>
              <a:off x="6077160" y="3747960"/>
              <a:ext cx="133164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527160" y="479232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B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31240" y="46209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7338960" y="4192200"/>
              <a:ext cx="390600" cy="441360"/>
              <a:chOff x="7338960" y="4192200"/>
              <a:chExt cx="390600" cy="441360"/>
            </a:xfrm>
          </p:grpSpPr>
          <p:sp>
            <p:nvSpPr>
              <p:cNvPr id="400" name=""/>
              <p:cNvSpPr/>
              <p:nvPr/>
            </p:nvSpPr>
            <p:spPr>
              <a:xfrm>
                <a:off x="7338960" y="4309920"/>
                <a:ext cx="39060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7376760" y="4192200"/>
                <a:ext cx="351360" cy="433080"/>
                <a:chOff x="7376760" y="4192200"/>
                <a:chExt cx="351360" cy="433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376760" y="4446000"/>
                  <a:ext cx="13068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502400" y="4428720"/>
                  <a:ext cx="1771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7470360" y="45716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710120" y="44506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466040" y="46098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506000" y="45511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533000" y="4480560"/>
                  <a:ext cx="18072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7708680" y="44193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7673400" y="4192200"/>
                  <a:ext cx="38880" cy="297720"/>
                  <a:chOff x="7673400" y="4192200"/>
                  <a:chExt cx="38880" cy="297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7692840" y="41922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7673760" y="41925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7673040" y="42044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7684920" y="41940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7402320" y="45165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419960" y="45331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7150320" y="4535280"/>
              <a:ext cx="257040" cy="73080"/>
            </a:xfrm>
            <a:custGeom>
              <a:avLst/>
              <a:gdLst/>
              <a:ahLst/>
              <a:rect l="l" t="t" r="r" b="b"/>
              <a:pathLst>
                <a:path w="162" h="46">
                  <a:moveTo>
                    <a:pt x="162" y="0"/>
                  </a:moveTo>
                  <a:cubicBezTo>
                    <a:pt x="142" y="19"/>
                    <a:pt x="123" y="38"/>
                    <a:pt x="96" y="42"/>
                  </a:cubicBezTo>
                  <a:cubicBezTo>
                    <a:pt x="69" y="46"/>
                    <a:pt x="34" y="35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41440" y="4141440"/>
              <a:ext cx="176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CR-2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32000" y="3084480"/>
              <a:ext cx="108828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SR-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NP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ccess Po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148280" y="3308040"/>
              <a:ext cx="950760" cy="577440"/>
              <a:chOff x="4148280" y="3308040"/>
              <a:chExt cx="950760" cy="577440"/>
            </a:xfrm>
          </p:grpSpPr>
          <p:sp>
            <p:nvSpPr>
              <p:cNvPr id="421" name=""/>
              <p:cNvSpPr/>
              <p:nvPr/>
            </p:nvSpPr>
            <p:spPr>
              <a:xfrm flipH="1" flipV="1">
                <a:off x="4617000" y="3449160"/>
                <a:ext cx="32760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191120" y="3462480"/>
                <a:ext cx="355320" cy="28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4294800" y="3477240"/>
                <a:ext cx="241560" cy="18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148280" y="3308040"/>
                <a:ext cx="350280" cy="148320"/>
                <a:chOff x="4148280" y="3308040"/>
                <a:chExt cx="350280" cy="14832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4429440" y="3319920"/>
                  <a:ext cx="68760" cy="1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" y="10065"/>
                      </a:moveTo>
                      <a:arcTo wR="10800" hR="10800" stAng="-10565799" swAng="5094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" y="10065"/>
                      </a:moveTo>
                      <a:arcTo wR="10800" hR="10800" stAng="-10565799" swAng="50943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4201560" y="3317760"/>
                  <a:ext cx="261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163760" y="3345480"/>
                  <a:ext cx="0" cy="8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4167000" y="3320640"/>
                  <a:ext cx="57960" cy="5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07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072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4166640" y="3386520"/>
                  <a:ext cx="2988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77"/>
                      </a:moveTo>
                      <a:arcTo wR="10800" hR="10800" stAng="-70871" swAng="54708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77"/>
                      </a:moveTo>
                      <a:arcTo wR="10800" hR="10800" stAng="-70871" swAng="54708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4188960" y="3308040"/>
                  <a:ext cx="2196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46"/>
                      </a:moveTo>
                      <a:arcTo wR="10800" hR="10800" stAng="-112673" swAng="5512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46"/>
                      </a:moveTo>
                      <a:arcTo wR="10800" hR="10800" stAng="-112673" swAng="55126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4147920" y="3347640"/>
                  <a:ext cx="4932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7" y="9791"/>
                      </a:moveTo>
                      <a:arcTo wR="10800" hR="10800" stAng="-10478352" swAng="49804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7" y="9791"/>
                      </a:moveTo>
                      <a:arcTo wR="10800" hR="10800" stAng="-10478352" swAng="49804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856760" y="3701880"/>
                <a:ext cx="242280" cy="183600"/>
                <a:chOff x="4856760" y="3701880"/>
                <a:chExt cx="242280" cy="1836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871880" y="3748320"/>
                  <a:ext cx="207720" cy="12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89880" y="3720240"/>
                  <a:ext cx="209160" cy="13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5074560" y="3854880"/>
                  <a:ext cx="19800" cy="30600"/>
                  <a:chOff x="5074560" y="3854880"/>
                  <a:chExt cx="19800" cy="306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>
                    <a:off x="5079240" y="3854880"/>
                    <a:ext cx="147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57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57365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5074200" y="386748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85567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855679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>
                    <a:off x="5078160" y="3875760"/>
                    <a:ext cx="11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4868640" y="3705480"/>
                  <a:ext cx="24480" cy="36360"/>
                  <a:chOff x="4868640" y="3705480"/>
                  <a:chExt cx="24480" cy="363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4868280" y="37054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4870800" y="371592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139" y="20"/>
                        </a:moveTo>
                        <a:arcTo wR="10800" hR="10800" stAng="-5610438" swAng="52379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139" y="20"/>
                        </a:moveTo>
                        <a:arcTo wR="10800" hR="10800" stAng="-5610438" swAng="523797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4872960" y="3715920"/>
                    <a:ext cx="162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735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7358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 flipH="1">
                  <a:off x="4859280" y="3704400"/>
                  <a:ext cx="4896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78" y="5"/>
                      </a:moveTo>
                      <a:arcTo wR="10800" hR="10800" stAng="-5502589" swAng="55025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78" y="5"/>
                      </a:moveTo>
                      <a:arcTo wR="10800" hR="10800" stAng="-5502589" swAng="550258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4856760" y="3701880"/>
                  <a:ext cx="46080" cy="5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6" y="10491"/>
                      </a:moveTo>
                      <a:arcTo wR="10800" hR="10800" stAng="-98425" swAng="56127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6" y="10491"/>
                      </a:moveTo>
                      <a:arcTo wR="10800" hR="10800" stAng="-98425" swAng="561270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4868640" y="3705120"/>
                  <a:ext cx="3276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" y="10331"/>
                      </a:moveTo>
                      <a:arcTo wR="10800" hR="10800" stAng="-10650627" swAng="51012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" y="10331"/>
                      </a:moveTo>
                      <a:arcTo wR="10800" hR="10800" stAng="-10650627" swAng="510125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4551120" y="3669480"/>
                <a:ext cx="416880" cy="86760"/>
                <a:chOff x="4551120" y="3669480"/>
                <a:chExt cx="416880" cy="867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4968000" y="3701160"/>
                  <a:ext cx="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4591080" y="3756240"/>
                  <a:ext cx="29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4551120" y="3737520"/>
                  <a:ext cx="74160" cy="1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6" y="10241"/>
                      </a:moveTo>
                      <a:arcTo wR="10800" hR="10800" stAng="-177935" swAng="564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6" y="10241"/>
                      </a:moveTo>
                      <a:arcTo wR="10800" hR="10800" stAng="-177935" swAng="564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4557960" y="368568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0735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07358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4581360" y="3690720"/>
                  <a:ext cx="37080" cy="1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178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17851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4560840" y="3669480"/>
                  <a:ext cx="13464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9" y="10318"/>
                      </a:moveTo>
                      <a:arcTo wR="10800" hR="10800" stAng="-153545" swAng="55928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9" y="10318"/>
                      </a:moveTo>
                      <a:arcTo wR="10800" hR="10800" stAng="-153545" swAng="559282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4657680" y="3690000"/>
                  <a:ext cx="23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4554360" y="3728880"/>
                  <a:ext cx="1620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53" y="21549"/>
                      </a:moveTo>
                      <a:arcTo wR="10800" hR="10800" stAng="5733792" swAng="5211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53" y="21549"/>
                      </a:moveTo>
                      <a:arcTo wR="10800" hR="10800" stAng="5733792" swAng="521196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4938480" y="3682080"/>
                  <a:ext cx="24840" cy="3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1980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19801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4915440" y="3679200"/>
                  <a:ext cx="30600" cy="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74" y="21587"/>
                      </a:moveTo>
                      <a:arcTo wR="10800" hR="10800" stAng="5567563" swAng="52324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74" y="21587"/>
                      </a:moveTo>
                      <a:arcTo wR="10800" hR="10800" stAng="5567563" swAng="523243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4915080" y="3688560"/>
                  <a:ext cx="38520" cy="1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652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6525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4950000" y="3739680"/>
                  <a:ext cx="14040" cy="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6981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6981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 flipH="1">
                <a:off x="4511880" y="3331080"/>
                <a:ext cx="96840" cy="11304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202280" y="3363120"/>
                <a:ext cx="86040" cy="11016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305240" y="3364560"/>
                <a:ext cx="208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4414680" y="3492720"/>
                <a:ext cx="404280" cy="151920"/>
                <a:chOff x="4414680" y="3492720"/>
                <a:chExt cx="404280" cy="15192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4619520" y="34927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4548240" y="34952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448200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441468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4682520" y="35355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542840" y="35384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4610160" y="35370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4476960" y="35398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47404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46720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60188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53600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800960" y="36219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459540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72716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663800" y="36244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007320" y="1457280"/>
              <a:ext cx="2558880" cy="2013480"/>
              <a:chOff x="6007320" y="1457280"/>
              <a:chExt cx="2558880" cy="2013480"/>
            </a:xfrm>
          </p:grpSpPr>
          <p:sp>
            <p:nvSpPr>
              <p:cNvPr id="480" name=""/>
              <p:cNvSpPr/>
              <p:nvPr/>
            </p:nvSpPr>
            <p:spPr>
              <a:xfrm>
                <a:off x="7026480" y="2363760"/>
                <a:ext cx="106200" cy="457200"/>
              </a:xfrm>
              <a:custGeom>
                <a:avLst/>
                <a:gdLst/>
                <a:ahLst/>
                <a:rect l="l" t="t" r="r" b="b"/>
                <a:pathLst>
                  <a:path w="67" h="288">
                    <a:moveTo>
                      <a:pt x="0" y="288"/>
                    </a:moveTo>
                    <a:cubicBezTo>
                      <a:pt x="22" y="288"/>
                      <a:pt x="45" y="288"/>
                      <a:pt x="56" y="240"/>
                    </a:cubicBezTo>
                    <a:cubicBezTo>
                      <a:pt x="67" y="192"/>
                      <a:pt x="65" y="96"/>
                      <a:pt x="6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07320" y="2171880"/>
                <a:ext cx="1201680" cy="9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2" name=""/>
              <p:cNvGrpSpPr/>
              <p:nvPr/>
            </p:nvGrpSpPr>
            <p:grpSpPr>
              <a:xfrm>
                <a:off x="7043760" y="1946160"/>
                <a:ext cx="142560" cy="418680"/>
                <a:chOff x="7043760" y="1946160"/>
                <a:chExt cx="142560" cy="4186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043760" y="2104920"/>
                  <a:ext cx="142560" cy="259920"/>
                </a:xfrm>
                <a:custGeom>
                  <a:avLst/>
                  <a:gdLst>
                    <a:gd name="textAreaLeft" fmla="*/ 5040 w 142560"/>
                    <a:gd name="textAreaRight" fmla="*/ 137520 w 142560"/>
                    <a:gd name="textAreaTop" fmla="*/ 5040 h 259920"/>
                    <a:gd name="textAreaBottom" fmla="*/ 254880 h 259920"/>
                  </a:gdLst>
                  <a:ahLst/>
                  <a:rect l="textAreaLeft" t="textAreaTop" r="textAreaRight" b="textAreaBottom"/>
                  <a:pathLst>
                    <a:path w="21600" h="39337">
                      <a:moveTo>
                        <a:pt x="2699" y="0"/>
                      </a:moveTo>
                      <a:arcTo wR="2699" hR="2699" stAng="16200000" swAng="-5400000"/>
                      <a:lnTo>
                        <a:pt x="0" y="36638"/>
                      </a:lnTo>
                      <a:arcTo wR="2699" hR="2699" stAng="10800000" swAng="-5400000"/>
                      <a:lnTo>
                        <a:pt x="18901" y="39337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7075440" y="1946160"/>
                  <a:ext cx="0" cy="169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6805800" y="1457280"/>
                <a:ext cx="17604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R-2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ireless PN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91560" y="3194280"/>
                <a:ext cx="13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BaseT Inter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7056720" y="2860200"/>
                <a:ext cx="317520" cy="2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8" name="" descr=""/>
            <p:cNvPicPr/>
            <p:nvPr/>
          </p:nvPicPr>
          <p:blipFill>
            <a:blip r:embed="rId6"/>
            <a:srcRect l="0" t="21902" r="0" b="11402"/>
            <a:stretch/>
          </p:blipFill>
          <p:spPr>
            <a:xfrm>
              <a:off x="4124520" y="2003040"/>
              <a:ext cx="1712880" cy="8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/>
          <p:nvPr/>
        </p:nvSpPr>
        <p:spPr>
          <a:xfrm>
            <a:off x="1188360" y="19368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D DE ÁREA LOCAL INALÁMBRICA (W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52760" y="177840"/>
            <a:ext cx="4089240" cy="46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62160" cy="38768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707000" y="1447920"/>
            <a:ext cx="3935520" cy="4876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593800" y="1555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NTO DE ACCESO 802.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03320" y="406440"/>
            <a:ext cx="6997680" cy="44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667040" cy="264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4648320" y="2000160"/>
            <a:ext cx="3976560" cy="3235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000080" y="3808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PCMCIA PARA NOTEBOOK 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371840" cy="2419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62680" cy="38545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736560" y="355680"/>
            <a:ext cx="7912080" cy="497520"/>
            <a:chOff x="736560" y="355680"/>
            <a:chExt cx="7912080" cy="497520"/>
          </a:xfrm>
        </p:grpSpPr>
        <p:sp>
          <p:nvSpPr>
            <p:cNvPr id="501" name=""/>
            <p:cNvSpPr/>
            <p:nvPr/>
          </p:nvSpPr>
          <p:spPr>
            <a:xfrm>
              <a:off x="736560" y="355680"/>
              <a:ext cx="7912080" cy="495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7080" y="393480"/>
              <a:ext cx="77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ARJETA PCMCIA PARA NOTEBOOK  en 5 GHz 802.1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157400"/>
            <a:ext cx="7920000" cy="471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68520" y="450720"/>
            <a:ext cx="64180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CIMIENTO PUNTOS DE ACCESO Wi - Fi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825480" y="152280"/>
            <a:ext cx="7975800" cy="4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33720" cy="4496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1320" y="1295280"/>
            <a:ext cx="4792680" cy="51055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077120" y="1522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ARJETA PCI INALÁMBRICA EN 2,4GHz PAR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542600" y="203040"/>
            <a:ext cx="652068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VELES DE SEGURIDAD IMPLEMENT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A TECNOLOGÍA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91240" y="1447920"/>
            <a:ext cx="8589600" cy="4699440"/>
            <a:chOff x="291240" y="1447920"/>
            <a:chExt cx="8589600" cy="4699440"/>
          </a:xfrm>
        </p:grpSpPr>
        <p:sp>
          <p:nvSpPr>
            <p:cNvPr id="509" name=""/>
            <p:cNvSpPr/>
            <p:nvPr/>
          </p:nvSpPr>
          <p:spPr>
            <a:xfrm>
              <a:off x="482760" y="4699080"/>
              <a:ext cx="125712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Oper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por def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4360" y="3809880"/>
              <a:ext cx="888840" cy="144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 ú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SS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ifund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inhabili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57680" y="3162240"/>
              <a:ext cx="1054080" cy="2108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Llav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25880" y="2768760"/>
              <a:ext cx="1054080" cy="251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bie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94440" y="2222640"/>
              <a:ext cx="1054080" cy="308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basado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75240" y="1854360"/>
              <a:ext cx="1054440" cy="3454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56400" y="1447920"/>
              <a:ext cx="1054080" cy="38732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MIC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KIP,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5040" y="5676840"/>
              <a:ext cx="793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1240" y="584028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I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4240" y="582948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CO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31800" y="1082520"/>
            <a:ext cx="8166240" cy="539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41680" y="295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1082520"/>
            <a:ext cx="820764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nología inalámbrica de bajo costo, baja potencia, de corto alcanc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ectar terminales móviles y WANLAN desarrollada por Ericsson en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1998 se forma Bluetooth Special Interest Group (SIG). Participan 3Co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ricsson, IBM, Intel, Lucent, Microsoft, Motorola, Nokia, Toshiba y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 transmisión de voz y datos en la banda ISM de 2,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capacidad de datos máxima es de 720 kbps con 1 megasamples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ndo y por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siete enlaces simulta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tencia activa de 0,001 W para 10 m y 0,1 W para 100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istema opera con salto de frecuencia (1.600 saltos x seg) y 79 fr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1 MHz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255 estaciones esclavas por picored, con 2 mseg por term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cance 10 m o menos y hasta 100 m con ampl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 un estándar uni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idad en la cap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 espera 700 millones de aparatos el 2005 con 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por terminal a largo plazo US$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0" r="405" b="0"/>
          <a:stretch/>
        </p:blipFill>
        <p:spPr>
          <a:xfrm>
            <a:off x="914400" y="3657600"/>
            <a:ext cx="2427120" cy="132084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1440000" y="1603440"/>
            <a:ext cx="942840" cy="1187640"/>
            <a:chOff x="1440000" y="1603440"/>
            <a:chExt cx="942840" cy="1187640"/>
          </a:xfrm>
        </p:grpSpPr>
        <p:pic>
          <p:nvPicPr>
            <p:cNvPr id="524" name="" descr=""/>
            <p:cNvPicPr/>
            <p:nvPr/>
          </p:nvPicPr>
          <p:blipFill>
            <a:blip r:embed="rId2"/>
            <a:srcRect l="0" t="0" r="83010" b="65153"/>
            <a:stretch/>
          </p:blipFill>
          <p:spPr>
            <a:xfrm>
              <a:off x="1440000" y="1603440"/>
              <a:ext cx="942840" cy="94032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25" name=""/>
            <p:cNvSpPr/>
            <p:nvPr/>
          </p:nvSpPr>
          <p:spPr>
            <a:xfrm>
              <a:off x="1654920" y="251460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rcRect l="0" t="0" r="405" b="0"/>
          <a:stretch/>
        </p:blipFill>
        <p:spPr>
          <a:xfrm>
            <a:off x="3936960" y="175428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flipV="1">
            <a:off x="5172120" y="185400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0380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10624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56280" y="1892160"/>
            <a:ext cx="33120" cy="14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rcRect l="0" t="0" r="405" b="0"/>
          <a:stretch/>
        </p:blipFill>
        <p:spPr>
          <a:xfrm>
            <a:off x="3132000" y="303696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4325760" y="31413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5780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6096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09920" y="31798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5"/>
          <a:srcRect l="0" t="0" r="405" b="0"/>
          <a:stretch/>
        </p:blipFill>
        <p:spPr>
          <a:xfrm>
            <a:off x="2311560" y="4359240"/>
            <a:ext cx="2427120" cy="1320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flipV="1">
            <a:off x="3546360" y="44589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7840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48156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30520" y="44974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149560" y="383508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8124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08368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873600"/>
            <a:ext cx="3312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077920" y="2608200"/>
            <a:ext cx="1415520" cy="609840"/>
            <a:chOff x="2077920" y="2608200"/>
            <a:chExt cx="1415520" cy="609840"/>
          </a:xfrm>
        </p:grpSpPr>
        <p:pic>
          <p:nvPicPr>
            <p:cNvPr id="546" name="" descr=""/>
            <p:cNvPicPr/>
            <p:nvPr/>
          </p:nvPicPr>
          <p:blipFill>
            <a:blip r:embed="rId6"/>
            <a:stretch/>
          </p:blipFill>
          <p:spPr>
            <a:xfrm>
              <a:off x="2077920" y="2643840"/>
              <a:ext cx="1382040" cy="57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7" name=""/>
            <p:cNvGrpSpPr/>
            <p:nvPr/>
          </p:nvGrpSpPr>
          <p:grpSpPr>
            <a:xfrm>
              <a:off x="3399120" y="2608200"/>
              <a:ext cx="94320" cy="70200"/>
              <a:chOff x="3399120" y="2608200"/>
              <a:chExt cx="94320" cy="70200"/>
            </a:xfrm>
          </p:grpSpPr>
          <p:sp>
            <p:nvSpPr>
              <p:cNvPr id="548" name=""/>
              <p:cNvSpPr/>
              <p:nvPr/>
            </p:nvSpPr>
            <p:spPr>
              <a:xfrm flipH="1">
                <a:off x="3399120" y="2608200"/>
                <a:ext cx="94320" cy="6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98" y="17"/>
                    </a:moveTo>
                    <a:arcTo wR="10800" hR="10800" stAng="-5591823" swAng="10710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98" y="17"/>
                    </a:moveTo>
                    <a:arcTo wR="10800" hR="10800" stAng="-5591823" swAng="10710677"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427200" y="2608200"/>
                <a:ext cx="39600" cy="7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" name=""/>
          <p:cNvSpPr/>
          <p:nvPr/>
        </p:nvSpPr>
        <p:spPr>
          <a:xfrm>
            <a:off x="2128680" y="2197080"/>
            <a:ext cx="492120" cy="587520"/>
          </a:xfrm>
          <a:custGeom>
            <a:avLst/>
            <a:gdLst/>
            <a:ahLst/>
            <a:rect l="l" t="t" r="r" b="b"/>
            <a:pathLst>
              <a:path w="310" h="370">
                <a:moveTo>
                  <a:pt x="310" y="3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992840" y="2274840"/>
            <a:ext cx="504360" cy="573120"/>
            <a:chOff x="4992840" y="2274840"/>
            <a:chExt cx="504360" cy="573120"/>
          </a:xfrm>
        </p:grpSpPr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4992840" y="2274840"/>
              <a:ext cx="46656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3" name=""/>
            <p:cNvSpPr/>
            <p:nvPr/>
          </p:nvSpPr>
          <p:spPr>
            <a:xfrm>
              <a:off x="4995000" y="25714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308400" y="4946760"/>
            <a:ext cx="504720" cy="572760"/>
            <a:chOff x="3308400" y="4946760"/>
            <a:chExt cx="504720" cy="572760"/>
          </a:xfrm>
        </p:grpSpPr>
        <p:pic>
          <p:nvPicPr>
            <p:cNvPr id="555" name="" descr=""/>
            <p:cNvPicPr/>
            <p:nvPr/>
          </p:nvPicPr>
          <p:blipFill>
            <a:blip r:embed="rId8"/>
            <a:stretch/>
          </p:blipFill>
          <p:spPr>
            <a:xfrm>
              <a:off x="3308400" y="49467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3310920" y="52430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996920" y="4287960"/>
            <a:ext cx="504720" cy="572760"/>
            <a:chOff x="1996920" y="4287960"/>
            <a:chExt cx="504720" cy="572760"/>
          </a:xfrm>
        </p:grpSpPr>
        <p:pic>
          <p:nvPicPr>
            <p:cNvPr id="558" name="" descr=""/>
            <p:cNvPicPr/>
            <p:nvPr/>
          </p:nvPicPr>
          <p:blipFill>
            <a:blip r:embed="rId9"/>
            <a:stretch/>
          </p:blipFill>
          <p:spPr>
            <a:xfrm>
              <a:off x="1996920" y="42879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9" name=""/>
            <p:cNvSpPr/>
            <p:nvPr/>
          </p:nvSpPr>
          <p:spPr>
            <a:xfrm>
              <a:off x="1999440" y="45842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170240" y="3610080"/>
            <a:ext cx="504720" cy="572760"/>
            <a:chOff x="4170240" y="3610080"/>
            <a:chExt cx="504720" cy="572760"/>
          </a:xfrm>
        </p:grpSpPr>
        <p:pic>
          <p:nvPicPr>
            <p:cNvPr id="561" name="" descr=""/>
            <p:cNvPicPr/>
            <p:nvPr/>
          </p:nvPicPr>
          <p:blipFill>
            <a:blip r:embed="rId10"/>
            <a:stretch/>
          </p:blipFill>
          <p:spPr>
            <a:xfrm>
              <a:off x="4170240" y="361008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62" name=""/>
            <p:cNvSpPr/>
            <p:nvPr/>
          </p:nvSpPr>
          <p:spPr>
            <a:xfrm>
              <a:off x="4172760" y="3906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H="1">
            <a:off x="2197080" y="2647800"/>
            <a:ext cx="1241280" cy="1214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38360" y="2660760"/>
            <a:ext cx="109800" cy="1828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9760" y="2660760"/>
            <a:ext cx="833400" cy="519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438360" y="1938240"/>
            <a:ext cx="1706760" cy="695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6720" y="45720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S DE UN SISTEMA PÚBLICO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03040" y="5029200"/>
            <a:ext cx="35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SS: Sistema de Soporte de 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AC: Controladores de Acces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1808280" y="1560600"/>
            <a:ext cx="5657760" cy="2949120"/>
            <a:chOff x="1808280" y="1560600"/>
            <a:chExt cx="5657760" cy="2949120"/>
          </a:xfrm>
        </p:grpSpPr>
        <p:sp>
          <p:nvSpPr>
            <p:cNvPr id="570" name=""/>
            <p:cNvSpPr/>
            <p:nvPr/>
          </p:nvSpPr>
          <p:spPr>
            <a:xfrm>
              <a:off x="5033880" y="243036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8"/>
                  </a:move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30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3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3" y="1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4" y="34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91" y="4"/>
                  </a:lnTo>
                  <a:lnTo>
                    <a:pt x="95" y="14"/>
                  </a:ln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41800" y="2636640"/>
              <a:ext cx="1317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20" y="59"/>
                  </a:lnTo>
                  <a:lnTo>
                    <a:pt x="30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4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4" y="133"/>
                  </a:moveTo>
                  <a:lnTo>
                    <a:pt x="34" y="133"/>
                  </a:lnTo>
                  <a:lnTo>
                    <a:pt x="34" y="133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4" y="72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4" y="133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19640" y="26222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7" y="149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2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49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4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5" y="153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9640" y="243036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49" y="30"/>
                  </a:lnTo>
                  <a:lnTo>
                    <a:pt x="61" y="20"/>
                  </a:lnTo>
                  <a:lnTo>
                    <a:pt x="77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5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7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60880" y="2452680"/>
              <a:ext cx="276120" cy="277200"/>
            </a:xfrm>
            <a:custGeom>
              <a:avLst/>
              <a:gdLst/>
              <a:ahLst/>
              <a:rect l="l" t="t" r="r" b="b"/>
              <a:pathLst>
                <a:path w="347" h="350">
                  <a:moveTo>
                    <a:pt x="170" y="350"/>
                  </a:moveTo>
                  <a:lnTo>
                    <a:pt x="347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0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08720" y="241452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30" y="119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2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9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4" y="33"/>
                  </a:moveTo>
                  <a:lnTo>
                    <a:pt x="34" y="33"/>
                  </a:lnTo>
                  <a:lnTo>
                    <a:pt x="34" y="33"/>
                  </a:lnTo>
                  <a:lnTo>
                    <a:pt x="73" y="3"/>
                  </a:lnTo>
                  <a:lnTo>
                    <a:pt x="81" y="0"/>
                  </a:lnTo>
                  <a:lnTo>
                    <a:pt x="90" y="3"/>
                  </a:lnTo>
                  <a:lnTo>
                    <a:pt x="94" y="13"/>
                  </a:ln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4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16640" y="26222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20" y="138"/>
                  </a:lnTo>
                  <a:lnTo>
                    <a:pt x="108" y="148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3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4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95920" y="260640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50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8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5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4"/>
                  </a:lnTo>
                  <a:lnTo>
                    <a:pt x="86" y="168"/>
                  </a:lnTo>
                  <a:lnTo>
                    <a:pt x="96" y="16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95920" y="241452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6" y="17"/>
                  </a:move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7" y="90"/>
                  </a:lnTo>
                  <a:lnTo>
                    <a:pt x="151" y="92"/>
                  </a:lnTo>
                  <a:lnTo>
                    <a:pt x="147" y="108"/>
                  </a:lnTo>
                  <a:lnTo>
                    <a:pt x="139" y="119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49" y="29"/>
                  </a:lnTo>
                  <a:lnTo>
                    <a:pt x="61" y="19"/>
                  </a:lnTo>
                  <a:lnTo>
                    <a:pt x="76" y="17"/>
                  </a:lnTo>
                  <a:close/>
                  <a:moveTo>
                    <a:pt x="135" y="33"/>
                  </a:moveTo>
                  <a:lnTo>
                    <a:pt x="135" y="33"/>
                  </a:lnTo>
                  <a:lnTo>
                    <a:pt x="135" y="33"/>
                  </a:lnTo>
                  <a:lnTo>
                    <a:pt x="96" y="3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4" y="13"/>
                  </a:ln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5" y="90"/>
                  </a:lnTo>
                  <a:lnTo>
                    <a:pt x="155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5" y="33"/>
                  </a:lnTo>
                  <a:lnTo>
                    <a:pt x="135" y="33"/>
                  </a:lnTo>
                  <a:lnTo>
                    <a:pt x="13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37160" y="243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7880" y="24350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88" y="20"/>
                  </a:lnTo>
                  <a:lnTo>
                    <a:pt x="86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20" y="106"/>
                  </a:lnTo>
                  <a:lnTo>
                    <a:pt x="27" y="120"/>
                  </a:lnTo>
                  <a:lnTo>
                    <a:pt x="65" y="155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6" y="155"/>
                  </a:lnTo>
                  <a:lnTo>
                    <a:pt x="155" y="116"/>
                  </a:lnTo>
                  <a:lnTo>
                    <a:pt x="163" y="104"/>
                  </a:lnTo>
                  <a:lnTo>
                    <a:pt x="167" y="91"/>
                  </a:lnTo>
                  <a:lnTo>
                    <a:pt x="163" y="77"/>
                  </a:lnTo>
                  <a:lnTo>
                    <a:pt x="155" y="65"/>
                  </a:lnTo>
                  <a:lnTo>
                    <a:pt x="120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2" y="93"/>
                  </a:lnTo>
                  <a:lnTo>
                    <a:pt x="4" y="89"/>
                  </a:lnTo>
                  <a:lnTo>
                    <a:pt x="0" y="81"/>
                  </a:lnTo>
                  <a:lnTo>
                    <a:pt x="4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96160" y="263988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88" y="147"/>
                  </a:lnTo>
                  <a:lnTo>
                    <a:pt x="86" y="145"/>
                  </a:lnTo>
                  <a:lnTo>
                    <a:pt x="51" y="116"/>
                  </a:lnTo>
                  <a:lnTo>
                    <a:pt x="21" y="80"/>
                  </a:lnTo>
                  <a:lnTo>
                    <a:pt x="21" y="78"/>
                  </a:lnTo>
                  <a:lnTo>
                    <a:pt x="17" y="74"/>
                  </a:lnTo>
                  <a:lnTo>
                    <a:pt x="19" y="61"/>
                  </a:lnTo>
                  <a:lnTo>
                    <a:pt x="27" y="47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104" y="4"/>
                  </a:lnTo>
                  <a:lnTo>
                    <a:pt x="116" y="11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19" y="139"/>
                  </a:lnTo>
                  <a:lnTo>
                    <a:pt x="106" y="147"/>
                  </a:lnTo>
                  <a:lnTo>
                    <a:pt x="92" y="149"/>
                  </a:lnTo>
                  <a:close/>
                  <a:moveTo>
                    <a:pt x="31" y="135"/>
                  </a:moveTo>
                  <a:lnTo>
                    <a:pt x="31" y="135"/>
                  </a:lnTo>
                  <a:lnTo>
                    <a:pt x="31" y="135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88" y="163"/>
                  </a:lnTo>
                  <a:lnTo>
                    <a:pt x="92" y="155"/>
                  </a:lnTo>
                  <a:lnTo>
                    <a:pt x="88" y="145"/>
                  </a:lnTo>
                  <a:lnTo>
                    <a:pt x="88" y="145"/>
                  </a:lnTo>
                  <a:lnTo>
                    <a:pt x="51" y="116"/>
                  </a:lnTo>
                  <a:lnTo>
                    <a:pt x="23" y="80"/>
                  </a:lnTo>
                  <a:lnTo>
                    <a:pt x="21" y="78"/>
                  </a:lnTo>
                  <a:lnTo>
                    <a:pt x="11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1" y="135"/>
                  </a:lnTo>
                  <a:lnTo>
                    <a:pt x="31" y="135"/>
                  </a:lnTo>
                  <a:lnTo>
                    <a:pt x="31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75440" y="262404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0" y="75"/>
                  </a:moveTo>
                  <a:lnTo>
                    <a:pt x="146" y="79"/>
                  </a:lnTo>
                  <a:lnTo>
                    <a:pt x="144" y="81"/>
                  </a:lnTo>
                  <a:lnTo>
                    <a:pt x="116" y="116"/>
                  </a:lnTo>
                  <a:lnTo>
                    <a:pt x="79" y="145"/>
                  </a:lnTo>
                  <a:lnTo>
                    <a:pt x="77" y="147"/>
                  </a:lnTo>
                  <a:lnTo>
                    <a:pt x="75" y="151"/>
                  </a:lnTo>
                  <a:lnTo>
                    <a:pt x="61" y="147"/>
                  </a:lnTo>
                  <a:lnTo>
                    <a:pt x="48" y="140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50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49"/>
                  </a:lnTo>
                  <a:lnTo>
                    <a:pt x="148" y="61"/>
                  </a:lnTo>
                  <a:lnTo>
                    <a:pt x="150" y="75"/>
                  </a:lnTo>
                  <a:close/>
                  <a:moveTo>
                    <a:pt x="134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6" y="75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14" y="116"/>
                  </a:lnTo>
                  <a:lnTo>
                    <a:pt x="79" y="145"/>
                  </a:lnTo>
                  <a:lnTo>
                    <a:pt x="77" y="145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5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75440" y="24350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0" y="93"/>
                  </a:lnTo>
                  <a:lnTo>
                    <a:pt x="148" y="106"/>
                  </a:lnTo>
                  <a:lnTo>
                    <a:pt x="140" y="120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50" y="155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8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5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4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14880" y="2457360"/>
              <a:ext cx="277920" cy="27576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173" y="348"/>
                  </a:moveTo>
                  <a:lnTo>
                    <a:pt x="350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54560" y="358452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29" y="120"/>
                  </a:lnTo>
                  <a:lnTo>
                    <a:pt x="65" y="158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8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2" y="18"/>
                  </a:lnTo>
                  <a:close/>
                  <a:moveTo>
                    <a:pt x="33" y="34"/>
                  </a:moveTo>
                  <a:lnTo>
                    <a:pt x="33" y="34"/>
                  </a:lnTo>
                  <a:lnTo>
                    <a:pt x="33" y="34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90" y="4"/>
                  </a:lnTo>
                  <a:lnTo>
                    <a:pt x="94" y="14"/>
                  </a:ln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2840" y="37922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7" y="75"/>
                  </a:lnTo>
                  <a:lnTo>
                    <a:pt x="19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6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4" y="73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42120" y="3776400"/>
              <a:ext cx="133200" cy="1332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0" y="148"/>
                  </a:lnTo>
                  <a:lnTo>
                    <a:pt x="49" y="140"/>
                  </a:lnTo>
                  <a:lnTo>
                    <a:pt x="11" y="102"/>
                  </a:lnTo>
                  <a:lnTo>
                    <a:pt x="3" y="91"/>
                  </a:lnTo>
                  <a:lnTo>
                    <a:pt x="0" y="77"/>
                  </a:lnTo>
                  <a:lnTo>
                    <a:pt x="3" y="61"/>
                  </a:lnTo>
                  <a:lnTo>
                    <a:pt x="11" y="49"/>
                  </a:lnTo>
                  <a:lnTo>
                    <a:pt x="51" y="10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4" y="95"/>
                  </a:lnTo>
                  <a:lnTo>
                    <a:pt x="166" y="87"/>
                  </a:lnTo>
                  <a:lnTo>
                    <a:pt x="164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42120" y="358452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76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8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2" y="165"/>
                  </a:lnTo>
                  <a:lnTo>
                    <a:pt x="51" y="158"/>
                  </a:lnTo>
                  <a:lnTo>
                    <a:pt x="11" y="118"/>
                  </a:lnTo>
                  <a:lnTo>
                    <a:pt x="3" y="106"/>
                  </a:lnTo>
                  <a:lnTo>
                    <a:pt x="0" y="93"/>
                  </a:lnTo>
                  <a:lnTo>
                    <a:pt x="3" y="77"/>
                  </a:lnTo>
                  <a:lnTo>
                    <a:pt x="11" y="65"/>
                  </a:lnTo>
                  <a:lnTo>
                    <a:pt x="49" y="30"/>
                  </a:lnTo>
                  <a:lnTo>
                    <a:pt x="60" y="20"/>
                  </a:lnTo>
                  <a:lnTo>
                    <a:pt x="76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4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6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83360" y="360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833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8" y="92"/>
                  </a:lnTo>
                  <a:lnTo>
                    <a:pt x="21" y="106"/>
                  </a:lnTo>
                  <a:lnTo>
                    <a:pt x="29" y="119"/>
                  </a:lnTo>
                  <a:lnTo>
                    <a:pt x="65" y="155"/>
                  </a:lnTo>
                  <a:lnTo>
                    <a:pt x="78" y="163"/>
                  </a:lnTo>
                  <a:lnTo>
                    <a:pt x="92" y="167"/>
                  </a:lnTo>
                  <a:lnTo>
                    <a:pt x="106" y="163"/>
                  </a:lnTo>
                  <a:lnTo>
                    <a:pt x="118" y="155"/>
                  </a:lnTo>
                  <a:lnTo>
                    <a:pt x="157" y="116"/>
                  </a:lnTo>
                  <a:lnTo>
                    <a:pt x="165" y="104"/>
                  </a:lnTo>
                  <a:lnTo>
                    <a:pt x="167" y="90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7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3" y="31"/>
                  </a:moveTo>
                  <a:lnTo>
                    <a:pt x="33" y="31"/>
                  </a:lnTo>
                  <a:lnTo>
                    <a:pt x="33" y="31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90" y="3"/>
                  </a:lnTo>
                  <a:lnTo>
                    <a:pt x="94" y="1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4" y="88"/>
                  </a:lnTo>
                  <a:lnTo>
                    <a:pt x="0" y="80"/>
                  </a:lnTo>
                  <a:lnTo>
                    <a:pt x="4" y="70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9124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90" y="148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7" y="75"/>
                  </a:lnTo>
                  <a:lnTo>
                    <a:pt x="21" y="61"/>
                  </a:lnTo>
                  <a:lnTo>
                    <a:pt x="29" y="49"/>
                  </a:lnTo>
                  <a:lnTo>
                    <a:pt x="64" y="12"/>
                  </a:lnTo>
                  <a:lnTo>
                    <a:pt x="78" y="4"/>
                  </a:lnTo>
                  <a:lnTo>
                    <a:pt x="92" y="0"/>
                  </a:lnTo>
                  <a:lnTo>
                    <a:pt x="106" y="4"/>
                  </a:lnTo>
                  <a:lnTo>
                    <a:pt x="118" y="12"/>
                  </a:lnTo>
                  <a:lnTo>
                    <a:pt x="157" y="51"/>
                  </a:lnTo>
                  <a:lnTo>
                    <a:pt x="165" y="63"/>
                  </a:lnTo>
                  <a:lnTo>
                    <a:pt x="167" y="77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19" y="140"/>
                  </a:lnTo>
                  <a:lnTo>
                    <a:pt x="108" y="148"/>
                  </a:lnTo>
                  <a:lnTo>
                    <a:pt x="92" y="150"/>
                  </a:lnTo>
                  <a:close/>
                  <a:moveTo>
                    <a:pt x="33" y="136"/>
                  </a:moveTo>
                  <a:lnTo>
                    <a:pt x="33" y="136"/>
                  </a:lnTo>
                  <a:lnTo>
                    <a:pt x="33" y="136"/>
                  </a:lnTo>
                  <a:lnTo>
                    <a:pt x="72" y="163"/>
                  </a:lnTo>
                  <a:lnTo>
                    <a:pt x="82" y="167"/>
                  </a:lnTo>
                  <a:lnTo>
                    <a:pt x="90" y="163"/>
                  </a:lnTo>
                  <a:lnTo>
                    <a:pt x="94" y="155"/>
                  </a:lnTo>
                  <a:lnTo>
                    <a:pt x="90" y="146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3" y="75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4" y="96"/>
                  </a:lnTo>
                  <a:lnTo>
                    <a:pt x="33" y="136"/>
                  </a:lnTo>
                  <a:lnTo>
                    <a:pt x="33" y="136"/>
                  </a:lnTo>
                  <a:lnTo>
                    <a:pt x="33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70520" y="37638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2" y="77"/>
                  </a:move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8"/>
                  </a:lnTo>
                  <a:lnTo>
                    <a:pt x="77" y="152"/>
                  </a:lnTo>
                  <a:lnTo>
                    <a:pt x="61" y="148"/>
                  </a:lnTo>
                  <a:lnTo>
                    <a:pt x="50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3"/>
                  </a:lnTo>
                  <a:lnTo>
                    <a:pt x="12" y="52"/>
                  </a:lnTo>
                  <a:lnTo>
                    <a:pt x="52" y="12"/>
                  </a:lnTo>
                  <a:lnTo>
                    <a:pt x="63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50"/>
                  </a:lnTo>
                  <a:lnTo>
                    <a:pt x="148" y="61"/>
                  </a:lnTo>
                  <a:lnTo>
                    <a:pt x="152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5" y="97"/>
                  </a:lnTo>
                  <a:lnTo>
                    <a:pt x="167" y="87"/>
                  </a:lnTo>
                  <a:lnTo>
                    <a:pt x="165" y="79"/>
                  </a:lnTo>
                  <a:lnTo>
                    <a:pt x="156" y="75"/>
                  </a:ln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6"/>
                  </a:lnTo>
                  <a:lnTo>
                    <a:pt x="75" y="156"/>
                  </a:lnTo>
                  <a:lnTo>
                    <a:pt x="79" y="164"/>
                  </a:lnTo>
                  <a:lnTo>
                    <a:pt x="87" y="168"/>
                  </a:lnTo>
                  <a:lnTo>
                    <a:pt x="97" y="164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05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7"/>
                  </a:move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2" y="92"/>
                  </a:lnTo>
                  <a:lnTo>
                    <a:pt x="148" y="106"/>
                  </a:lnTo>
                  <a:lnTo>
                    <a:pt x="140" y="119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3" y="163"/>
                  </a:lnTo>
                  <a:lnTo>
                    <a:pt x="52" y="155"/>
                  </a:lnTo>
                  <a:lnTo>
                    <a:pt x="12" y="116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50" y="27"/>
                  </a:lnTo>
                  <a:lnTo>
                    <a:pt x="61" y="19"/>
                  </a:lnTo>
                  <a:lnTo>
                    <a:pt x="77" y="17"/>
                  </a:lnTo>
                  <a:close/>
                  <a:moveTo>
                    <a:pt x="136" y="31"/>
                  </a:moveTo>
                  <a:lnTo>
                    <a:pt x="136" y="31"/>
                  </a:lnTo>
                  <a:lnTo>
                    <a:pt x="136" y="3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79" y="3"/>
                  </a:lnTo>
                  <a:lnTo>
                    <a:pt x="75" y="11"/>
                  </a:ln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6" y="92"/>
                  </a:lnTo>
                  <a:lnTo>
                    <a:pt x="163" y="88"/>
                  </a:lnTo>
                  <a:lnTo>
                    <a:pt x="167" y="80"/>
                  </a:lnTo>
                  <a:lnTo>
                    <a:pt x="165" y="70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6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11760" y="3597120"/>
              <a:ext cx="276480" cy="27576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71" y="348"/>
                  </a:moveTo>
                  <a:lnTo>
                    <a:pt x="348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24680" y="358920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32600" y="379548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9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1188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7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1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11880" y="35892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51680" y="3612960"/>
              <a:ext cx="277920" cy="27576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32600" y="31478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7"/>
                  </a:moveTo>
                  <a:lnTo>
                    <a:pt x="89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2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28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1" y="167"/>
                  </a:lnTo>
                  <a:lnTo>
                    <a:pt x="104" y="165"/>
                  </a:lnTo>
                  <a:lnTo>
                    <a:pt x="116" y="157"/>
                  </a:lnTo>
                  <a:lnTo>
                    <a:pt x="155" y="118"/>
                  </a:lnTo>
                  <a:lnTo>
                    <a:pt x="163" y="106"/>
                  </a:lnTo>
                  <a:lnTo>
                    <a:pt x="167" y="92"/>
                  </a:lnTo>
                  <a:lnTo>
                    <a:pt x="163" y="76"/>
                  </a:lnTo>
                  <a:lnTo>
                    <a:pt x="155" y="65"/>
                  </a:lnTo>
                  <a:lnTo>
                    <a:pt x="120" y="29"/>
                  </a:lnTo>
                  <a:lnTo>
                    <a:pt x="106" y="19"/>
                  </a:lnTo>
                  <a:lnTo>
                    <a:pt x="93" y="17"/>
                  </a:lnTo>
                  <a:close/>
                  <a:moveTo>
                    <a:pt x="32" y="33"/>
                  </a:moveTo>
                  <a:lnTo>
                    <a:pt x="32" y="33"/>
                  </a:lnTo>
                  <a:lnTo>
                    <a:pt x="32" y="33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89" y="4"/>
                  </a:lnTo>
                  <a:lnTo>
                    <a:pt x="93" y="13"/>
                  </a:lnTo>
                  <a:lnTo>
                    <a:pt x="91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2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40520" y="33559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89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2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8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0" y="0"/>
                  </a:lnTo>
                  <a:lnTo>
                    <a:pt x="104" y="2"/>
                  </a:lnTo>
                  <a:lnTo>
                    <a:pt x="116" y="10"/>
                  </a:lnTo>
                  <a:lnTo>
                    <a:pt x="155" y="49"/>
                  </a:lnTo>
                  <a:lnTo>
                    <a:pt x="163" y="61"/>
                  </a:lnTo>
                  <a:lnTo>
                    <a:pt x="167" y="75"/>
                  </a:lnTo>
                  <a:lnTo>
                    <a:pt x="163" y="91"/>
                  </a:lnTo>
                  <a:lnTo>
                    <a:pt x="155" y="102"/>
                  </a:lnTo>
                  <a:lnTo>
                    <a:pt x="120" y="138"/>
                  </a:lnTo>
                  <a:lnTo>
                    <a:pt x="106" y="148"/>
                  </a:lnTo>
                  <a:lnTo>
                    <a:pt x="92" y="150"/>
                  </a:lnTo>
                  <a:close/>
                  <a:moveTo>
                    <a:pt x="32" y="134"/>
                  </a:moveTo>
                  <a:lnTo>
                    <a:pt x="32" y="134"/>
                  </a:lnTo>
                  <a:lnTo>
                    <a:pt x="32" y="134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2" y="154"/>
                  </a:lnTo>
                  <a:lnTo>
                    <a:pt x="90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2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5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2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19800" y="334008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4"/>
                  </a:moveTo>
                  <a:lnTo>
                    <a:pt x="145" y="76"/>
                  </a:lnTo>
                  <a:lnTo>
                    <a:pt x="143" y="78"/>
                  </a:lnTo>
                  <a:lnTo>
                    <a:pt x="116" y="114"/>
                  </a:lnTo>
                  <a:lnTo>
                    <a:pt x="78" y="143"/>
                  </a:lnTo>
                  <a:lnTo>
                    <a:pt x="78" y="145"/>
                  </a:lnTo>
                  <a:lnTo>
                    <a:pt x="75" y="149"/>
                  </a:lnTo>
                  <a:lnTo>
                    <a:pt x="61" y="147"/>
                  </a:lnTo>
                  <a:lnTo>
                    <a:pt x="47" y="139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2" y="61"/>
                  </a:lnTo>
                  <a:lnTo>
                    <a:pt x="10" y="49"/>
                  </a:lnTo>
                  <a:lnTo>
                    <a:pt x="49" y="9"/>
                  </a:lnTo>
                  <a:lnTo>
                    <a:pt x="61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9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49" y="74"/>
                  </a:lnTo>
                  <a:close/>
                  <a:moveTo>
                    <a:pt x="135" y="133"/>
                  </a:moveTo>
                  <a:lnTo>
                    <a:pt x="135" y="133"/>
                  </a:lnTo>
                  <a:lnTo>
                    <a:pt x="135" y="133"/>
                  </a:lnTo>
                  <a:lnTo>
                    <a:pt x="163" y="94"/>
                  </a:lnTo>
                  <a:lnTo>
                    <a:pt x="167" y="86"/>
                  </a:lnTo>
                  <a:lnTo>
                    <a:pt x="163" y="76"/>
                  </a:lnTo>
                  <a:lnTo>
                    <a:pt x="155" y="72"/>
                  </a:lnTo>
                  <a:lnTo>
                    <a:pt x="145" y="76"/>
                  </a:lnTo>
                  <a:lnTo>
                    <a:pt x="143" y="78"/>
                  </a:lnTo>
                  <a:lnTo>
                    <a:pt x="114" y="114"/>
                  </a:lnTo>
                  <a:lnTo>
                    <a:pt x="78" y="143"/>
                  </a:lnTo>
                  <a:lnTo>
                    <a:pt x="77" y="145"/>
                  </a:lnTo>
                  <a:lnTo>
                    <a:pt x="75" y="153"/>
                  </a:lnTo>
                  <a:lnTo>
                    <a:pt x="77" y="163"/>
                  </a:lnTo>
                  <a:lnTo>
                    <a:pt x="86" y="167"/>
                  </a:lnTo>
                  <a:lnTo>
                    <a:pt x="94" y="163"/>
                  </a:lnTo>
                  <a:lnTo>
                    <a:pt x="133" y="133"/>
                  </a:lnTo>
                  <a:lnTo>
                    <a:pt x="133" y="133"/>
                  </a:lnTo>
                  <a:lnTo>
                    <a:pt x="135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19800" y="31478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7"/>
                  </a:move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49" y="92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1" y="165"/>
                  </a:lnTo>
                  <a:lnTo>
                    <a:pt x="49" y="157"/>
                  </a:lnTo>
                  <a:lnTo>
                    <a:pt x="10" y="118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10" y="65"/>
                  </a:lnTo>
                  <a:lnTo>
                    <a:pt x="47" y="29"/>
                  </a:lnTo>
                  <a:lnTo>
                    <a:pt x="61" y="19"/>
                  </a:lnTo>
                  <a:lnTo>
                    <a:pt x="75" y="17"/>
                  </a:lnTo>
                  <a:close/>
                  <a:moveTo>
                    <a:pt x="133" y="33"/>
                  </a:moveTo>
                  <a:lnTo>
                    <a:pt x="133" y="33"/>
                  </a:lnTo>
                  <a:lnTo>
                    <a:pt x="133" y="33"/>
                  </a:lnTo>
                  <a:lnTo>
                    <a:pt x="94" y="4"/>
                  </a:lnTo>
                  <a:lnTo>
                    <a:pt x="86" y="0"/>
                  </a:lnTo>
                  <a:lnTo>
                    <a:pt x="77" y="4"/>
                  </a:lnTo>
                  <a:lnTo>
                    <a:pt x="73" y="13"/>
                  </a:ln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53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3" y="33"/>
                  </a:lnTo>
                  <a:lnTo>
                    <a:pt x="133" y="33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59600" y="3171600"/>
              <a:ext cx="277920" cy="277560"/>
            </a:xfrm>
            <a:custGeom>
              <a:avLst/>
              <a:gdLst/>
              <a:ahLst/>
              <a:rect l="l" t="t" r="r" b="b"/>
              <a:pathLst>
                <a:path w="349" h="350">
                  <a:moveTo>
                    <a:pt x="172" y="350"/>
                  </a:moveTo>
                  <a:lnTo>
                    <a:pt x="349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2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24680" y="2708280"/>
              <a:ext cx="133200" cy="1314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0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32600" y="2912760"/>
              <a:ext cx="13320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7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1880" y="28987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5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2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5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11880" y="270828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51680" y="2730240"/>
              <a:ext cx="277920" cy="27612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7064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30"/>
                  </a:lnTo>
                  <a:lnTo>
                    <a:pt x="90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41" y="114"/>
                  </a:lnTo>
                  <a:lnTo>
                    <a:pt x="137" y="122"/>
                  </a:lnTo>
                  <a:lnTo>
                    <a:pt x="127" y="126"/>
                  </a:lnTo>
                  <a:lnTo>
                    <a:pt x="119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9" y="8"/>
                  </a:lnTo>
                  <a:lnTo>
                    <a:pt x="127" y="4"/>
                  </a:lnTo>
                  <a:lnTo>
                    <a:pt x="137" y="8"/>
                  </a:lnTo>
                  <a:lnTo>
                    <a:pt x="141" y="16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13240" y="207468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18"/>
                  </a:move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1" y="12"/>
                  </a:lnTo>
                  <a:lnTo>
                    <a:pt x="45" y="4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4"/>
                  </a:lnTo>
                  <a:lnTo>
                    <a:pt x="137" y="12"/>
                  </a:lnTo>
                  <a:lnTo>
                    <a:pt x="145" y="23"/>
                  </a:lnTo>
                  <a:lnTo>
                    <a:pt x="147" y="37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30"/>
                  </a:lnTo>
                  <a:lnTo>
                    <a:pt x="59" y="130"/>
                  </a:lnTo>
                  <a:lnTo>
                    <a:pt x="45" y="126"/>
                  </a:lnTo>
                  <a:lnTo>
                    <a:pt x="31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1" y="126"/>
                  </a:lnTo>
                  <a:lnTo>
                    <a:pt x="29" y="122"/>
                  </a:ln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3320" y="2057400"/>
              <a:ext cx="16848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37120" y="2066760"/>
              <a:ext cx="115920" cy="1011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20"/>
                  </a:lnTo>
                  <a:lnTo>
                    <a:pt x="24" y="128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8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8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80080" y="2066760"/>
              <a:ext cx="115920" cy="9972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32" y="116"/>
                  </a:moveTo>
                  <a:lnTo>
                    <a:pt x="34" y="112"/>
                  </a:lnTo>
                  <a:lnTo>
                    <a:pt x="32" y="110"/>
                  </a:lnTo>
                  <a:lnTo>
                    <a:pt x="28" y="63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43" y="2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4" y="2"/>
                  </a:lnTo>
                  <a:lnTo>
                    <a:pt x="138" y="10"/>
                  </a:lnTo>
                  <a:lnTo>
                    <a:pt x="146" y="22"/>
                  </a:lnTo>
                  <a:lnTo>
                    <a:pt x="148" y="35"/>
                  </a:lnTo>
                  <a:lnTo>
                    <a:pt x="148" y="90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4" y="126"/>
                  </a:lnTo>
                  <a:lnTo>
                    <a:pt x="110" y="128"/>
                  </a:lnTo>
                  <a:lnTo>
                    <a:pt x="59" y="128"/>
                  </a:lnTo>
                  <a:lnTo>
                    <a:pt x="43" y="126"/>
                  </a:lnTo>
                  <a:lnTo>
                    <a:pt x="32" y="116"/>
                  </a:lnTo>
                  <a:close/>
                  <a:moveTo>
                    <a:pt x="0" y="63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2" y="122"/>
                  </a:lnTo>
                  <a:lnTo>
                    <a:pt x="20" y="124"/>
                  </a:lnTo>
                  <a:lnTo>
                    <a:pt x="30" y="122"/>
                  </a:lnTo>
                  <a:lnTo>
                    <a:pt x="34" y="112"/>
                  </a:lnTo>
                  <a:lnTo>
                    <a:pt x="34" y="110"/>
                  </a:lnTo>
                  <a:lnTo>
                    <a:pt x="28" y="63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8" y="1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76920" y="204768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84720" y="2073240"/>
              <a:ext cx="11772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115" y="116"/>
                  </a:move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5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2"/>
                  </a:lnTo>
                  <a:lnTo>
                    <a:pt x="11" y="10"/>
                  </a:lnTo>
                  <a:lnTo>
                    <a:pt x="4" y="21"/>
                  </a:lnTo>
                  <a:lnTo>
                    <a:pt x="0" y="35"/>
                  </a:lnTo>
                  <a:lnTo>
                    <a:pt x="0" y="90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28"/>
                  </a:lnTo>
                  <a:lnTo>
                    <a:pt x="90" y="128"/>
                  </a:lnTo>
                  <a:lnTo>
                    <a:pt x="104" y="126"/>
                  </a:lnTo>
                  <a:lnTo>
                    <a:pt x="115" y="116"/>
                  </a:lnTo>
                  <a:close/>
                  <a:moveTo>
                    <a:pt x="147" y="63"/>
                  </a:moveTo>
                  <a:lnTo>
                    <a:pt x="147" y="63"/>
                  </a:lnTo>
                  <a:lnTo>
                    <a:pt x="147" y="63"/>
                  </a:lnTo>
                  <a:lnTo>
                    <a:pt x="141" y="112"/>
                  </a:lnTo>
                  <a:lnTo>
                    <a:pt x="137" y="120"/>
                  </a:lnTo>
                  <a:lnTo>
                    <a:pt x="127" y="124"/>
                  </a:lnTo>
                  <a:lnTo>
                    <a:pt x="119" y="120"/>
                  </a:ln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9" y="6"/>
                  </a:lnTo>
                  <a:lnTo>
                    <a:pt x="127" y="4"/>
                  </a:lnTo>
                  <a:lnTo>
                    <a:pt x="137" y="6"/>
                  </a:lnTo>
                  <a:lnTo>
                    <a:pt x="141" y="16"/>
                  </a:lnTo>
                  <a:lnTo>
                    <a:pt x="147" y="63"/>
                  </a:lnTo>
                  <a:lnTo>
                    <a:pt x="147" y="63"/>
                  </a:lnTo>
                  <a:lnTo>
                    <a:pt x="147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27680" y="2071440"/>
              <a:ext cx="11736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33" y="116"/>
                  </a:move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45" y="2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2"/>
                  </a:lnTo>
                  <a:lnTo>
                    <a:pt x="137" y="10"/>
                  </a:lnTo>
                  <a:lnTo>
                    <a:pt x="145" y="22"/>
                  </a:lnTo>
                  <a:lnTo>
                    <a:pt x="147" y="35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28"/>
                  </a:lnTo>
                  <a:lnTo>
                    <a:pt x="59" y="128"/>
                  </a:lnTo>
                  <a:lnTo>
                    <a:pt x="45" y="126"/>
                  </a:lnTo>
                  <a:lnTo>
                    <a:pt x="33" y="116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1" y="122"/>
                  </a:lnTo>
                  <a:lnTo>
                    <a:pt x="21" y="124"/>
                  </a:lnTo>
                  <a:lnTo>
                    <a:pt x="29" y="122"/>
                  </a:ln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1" y="8"/>
                  </a:lnTo>
                  <a:lnTo>
                    <a:pt x="8" y="1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27760" y="2054160"/>
              <a:ext cx="1681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1032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18"/>
                  </a:lnTo>
                  <a:lnTo>
                    <a:pt x="24" y="126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6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53280" y="207468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32" y="118"/>
                  </a:moveTo>
                  <a:lnTo>
                    <a:pt x="34" y="114"/>
                  </a:lnTo>
                  <a:lnTo>
                    <a:pt x="32" y="112"/>
                  </a:lnTo>
                  <a:lnTo>
                    <a:pt x="28" y="65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2" y="12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38" y="12"/>
                  </a:lnTo>
                  <a:lnTo>
                    <a:pt x="146" y="23"/>
                  </a:lnTo>
                  <a:lnTo>
                    <a:pt x="148" y="37"/>
                  </a:lnTo>
                  <a:lnTo>
                    <a:pt x="148" y="92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6" y="126"/>
                  </a:lnTo>
                  <a:lnTo>
                    <a:pt x="110" y="130"/>
                  </a:lnTo>
                  <a:lnTo>
                    <a:pt x="59" y="130"/>
                  </a:lnTo>
                  <a:lnTo>
                    <a:pt x="44" y="126"/>
                  </a:lnTo>
                  <a:lnTo>
                    <a:pt x="32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0" y="126"/>
                  </a:lnTo>
                  <a:lnTo>
                    <a:pt x="30" y="122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28" y="65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51560" y="205740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1280" y="4276440"/>
              <a:ext cx="1355760" cy="139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1020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0552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3412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5" y="148"/>
                  </a:lnTo>
                  <a:lnTo>
                    <a:pt x="90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3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2944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07080" y="4041720"/>
              <a:ext cx="10152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02400" y="4154400"/>
              <a:ext cx="1144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5152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29" h="148">
                  <a:moveTo>
                    <a:pt x="117" y="32"/>
                  </a:move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1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1" y="136"/>
                  </a:lnTo>
                  <a:lnTo>
                    <a:pt x="23" y="144"/>
                  </a:lnTo>
                  <a:lnTo>
                    <a:pt x="37" y="148"/>
                  </a:lnTo>
                  <a:lnTo>
                    <a:pt x="92" y="148"/>
                  </a:lnTo>
                  <a:lnTo>
                    <a:pt x="106" y="144"/>
                  </a:lnTo>
                  <a:lnTo>
                    <a:pt x="119" y="136"/>
                  </a:lnTo>
                  <a:lnTo>
                    <a:pt x="127" y="124"/>
                  </a:lnTo>
                  <a:lnTo>
                    <a:pt x="129" y="111"/>
                  </a:lnTo>
                  <a:lnTo>
                    <a:pt x="129" y="59"/>
                  </a:lnTo>
                  <a:lnTo>
                    <a:pt x="125" y="44"/>
                  </a:lnTo>
                  <a:lnTo>
                    <a:pt x="117" y="32"/>
                  </a:lnTo>
                  <a:close/>
                  <a:moveTo>
                    <a:pt x="64" y="0"/>
                  </a:moveTo>
                  <a:lnTo>
                    <a:pt x="64" y="0"/>
                  </a:lnTo>
                  <a:lnTo>
                    <a:pt x="64" y="0"/>
                  </a:lnTo>
                  <a:lnTo>
                    <a:pt x="113" y="8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1" y="30"/>
                  </a:ln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7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4684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7544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7076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31040" y="4041720"/>
              <a:ext cx="10296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26360" y="4154400"/>
              <a:ext cx="1155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59480" y="3744720"/>
              <a:ext cx="1085760" cy="757080"/>
            </a:xfrm>
            <a:custGeom>
              <a:avLst/>
              <a:gdLst/>
              <a:ahLst/>
              <a:rect l="l" t="t" r="r" b="b"/>
              <a:pathLst>
                <a:path w="1369" h="954">
                  <a:moveTo>
                    <a:pt x="0" y="0"/>
                  </a:moveTo>
                  <a:lnTo>
                    <a:pt x="414" y="0"/>
                  </a:lnTo>
                  <a:lnTo>
                    <a:pt x="499" y="4"/>
                  </a:lnTo>
                  <a:lnTo>
                    <a:pt x="581" y="14"/>
                  </a:lnTo>
                  <a:lnTo>
                    <a:pt x="662" y="31"/>
                  </a:lnTo>
                  <a:lnTo>
                    <a:pt x="740" y="57"/>
                  </a:lnTo>
                  <a:lnTo>
                    <a:pt x="819" y="88"/>
                  </a:lnTo>
                  <a:lnTo>
                    <a:pt x="891" y="128"/>
                  </a:lnTo>
                  <a:lnTo>
                    <a:pt x="962" y="173"/>
                  </a:lnTo>
                  <a:lnTo>
                    <a:pt x="1027" y="222"/>
                  </a:lnTo>
                  <a:lnTo>
                    <a:pt x="1090" y="279"/>
                  </a:lnTo>
                  <a:lnTo>
                    <a:pt x="1145" y="340"/>
                  </a:lnTo>
                  <a:lnTo>
                    <a:pt x="1196" y="407"/>
                  </a:lnTo>
                  <a:lnTo>
                    <a:pt x="1241" y="476"/>
                  </a:lnTo>
                  <a:lnTo>
                    <a:pt x="1278" y="550"/>
                  </a:lnTo>
                  <a:lnTo>
                    <a:pt x="1312" y="627"/>
                  </a:lnTo>
                  <a:lnTo>
                    <a:pt x="1335" y="708"/>
                  </a:lnTo>
                  <a:lnTo>
                    <a:pt x="1353" y="788"/>
                  </a:lnTo>
                  <a:lnTo>
                    <a:pt x="1365" y="871"/>
                  </a:lnTo>
                  <a:lnTo>
                    <a:pt x="1369" y="954"/>
                  </a:lnTo>
                  <a:lnTo>
                    <a:pt x="1133" y="954"/>
                  </a:lnTo>
                  <a:lnTo>
                    <a:pt x="1129" y="883"/>
                  </a:lnTo>
                  <a:lnTo>
                    <a:pt x="1119" y="814"/>
                  </a:lnTo>
                  <a:lnTo>
                    <a:pt x="1102" y="745"/>
                  </a:lnTo>
                  <a:lnTo>
                    <a:pt x="1078" y="678"/>
                  </a:lnTo>
                  <a:lnTo>
                    <a:pt x="1049" y="615"/>
                  </a:lnTo>
                  <a:lnTo>
                    <a:pt x="1011" y="554"/>
                  </a:lnTo>
                  <a:lnTo>
                    <a:pt x="970" y="497"/>
                  </a:lnTo>
                  <a:lnTo>
                    <a:pt x="923" y="446"/>
                  </a:lnTo>
                  <a:lnTo>
                    <a:pt x="870" y="399"/>
                  </a:lnTo>
                  <a:lnTo>
                    <a:pt x="813" y="356"/>
                  </a:lnTo>
                  <a:lnTo>
                    <a:pt x="754" y="320"/>
                  </a:lnTo>
                  <a:lnTo>
                    <a:pt x="689" y="291"/>
                  </a:lnTo>
                  <a:lnTo>
                    <a:pt x="624" y="267"/>
                  </a:lnTo>
                  <a:lnTo>
                    <a:pt x="556" y="250"/>
                  </a:lnTo>
                  <a:lnTo>
                    <a:pt x="485" y="240"/>
                  </a:lnTo>
                  <a:lnTo>
                    <a:pt x="414" y="236"/>
                  </a:lnTo>
                  <a:lnTo>
                    <a:pt x="0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22560" y="2481120"/>
              <a:ext cx="1800" cy="20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8280" y="1981080"/>
              <a:ext cx="2757240" cy="2528640"/>
            </a:xfrm>
            <a:custGeom>
              <a:avLst/>
              <a:gdLst/>
              <a:ahLst/>
              <a:rect l="l" t="t" r="r" b="b"/>
              <a:pathLst>
                <a:path w="3475" h="3185">
                  <a:moveTo>
                    <a:pt x="0" y="0"/>
                  </a:moveTo>
                  <a:lnTo>
                    <a:pt x="0" y="3185"/>
                  </a:lnTo>
                  <a:lnTo>
                    <a:pt x="3475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22560" y="2574720"/>
              <a:ext cx="235080" cy="191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22560" y="2636640"/>
              <a:ext cx="180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3536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9440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64600" y="256680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9">
                  <a:moveTo>
                    <a:pt x="0" y="303"/>
                  </a:moveTo>
                  <a:lnTo>
                    <a:pt x="0" y="0"/>
                  </a:lnTo>
                  <a:lnTo>
                    <a:pt x="0" y="679"/>
                  </a:lnTo>
                  <a:lnTo>
                    <a:pt x="0" y="445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64600" y="352728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8">
                  <a:moveTo>
                    <a:pt x="0" y="302"/>
                  </a:moveTo>
                  <a:lnTo>
                    <a:pt x="0" y="0"/>
                  </a:lnTo>
                  <a:lnTo>
                    <a:pt x="0" y="678"/>
                  </a:lnTo>
                  <a:lnTo>
                    <a:pt x="0" y="444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35400" y="2163600"/>
              <a:ext cx="457200" cy="444240"/>
            </a:xfrm>
            <a:custGeom>
              <a:avLst/>
              <a:gdLst/>
              <a:ahLst/>
              <a:rect l="l" t="t" r="r" b="b"/>
              <a:pathLst>
                <a:path w="575" h="558">
                  <a:moveTo>
                    <a:pt x="245" y="405"/>
                  </a:moveTo>
                  <a:lnTo>
                    <a:pt x="232" y="399"/>
                  </a:lnTo>
                  <a:lnTo>
                    <a:pt x="218" y="391"/>
                  </a:lnTo>
                  <a:lnTo>
                    <a:pt x="206" y="381"/>
                  </a:lnTo>
                  <a:lnTo>
                    <a:pt x="196" y="372"/>
                  </a:lnTo>
                  <a:lnTo>
                    <a:pt x="189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5" y="307"/>
                  </a:lnTo>
                  <a:lnTo>
                    <a:pt x="163" y="295"/>
                  </a:lnTo>
                  <a:lnTo>
                    <a:pt x="163" y="283"/>
                  </a:lnTo>
                  <a:lnTo>
                    <a:pt x="165" y="271"/>
                  </a:lnTo>
                  <a:lnTo>
                    <a:pt x="167" y="259"/>
                  </a:lnTo>
                  <a:lnTo>
                    <a:pt x="171" y="248"/>
                  </a:lnTo>
                  <a:lnTo>
                    <a:pt x="175" y="236"/>
                  </a:lnTo>
                  <a:lnTo>
                    <a:pt x="179" y="226"/>
                  </a:lnTo>
                  <a:lnTo>
                    <a:pt x="187" y="216"/>
                  </a:lnTo>
                  <a:lnTo>
                    <a:pt x="194" y="206"/>
                  </a:lnTo>
                  <a:lnTo>
                    <a:pt x="202" y="199"/>
                  </a:lnTo>
                  <a:lnTo>
                    <a:pt x="212" y="191"/>
                  </a:lnTo>
                  <a:lnTo>
                    <a:pt x="222" y="183"/>
                  </a:lnTo>
                  <a:lnTo>
                    <a:pt x="232" y="177"/>
                  </a:lnTo>
                  <a:lnTo>
                    <a:pt x="244" y="173"/>
                  </a:lnTo>
                  <a:lnTo>
                    <a:pt x="255" y="167"/>
                  </a:lnTo>
                  <a:lnTo>
                    <a:pt x="269" y="165"/>
                  </a:lnTo>
                  <a:lnTo>
                    <a:pt x="279" y="165"/>
                  </a:lnTo>
                  <a:lnTo>
                    <a:pt x="293" y="165"/>
                  </a:lnTo>
                  <a:lnTo>
                    <a:pt x="304" y="165"/>
                  </a:lnTo>
                  <a:lnTo>
                    <a:pt x="316" y="167"/>
                  </a:lnTo>
                  <a:lnTo>
                    <a:pt x="328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7" y="187"/>
                  </a:lnTo>
                  <a:lnTo>
                    <a:pt x="367" y="195"/>
                  </a:lnTo>
                  <a:lnTo>
                    <a:pt x="377" y="202"/>
                  </a:lnTo>
                  <a:lnTo>
                    <a:pt x="385" y="210"/>
                  </a:lnTo>
                  <a:lnTo>
                    <a:pt x="393" y="220"/>
                  </a:lnTo>
                  <a:lnTo>
                    <a:pt x="397" y="232"/>
                  </a:lnTo>
                  <a:lnTo>
                    <a:pt x="403" y="244"/>
                  </a:lnTo>
                  <a:lnTo>
                    <a:pt x="406" y="256"/>
                  </a:lnTo>
                  <a:lnTo>
                    <a:pt x="410" y="269"/>
                  </a:lnTo>
                  <a:lnTo>
                    <a:pt x="410" y="285"/>
                  </a:lnTo>
                  <a:lnTo>
                    <a:pt x="410" y="301"/>
                  </a:lnTo>
                  <a:lnTo>
                    <a:pt x="408" y="315"/>
                  </a:lnTo>
                  <a:lnTo>
                    <a:pt x="405" y="328"/>
                  </a:lnTo>
                  <a:lnTo>
                    <a:pt x="399" y="342"/>
                  </a:lnTo>
                  <a:lnTo>
                    <a:pt x="391" y="354"/>
                  </a:lnTo>
                  <a:lnTo>
                    <a:pt x="383" y="368"/>
                  </a:lnTo>
                  <a:lnTo>
                    <a:pt x="509" y="472"/>
                  </a:lnTo>
                  <a:lnTo>
                    <a:pt x="528" y="444"/>
                  </a:lnTo>
                  <a:lnTo>
                    <a:pt x="544" y="415"/>
                  </a:lnTo>
                  <a:lnTo>
                    <a:pt x="560" y="383"/>
                  </a:lnTo>
                  <a:lnTo>
                    <a:pt x="567" y="350"/>
                  </a:lnTo>
                  <a:lnTo>
                    <a:pt x="571" y="332"/>
                  </a:lnTo>
                  <a:lnTo>
                    <a:pt x="573" y="316"/>
                  </a:lnTo>
                  <a:lnTo>
                    <a:pt x="575" y="299"/>
                  </a:lnTo>
                  <a:lnTo>
                    <a:pt x="575" y="281"/>
                  </a:lnTo>
                  <a:lnTo>
                    <a:pt x="573" y="263"/>
                  </a:lnTo>
                  <a:lnTo>
                    <a:pt x="571" y="248"/>
                  </a:lnTo>
                  <a:lnTo>
                    <a:pt x="569" y="230"/>
                  </a:lnTo>
                  <a:lnTo>
                    <a:pt x="566" y="212"/>
                  </a:lnTo>
                  <a:lnTo>
                    <a:pt x="556" y="185"/>
                  </a:lnTo>
                  <a:lnTo>
                    <a:pt x="544" y="157"/>
                  </a:lnTo>
                  <a:lnTo>
                    <a:pt x="530" y="134"/>
                  </a:lnTo>
                  <a:lnTo>
                    <a:pt x="514" y="110"/>
                  </a:lnTo>
                  <a:lnTo>
                    <a:pt x="495" y="88"/>
                  </a:lnTo>
                  <a:lnTo>
                    <a:pt x="475" y="71"/>
                  </a:lnTo>
                  <a:lnTo>
                    <a:pt x="456" y="53"/>
                  </a:lnTo>
                  <a:lnTo>
                    <a:pt x="432" y="37"/>
                  </a:lnTo>
                  <a:lnTo>
                    <a:pt x="406" y="25"/>
                  </a:lnTo>
                  <a:lnTo>
                    <a:pt x="381" y="16"/>
                  </a:lnTo>
                  <a:lnTo>
                    <a:pt x="355" y="8"/>
                  </a:lnTo>
                  <a:lnTo>
                    <a:pt x="326" y="2"/>
                  </a:lnTo>
                  <a:lnTo>
                    <a:pt x="299" y="0"/>
                  </a:lnTo>
                  <a:lnTo>
                    <a:pt x="269" y="0"/>
                  </a:lnTo>
                  <a:lnTo>
                    <a:pt x="242" y="4"/>
                  </a:lnTo>
                  <a:lnTo>
                    <a:pt x="212" y="10"/>
                  </a:lnTo>
                  <a:lnTo>
                    <a:pt x="185" y="20"/>
                  </a:lnTo>
                  <a:lnTo>
                    <a:pt x="159" y="29"/>
                  </a:lnTo>
                  <a:lnTo>
                    <a:pt x="134" y="45"/>
                  </a:lnTo>
                  <a:lnTo>
                    <a:pt x="110" y="61"/>
                  </a:lnTo>
                  <a:lnTo>
                    <a:pt x="90" y="79"/>
                  </a:lnTo>
                  <a:lnTo>
                    <a:pt x="71" y="98"/>
                  </a:lnTo>
                  <a:lnTo>
                    <a:pt x="53" y="120"/>
                  </a:lnTo>
                  <a:lnTo>
                    <a:pt x="39" y="143"/>
                  </a:lnTo>
                  <a:lnTo>
                    <a:pt x="26" y="169"/>
                  </a:lnTo>
                  <a:lnTo>
                    <a:pt x="16" y="195"/>
                  </a:lnTo>
                  <a:lnTo>
                    <a:pt x="8" y="220"/>
                  </a:lnTo>
                  <a:lnTo>
                    <a:pt x="2" y="248"/>
                  </a:lnTo>
                  <a:lnTo>
                    <a:pt x="0" y="275"/>
                  </a:lnTo>
                  <a:lnTo>
                    <a:pt x="0" y="305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4" y="379"/>
                  </a:lnTo>
                  <a:lnTo>
                    <a:pt x="20" y="395"/>
                  </a:lnTo>
                  <a:lnTo>
                    <a:pt x="28" y="411"/>
                  </a:lnTo>
                  <a:lnTo>
                    <a:pt x="35" y="427"/>
                  </a:lnTo>
                  <a:lnTo>
                    <a:pt x="43" y="442"/>
                  </a:lnTo>
                  <a:lnTo>
                    <a:pt x="53" y="456"/>
                  </a:lnTo>
                  <a:lnTo>
                    <a:pt x="63" y="470"/>
                  </a:lnTo>
                  <a:lnTo>
                    <a:pt x="75" y="482"/>
                  </a:lnTo>
                  <a:lnTo>
                    <a:pt x="98" y="507"/>
                  </a:lnTo>
                  <a:lnTo>
                    <a:pt x="126" y="527"/>
                  </a:lnTo>
                  <a:lnTo>
                    <a:pt x="157" y="545"/>
                  </a:lnTo>
                  <a:lnTo>
                    <a:pt x="189" y="558"/>
                  </a:lnTo>
                  <a:lnTo>
                    <a:pt x="245" y="40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24320" y="225396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6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2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40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40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2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4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6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90920" y="3768480"/>
              <a:ext cx="233280" cy="725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30480" y="1989000"/>
              <a:ext cx="1122480" cy="178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5760" y="2944800"/>
              <a:ext cx="1901880" cy="524880"/>
            </a:xfrm>
            <a:custGeom>
              <a:avLst/>
              <a:gdLst/>
              <a:ahLst/>
              <a:rect l="l" t="t" r="r" b="b"/>
              <a:pathLst>
                <a:path w="2397" h="663">
                  <a:moveTo>
                    <a:pt x="2397" y="165"/>
                  </a:moveTo>
                  <a:lnTo>
                    <a:pt x="2316" y="242"/>
                  </a:lnTo>
                  <a:lnTo>
                    <a:pt x="2230" y="313"/>
                  </a:lnTo>
                  <a:lnTo>
                    <a:pt x="2140" y="378"/>
                  </a:lnTo>
                  <a:lnTo>
                    <a:pt x="2045" y="437"/>
                  </a:lnTo>
                  <a:lnTo>
                    <a:pt x="1949" y="488"/>
                  </a:lnTo>
                  <a:lnTo>
                    <a:pt x="1847" y="535"/>
                  </a:lnTo>
                  <a:lnTo>
                    <a:pt x="1743" y="574"/>
                  </a:lnTo>
                  <a:lnTo>
                    <a:pt x="1637" y="606"/>
                  </a:lnTo>
                  <a:lnTo>
                    <a:pt x="1529" y="631"/>
                  </a:lnTo>
                  <a:lnTo>
                    <a:pt x="1419" y="649"/>
                  </a:lnTo>
                  <a:lnTo>
                    <a:pt x="1309" y="661"/>
                  </a:lnTo>
                  <a:lnTo>
                    <a:pt x="1199" y="663"/>
                  </a:lnTo>
                  <a:lnTo>
                    <a:pt x="1087" y="661"/>
                  </a:lnTo>
                  <a:lnTo>
                    <a:pt x="977" y="649"/>
                  </a:lnTo>
                  <a:lnTo>
                    <a:pt x="867" y="631"/>
                  </a:lnTo>
                  <a:lnTo>
                    <a:pt x="759" y="606"/>
                  </a:lnTo>
                  <a:lnTo>
                    <a:pt x="653" y="574"/>
                  </a:lnTo>
                  <a:lnTo>
                    <a:pt x="549" y="535"/>
                  </a:lnTo>
                  <a:lnTo>
                    <a:pt x="447" y="488"/>
                  </a:lnTo>
                  <a:lnTo>
                    <a:pt x="351" y="437"/>
                  </a:lnTo>
                  <a:lnTo>
                    <a:pt x="257" y="378"/>
                  </a:lnTo>
                  <a:lnTo>
                    <a:pt x="167" y="313"/>
                  </a:lnTo>
                  <a:lnTo>
                    <a:pt x="80" y="242"/>
                  </a:lnTo>
                  <a:lnTo>
                    <a:pt x="0" y="165"/>
                  </a:lnTo>
                  <a:lnTo>
                    <a:pt x="167" y="0"/>
                  </a:lnTo>
                  <a:lnTo>
                    <a:pt x="241" y="71"/>
                  </a:lnTo>
                  <a:lnTo>
                    <a:pt x="324" y="136"/>
                  </a:lnTo>
                  <a:lnTo>
                    <a:pt x="408" y="195"/>
                  </a:lnTo>
                  <a:lnTo>
                    <a:pt x="498" y="248"/>
                  </a:lnTo>
                  <a:lnTo>
                    <a:pt x="593" y="295"/>
                  </a:lnTo>
                  <a:lnTo>
                    <a:pt x="689" y="336"/>
                  </a:lnTo>
                  <a:lnTo>
                    <a:pt x="787" y="368"/>
                  </a:lnTo>
                  <a:lnTo>
                    <a:pt x="887" y="393"/>
                  </a:lnTo>
                  <a:lnTo>
                    <a:pt x="991" y="413"/>
                  </a:lnTo>
                  <a:lnTo>
                    <a:pt x="1093" y="425"/>
                  </a:lnTo>
                  <a:lnTo>
                    <a:pt x="1199" y="427"/>
                  </a:lnTo>
                  <a:lnTo>
                    <a:pt x="1303" y="425"/>
                  </a:lnTo>
                  <a:lnTo>
                    <a:pt x="1405" y="413"/>
                  </a:lnTo>
                  <a:lnTo>
                    <a:pt x="1509" y="393"/>
                  </a:lnTo>
                  <a:lnTo>
                    <a:pt x="1610" y="368"/>
                  </a:lnTo>
                  <a:lnTo>
                    <a:pt x="1708" y="336"/>
                  </a:lnTo>
                  <a:lnTo>
                    <a:pt x="1804" y="295"/>
                  </a:lnTo>
                  <a:lnTo>
                    <a:pt x="1898" y="248"/>
                  </a:lnTo>
                  <a:lnTo>
                    <a:pt x="1989" y="195"/>
                  </a:lnTo>
                  <a:lnTo>
                    <a:pt x="2073" y="136"/>
                  </a:lnTo>
                  <a:lnTo>
                    <a:pt x="2155" y="71"/>
                  </a:lnTo>
                  <a:lnTo>
                    <a:pt x="2230" y="0"/>
                  </a:lnTo>
                  <a:lnTo>
                    <a:pt x="2397" y="1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05320" y="3003480"/>
              <a:ext cx="11592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33" y="49"/>
                  </a:move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3" y="21"/>
                  </a:lnTo>
                  <a:lnTo>
                    <a:pt x="22" y="31"/>
                  </a:lnTo>
                  <a:lnTo>
                    <a:pt x="14" y="45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4" y="124"/>
                  </a:lnTo>
                  <a:lnTo>
                    <a:pt x="14" y="134"/>
                  </a:lnTo>
                  <a:lnTo>
                    <a:pt x="27" y="139"/>
                  </a:lnTo>
                  <a:lnTo>
                    <a:pt x="80" y="155"/>
                  </a:lnTo>
                  <a:lnTo>
                    <a:pt x="94" y="155"/>
                  </a:lnTo>
                  <a:lnTo>
                    <a:pt x="108" y="151"/>
                  </a:lnTo>
                  <a:lnTo>
                    <a:pt x="120" y="141"/>
                  </a:lnTo>
                  <a:lnTo>
                    <a:pt x="126" y="128"/>
                  </a:lnTo>
                  <a:lnTo>
                    <a:pt x="139" y="78"/>
                  </a:lnTo>
                  <a:lnTo>
                    <a:pt x="139" y="63"/>
                  </a:lnTo>
                  <a:lnTo>
                    <a:pt x="133" y="49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5" y="25"/>
                  </a:lnTo>
                  <a:lnTo>
                    <a:pt x="143" y="31"/>
                  </a:lnTo>
                  <a:lnTo>
                    <a:pt x="145" y="41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29" y="18"/>
                  </a:lnTo>
                  <a:lnTo>
                    <a:pt x="27" y="10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4560" y="3101760"/>
              <a:ext cx="152640" cy="18540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40" y="234"/>
                  </a:moveTo>
                  <a:lnTo>
                    <a:pt x="193" y="37"/>
                  </a:lnTo>
                  <a:lnTo>
                    <a:pt x="53" y="0"/>
                  </a:lnTo>
                  <a:lnTo>
                    <a:pt x="0" y="196"/>
                  </a:lnTo>
                  <a:lnTo>
                    <a:pt x="140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5520" y="2973240"/>
              <a:ext cx="114120" cy="12204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135" y="50"/>
                  </a:moveTo>
                  <a:lnTo>
                    <a:pt x="131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3" y="22"/>
                  </a:lnTo>
                  <a:lnTo>
                    <a:pt x="21" y="32"/>
                  </a:lnTo>
                  <a:lnTo>
                    <a:pt x="15" y="46"/>
                  </a:lnTo>
                  <a:lnTo>
                    <a:pt x="2" y="95"/>
                  </a:lnTo>
                  <a:lnTo>
                    <a:pt x="0" y="111"/>
                  </a:lnTo>
                  <a:lnTo>
                    <a:pt x="6" y="124"/>
                  </a:lnTo>
                  <a:lnTo>
                    <a:pt x="13" y="134"/>
                  </a:lnTo>
                  <a:lnTo>
                    <a:pt x="27" y="140"/>
                  </a:lnTo>
                  <a:lnTo>
                    <a:pt x="80" y="156"/>
                  </a:lnTo>
                  <a:lnTo>
                    <a:pt x="94" y="156"/>
                  </a:lnTo>
                  <a:lnTo>
                    <a:pt x="108" y="152"/>
                  </a:lnTo>
                  <a:lnTo>
                    <a:pt x="119" y="142"/>
                  </a:lnTo>
                  <a:lnTo>
                    <a:pt x="125" y="128"/>
                  </a:lnTo>
                  <a:lnTo>
                    <a:pt x="139" y="79"/>
                  </a:lnTo>
                  <a:lnTo>
                    <a:pt x="139" y="63"/>
                  </a:lnTo>
                  <a:lnTo>
                    <a:pt x="135" y="50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7" y="26"/>
                  </a:lnTo>
                  <a:lnTo>
                    <a:pt x="145" y="32"/>
                  </a:lnTo>
                  <a:lnTo>
                    <a:pt x="145" y="42"/>
                  </a:lnTo>
                  <a:lnTo>
                    <a:pt x="139" y="48"/>
                  </a:lnTo>
                  <a:lnTo>
                    <a:pt x="129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29" y="18"/>
                  </a:lnTo>
                  <a:lnTo>
                    <a:pt x="29" y="10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52960" y="3071520"/>
              <a:ext cx="154080" cy="185400"/>
            </a:xfrm>
            <a:custGeom>
              <a:avLst/>
              <a:gdLst/>
              <a:ahLst/>
              <a:rect l="l" t="t" r="r" b="b"/>
              <a:pathLst>
                <a:path w="192" h="234">
                  <a:moveTo>
                    <a:pt x="139" y="234"/>
                  </a:moveTo>
                  <a:lnTo>
                    <a:pt x="192" y="38"/>
                  </a:lnTo>
                  <a:lnTo>
                    <a:pt x="53" y="0"/>
                  </a:lnTo>
                  <a:lnTo>
                    <a:pt x="0" y="197"/>
                  </a:lnTo>
                  <a:lnTo>
                    <a:pt x="139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24440" y="2871720"/>
              <a:ext cx="125280" cy="128160"/>
            </a:xfrm>
            <a:custGeom>
              <a:avLst/>
              <a:gdLst/>
              <a:ahLst/>
              <a:rect l="l" t="t" r="r" b="b"/>
              <a:pathLst>
                <a:path w="159" h="163">
                  <a:moveTo>
                    <a:pt x="145" y="70"/>
                  </a:moveTo>
                  <a:lnTo>
                    <a:pt x="141" y="70"/>
                  </a:lnTo>
                  <a:lnTo>
                    <a:pt x="139" y="68"/>
                  </a:lnTo>
                  <a:lnTo>
                    <a:pt x="102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3" y="19"/>
                  </a:lnTo>
                  <a:lnTo>
                    <a:pt x="39" y="25"/>
                  </a:lnTo>
                  <a:lnTo>
                    <a:pt x="29" y="35"/>
                  </a:lnTo>
                  <a:lnTo>
                    <a:pt x="4" y="80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6" y="122"/>
                  </a:lnTo>
                  <a:lnTo>
                    <a:pt x="18" y="131"/>
                  </a:lnTo>
                  <a:lnTo>
                    <a:pt x="65" y="159"/>
                  </a:lnTo>
                  <a:lnTo>
                    <a:pt x="78" y="163"/>
                  </a:lnTo>
                  <a:lnTo>
                    <a:pt x="92" y="163"/>
                  </a:lnTo>
                  <a:lnTo>
                    <a:pt x="106" y="157"/>
                  </a:lnTo>
                  <a:lnTo>
                    <a:pt x="116" y="145"/>
                  </a:lnTo>
                  <a:lnTo>
                    <a:pt x="141" y="100"/>
                  </a:lnTo>
                  <a:lnTo>
                    <a:pt x="145" y="86"/>
                  </a:lnTo>
                  <a:lnTo>
                    <a:pt x="145" y="70"/>
                  </a:lnTo>
                  <a:close/>
                  <a:moveTo>
                    <a:pt x="116" y="17"/>
                  </a:moveTo>
                  <a:lnTo>
                    <a:pt x="116" y="17"/>
                  </a:lnTo>
                  <a:lnTo>
                    <a:pt x="116" y="17"/>
                  </a:lnTo>
                  <a:lnTo>
                    <a:pt x="153" y="49"/>
                  </a:lnTo>
                  <a:lnTo>
                    <a:pt x="159" y="57"/>
                  </a:lnTo>
                  <a:lnTo>
                    <a:pt x="157" y="65"/>
                  </a:lnTo>
                  <a:lnTo>
                    <a:pt x="149" y="70"/>
                  </a:lnTo>
                  <a:lnTo>
                    <a:pt x="141" y="70"/>
                  </a:lnTo>
                  <a:lnTo>
                    <a:pt x="139" y="68"/>
                  </a:lnTo>
                  <a:lnTo>
                    <a:pt x="100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1" y="13"/>
                  </a:lnTo>
                  <a:lnTo>
                    <a:pt x="53" y="6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114" y="17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30840" y="2955600"/>
              <a:ext cx="179280" cy="19656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126" y="248"/>
                  </a:moveTo>
                  <a:lnTo>
                    <a:pt x="226" y="71"/>
                  </a:lnTo>
                  <a:lnTo>
                    <a:pt x="102" y="0"/>
                  </a:lnTo>
                  <a:lnTo>
                    <a:pt x="0" y="175"/>
                  </a:lnTo>
                  <a:lnTo>
                    <a:pt x="126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08720" y="3017520"/>
              <a:ext cx="102960" cy="11736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118" y="31"/>
                  </a:move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1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112"/>
                  </a:lnTo>
                  <a:lnTo>
                    <a:pt x="4" y="125"/>
                  </a:lnTo>
                  <a:lnTo>
                    <a:pt x="12" y="137"/>
                  </a:lnTo>
                  <a:lnTo>
                    <a:pt x="24" y="145"/>
                  </a:lnTo>
                  <a:lnTo>
                    <a:pt x="37" y="147"/>
                  </a:lnTo>
                  <a:lnTo>
                    <a:pt x="92" y="147"/>
                  </a:lnTo>
                  <a:lnTo>
                    <a:pt x="106" y="145"/>
                  </a:lnTo>
                  <a:lnTo>
                    <a:pt x="118" y="137"/>
                  </a:lnTo>
                  <a:lnTo>
                    <a:pt x="126" y="125"/>
                  </a:lnTo>
                  <a:lnTo>
                    <a:pt x="130" y="112"/>
                  </a:lnTo>
                  <a:lnTo>
                    <a:pt x="130" y="58"/>
                  </a:lnTo>
                  <a:lnTo>
                    <a:pt x="126" y="45"/>
                  </a:lnTo>
                  <a:lnTo>
                    <a:pt x="118" y="31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7"/>
                  </a:lnTo>
                  <a:lnTo>
                    <a:pt x="122" y="11"/>
                  </a:lnTo>
                  <a:lnTo>
                    <a:pt x="126" y="21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4" y="21"/>
                  </a:lnTo>
                  <a:lnTo>
                    <a:pt x="8" y="11"/>
                  </a:lnTo>
                  <a:lnTo>
                    <a:pt x="16" y="7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04040" y="3130560"/>
              <a:ext cx="11556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03840" y="3011400"/>
              <a:ext cx="11448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13" y="21"/>
                  </a:move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63"/>
                  </a:lnTo>
                  <a:lnTo>
                    <a:pt x="5" y="78"/>
                  </a:lnTo>
                  <a:lnTo>
                    <a:pt x="19" y="129"/>
                  </a:lnTo>
                  <a:lnTo>
                    <a:pt x="27" y="141"/>
                  </a:lnTo>
                  <a:lnTo>
                    <a:pt x="37" y="151"/>
                  </a:lnTo>
                  <a:lnTo>
                    <a:pt x="51" y="155"/>
                  </a:lnTo>
                  <a:lnTo>
                    <a:pt x="64" y="155"/>
                  </a:lnTo>
                  <a:lnTo>
                    <a:pt x="117" y="141"/>
                  </a:lnTo>
                  <a:lnTo>
                    <a:pt x="131" y="133"/>
                  </a:lnTo>
                  <a:lnTo>
                    <a:pt x="141" y="124"/>
                  </a:lnTo>
                  <a:lnTo>
                    <a:pt x="145" y="110"/>
                  </a:lnTo>
                  <a:lnTo>
                    <a:pt x="145" y="96"/>
                  </a:lnTo>
                  <a:lnTo>
                    <a:pt x="131" y="45"/>
                  </a:lnTo>
                  <a:lnTo>
                    <a:pt x="123" y="31"/>
                  </a:lnTo>
                  <a:lnTo>
                    <a:pt x="113" y="21"/>
                  </a:lnTo>
                  <a:close/>
                  <a:moveTo>
                    <a:pt x="55" y="6"/>
                  </a:moveTo>
                  <a:lnTo>
                    <a:pt x="55" y="6"/>
                  </a:lnTo>
                  <a:lnTo>
                    <a:pt x="55" y="6"/>
                  </a:lnTo>
                  <a:lnTo>
                    <a:pt x="102" y="0"/>
                  </a:lnTo>
                  <a:lnTo>
                    <a:pt x="111" y="2"/>
                  </a:lnTo>
                  <a:lnTo>
                    <a:pt x="117" y="9"/>
                  </a:lnTo>
                  <a:lnTo>
                    <a:pt x="115" y="19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5" y="49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9" y="2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22920" y="3108240"/>
              <a:ext cx="152280" cy="18684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1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25960" y="2957400"/>
              <a:ext cx="114480" cy="1234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8"/>
                  </a:lnTo>
                  <a:lnTo>
                    <a:pt x="20" y="130"/>
                  </a:lnTo>
                  <a:lnTo>
                    <a:pt x="26" y="141"/>
                  </a:lnTo>
                  <a:lnTo>
                    <a:pt x="36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30" y="134"/>
                  </a:lnTo>
                  <a:lnTo>
                    <a:pt x="140" y="124"/>
                  </a:lnTo>
                  <a:lnTo>
                    <a:pt x="144" y="110"/>
                  </a:lnTo>
                  <a:lnTo>
                    <a:pt x="144" y="96"/>
                  </a:lnTo>
                  <a:lnTo>
                    <a:pt x="130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19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43600" y="3054240"/>
              <a:ext cx="152280" cy="18684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192" y="196"/>
                  </a:moveTo>
                  <a:lnTo>
                    <a:pt x="139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2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18200" y="2862000"/>
              <a:ext cx="114480" cy="123480"/>
            </a:xfrm>
            <a:custGeom>
              <a:avLst/>
              <a:gdLst/>
              <a:ahLst/>
              <a:rect l="l" t="t" r="r" b="b"/>
              <a:pathLst>
                <a:path w="143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9"/>
                  </a:lnTo>
                  <a:lnTo>
                    <a:pt x="19" y="130"/>
                  </a:lnTo>
                  <a:lnTo>
                    <a:pt x="25" y="141"/>
                  </a:lnTo>
                  <a:lnTo>
                    <a:pt x="35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29" y="134"/>
                  </a:lnTo>
                  <a:lnTo>
                    <a:pt x="139" y="124"/>
                  </a:lnTo>
                  <a:lnTo>
                    <a:pt x="143" y="110"/>
                  </a:lnTo>
                  <a:lnTo>
                    <a:pt x="143" y="96"/>
                  </a:lnTo>
                  <a:lnTo>
                    <a:pt x="129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20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5840" y="2958840"/>
              <a:ext cx="152280" cy="18720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530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92560" y="165240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46680" y="1560600"/>
              <a:ext cx="28080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8800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3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3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2784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4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4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160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754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3" y="126"/>
                  </a:lnTo>
                  <a:lnTo>
                    <a:pt x="59" y="130"/>
                  </a:lnTo>
                  <a:lnTo>
                    <a:pt x="110" y="130"/>
                  </a:lnTo>
                  <a:lnTo>
                    <a:pt x="125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5" y="2"/>
                  </a:lnTo>
                  <a:lnTo>
                    <a:pt x="110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19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532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2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1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1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2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5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5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6908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3" y="140"/>
                  </a:lnTo>
                  <a:lnTo>
                    <a:pt x="15" y="104"/>
                  </a:lnTo>
                  <a:lnTo>
                    <a:pt x="33" y="73"/>
                  </a:lnTo>
                  <a:lnTo>
                    <a:pt x="58" y="45"/>
                  </a:lnTo>
                  <a:lnTo>
                    <a:pt x="88" y="24"/>
                  </a:lnTo>
                  <a:lnTo>
                    <a:pt x="121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4" y="45"/>
                  </a:lnTo>
                  <a:lnTo>
                    <a:pt x="320" y="73"/>
                  </a:lnTo>
                  <a:lnTo>
                    <a:pt x="337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7" y="248"/>
                  </a:lnTo>
                  <a:lnTo>
                    <a:pt x="320" y="281"/>
                  </a:lnTo>
                  <a:lnTo>
                    <a:pt x="294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1" y="344"/>
                  </a:lnTo>
                  <a:lnTo>
                    <a:pt x="88" y="330"/>
                  </a:lnTo>
                  <a:lnTo>
                    <a:pt x="58" y="309"/>
                  </a:lnTo>
                  <a:lnTo>
                    <a:pt x="33" y="281"/>
                  </a:lnTo>
                  <a:lnTo>
                    <a:pt x="15" y="248"/>
                  </a:lnTo>
                  <a:lnTo>
                    <a:pt x="3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08600" y="3435120"/>
              <a:ext cx="145800" cy="137880"/>
            </a:xfrm>
            <a:custGeom>
              <a:avLst/>
              <a:gdLst/>
              <a:ahLst/>
              <a:rect l="l" t="t" r="r" b="b"/>
              <a:pathLst>
                <a:path w="185" h="175">
                  <a:moveTo>
                    <a:pt x="126" y="161"/>
                  </a:move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7" y="45"/>
                  </a:lnTo>
                  <a:lnTo>
                    <a:pt x="159" y="39"/>
                  </a:lnTo>
                  <a:lnTo>
                    <a:pt x="148" y="25"/>
                  </a:lnTo>
                  <a:lnTo>
                    <a:pt x="132" y="17"/>
                  </a:lnTo>
                  <a:lnTo>
                    <a:pt x="71" y="1"/>
                  </a:lnTo>
                  <a:lnTo>
                    <a:pt x="55" y="0"/>
                  </a:lnTo>
                  <a:lnTo>
                    <a:pt x="38" y="5"/>
                  </a:lnTo>
                  <a:lnTo>
                    <a:pt x="26" y="17"/>
                  </a:lnTo>
                  <a:lnTo>
                    <a:pt x="18" y="33"/>
                  </a:lnTo>
                  <a:lnTo>
                    <a:pt x="0" y="96"/>
                  </a:lnTo>
                  <a:lnTo>
                    <a:pt x="0" y="114"/>
                  </a:lnTo>
                  <a:lnTo>
                    <a:pt x="4" y="129"/>
                  </a:lnTo>
                  <a:lnTo>
                    <a:pt x="16" y="143"/>
                  </a:lnTo>
                  <a:lnTo>
                    <a:pt x="32" y="149"/>
                  </a:lnTo>
                  <a:lnTo>
                    <a:pt x="93" y="167"/>
                  </a:lnTo>
                  <a:lnTo>
                    <a:pt x="110" y="167"/>
                  </a:lnTo>
                  <a:lnTo>
                    <a:pt x="126" y="161"/>
                  </a:lnTo>
                  <a:close/>
                  <a:moveTo>
                    <a:pt x="179" y="110"/>
                  </a:moveTo>
                  <a:lnTo>
                    <a:pt x="179" y="110"/>
                  </a:lnTo>
                  <a:lnTo>
                    <a:pt x="179" y="110"/>
                  </a:lnTo>
                  <a:lnTo>
                    <a:pt x="156" y="163"/>
                  </a:lnTo>
                  <a:lnTo>
                    <a:pt x="152" y="171"/>
                  </a:lnTo>
                  <a:lnTo>
                    <a:pt x="146" y="175"/>
                  </a:lnTo>
                  <a:lnTo>
                    <a:pt x="138" y="175"/>
                  </a:lnTo>
                  <a:lnTo>
                    <a:pt x="130" y="171"/>
                  </a:lnTo>
                  <a:lnTo>
                    <a:pt x="126" y="163"/>
                  </a:ln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6" y="45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5" y="33"/>
                  </a:lnTo>
                  <a:lnTo>
                    <a:pt x="181" y="37"/>
                  </a:lnTo>
                  <a:lnTo>
                    <a:pt x="185" y="45"/>
                  </a:lnTo>
                  <a:lnTo>
                    <a:pt x="185" y="53"/>
                  </a:lnTo>
                  <a:lnTo>
                    <a:pt x="179" y="110"/>
                  </a:lnTo>
                  <a:lnTo>
                    <a:pt x="179" y="110"/>
                  </a:lnTo>
                  <a:lnTo>
                    <a:pt x="179" y="1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1360" y="3598560"/>
              <a:ext cx="147600" cy="137880"/>
            </a:xfrm>
            <a:custGeom>
              <a:avLst/>
              <a:gdLst/>
              <a:ahLst/>
              <a:rect l="l" t="t" r="r" b="b"/>
              <a:pathLst>
                <a:path w="184" h="173">
                  <a:moveTo>
                    <a:pt x="125" y="159"/>
                  </a:move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7" y="43"/>
                  </a:lnTo>
                  <a:lnTo>
                    <a:pt x="159" y="37"/>
                  </a:lnTo>
                  <a:lnTo>
                    <a:pt x="147" y="24"/>
                  </a:lnTo>
                  <a:lnTo>
                    <a:pt x="131" y="16"/>
                  </a:lnTo>
                  <a:lnTo>
                    <a:pt x="70" y="0"/>
                  </a:lnTo>
                  <a:lnTo>
                    <a:pt x="55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17" y="31"/>
                  </a:lnTo>
                  <a:lnTo>
                    <a:pt x="0" y="94"/>
                  </a:lnTo>
                  <a:lnTo>
                    <a:pt x="0" y="112"/>
                  </a:lnTo>
                  <a:lnTo>
                    <a:pt x="4" y="128"/>
                  </a:lnTo>
                  <a:lnTo>
                    <a:pt x="15" y="142"/>
                  </a:lnTo>
                  <a:lnTo>
                    <a:pt x="31" y="149"/>
                  </a:lnTo>
                  <a:lnTo>
                    <a:pt x="92" y="165"/>
                  </a:lnTo>
                  <a:lnTo>
                    <a:pt x="110" y="167"/>
                  </a:lnTo>
                  <a:lnTo>
                    <a:pt x="125" y="159"/>
                  </a:lnTo>
                  <a:close/>
                  <a:moveTo>
                    <a:pt x="178" y="108"/>
                  </a:moveTo>
                  <a:lnTo>
                    <a:pt x="178" y="110"/>
                  </a:lnTo>
                  <a:lnTo>
                    <a:pt x="178" y="110"/>
                  </a:lnTo>
                  <a:lnTo>
                    <a:pt x="155" y="163"/>
                  </a:lnTo>
                  <a:lnTo>
                    <a:pt x="151" y="169"/>
                  </a:lnTo>
                  <a:lnTo>
                    <a:pt x="145" y="173"/>
                  </a:lnTo>
                  <a:lnTo>
                    <a:pt x="137" y="173"/>
                  </a:lnTo>
                  <a:lnTo>
                    <a:pt x="129" y="169"/>
                  </a:lnTo>
                  <a:lnTo>
                    <a:pt x="125" y="163"/>
                  </a:ln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5" y="43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4" y="33"/>
                  </a:lnTo>
                  <a:lnTo>
                    <a:pt x="180" y="37"/>
                  </a:lnTo>
                  <a:lnTo>
                    <a:pt x="184" y="43"/>
                  </a:lnTo>
                  <a:lnTo>
                    <a:pt x="184" y="51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8" y="1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11480" y="3254040"/>
              <a:ext cx="139680" cy="120600"/>
            </a:xfrm>
            <a:custGeom>
              <a:avLst/>
              <a:gdLst/>
              <a:ahLst/>
              <a:rect l="l" t="t" r="r" b="b"/>
              <a:pathLst>
                <a:path w="177" h="154">
                  <a:moveTo>
                    <a:pt x="138" y="140"/>
                  </a:move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38" y="14"/>
                  </a:lnTo>
                  <a:lnTo>
                    <a:pt x="124" y="4"/>
                  </a:lnTo>
                  <a:lnTo>
                    <a:pt x="106" y="0"/>
                  </a:lnTo>
                  <a:lnTo>
                    <a:pt x="44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4" y="28"/>
                  </a:lnTo>
                  <a:lnTo>
                    <a:pt x="0" y="44"/>
                  </a:lnTo>
                  <a:lnTo>
                    <a:pt x="0" y="111"/>
                  </a:lnTo>
                  <a:lnTo>
                    <a:pt x="4" y="128"/>
                  </a:lnTo>
                  <a:lnTo>
                    <a:pt x="14" y="142"/>
                  </a:lnTo>
                  <a:lnTo>
                    <a:pt x="28" y="152"/>
                  </a:lnTo>
                  <a:lnTo>
                    <a:pt x="44" y="154"/>
                  </a:lnTo>
                  <a:lnTo>
                    <a:pt x="106" y="154"/>
                  </a:lnTo>
                  <a:lnTo>
                    <a:pt x="124" y="152"/>
                  </a:lnTo>
                  <a:lnTo>
                    <a:pt x="138" y="140"/>
                  </a:lnTo>
                  <a:close/>
                  <a:moveTo>
                    <a:pt x="177" y="77"/>
                  </a:moveTo>
                  <a:lnTo>
                    <a:pt x="177" y="77"/>
                  </a:lnTo>
                  <a:lnTo>
                    <a:pt x="177" y="77"/>
                  </a:lnTo>
                  <a:lnTo>
                    <a:pt x="167" y="136"/>
                  </a:lnTo>
                  <a:lnTo>
                    <a:pt x="165" y="142"/>
                  </a:lnTo>
                  <a:lnTo>
                    <a:pt x="159" y="148"/>
                  </a:lnTo>
                  <a:lnTo>
                    <a:pt x="152" y="150"/>
                  </a:lnTo>
                  <a:lnTo>
                    <a:pt x="146" y="148"/>
                  </a:lnTo>
                  <a:lnTo>
                    <a:pt x="140" y="142"/>
                  </a:ln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40" y="12"/>
                  </a:lnTo>
                  <a:lnTo>
                    <a:pt x="146" y="6"/>
                  </a:lnTo>
                  <a:lnTo>
                    <a:pt x="152" y="4"/>
                  </a:lnTo>
                  <a:lnTo>
                    <a:pt x="159" y="6"/>
                  </a:lnTo>
                  <a:lnTo>
                    <a:pt x="165" y="12"/>
                  </a:lnTo>
                  <a:lnTo>
                    <a:pt x="167" y="20"/>
                  </a:lnTo>
                  <a:lnTo>
                    <a:pt x="177" y="77"/>
                  </a:lnTo>
                  <a:lnTo>
                    <a:pt x="177" y="77"/>
                  </a:lnTo>
                  <a:lnTo>
                    <a:pt x="177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70440" y="2919240"/>
              <a:ext cx="155520" cy="151920"/>
            </a:xfrm>
            <a:custGeom>
              <a:avLst/>
              <a:gdLst/>
              <a:ahLst/>
              <a:rect l="l" t="t" r="r" b="b"/>
              <a:pathLst>
                <a:path w="197" h="190">
                  <a:moveTo>
                    <a:pt x="173" y="125"/>
                  </a:move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5"/>
                  </a:lnTo>
                  <a:lnTo>
                    <a:pt x="93" y="13"/>
                  </a:lnTo>
                  <a:lnTo>
                    <a:pt x="75" y="19"/>
                  </a:lnTo>
                  <a:lnTo>
                    <a:pt x="22" y="51"/>
                  </a:lnTo>
                  <a:lnTo>
                    <a:pt x="8" y="63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6" y="112"/>
                  </a:lnTo>
                  <a:lnTo>
                    <a:pt x="40" y="169"/>
                  </a:lnTo>
                  <a:lnTo>
                    <a:pt x="49" y="181"/>
                  </a:lnTo>
                  <a:lnTo>
                    <a:pt x="65" y="188"/>
                  </a:lnTo>
                  <a:lnTo>
                    <a:pt x="83" y="190"/>
                  </a:lnTo>
                  <a:lnTo>
                    <a:pt x="98" y="184"/>
                  </a:lnTo>
                  <a:lnTo>
                    <a:pt x="153" y="153"/>
                  </a:lnTo>
                  <a:lnTo>
                    <a:pt x="165" y="141"/>
                  </a:lnTo>
                  <a:lnTo>
                    <a:pt x="173" y="125"/>
                  </a:lnTo>
                  <a:close/>
                  <a:moveTo>
                    <a:pt x="175" y="51"/>
                  </a:moveTo>
                  <a:lnTo>
                    <a:pt x="175" y="53"/>
                  </a:lnTo>
                  <a:lnTo>
                    <a:pt x="175" y="53"/>
                  </a:lnTo>
                  <a:lnTo>
                    <a:pt x="195" y="106"/>
                  </a:lnTo>
                  <a:lnTo>
                    <a:pt x="197" y="114"/>
                  </a:lnTo>
                  <a:lnTo>
                    <a:pt x="195" y="122"/>
                  </a:lnTo>
                  <a:lnTo>
                    <a:pt x="191" y="127"/>
                  </a:lnTo>
                  <a:lnTo>
                    <a:pt x="183" y="129"/>
                  </a:lnTo>
                  <a:lnTo>
                    <a:pt x="175" y="127"/>
                  </a:ln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3"/>
                  </a:lnTo>
                  <a:lnTo>
                    <a:pt x="112" y="6"/>
                  </a:lnTo>
                  <a:lnTo>
                    <a:pt x="118" y="2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75" y="51"/>
                  </a:lnTo>
                  <a:lnTo>
                    <a:pt x="175" y="51"/>
                  </a:lnTo>
                  <a:lnTo>
                    <a:pt x="175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09960" y="2771640"/>
              <a:ext cx="155520" cy="150480"/>
            </a:xfrm>
            <a:custGeom>
              <a:avLst/>
              <a:gdLst/>
              <a:ahLst/>
              <a:rect l="l" t="t" r="r" b="b"/>
              <a:pathLst>
                <a:path w="196" h="191">
                  <a:moveTo>
                    <a:pt x="173" y="126"/>
                  </a:move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1"/>
                  </a:lnTo>
                  <a:lnTo>
                    <a:pt x="110" y="18"/>
                  </a:lnTo>
                  <a:lnTo>
                    <a:pt x="92" y="16"/>
                  </a:lnTo>
                  <a:lnTo>
                    <a:pt x="74" y="21"/>
                  </a:lnTo>
                  <a:lnTo>
                    <a:pt x="21" y="5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6" y="112"/>
                  </a:lnTo>
                  <a:lnTo>
                    <a:pt x="37" y="169"/>
                  </a:lnTo>
                  <a:lnTo>
                    <a:pt x="49" y="183"/>
                  </a:lnTo>
                  <a:lnTo>
                    <a:pt x="65" y="191"/>
                  </a:lnTo>
                  <a:lnTo>
                    <a:pt x="82" y="191"/>
                  </a:lnTo>
                  <a:lnTo>
                    <a:pt x="98" y="185"/>
                  </a:lnTo>
                  <a:lnTo>
                    <a:pt x="151" y="155"/>
                  </a:lnTo>
                  <a:lnTo>
                    <a:pt x="165" y="143"/>
                  </a:lnTo>
                  <a:lnTo>
                    <a:pt x="173" y="126"/>
                  </a:lnTo>
                  <a:close/>
                  <a:moveTo>
                    <a:pt x="174" y="53"/>
                  </a:moveTo>
                  <a:lnTo>
                    <a:pt x="174" y="53"/>
                  </a:lnTo>
                  <a:lnTo>
                    <a:pt x="174" y="53"/>
                  </a:lnTo>
                  <a:lnTo>
                    <a:pt x="194" y="108"/>
                  </a:lnTo>
                  <a:lnTo>
                    <a:pt x="196" y="116"/>
                  </a:lnTo>
                  <a:lnTo>
                    <a:pt x="194" y="122"/>
                  </a:lnTo>
                  <a:lnTo>
                    <a:pt x="190" y="128"/>
                  </a:lnTo>
                  <a:lnTo>
                    <a:pt x="182" y="130"/>
                  </a:lnTo>
                  <a:lnTo>
                    <a:pt x="174" y="128"/>
                  </a:ln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16"/>
                  </a:lnTo>
                  <a:lnTo>
                    <a:pt x="112" y="8"/>
                  </a:lnTo>
                  <a:lnTo>
                    <a:pt x="118" y="2"/>
                  </a:lnTo>
                  <a:lnTo>
                    <a:pt x="123" y="0"/>
                  </a:lnTo>
                  <a:lnTo>
                    <a:pt x="131" y="2"/>
                  </a:lnTo>
                  <a:lnTo>
                    <a:pt x="137" y="8"/>
                  </a:lnTo>
                  <a:lnTo>
                    <a:pt x="174" y="53"/>
                  </a:lnTo>
                  <a:lnTo>
                    <a:pt x="174" y="53"/>
                  </a:lnTo>
                  <a:lnTo>
                    <a:pt x="174" y="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22640" y="3098520"/>
              <a:ext cx="146160" cy="137880"/>
            </a:xfrm>
            <a:custGeom>
              <a:avLst/>
              <a:gdLst/>
              <a:ahLst/>
              <a:rect l="l" t="t" r="r" b="b"/>
              <a:pathLst>
                <a:path w="185" h="173">
                  <a:moveTo>
                    <a:pt x="159" y="133"/>
                  </a:move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26" y="12"/>
                  </a:lnTo>
                  <a:lnTo>
                    <a:pt x="110" y="6"/>
                  </a:lnTo>
                  <a:lnTo>
                    <a:pt x="92" y="6"/>
                  </a:lnTo>
                  <a:lnTo>
                    <a:pt x="32" y="23"/>
                  </a:lnTo>
                  <a:lnTo>
                    <a:pt x="16" y="31"/>
                  </a:lnTo>
                  <a:lnTo>
                    <a:pt x="4" y="43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18" y="141"/>
                  </a:lnTo>
                  <a:lnTo>
                    <a:pt x="26" y="155"/>
                  </a:lnTo>
                  <a:lnTo>
                    <a:pt x="37" y="167"/>
                  </a:lnTo>
                  <a:lnTo>
                    <a:pt x="55" y="173"/>
                  </a:lnTo>
                  <a:lnTo>
                    <a:pt x="71" y="171"/>
                  </a:lnTo>
                  <a:lnTo>
                    <a:pt x="132" y="155"/>
                  </a:lnTo>
                  <a:lnTo>
                    <a:pt x="147" y="147"/>
                  </a:lnTo>
                  <a:lnTo>
                    <a:pt x="159" y="133"/>
                  </a:lnTo>
                  <a:close/>
                  <a:moveTo>
                    <a:pt x="179" y="63"/>
                  </a:moveTo>
                  <a:lnTo>
                    <a:pt x="179" y="63"/>
                  </a:lnTo>
                  <a:lnTo>
                    <a:pt x="179" y="63"/>
                  </a:lnTo>
                  <a:lnTo>
                    <a:pt x="185" y="122"/>
                  </a:lnTo>
                  <a:lnTo>
                    <a:pt x="185" y="130"/>
                  </a:lnTo>
                  <a:lnTo>
                    <a:pt x="181" y="135"/>
                  </a:lnTo>
                  <a:lnTo>
                    <a:pt x="175" y="139"/>
                  </a:lnTo>
                  <a:lnTo>
                    <a:pt x="167" y="139"/>
                  </a:lnTo>
                  <a:lnTo>
                    <a:pt x="161" y="135"/>
                  </a:ln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6" y="17"/>
                  </a:lnTo>
                  <a:lnTo>
                    <a:pt x="126" y="10"/>
                  </a:lnTo>
                  <a:lnTo>
                    <a:pt x="130" y="4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4"/>
                  </a:lnTo>
                  <a:lnTo>
                    <a:pt x="155" y="10"/>
                  </a:lnTo>
                  <a:lnTo>
                    <a:pt x="179" y="63"/>
                  </a:lnTo>
                  <a:lnTo>
                    <a:pt x="179" y="63"/>
                  </a:lnTo>
                  <a:lnTo>
                    <a:pt x="179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3080" y="2709720"/>
              <a:ext cx="471240" cy="1239480"/>
            </a:xfrm>
            <a:custGeom>
              <a:avLst/>
              <a:gdLst/>
              <a:ahLst/>
              <a:rect l="l" t="t" r="r" b="b"/>
              <a:pathLst>
                <a:path w="595" h="1563">
                  <a:moveTo>
                    <a:pt x="317" y="0"/>
                  </a:moveTo>
                  <a:lnTo>
                    <a:pt x="468" y="260"/>
                  </a:lnTo>
                  <a:lnTo>
                    <a:pt x="505" y="334"/>
                  </a:lnTo>
                  <a:lnTo>
                    <a:pt x="536" y="411"/>
                  </a:lnTo>
                  <a:lnTo>
                    <a:pt x="562" y="490"/>
                  </a:lnTo>
                  <a:lnTo>
                    <a:pt x="580" y="572"/>
                  </a:lnTo>
                  <a:lnTo>
                    <a:pt x="591" y="655"/>
                  </a:lnTo>
                  <a:lnTo>
                    <a:pt x="595" y="738"/>
                  </a:lnTo>
                  <a:lnTo>
                    <a:pt x="591" y="820"/>
                  </a:lnTo>
                  <a:lnTo>
                    <a:pt x="580" y="903"/>
                  </a:lnTo>
                  <a:lnTo>
                    <a:pt x="562" y="985"/>
                  </a:lnTo>
                  <a:lnTo>
                    <a:pt x="536" y="1064"/>
                  </a:lnTo>
                  <a:lnTo>
                    <a:pt x="505" y="1141"/>
                  </a:lnTo>
                  <a:lnTo>
                    <a:pt x="468" y="1215"/>
                  </a:lnTo>
                  <a:lnTo>
                    <a:pt x="423" y="1284"/>
                  </a:lnTo>
                  <a:lnTo>
                    <a:pt x="371" y="1351"/>
                  </a:lnTo>
                  <a:lnTo>
                    <a:pt x="317" y="1412"/>
                  </a:lnTo>
                  <a:lnTo>
                    <a:pt x="254" y="1469"/>
                  </a:lnTo>
                  <a:lnTo>
                    <a:pt x="189" y="1520"/>
                  </a:lnTo>
                  <a:lnTo>
                    <a:pt x="118" y="1563"/>
                  </a:lnTo>
                  <a:lnTo>
                    <a:pt x="0" y="1359"/>
                  </a:lnTo>
                  <a:lnTo>
                    <a:pt x="59" y="1322"/>
                  </a:lnTo>
                  <a:lnTo>
                    <a:pt x="114" y="1278"/>
                  </a:lnTo>
                  <a:lnTo>
                    <a:pt x="165" y="1229"/>
                  </a:lnTo>
                  <a:lnTo>
                    <a:pt x="210" y="1174"/>
                  </a:lnTo>
                  <a:lnTo>
                    <a:pt x="252" y="1117"/>
                  </a:lnTo>
                  <a:lnTo>
                    <a:pt x="285" y="1056"/>
                  </a:lnTo>
                  <a:lnTo>
                    <a:pt x="313" y="991"/>
                  </a:lnTo>
                  <a:lnTo>
                    <a:pt x="334" y="924"/>
                  </a:lnTo>
                  <a:lnTo>
                    <a:pt x="350" y="854"/>
                  </a:lnTo>
                  <a:lnTo>
                    <a:pt x="358" y="785"/>
                  </a:lnTo>
                  <a:lnTo>
                    <a:pt x="360" y="714"/>
                  </a:lnTo>
                  <a:lnTo>
                    <a:pt x="354" y="643"/>
                  </a:lnTo>
                  <a:lnTo>
                    <a:pt x="340" y="574"/>
                  </a:lnTo>
                  <a:lnTo>
                    <a:pt x="320" y="506"/>
                  </a:lnTo>
                  <a:lnTo>
                    <a:pt x="295" y="441"/>
                  </a:lnTo>
                  <a:lnTo>
                    <a:pt x="264" y="378"/>
                  </a:lnTo>
                  <a:lnTo>
                    <a:pt x="112" y="118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8280" y="1981080"/>
              <a:ext cx="5656320" cy="2528640"/>
            </a:xfrm>
            <a:custGeom>
              <a:avLst/>
              <a:gdLst/>
              <a:ahLst/>
              <a:rect l="l" t="t" r="r" b="b"/>
              <a:pathLst>
                <a:path w="7127" h="3185">
                  <a:moveTo>
                    <a:pt x="0" y="0"/>
                  </a:moveTo>
                  <a:lnTo>
                    <a:pt x="7127" y="0"/>
                  </a:lnTo>
                  <a:lnTo>
                    <a:pt x="7127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37160" y="3657600"/>
              <a:ext cx="453960" cy="456840"/>
            </a:xfrm>
            <a:custGeom>
              <a:avLst/>
              <a:gdLst/>
              <a:ahLst/>
              <a:rect l="l" t="t" r="r" b="b"/>
              <a:pathLst>
                <a:path w="574" h="576">
                  <a:moveTo>
                    <a:pt x="411" y="299"/>
                  </a:moveTo>
                  <a:lnTo>
                    <a:pt x="409" y="314"/>
                  </a:lnTo>
                  <a:lnTo>
                    <a:pt x="403" y="328"/>
                  </a:lnTo>
                  <a:lnTo>
                    <a:pt x="399" y="342"/>
                  </a:lnTo>
                  <a:lnTo>
                    <a:pt x="391" y="356"/>
                  </a:lnTo>
                  <a:lnTo>
                    <a:pt x="383" y="365"/>
                  </a:lnTo>
                  <a:lnTo>
                    <a:pt x="374" y="377"/>
                  </a:lnTo>
                  <a:lnTo>
                    <a:pt x="362" y="387"/>
                  </a:lnTo>
                  <a:lnTo>
                    <a:pt x="350" y="395"/>
                  </a:lnTo>
                  <a:lnTo>
                    <a:pt x="338" y="401"/>
                  </a:lnTo>
                  <a:lnTo>
                    <a:pt x="326" y="405"/>
                  </a:lnTo>
                  <a:lnTo>
                    <a:pt x="315" y="409"/>
                  </a:lnTo>
                  <a:lnTo>
                    <a:pt x="303" y="411"/>
                  </a:lnTo>
                  <a:lnTo>
                    <a:pt x="291" y="413"/>
                  </a:lnTo>
                  <a:lnTo>
                    <a:pt x="277" y="411"/>
                  </a:lnTo>
                  <a:lnTo>
                    <a:pt x="268" y="411"/>
                  </a:lnTo>
                  <a:lnTo>
                    <a:pt x="256" y="409"/>
                  </a:lnTo>
                  <a:lnTo>
                    <a:pt x="244" y="403"/>
                  </a:lnTo>
                  <a:lnTo>
                    <a:pt x="234" y="399"/>
                  </a:lnTo>
                  <a:lnTo>
                    <a:pt x="222" y="393"/>
                  </a:lnTo>
                  <a:lnTo>
                    <a:pt x="213" y="387"/>
                  </a:lnTo>
                  <a:lnTo>
                    <a:pt x="203" y="379"/>
                  </a:lnTo>
                  <a:lnTo>
                    <a:pt x="195" y="369"/>
                  </a:lnTo>
                  <a:lnTo>
                    <a:pt x="187" y="362"/>
                  </a:lnTo>
                  <a:lnTo>
                    <a:pt x="181" y="350"/>
                  </a:lnTo>
                  <a:lnTo>
                    <a:pt x="175" y="338"/>
                  </a:lnTo>
                  <a:lnTo>
                    <a:pt x="171" y="328"/>
                  </a:lnTo>
                  <a:lnTo>
                    <a:pt x="167" y="314"/>
                  </a:lnTo>
                  <a:lnTo>
                    <a:pt x="165" y="303"/>
                  </a:lnTo>
                  <a:lnTo>
                    <a:pt x="163" y="291"/>
                  </a:lnTo>
                  <a:lnTo>
                    <a:pt x="163" y="279"/>
                  </a:lnTo>
                  <a:lnTo>
                    <a:pt x="165" y="267"/>
                  </a:lnTo>
                  <a:lnTo>
                    <a:pt x="167" y="255"/>
                  </a:lnTo>
                  <a:lnTo>
                    <a:pt x="171" y="245"/>
                  </a:lnTo>
                  <a:lnTo>
                    <a:pt x="177" y="234"/>
                  </a:lnTo>
                  <a:lnTo>
                    <a:pt x="181" y="224"/>
                  </a:lnTo>
                  <a:lnTo>
                    <a:pt x="189" y="212"/>
                  </a:lnTo>
                  <a:lnTo>
                    <a:pt x="197" y="204"/>
                  </a:lnTo>
                  <a:lnTo>
                    <a:pt x="205" y="196"/>
                  </a:lnTo>
                  <a:lnTo>
                    <a:pt x="215" y="188"/>
                  </a:lnTo>
                  <a:lnTo>
                    <a:pt x="224" y="181"/>
                  </a:lnTo>
                  <a:lnTo>
                    <a:pt x="238" y="175"/>
                  </a:lnTo>
                  <a:lnTo>
                    <a:pt x="252" y="169"/>
                  </a:lnTo>
                  <a:lnTo>
                    <a:pt x="268" y="165"/>
                  </a:lnTo>
                  <a:lnTo>
                    <a:pt x="281" y="163"/>
                  </a:lnTo>
                  <a:lnTo>
                    <a:pt x="297" y="163"/>
                  </a:lnTo>
                  <a:lnTo>
                    <a:pt x="311" y="167"/>
                  </a:lnTo>
                  <a:lnTo>
                    <a:pt x="324" y="171"/>
                  </a:lnTo>
                  <a:lnTo>
                    <a:pt x="340" y="175"/>
                  </a:lnTo>
                  <a:lnTo>
                    <a:pt x="409" y="25"/>
                  </a:lnTo>
                  <a:lnTo>
                    <a:pt x="376" y="13"/>
                  </a:lnTo>
                  <a:lnTo>
                    <a:pt x="342" y="6"/>
                  </a:lnTo>
                  <a:lnTo>
                    <a:pt x="309" y="0"/>
                  </a:lnTo>
                  <a:lnTo>
                    <a:pt x="273" y="0"/>
                  </a:lnTo>
                  <a:lnTo>
                    <a:pt x="258" y="2"/>
                  </a:lnTo>
                  <a:lnTo>
                    <a:pt x="240" y="4"/>
                  </a:lnTo>
                  <a:lnTo>
                    <a:pt x="224" y="6"/>
                  </a:lnTo>
                  <a:lnTo>
                    <a:pt x="207" y="10"/>
                  </a:lnTo>
                  <a:lnTo>
                    <a:pt x="189" y="15"/>
                  </a:lnTo>
                  <a:lnTo>
                    <a:pt x="175" y="21"/>
                  </a:lnTo>
                  <a:lnTo>
                    <a:pt x="160" y="29"/>
                  </a:lnTo>
                  <a:lnTo>
                    <a:pt x="144" y="37"/>
                  </a:lnTo>
                  <a:lnTo>
                    <a:pt x="118" y="55"/>
                  </a:lnTo>
                  <a:lnTo>
                    <a:pt x="97" y="72"/>
                  </a:lnTo>
                  <a:lnTo>
                    <a:pt x="75" y="92"/>
                  </a:lnTo>
                  <a:lnTo>
                    <a:pt x="57" y="114"/>
                  </a:lnTo>
                  <a:lnTo>
                    <a:pt x="42" y="137"/>
                  </a:lnTo>
                  <a:lnTo>
                    <a:pt x="30" y="161"/>
                  </a:lnTo>
                  <a:lnTo>
                    <a:pt x="18" y="187"/>
                  </a:lnTo>
                  <a:lnTo>
                    <a:pt x="10" y="212"/>
                  </a:lnTo>
                  <a:lnTo>
                    <a:pt x="4" y="242"/>
                  </a:lnTo>
                  <a:lnTo>
                    <a:pt x="0" y="269"/>
                  </a:lnTo>
                  <a:lnTo>
                    <a:pt x="0" y="295"/>
                  </a:lnTo>
                  <a:lnTo>
                    <a:pt x="2" y="324"/>
                  </a:lnTo>
                  <a:lnTo>
                    <a:pt x="6" y="352"/>
                  </a:lnTo>
                  <a:lnTo>
                    <a:pt x="14" y="379"/>
                  </a:lnTo>
                  <a:lnTo>
                    <a:pt x="26" y="405"/>
                  </a:lnTo>
                  <a:lnTo>
                    <a:pt x="40" y="432"/>
                  </a:lnTo>
                  <a:lnTo>
                    <a:pt x="55" y="456"/>
                  </a:lnTo>
                  <a:lnTo>
                    <a:pt x="73" y="479"/>
                  </a:lnTo>
                  <a:lnTo>
                    <a:pt x="93" y="501"/>
                  </a:lnTo>
                  <a:lnTo>
                    <a:pt x="114" y="519"/>
                  </a:lnTo>
                  <a:lnTo>
                    <a:pt x="138" y="535"/>
                  </a:lnTo>
                  <a:lnTo>
                    <a:pt x="161" y="548"/>
                  </a:lnTo>
                  <a:lnTo>
                    <a:pt x="187" y="558"/>
                  </a:lnTo>
                  <a:lnTo>
                    <a:pt x="213" y="566"/>
                  </a:lnTo>
                  <a:lnTo>
                    <a:pt x="240" y="574"/>
                  </a:lnTo>
                  <a:lnTo>
                    <a:pt x="268" y="576"/>
                  </a:lnTo>
                  <a:lnTo>
                    <a:pt x="295" y="576"/>
                  </a:lnTo>
                  <a:lnTo>
                    <a:pt x="322" y="574"/>
                  </a:lnTo>
                  <a:lnTo>
                    <a:pt x="350" y="570"/>
                  </a:lnTo>
                  <a:lnTo>
                    <a:pt x="377" y="562"/>
                  </a:lnTo>
                  <a:lnTo>
                    <a:pt x="405" y="550"/>
                  </a:lnTo>
                  <a:lnTo>
                    <a:pt x="430" y="538"/>
                  </a:lnTo>
                  <a:lnTo>
                    <a:pt x="446" y="529"/>
                  </a:lnTo>
                  <a:lnTo>
                    <a:pt x="460" y="519"/>
                  </a:lnTo>
                  <a:lnTo>
                    <a:pt x="474" y="509"/>
                  </a:lnTo>
                  <a:lnTo>
                    <a:pt x="485" y="495"/>
                  </a:lnTo>
                  <a:lnTo>
                    <a:pt x="499" y="483"/>
                  </a:lnTo>
                  <a:lnTo>
                    <a:pt x="509" y="472"/>
                  </a:lnTo>
                  <a:lnTo>
                    <a:pt x="519" y="458"/>
                  </a:lnTo>
                  <a:lnTo>
                    <a:pt x="529" y="444"/>
                  </a:lnTo>
                  <a:lnTo>
                    <a:pt x="546" y="413"/>
                  </a:lnTo>
                  <a:lnTo>
                    <a:pt x="558" y="381"/>
                  </a:lnTo>
                  <a:lnTo>
                    <a:pt x="568" y="348"/>
                  </a:lnTo>
                  <a:lnTo>
                    <a:pt x="574" y="312"/>
                  </a:lnTo>
                  <a:lnTo>
                    <a:pt x="411" y="299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27520" y="3768480"/>
              <a:ext cx="277920" cy="280800"/>
            </a:xfrm>
            <a:custGeom>
              <a:avLst/>
              <a:gdLst/>
              <a:ahLst/>
              <a:rect l="l" t="t" r="r" b="b"/>
              <a:pathLst>
                <a:path w="352" h="354">
                  <a:moveTo>
                    <a:pt x="222" y="348"/>
                  </a:moveTo>
                  <a:lnTo>
                    <a:pt x="185" y="354"/>
                  </a:lnTo>
                  <a:lnTo>
                    <a:pt x="148" y="352"/>
                  </a:lnTo>
                  <a:lnTo>
                    <a:pt x="112" y="342"/>
                  </a:lnTo>
                  <a:lnTo>
                    <a:pt x="79" y="327"/>
                  </a:lnTo>
                  <a:lnTo>
                    <a:pt x="51" y="303"/>
                  </a:lnTo>
                  <a:lnTo>
                    <a:pt x="28" y="274"/>
                  </a:lnTo>
                  <a:lnTo>
                    <a:pt x="10" y="240"/>
                  </a:lnTo>
                  <a:lnTo>
                    <a:pt x="2" y="205"/>
                  </a:lnTo>
                  <a:lnTo>
                    <a:pt x="0" y="167"/>
                  </a:lnTo>
                  <a:lnTo>
                    <a:pt x="6" y="132"/>
                  </a:lnTo>
                  <a:lnTo>
                    <a:pt x="18" y="97"/>
                  </a:lnTo>
                  <a:lnTo>
                    <a:pt x="40" y="67"/>
                  </a:lnTo>
                  <a:lnTo>
                    <a:pt x="65" y="40"/>
                  </a:lnTo>
                  <a:lnTo>
                    <a:pt x="97" y="20"/>
                  </a:lnTo>
                  <a:lnTo>
                    <a:pt x="130" y="6"/>
                  </a:lnTo>
                  <a:lnTo>
                    <a:pt x="167" y="0"/>
                  </a:lnTo>
                  <a:lnTo>
                    <a:pt x="205" y="2"/>
                  </a:lnTo>
                  <a:lnTo>
                    <a:pt x="240" y="12"/>
                  </a:lnTo>
                  <a:lnTo>
                    <a:pt x="271" y="30"/>
                  </a:lnTo>
                  <a:lnTo>
                    <a:pt x="301" y="53"/>
                  </a:lnTo>
                  <a:lnTo>
                    <a:pt x="324" y="81"/>
                  </a:lnTo>
                  <a:lnTo>
                    <a:pt x="342" y="114"/>
                  </a:lnTo>
                  <a:lnTo>
                    <a:pt x="350" y="150"/>
                  </a:lnTo>
                  <a:lnTo>
                    <a:pt x="352" y="187"/>
                  </a:lnTo>
                  <a:lnTo>
                    <a:pt x="346" y="223"/>
                  </a:lnTo>
                  <a:lnTo>
                    <a:pt x="334" y="258"/>
                  </a:lnTo>
                  <a:lnTo>
                    <a:pt x="313" y="289"/>
                  </a:lnTo>
                  <a:lnTo>
                    <a:pt x="287" y="315"/>
                  </a:lnTo>
                  <a:lnTo>
                    <a:pt x="256" y="335"/>
                  </a:lnTo>
                  <a:lnTo>
                    <a:pt x="222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0840" y="2035080"/>
              <a:ext cx="457200" cy="415440"/>
            </a:xfrm>
            <a:custGeom>
              <a:avLst/>
              <a:gdLst/>
              <a:ahLst/>
              <a:rect l="l" t="t" r="r" b="b"/>
              <a:pathLst>
                <a:path w="578" h="525">
                  <a:moveTo>
                    <a:pt x="218" y="391"/>
                  </a:moveTo>
                  <a:lnTo>
                    <a:pt x="207" y="381"/>
                  </a:lnTo>
                  <a:lnTo>
                    <a:pt x="197" y="369"/>
                  </a:lnTo>
                  <a:lnTo>
                    <a:pt x="187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7" y="304"/>
                  </a:lnTo>
                  <a:lnTo>
                    <a:pt x="165" y="289"/>
                  </a:lnTo>
                  <a:lnTo>
                    <a:pt x="167" y="275"/>
                  </a:lnTo>
                  <a:lnTo>
                    <a:pt x="169" y="263"/>
                  </a:lnTo>
                  <a:lnTo>
                    <a:pt x="171" y="251"/>
                  </a:lnTo>
                  <a:lnTo>
                    <a:pt x="175" y="242"/>
                  </a:lnTo>
                  <a:lnTo>
                    <a:pt x="181" y="230"/>
                  </a:lnTo>
                  <a:lnTo>
                    <a:pt x="187" y="220"/>
                  </a:lnTo>
                  <a:lnTo>
                    <a:pt x="195" y="210"/>
                  </a:lnTo>
                  <a:lnTo>
                    <a:pt x="201" y="200"/>
                  </a:lnTo>
                  <a:lnTo>
                    <a:pt x="211" y="194"/>
                  </a:lnTo>
                  <a:lnTo>
                    <a:pt x="220" y="187"/>
                  </a:lnTo>
                  <a:lnTo>
                    <a:pt x="230" y="181"/>
                  </a:lnTo>
                  <a:lnTo>
                    <a:pt x="242" y="175"/>
                  </a:lnTo>
                  <a:lnTo>
                    <a:pt x="252" y="171"/>
                  </a:lnTo>
                  <a:lnTo>
                    <a:pt x="264" y="167"/>
                  </a:lnTo>
                  <a:lnTo>
                    <a:pt x="277" y="167"/>
                  </a:lnTo>
                  <a:lnTo>
                    <a:pt x="289" y="165"/>
                  </a:lnTo>
                  <a:lnTo>
                    <a:pt x="303" y="167"/>
                  </a:lnTo>
                  <a:lnTo>
                    <a:pt x="315" y="167"/>
                  </a:lnTo>
                  <a:lnTo>
                    <a:pt x="326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8" y="187"/>
                  </a:lnTo>
                  <a:lnTo>
                    <a:pt x="368" y="194"/>
                  </a:lnTo>
                  <a:lnTo>
                    <a:pt x="377" y="200"/>
                  </a:lnTo>
                  <a:lnTo>
                    <a:pt x="385" y="210"/>
                  </a:lnTo>
                  <a:lnTo>
                    <a:pt x="391" y="220"/>
                  </a:lnTo>
                  <a:lnTo>
                    <a:pt x="399" y="230"/>
                  </a:lnTo>
                  <a:lnTo>
                    <a:pt x="403" y="242"/>
                  </a:lnTo>
                  <a:lnTo>
                    <a:pt x="407" y="251"/>
                  </a:lnTo>
                  <a:lnTo>
                    <a:pt x="411" y="263"/>
                  </a:lnTo>
                  <a:lnTo>
                    <a:pt x="413" y="275"/>
                  </a:lnTo>
                  <a:lnTo>
                    <a:pt x="413" y="289"/>
                  </a:lnTo>
                  <a:lnTo>
                    <a:pt x="413" y="304"/>
                  </a:lnTo>
                  <a:lnTo>
                    <a:pt x="409" y="318"/>
                  </a:lnTo>
                  <a:lnTo>
                    <a:pt x="405" y="334"/>
                  </a:lnTo>
                  <a:lnTo>
                    <a:pt x="399" y="346"/>
                  </a:lnTo>
                  <a:lnTo>
                    <a:pt x="391" y="360"/>
                  </a:lnTo>
                  <a:lnTo>
                    <a:pt x="383" y="369"/>
                  </a:lnTo>
                  <a:lnTo>
                    <a:pt x="372" y="381"/>
                  </a:lnTo>
                  <a:lnTo>
                    <a:pt x="360" y="391"/>
                  </a:lnTo>
                  <a:lnTo>
                    <a:pt x="454" y="525"/>
                  </a:lnTo>
                  <a:lnTo>
                    <a:pt x="481" y="503"/>
                  </a:lnTo>
                  <a:lnTo>
                    <a:pt x="507" y="478"/>
                  </a:lnTo>
                  <a:lnTo>
                    <a:pt x="527" y="452"/>
                  </a:lnTo>
                  <a:lnTo>
                    <a:pt x="544" y="422"/>
                  </a:lnTo>
                  <a:lnTo>
                    <a:pt x="552" y="407"/>
                  </a:lnTo>
                  <a:lnTo>
                    <a:pt x="558" y="391"/>
                  </a:lnTo>
                  <a:lnTo>
                    <a:pt x="564" y="375"/>
                  </a:lnTo>
                  <a:lnTo>
                    <a:pt x="570" y="358"/>
                  </a:lnTo>
                  <a:lnTo>
                    <a:pt x="572" y="340"/>
                  </a:lnTo>
                  <a:lnTo>
                    <a:pt x="576" y="324"/>
                  </a:lnTo>
                  <a:lnTo>
                    <a:pt x="576" y="306"/>
                  </a:lnTo>
                  <a:lnTo>
                    <a:pt x="578" y="289"/>
                  </a:lnTo>
                  <a:lnTo>
                    <a:pt x="576" y="259"/>
                  </a:lnTo>
                  <a:lnTo>
                    <a:pt x="572" y="230"/>
                  </a:lnTo>
                  <a:lnTo>
                    <a:pt x="564" y="202"/>
                  </a:lnTo>
                  <a:lnTo>
                    <a:pt x="554" y="177"/>
                  </a:lnTo>
                  <a:lnTo>
                    <a:pt x="542" y="151"/>
                  </a:lnTo>
                  <a:lnTo>
                    <a:pt x="529" y="128"/>
                  </a:lnTo>
                  <a:lnTo>
                    <a:pt x="511" y="106"/>
                  </a:lnTo>
                  <a:lnTo>
                    <a:pt x="493" y="86"/>
                  </a:lnTo>
                  <a:lnTo>
                    <a:pt x="472" y="67"/>
                  </a:lnTo>
                  <a:lnTo>
                    <a:pt x="450" y="49"/>
                  </a:lnTo>
                  <a:lnTo>
                    <a:pt x="427" y="35"/>
                  </a:lnTo>
                  <a:lnTo>
                    <a:pt x="401" y="23"/>
                  </a:lnTo>
                  <a:lnTo>
                    <a:pt x="375" y="13"/>
                  </a:lnTo>
                  <a:lnTo>
                    <a:pt x="348" y="6"/>
                  </a:lnTo>
                  <a:lnTo>
                    <a:pt x="319" y="2"/>
                  </a:lnTo>
                  <a:lnTo>
                    <a:pt x="289" y="0"/>
                  </a:lnTo>
                  <a:lnTo>
                    <a:pt x="260" y="2"/>
                  </a:lnTo>
                  <a:lnTo>
                    <a:pt x="230" y="6"/>
                  </a:lnTo>
                  <a:lnTo>
                    <a:pt x="203" y="13"/>
                  </a:lnTo>
                  <a:lnTo>
                    <a:pt x="177" y="23"/>
                  </a:lnTo>
                  <a:lnTo>
                    <a:pt x="152" y="35"/>
                  </a:lnTo>
                  <a:lnTo>
                    <a:pt x="128" y="49"/>
                  </a:lnTo>
                  <a:lnTo>
                    <a:pt x="106" y="67"/>
                  </a:lnTo>
                  <a:lnTo>
                    <a:pt x="87" y="86"/>
                  </a:lnTo>
                  <a:lnTo>
                    <a:pt x="67" y="106"/>
                  </a:lnTo>
                  <a:lnTo>
                    <a:pt x="50" y="128"/>
                  </a:lnTo>
                  <a:lnTo>
                    <a:pt x="36" y="151"/>
                  </a:lnTo>
                  <a:lnTo>
                    <a:pt x="24" y="177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59"/>
                  </a:lnTo>
                  <a:lnTo>
                    <a:pt x="0" y="289"/>
                  </a:lnTo>
                  <a:lnTo>
                    <a:pt x="2" y="306"/>
                  </a:lnTo>
                  <a:lnTo>
                    <a:pt x="2" y="324"/>
                  </a:lnTo>
                  <a:lnTo>
                    <a:pt x="6" y="340"/>
                  </a:lnTo>
                  <a:lnTo>
                    <a:pt x="10" y="358"/>
                  </a:lnTo>
                  <a:lnTo>
                    <a:pt x="14" y="375"/>
                  </a:lnTo>
                  <a:lnTo>
                    <a:pt x="20" y="391"/>
                  </a:lnTo>
                  <a:lnTo>
                    <a:pt x="26" y="407"/>
                  </a:lnTo>
                  <a:lnTo>
                    <a:pt x="34" y="422"/>
                  </a:lnTo>
                  <a:lnTo>
                    <a:pt x="51" y="452"/>
                  </a:lnTo>
                  <a:lnTo>
                    <a:pt x="73" y="478"/>
                  </a:lnTo>
                  <a:lnTo>
                    <a:pt x="97" y="503"/>
                  </a:lnTo>
                  <a:lnTo>
                    <a:pt x="124" y="525"/>
                  </a:lnTo>
                  <a:lnTo>
                    <a:pt x="218" y="391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993000" y="2127240"/>
              <a:ext cx="279360" cy="28044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6" y="131"/>
                  </a:moveTo>
                  <a:lnTo>
                    <a:pt x="20" y="96"/>
                  </a:lnTo>
                  <a:lnTo>
                    <a:pt x="40" y="67"/>
                  </a:lnTo>
                  <a:lnTo>
                    <a:pt x="65" y="39"/>
                  </a:lnTo>
                  <a:lnTo>
                    <a:pt x="96" y="19"/>
                  </a:lnTo>
                  <a:lnTo>
                    <a:pt x="132" y="6"/>
                  </a:lnTo>
                  <a:lnTo>
                    <a:pt x="167" y="0"/>
                  </a:lnTo>
                  <a:lnTo>
                    <a:pt x="204" y="2"/>
                  </a:lnTo>
                  <a:lnTo>
                    <a:pt x="240" y="12"/>
                  </a:lnTo>
                  <a:lnTo>
                    <a:pt x="273" y="29"/>
                  </a:lnTo>
                  <a:lnTo>
                    <a:pt x="301" y="53"/>
                  </a:lnTo>
                  <a:lnTo>
                    <a:pt x="324" y="80"/>
                  </a:lnTo>
                  <a:lnTo>
                    <a:pt x="342" y="114"/>
                  </a:lnTo>
                  <a:lnTo>
                    <a:pt x="352" y="149"/>
                  </a:lnTo>
                  <a:lnTo>
                    <a:pt x="354" y="187"/>
                  </a:lnTo>
                  <a:lnTo>
                    <a:pt x="348" y="224"/>
                  </a:lnTo>
                  <a:lnTo>
                    <a:pt x="334" y="257"/>
                  </a:lnTo>
                  <a:lnTo>
                    <a:pt x="314" y="289"/>
                  </a:lnTo>
                  <a:lnTo>
                    <a:pt x="287" y="314"/>
                  </a:lnTo>
                  <a:lnTo>
                    <a:pt x="257" y="334"/>
                  </a:lnTo>
                  <a:lnTo>
                    <a:pt x="222" y="348"/>
                  </a:lnTo>
                  <a:lnTo>
                    <a:pt x="187" y="354"/>
                  </a:lnTo>
                  <a:lnTo>
                    <a:pt x="150" y="352"/>
                  </a:lnTo>
                  <a:lnTo>
                    <a:pt x="114" y="342"/>
                  </a:lnTo>
                  <a:lnTo>
                    <a:pt x="81" y="326"/>
                  </a:lnTo>
                  <a:lnTo>
                    <a:pt x="51" y="303"/>
                  </a:lnTo>
                  <a:lnTo>
                    <a:pt x="28" y="273"/>
                  </a:lnTo>
                  <a:lnTo>
                    <a:pt x="12" y="242"/>
                  </a:lnTo>
                  <a:lnTo>
                    <a:pt x="2" y="204"/>
                  </a:lnTo>
                  <a:lnTo>
                    <a:pt x="0" y="169"/>
                  </a:lnTo>
                  <a:lnTo>
                    <a:pt x="6" y="1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67600" y="3686040"/>
              <a:ext cx="79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866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66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89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9136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9136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913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94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3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53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532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56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8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8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47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51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978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978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9604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9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02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02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1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396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6292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6436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62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5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5788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596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57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1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07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07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05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10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118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118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11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15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74080" y="3782880"/>
              <a:ext cx="14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740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72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75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90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690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67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708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1692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1692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16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19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2628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7720" y="3781440"/>
              <a:ext cx="180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62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29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8200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8200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820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155000" y="3772080"/>
            <a:ext cx="90360" cy="10800"/>
            <a:chOff x="7155000" y="3772080"/>
            <a:chExt cx="90360" cy="10800"/>
          </a:xfrm>
        </p:grpSpPr>
        <p:sp>
          <p:nvSpPr>
            <p:cNvPr id="771" name=""/>
            <p:cNvSpPr/>
            <p:nvPr/>
          </p:nvSpPr>
          <p:spPr>
            <a:xfrm>
              <a:off x="718488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76960" y="3773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76960" y="37720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7696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8020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21600" y="377352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23040" y="377208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2160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2484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9280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9460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928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96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97840" y="377496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9928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978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01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59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62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55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57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0396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0396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02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05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09000" y="377496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09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072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11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6904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7084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69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22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4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67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13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216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21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82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75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7552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4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3420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420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32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6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8812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91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34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86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23040" y="3774960"/>
              <a:ext cx="9720" cy="18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0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24840" y="3774960"/>
              <a:ext cx="6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23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30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978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978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9604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99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0252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0252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10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03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6292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643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62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65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5788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596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7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61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0720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072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057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9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118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118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15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74080" y="377820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1740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72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690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90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7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70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1692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1692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16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19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160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216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21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24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8200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8200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84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2628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227720" y="377676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262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9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3744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374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36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40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913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913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913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94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866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866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86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89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3276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327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0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34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108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0108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010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3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057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057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05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090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7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67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7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70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6292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6292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61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65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1044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104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0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3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1512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16920" y="378000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5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83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17552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7552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78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172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72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2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21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21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19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24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26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26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262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29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86680" y="3781440"/>
              <a:ext cx="32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86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84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88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8020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802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802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83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406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40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40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43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9604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1960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99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913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913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9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232760" y="3781440"/>
              <a:ext cx="792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32760" y="3780000"/>
              <a:ext cx="6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30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889600" y="1631880"/>
            <a:ext cx="1370160" cy="2163960"/>
            <a:chOff x="5889600" y="1631880"/>
            <a:chExt cx="1370160" cy="2163960"/>
          </a:xfrm>
        </p:grpSpPr>
        <p:sp>
          <p:nvSpPr>
            <p:cNvPr id="972" name=""/>
            <p:cNvSpPr/>
            <p:nvPr/>
          </p:nvSpPr>
          <p:spPr>
            <a:xfrm>
              <a:off x="7238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0396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1368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65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5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18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19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2304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0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834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787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2484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262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24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277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2952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30960" y="37828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29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89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92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184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88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3420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23600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45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48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01080" y="378288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010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992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02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94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97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43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7696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17696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7696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80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0840" y="3786120"/>
              <a:ext cx="46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70840" y="3784680"/>
              <a:ext cx="46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70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75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2484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2484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77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18668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1866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8668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89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18200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8200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820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84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2952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22952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29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327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420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3420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234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374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38880" y="3786120"/>
              <a:ext cx="504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388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38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421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5004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5004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486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51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4536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45360" y="378468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243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468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769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769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80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192800" y="3784680"/>
              <a:ext cx="30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913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91360" y="3786120"/>
              <a:ext cx="316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139160" y="3770280"/>
              <a:ext cx="120600" cy="17640"/>
            </a:xfrm>
            <a:custGeom>
              <a:avLst/>
              <a:gdLst/>
              <a:ahLst/>
              <a:rect l="l" t="t" r="r" b="b"/>
              <a:pathLst>
                <a:path w="151" h="22">
                  <a:moveTo>
                    <a:pt x="114" y="0"/>
                  </a:moveTo>
                  <a:lnTo>
                    <a:pt x="0" y="0"/>
                  </a:lnTo>
                  <a:lnTo>
                    <a:pt x="37" y="22"/>
                  </a:lnTo>
                  <a:lnTo>
                    <a:pt x="151" y="22"/>
                  </a:lnTo>
                  <a:lnTo>
                    <a:pt x="1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130880" y="376380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97840" y="37623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4" y="0"/>
                  </a:moveTo>
                  <a:lnTo>
                    <a:pt x="0" y="0"/>
                  </a:lnTo>
                  <a:lnTo>
                    <a:pt x="14" y="8"/>
                  </a:lnTo>
                  <a:lnTo>
                    <a:pt x="3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02520" y="3763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07200" y="376704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10440" y="3718080"/>
              <a:ext cx="1440" cy="18720"/>
            </a:xfrm>
            <a:prstGeom prst="line">
              <a:avLst/>
            </a:prstGeom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9000" y="3724200"/>
              <a:ext cx="144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solidFill>
              <a:srgbClr val="a5a5a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11880" y="3727440"/>
              <a:ext cx="1800" cy="1440"/>
            </a:xfrm>
            <a:prstGeom prst="line">
              <a:avLst/>
            </a:prstGeom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10440" y="3790800"/>
              <a:ext cx="1116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1368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15120" y="379080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1836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9040" y="3790800"/>
              <a:ext cx="41400" cy="32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0" y="0"/>
                  </a:moveTo>
                  <a:lnTo>
                    <a:pt x="34" y="4"/>
                  </a:lnTo>
                  <a:lnTo>
                    <a:pt x="35" y="2"/>
                  </a:lnTo>
                  <a:lnTo>
                    <a:pt x="5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21600" y="3790800"/>
              <a:ext cx="38160" cy="324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20" y="4"/>
                  </a:lnTo>
                  <a:lnTo>
                    <a:pt x="16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34240" y="1633680"/>
              <a:ext cx="79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52960" y="1730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3944880" y="2941560"/>
            <a:ext cx="180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38760" y="2943360"/>
            <a:ext cx="288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4" y="0"/>
                </a:moveTo>
                <a:lnTo>
                  <a:pt x="2" y="0"/>
                </a:lnTo>
                <a:lnTo>
                  <a:pt x="0" y="0"/>
                </a:lnTo>
                <a:lnTo>
                  <a:pt x="6" y="0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38760" y="294156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3876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4020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70360" y="2935440"/>
            <a:ext cx="3240" cy="1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70360" y="293364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7036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7360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4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86200" y="2941560"/>
            <a:ext cx="144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95560" y="2921040"/>
            <a:ext cx="180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solidFill>
            <a:srgbClr val="a5a5a5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noFill/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solidFill>
            <a:srgbClr val="7f7f7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05280" y="2948040"/>
            <a:ext cx="11160" cy="3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a5a5a5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5235480" y="3236760"/>
            <a:ext cx="588960" cy="40968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2252520" y="327348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Kit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92280" y="406296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ash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22620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86600" y="2992320"/>
            <a:ext cx="61920" cy="3240"/>
          </a:xfrm>
          <a:custGeom>
            <a:avLst/>
            <a:gdLst/>
            <a:ahLst/>
            <a:rect l="l" t="t" r="r" b="b"/>
            <a:pathLst>
              <a:path w="79" h="4">
                <a:moveTo>
                  <a:pt x="0" y="4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43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59" y="0"/>
                </a:lnTo>
                <a:lnTo>
                  <a:pt x="63" y="0"/>
                </a:lnTo>
                <a:lnTo>
                  <a:pt x="67" y="2"/>
                </a:lnTo>
                <a:lnTo>
                  <a:pt x="71" y="2"/>
                </a:lnTo>
                <a:lnTo>
                  <a:pt x="75" y="4"/>
                </a:lnTo>
                <a:lnTo>
                  <a:pt x="79" y="4"/>
                </a:lnTo>
                <a:lnTo>
                  <a:pt x="77" y="4"/>
                </a:lnTo>
                <a:lnTo>
                  <a:pt x="77" y="4"/>
                </a:lnTo>
                <a:lnTo>
                  <a:pt x="77" y="4"/>
                </a:lnTo>
                <a:lnTo>
                  <a:pt x="75" y="4"/>
                </a:lnTo>
                <a:lnTo>
                  <a:pt x="73" y="4"/>
                </a:lnTo>
                <a:lnTo>
                  <a:pt x="71" y="4"/>
                </a:lnTo>
                <a:lnTo>
                  <a:pt x="69" y="4"/>
                </a:lnTo>
                <a:lnTo>
                  <a:pt x="65" y="4"/>
                </a:lnTo>
                <a:lnTo>
                  <a:pt x="63" y="4"/>
                </a:lnTo>
                <a:lnTo>
                  <a:pt x="59" y="4"/>
                </a:lnTo>
                <a:lnTo>
                  <a:pt x="57" y="4"/>
                </a:lnTo>
                <a:lnTo>
                  <a:pt x="53" y="4"/>
                </a:lnTo>
                <a:lnTo>
                  <a:pt x="49" y="4"/>
                </a:lnTo>
                <a:lnTo>
                  <a:pt x="47" y="4"/>
                </a:lnTo>
                <a:lnTo>
                  <a:pt x="43" y="4"/>
                </a:lnTo>
                <a:lnTo>
                  <a:pt x="39" y="4"/>
                </a:lnTo>
                <a:lnTo>
                  <a:pt x="36" y="4"/>
                </a:lnTo>
                <a:lnTo>
                  <a:pt x="32" y="4"/>
                </a:lnTo>
                <a:lnTo>
                  <a:pt x="30" y="4"/>
                </a:lnTo>
                <a:lnTo>
                  <a:pt x="26" y="4"/>
                </a:lnTo>
                <a:lnTo>
                  <a:pt x="22" y="4"/>
                </a:lnTo>
                <a:lnTo>
                  <a:pt x="20" y="4"/>
                </a:lnTo>
                <a:lnTo>
                  <a:pt x="16" y="4"/>
                </a:lnTo>
                <a:lnTo>
                  <a:pt x="14" y="4"/>
                </a:lnTo>
                <a:lnTo>
                  <a:pt x="10" y="4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9800000">
            <a:off x="5205240" y="3546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20940000">
            <a:off x="5700600" y="3902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8420000">
            <a:off x="4842720" y="3005280"/>
            <a:ext cx="1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22560" y="1971720"/>
            <a:ext cx="180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168800" y="1971720"/>
            <a:ext cx="144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048360" y="5270400"/>
            <a:ext cx="1400040" cy="7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046920" y="5343480"/>
            <a:ext cx="614160" cy="23760"/>
          </a:xfrm>
          <a:custGeom>
            <a:avLst/>
            <a:gdLst/>
            <a:ahLst/>
            <a:rect l="l" t="t" r="r" b="b"/>
            <a:pathLst>
              <a:path w="774" h="29">
                <a:moveTo>
                  <a:pt x="0" y="0"/>
                </a:moveTo>
                <a:lnTo>
                  <a:pt x="774" y="0"/>
                </a:lnTo>
                <a:lnTo>
                  <a:pt x="774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46920" y="5245200"/>
            <a:ext cx="788760" cy="23760"/>
          </a:xfrm>
          <a:custGeom>
            <a:avLst/>
            <a:gdLst/>
            <a:ahLst/>
            <a:rect l="l" t="t" r="r" b="b"/>
            <a:pathLst>
              <a:path w="994" h="29">
                <a:moveTo>
                  <a:pt x="0" y="29"/>
                </a:moveTo>
                <a:lnTo>
                  <a:pt x="994" y="29"/>
                </a:lnTo>
                <a:lnTo>
                  <a:pt x="99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046920" y="5245200"/>
            <a:ext cx="1141200" cy="23760"/>
          </a:xfrm>
          <a:custGeom>
            <a:avLst/>
            <a:gdLst/>
            <a:ahLst/>
            <a:rect l="l" t="t" r="r" b="b"/>
            <a:pathLst>
              <a:path w="1438" h="29">
                <a:moveTo>
                  <a:pt x="0" y="29"/>
                </a:moveTo>
                <a:lnTo>
                  <a:pt x="1438" y="29"/>
                </a:lnTo>
                <a:lnTo>
                  <a:pt x="143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46920" y="5245200"/>
            <a:ext cx="87120" cy="23760"/>
          </a:xfrm>
          <a:custGeom>
            <a:avLst/>
            <a:gdLst/>
            <a:ahLst/>
            <a:rect l="l" t="t" r="r" b="b"/>
            <a:pathLst>
              <a:path w="110" h="29">
                <a:moveTo>
                  <a:pt x="0" y="29"/>
                </a:moveTo>
                <a:lnTo>
                  <a:pt x="110" y="29"/>
                </a:lnTo>
                <a:lnTo>
                  <a:pt x="11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46920" y="5343480"/>
            <a:ext cx="1315800" cy="23760"/>
          </a:xfrm>
          <a:custGeom>
            <a:avLst/>
            <a:gdLst/>
            <a:ahLst/>
            <a:rect l="l" t="t" r="r" b="b"/>
            <a:pathLst>
              <a:path w="1657" h="29">
                <a:moveTo>
                  <a:pt x="0" y="0"/>
                </a:moveTo>
                <a:lnTo>
                  <a:pt x="1657" y="0"/>
                </a:lnTo>
                <a:lnTo>
                  <a:pt x="1657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46920" y="5245200"/>
            <a:ext cx="438120" cy="23760"/>
          </a:xfrm>
          <a:custGeom>
            <a:avLst/>
            <a:gdLst/>
            <a:ahLst/>
            <a:rect l="l" t="t" r="r" b="b"/>
            <a:pathLst>
              <a:path w="552" h="29">
                <a:moveTo>
                  <a:pt x="0" y="29"/>
                </a:moveTo>
                <a:lnTo>
                  <a:pt x="552" y="29"/>
                </a:lnTo>
                <a:lnTo>
                  <a:pt x="55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46920" y="5343480"/>
            <a:ext cx="934920" cy="244440"/>
          </a:xfrm>
          <a:custGeom>
            <a:avLst/>
            <a:gdLst/>
            <a:ahLst/>
            <a:rect l="l" t="t" r="r" b="b"/>
            <a:pathLst>
              <a:path w="1178" h="307">
                <a:moveTo>
                  <a:pt x="0" y="0"/>
                </a:moveTo>
                <a:lnTo>
                  <a:pt x="1178" y="0"/>
                </a:lnTo>
                <a:lnTo>
                  <a:pt x="1178" y="30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046920" y="5343480"/>
            <a:ext cx="263520" cy="235080"/>
          </a:xfrm>
          <a:custGeom>
            <a:avLst/>
            <a:gdLst/>
            <a:ahLst/>
            <a:rect l="l" t="t" r="r" b="b"/>
            <a:pathLst>
              <a:path w="332" h="295">
                <a:moveTo>
                  <a:pt x="0" y="0"/>
                </a:moveTo>
                <a:lnTo>
                  <a:pt x="332" y="0"/>
                </a:lnTo>
                <a:lnTo>
                  <a:pt x="332" y="2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09128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074000" y="560376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90"/>
                </a:lnTo>
                <a:lnTo>
                  <a:pt x="85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2308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0724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0" y="80"/>
                </a:moveTo>
                <a:lnTo>
                  <a:pt x="336" y="80"/>
                </a:lnTo>
                <a:lnTo>
                  <a:pt x="421" y="0"/>
                </a:lnTo>
                <a:lnTo>
                  <a:pt x="85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74000" y="558792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0724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80724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80724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0724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1516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991200" y="5975280"/>
            <a:ext cx="493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421" y="0"/>
                </a:moveTo>
                <a:lnTo>
                  <a:pt x="411" y="9"/>
                </a:lnTo>
                <a:lnTo>
                  <a:pt x="85" y="9"/>
                </a:lnTo>
                <a:lnTo>
                  <a:pt x="10" y="80"/>
                </a:lnTo>
                <a:lnTo>
                  <a:pt x="0" y="80"/>
                </a:lnTo>
                <a:lnTo>
                  <a:pt x="85" y="0"/>
                </a:lnTo>
                <a:lnTo>
                  <a:pt x="4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69600" y="6111720"/>
            <a:ext cx="48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otsp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7920" y="6251400"/>
            <a:ext cx="74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Provisio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106680" y="6392880"/>
            <a:ext cx="40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amp; O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93040" y="49737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N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83240" y="5587920"/>
            <a:ext cx="6696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465960" y="560376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90"/>
                </a:lnTo>
                <a:lnTo>
                  <a:pt x="84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1504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19920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0" y="80"/>
                </a:moveTo>
                <a:lnTo>
                  <a:pt x="336" y="80"/>
                </a:lnTo>
                <a:lnTo>
                  <a:pt x="420" y="0"/>
                </a:lnTo>
                <a:lnTo>
                  <a:pt x="84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6596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9920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19920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19920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19920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20712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83160" y="5975280"/>
            <a:ext cx="511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420" y="0"/>
                </a:moveTo>
                <a:lnTo>
                  <a:pt x="410" y="9"/>
                </a:lnTo>
                <a:lnTo>
                  <a:pt x="84" y="9"/>
                </a:lnTo>
                <a:lnTo>
                  <a:pt x="10" y="80"/>
                </a:lnTo>
                <a:lnTo>
                  <a:pt x="0" y="80"/>
                </a:lnTo>
                <a:lnTo>
                  <a:pt x="84" y="0"/>
                </a:lnTo>
                <a:lnTo>
                  <a:pt x="42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847920" y="6113520"/>
            <a:ext cx="40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738840" y="6253200"/>
            <a:ext cx="64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AAA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00200" y="4960800"/>
            <a:ext cx="101880" cy="130320"/>
          </a:xfrm>
          <a:custGeom>
            <a:avLst/>
            <a:gdLst/>
            <a:ahLst/>
            <a:rect l="l" t="t" r="r" b="b"/>
            <a:pathLst>
              <a:path w="130" h="163">
                <a:moveTo>
                  <a:pt x="96" y="0"/>
                </a:moveTo>
                <a:lnTo>
                  <a:pt x="0" y="0"/>
                </a:lnTo>
                <a:lnTo>
                  <a:pt x="0" y="163"/>
                </a:lnTo>
                <a:lnTo>
                  <a:pt x="130" y="163"/>
                </a:lnTo>
                <a:lnTo>
                  <a:pt x="130" y="31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556240" y="4500720"/>
            <a:ext cx="19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2"/>
          <a:stretch/>
        </p:blipFill>
        <p:spPr>
          <a:xfrm>
            <a:off x="6900840" y="3481560"/>
            <a:ext cx="436680" cy="40788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3"/>
          <a:stretch/>
        </p:blipFill>
        <p:spPr>
          <a:xfrm>
            <a:off x="3614760" y="2700360"/>
            <a:ext cx="436680" cy="4078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4105440" y="500076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52760" y="5229360"/>
            <a:ext cx="8956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48320" y="4933800"/>
            <a:ext cx="8953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800600" y="517212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30600" y="51195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5035320" y="3567240"/>
            <a:ext cx="4251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436680" cy="4082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2518200" y="45720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OT SPOTS  EN AEROP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5"/>
          <a:stretch/>
        </p:blipFill>
        <p:spPr>
          <a:xfrm>
            <a:off x="7696080" y="914400"/>
            <a:ext cx="959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3716280" y="2395440"/>
            <a:ext cx="2433600" cy="19209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Controlador de Acce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ontrol de Ac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156280" y="3427560"/>
            <a:ext cx="911160" cy="74916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0" name=""/>
          <p:cNvSpPr/>
          <p:nvPr/>
        </p:nvSpPr>
        <p:spPr>
          <a:xfrm>
            <a:off x="838080" y="1523880"/>
            <a:ext cx="2602080" cy="4025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OSS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(Sistema de Soporte Opera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-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en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stema de Administración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ción de Servi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rovisio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2"/>
          <a:srcRect l="0" t="0" r="83010" b="65153"/>
          <a:stretch/>
        </p:blipFill>
        <p:spPr>
          <a:xfrm>
            <a:off x="2624040" y="2870280"/>
            <a:ext cx="744480" cy="83808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2" name=""/>
          <p:cNvSpPr/>
          <p:nvPr/>
        </p:nvSpPr>
        <p:spPr>
          <a:xfrm flipH="1">
            <a:off x="6187320" y="3568680"/>
            <a:ext cx="196920" cy="144360"/>
          </a:xfrm>
          <a:prstGeom prst="rightArrow">
            <a:avLst>
              <a:gd name="adj1" fmla="val 50000"/>
              <a:gd name="adj2" fmla="val 34102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3391920" y="3321000"/>
            <a:ext cx="338040" cy="128520"/>
          </a:xfrm>
          <a:prstGeom prst="rightArrow">
            <a:avLst>
              <a:gd name="adj1" fmla="val 50000"/>
              <a:gd name="adj2" fmla="val 65756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473880" y="2055960"/>
            <a:ext cx="2025720" cy="32018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Abonado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6651720" y="2754360"/>
            <a:ext cx="1566720" cy="1908000"/>
            <a:chOff x="6651720" y="2754360"/>
            <a:chExt cx="1566720" cy="1908000"/>
          </a:xfrm>
        </p:grpSpPr>
        <p:grpSp>
          <p:nvGrpSpPr>
            <p:cNvPr id="1306" name=""/>
            <p:cNvGrpSpPr/>
            <p:nvPr/>
          </p:nvGrpSpPr>
          <p:grpSpPr>
            <a:xfrm>
              <a:off x="6651720" y="2754360"/>
              <a:ext cx="1566720" cy="1908000"/>
              <a:chOff x="6651720" y="2754360"/>
              <a:chExt cx="1566720" cy="1908000"/>
            </a:xfrm>
          </p:grpSpPr>
          <p:pic>
            <p:nvPicPr>
              <p:cNvPr id="13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90000" y="2754360"/>
                <a:ext cx="3470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51720" y="3188880"/>
                <a:ext cx="1566720" cy="14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7720" y="3641400"/>
                <a:ext cx="796680" cy="664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10" name="" descr=""/>
            <p:cNvPicPr/>
            <p:nvPr/>
          </p:nvPicPr>
          <p:blipFill>
            <a:blip r:embed="rId6"/>
            <a:stretch/>
          </p:blipFill>
          <p:spPr>
            <a:xfrm>
              <a:off x="7031160" y="2812320"/>
              <a:ext cx="235800" cy="29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"/>
          <p:cNvSpPr/>
          <p:nvPr/>
        </p:nvSpPr>
        <p:spPr>
          <a:xfrm>
            <a:off x="2363040" y="5335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LEMENTOS DE UNA RED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4000" y="639720"/>
            <a:ext cx="8424720" cy="538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4444920"/>
            <a:ext cx="424800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203640" y="4444920"/>
            <a:ext cx="4753080" cy="1596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9640" y="4444920"/>
            <a:ext cx="417672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276720" y="4444920"/>
            <a:ext cx="4464000" cy="151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48000" y="4444920"/>
            <a:ext cx="4392720" cy="165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059280" y="4373640"/>
            <a:ext cx="5040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98440" y="380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NDAS INTERNACIONALES DE US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040" y="923760"/>
            <a:ext cx="83509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ISM (Uso Industrial, Científico y Méd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902 a 928 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 a 2.483,5 MHz (Usada USA,  Europa, Chile, otros paí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71 a 2.497 MHz en Japón, 2.445 a 2.475 MHz  en Españ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os productos emplean Modulación con Espectro Ensanch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secuencia directa y salto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 de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; 5.25 a 5.35 GHz y 5.725 a 5.825 GH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UNII en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35 GHz, 5.47 a 5.725 GHz: Banda HIPER LAN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 en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Uso de OFDM y C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21720" y="17784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2120" y="723960"/>
            <a:ext cx="810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rma los equipos de reducido alc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deben causar interferencia a los servicios de los concesionarios d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AS para múltiples apl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2 a 928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a 2.483,5 MHz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a 5.875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equipos deberán operar sólo al interior de inmuebles y la intensidad de cam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misiones de la frecuencia fundamental, a una distancia de 3 metros, no deb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der 50 mV/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 campo máxima de cualquier emisión no deberá exceder los lím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dios, antes señalados, en más de 20 dB bajo cualquier condición de mod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22440" y="1204920"/>
            <a:ext cx="81151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con modulación de espectro ensanchado con secuencia directa,  salto de frecuencia, monitoreo previo o asignación dinámica de canales, operarán en interiores con una potencia máxima radiada de 100 mW en las siguientes band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– 2.483,5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0 – 5.2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0 – 5.3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– 5.8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s equipos se deben usar 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ior de recintos cerrados (casas, edificios, oficinas, fábricas, almacenes, etc.).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banda 5150 – 5250 MHz 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nsidad de potencia máxima radiada no deberá exceder 5 mW/MHz en cualquier banda de 1 MHz o su valor equivalente de 0,125 mW/25 kHz en cualquier banda de 25 kH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operarán en categoría secundaria frente a los servicios concesio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requieren de certificado de homologación de SUBTEL para importar o fabricar los equip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5960" y="2160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8880" y="6732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19520" y="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EN CHILE BANDA 5725 – 58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A EL SERVICI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6120" y="849240"/>
            <a:ext cx="870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OLUCIÓN Nº517 de 2001 y su modificación (FIJA NORMA TÉCNICA PARA EL USO DE LA BANDA DE FRECUENCIA 5725 – 5850 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SADA POR LOS CONCESIONARIOS PÚBLICOS E INTERMEDIOS PARA SERVICI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SELECCIÓN DINÁMICA DE CANALES, DE ESPECTRO ENSANCH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 SECUENCIA DIRECTA O SALTO DE FRECUENCIA; CON COMPARTICIÓN P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ÚLTIPLES USUARIOS Y SISTE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RESTRICCIONES DE POTENCIA (30 dBm para Espectro Ensanchado y 3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 17 dBm + log B (MHz), en que B(MHz) es el ancho de ban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TRICCIONES DE LA GANACIA DE LA ANTEN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unto a Punto    6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G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23 dBi;  Punto a Multipunto  G &lt; 6 dBi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DEBEN CAUSAR INTERFERENCIA A EQUIPOS TELEPEAJE EN 5795 – 581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ARTICIÓN SIN RECLAMOS DE INTERFERENCIAS QUE PRODUZCA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CESIONARIOS AUTORIZADOS Y LAS APLICACIONES 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ORDINACIÓN DIRECTA ENTRE CONCESIONARIOS ANTE EVENTUAL INTER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S TERMINALES FIJOS DE ABONADO DE SISTEMAS PUNTO-MULTIPUNTO,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SIDERARÁN COMO MÓVIL EN CUANTO A SU UBICACIÓN (Art. Nº 14 de la L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eneral de Telecomunica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HAY PRIORIDAD FRENTE A EQUIPOS DE REDUCIDO ALCANCE (Res. Nº144 de 197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67480" y="963720"/>
            <a:ext cx="8618760" cy="4891680"/>
            <a:chOff x="267480" y="963720"/>
            <a:chExt cx="8618760" cy="4891680"/>
          </a:xfrm>
        </p:grpSpPr>
        <p:sp>
          <p:nvSpPr>
            <p:cNvPr id="67" name=""/>
            <p:cNvSpPr/>
            <p:nvPr/>
          </p:nvSpPr>
          <p:spPr>
            <a:xfrm flipV="1">
              <a:off x="1994040" y="1485720"/>
              <a:ext cx="0" cy="402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4040" y="5511960"/>
              <a:ext cx="563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7480" y="963720"/>
              <a:ext cx="18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NCHO DE B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55720" y="5548320"/>
              <a:ext cx="173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BERTURA (Km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24240" y="553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37120" y="55357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40640" y="553572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5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6080" y="534348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go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6800" y="15732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9320" y="515124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4,4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2640" y="138096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8960" y="21906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4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8960" y="17924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46240" y="2190600"/>
              <a:ext cx="1344960" cy="4510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24960" y="2273400"/>
              <a:ext cx="78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Times New Roman"/>
                </a:rPr>
                <a:t>802.11a/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60640" y="1347840"/>
              <a:ext cx="1014480" cy="4507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04000" y="143496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8000"/>
                  </a:solidFill>
                  <a:latin typeface="Times New Roman"/>
                </a:rPr>
                <a:t>UW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040120" y="1782720"/>
              <a:ext cx="4508280" cy="425520"/>
              <a:chOff x="2040120" y="1782720"/>
              <a:chExt cx="4508280" cy="425520"/>
            </a:xfrm>
          </p:grpSpPr>
          <p:sp>
            <p:nvSpPr>
              <p:cNvPr id="85" name=""/>
              <p:cNvSpPr/>
              <p:nvPr/>
            </p:nvSpPr>
            <p:spPr>
              <a:xfrm>
                <a:off x="2040120" y="1782720"/>
                <a:ext cx="4508280" cy="425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93400" y="1838160"/>
                <a:ext cx="75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ff0000"/>
                    </a:solidFill>
                    <a:latin typeface="Times New Roman"/>
                  </a:rPr>
                  <a:t>802.16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19600" y="2903400"/>
              <a:ext cx="137160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6080" y="296064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663300"/>
                  </a:solidFill>
                  <a:latin typeface="Times New Roman"/>
                </a:rPr>
                <a:t>802.11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18960" y="29606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1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16360" y="2903400"/>
              <a:ext cx="239076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583080"/>
              <a:ext cx="6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11320" y="2208240"/>
              <a:ext cx="2448000" cy="4507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94040" y="3471840"/>
              <a:ext cx="1419120" cy="465120"/>
            </a:xfrm>
            <a:prstGeom prst="ellipse">
              <a:avLst/>
            </a:prstGeom>
            <a:noFill/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4240" y="365904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9900ff"/>
                  </a:solidFill>
                  <a:latin typeface="Times New Roman"/>
                </a:rPr>
                <a:t>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77920" y="4130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0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06640" y="5207040"/>
              <a:ext cx="405144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19600" y="4927680"/>
              <a:ext cx="4051080" cy="52056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8400" y="489276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6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82880" y="491328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6600"/>
                  </a:solidFill>
                  <a:latin typeface="Times New Roman"/>
                </a:rPr>
                <a:t>2,5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06640" y="3848040"/>
              <a:ext cx="3962520" cy="1625760"/>
            </a:xfrm>
            <a:prstGeom prst="ellipse">
              <a:avLst/>
            </a:prstGeom>
            <a:noFill/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2600" y="4410000"/>
              <a:ext cx="4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36600"/>
                  </a:solidFill>
                  <a:latin typeface="Times New Roman"/>
                </a:rPr>
                <a:t>3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993320" y="3987720"/>
              <a:ext cx="610560" cy="571680"/>
              <a:chOff x="1993320" y="3987720"/>
              <a:chExt cx="610560" cy="571680"/>
            </a:xfrm>
          </p:grpSpPr>
          <p:sp>
            <p:nvSpPr>
              <p:cNvPr id="103" name=""/>
              <p:cNvSpPr/>
              <p:nvPr/>
            </p:nvSpPr>
            <p:spPr>
              <a:xfrm>
                <a:off x="2006640" y="3987720"/>
                <a:ext cx="596880" cy="57168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93320" y="4073760"/>
                <a:ext cx="61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BL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TOOT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1645920" y="228600"/>
            <a:ext cx="61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LAS DISTINT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7920" y="0"/>
            <a:ext cx="75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CAUDAL Y VELO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N LA DISTANCIA ENTRE 802.11 a y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8880" y="1374840"/>
            <a:ext cx="7925400" cy="4193640"/>
            <a:chOff x="488880" y="1374840"/>
            <a:chExt cx="7925400" cy="4193640"/>
          </a:xfrm>
        </p:grpSpPr>
        <p:grpSp>
          <p:nvGrpSpPr>
            <p:cNvPr id="108" name=""/>
            <p:cNvGrpSpPr/>
            <p:nvPr/>
          </p:nvGrpSpPr>
          <p:grpSpPr>
            <a:xfrm>
              <a:off x="1777680" y="1498680"/>
              <a:ext cx="6636600" cy="3512880"/>
              <a:chOff x="1777680" y="1498680"/>
              <a:chExt cx="6636600" cy="3512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777680" y="1498680"/>
                <a:ext cx="6286680" cy="3390840"/>
                <a:chOff x="1777680" y="1498680"/>
                <a:chExt cx="6286680" cy="3390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790280" y="1498680"/>
                  <a:ext cx="6248520" cy="3365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03240" y="31878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803240" y="2057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15840" y="25783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777680" y="37465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03240" y="4343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796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8194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4976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0960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778360" y="1689480"/>
                <a:ext cx="2058840" cy="1066680"/>
                <a:chOff x="5778360" y="1689480"/>
                <a:chExt cx="2058840" cy="10666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78360" y="1689480"/>
                  <a:ext cx="2044440" cy="106668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889240" y="1827720"/>
                  <a:ext cx="19479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imes New Roman"/>
                    </a:rPr>
                    <a:t>---  802.11a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0000"/>
                      </a:solidFill>
                      <a:latin typeface="Times New Roman"/>
                    </a:rPr>
                    <a:t>--- 802.11b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ccff"/>
                      </a:solidFill>
                      <a:latin typeface="Times New Roman"/>
                    </a:rPr>
                    <a:t>--- 802.11a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663300"/>
                      </a:solidFill>
                      <a:latin typeface="Times New Roman"/>
                    </a:rPr>
                    <a:t>--- 802.11b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2120760" y="1791000"/>
                <a:ext cx="266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95440" y="1789200"/>
                <a:ext cx="1440" cy="3812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88960" y="2165400"/>
                <a:ext cx="31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03240" y="2165400"/>
                <a:ext cx="0" cy="547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03240" y="2718000"/>
                <a:ext cx="1219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27240" y="2713320"/>
                <a:ext cx="4680" cy="7761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1920" y="3494160"/>
                <a:ext cx="119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55760" y="3489480"/>
                <a:ext cx="0" cy="3430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55760" y="3832560"/>
                <a:ext cx="10242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74920" y="3832560"/>
                <a:ext cx="0" cy="4284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74920" y="4260960"/>
                <a:ext cx="1138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17920" y="4260960"/>
                <a:ext cx="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17920" y="4565880"/>
                <a:ext cx="126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55600" y="4294440"/>
                <a:ext cx="2333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387680" y="4294440"/>
                <a:ext cx="1440" cy="311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4160" y="4594320"/>
                <a:ext cx="186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0760" y="4589640"/>
                <a:ext cx="0" cy="214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56080" y="4799160"/>
                <a:ext cx="1243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01680" y="3295800"/>
                <a:ext cx="2178000" cy="717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279680" y="4019760"/>
                <a:ext cx="1276200" cy="4190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766800">
                <a:off x="3216240" y="2736000"/>
                <a:ext cx="5068800" cy="173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9" y="0"/>
                    </a:moveTo>
                    <a:arcTo wR="10800" hR="10800" stAng="-5387514" swAng="2930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9" y="0"/>
                    </a:moveTo>
                    <a:arcTo wR="10800" hR="10800" stAng="-5387514" swAng="2930594"/>
                  </a:path>
                </a:pathLst>
              </a:custGeom>
              <a:noFill/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2600" y="4584960"/>
                <a:ext cx="2203560" cy="1461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86160" y="4731120"/>
                <a:ext cx="1263600" cy="633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49760" y="4800960"/>
                <a:ext cx="1955880" cy="1260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153800" y="4735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6000" y="42199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8600" y="3597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30513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8600" y="2441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28600" y="1920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374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-435600" y="2953800"/>
              <a:ext cx="243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Velocidad de Datos (Mbp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Caudal de Datos (Mbps)</a:t>
              </a: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28400" y="5231160"/>
              <a:ext cx="221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Alcance en pies (0,33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4040" y="498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484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752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096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7212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22:01:31Z</dcterms:created>
  <dc:creator>Italo</dc:creator>
  <dc:description/>
  <dc:language>en-US</dc:language>
  <cp:lastModifiedBy>Jorge Fritis</cp:lastModifiedBy>
  <dcterms:modified xsi:type="dcterms:W3CDTF">2008-09-12T02:03:52Z</dcterms:modified>
  <cp:revision>85</cp:revision>
  <dc:subject/>
  <dc:title>Presentación de PowerPoint</dc:title>
</cp:coreProperties>
</file>