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69F-E0C3-45A2-BEBD-13AD1A54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708-0002-4757-A46A-A529ED9D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7F3C-1E34-4800-8A91-C1139BFC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A5E9-4C78-4786-A7A7-D010537E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456-9104-44C6-A9E6-6B84DE0A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F53E-10C2-428A-91F1-D15C3645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833-F19F-4871-B8C4-7749CE22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52EE-F58C-444D-9380-1B6BE9AA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391-14AF-42E4-9356-7C34D14D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C5E2-AAE6-448E-8CB9-1C50CD36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A3E6-0AE6-44A1-83E9-BD7600E0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F5DF-DC61-4769-9BC6-FA38F0E1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39FF-9166-4176-A3DD-DC14F509F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27240"/>
            <a:ext cx="883908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26520" y="304920"/>
            <a:ext cx="60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VALOR DEL DINER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840" y="5562720"/>
            <a:ext cx="60649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interés es el precio del dinero e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es f(tiempo,riesgo,capital,inflación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RVA 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1508040"/>
            <a:ext cx="75614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549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licación Curva 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052640"/>
            <a:ext cx="676908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(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 (1+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t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t = Demanda el año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*t = Demanda potencial máxima (saturación de l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Parámetro de tasa de crecimiento con el tiempo (0,4 – 0,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Parámetro que representa el tiempo que se demora la demanda en alcanzar el punto de máximo crecimiento.(6,3 – 10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depende de la elasticidad precio demanda y poder adquisitivo de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es encontrado en 67 países para la 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0.4 –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6.3 –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*t = 0.23 – 1.1 veces la Pobl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4360" y="1257480"/>
          <a:ext cx="8064360" cy="52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7480"/>
                    <a:ext cx="806436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71960" y="352440"/>
            <a:ext cx="41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DE 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3733920"/>
            <a:ext cx="25909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59092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762120"/>
            <a:ext cx="373392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6640" y="4343400"/>
            <a:ext cx="287964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 Capital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periodo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Valor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2193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P x n 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93440" y="1936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6880" y="27846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480" y="37339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(1 + n x i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29000" y="257184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009800"/>
            <a:ext cx="7010280" cy="582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380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6028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VALUACION DE PROYECTOS DE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800" y="1550880"/>
            <a:ext cx="8015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es que permiten evaluar un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resos. Ocurren periódicamente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inversión que son los desembolsos que se deben efect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levar a cabo 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gastos de operación que se desembolsan para mantener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yecto produciendo 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084640"/>
            <a:ext cx="597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084640"/>
            <a:ext cx="0" cy="10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67120" y="6113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380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6560" y="5661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6000" y="4581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92360" y="4436640"/>
            <a:ext cx="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5600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9272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364000" y="407664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4920" y="4025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7120" y="4025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7016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5157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908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108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75200" y="69228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S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01240" y="1989000"/>
            <a:ext cx="7299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udio de Demanda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mite determinar el tamaño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ntificando la magnitud de los servicios que deb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ministrar durante  el período de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as inversiones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ne por objeto determin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mejor alternativa técnica a utilizar, los equipos e infr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ructura requeridos y el costo que tien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os gastos de operación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quí se establec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odos los costos que significan mantener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mplementado 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49160" y="765000"/>
          <a:ext cx="7647120" cy="5693040"/>
        </p:xfrm>
        <a:graphic>
          <a:graphicData uri="http://schemas.openxmlformats.org/drawingml/2006/table">
            <a:tbl>
              <a:tblPr/>
              <a:tblGrid>
                <a:gridCol w="789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11.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93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72.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56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30.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08.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91.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KUS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59.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134.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19.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16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02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346.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per cáp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íneas/100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lín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sati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3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insatis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1.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90160" y="33336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IMACION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00000" y="11160"/>
          <a:ext cx="7255080" cy="6805440"/>
        </p:xfrm>
        <a:graphic>
          <a:graphicData uri="http://schemas.openxmlformats.org/drawingml/2006/table">
            <a:tbl>
              <a:tblPr/>
              <a:tblGrid>
                <a:gridCol w="1130400"/>
                <a:gridCol w="771480"/>
                <a:gridCol w="1003320"/>
                <a:gridCol w="749160"/>
                <a:gridCol w="719280"/>
                <a:gridCol w="720720"/>
                <a:gridCol w="720720"/>
                <a:gridCol w="719280"/>
                <a:gridCol w="7207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enso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d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a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part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2.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tlán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.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7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l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6.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ay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.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7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9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p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8.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2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02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4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2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9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.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.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6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olute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0.8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8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l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0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0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co Moraz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80.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4.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37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1.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3.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5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.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acias a D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.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ibuc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9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6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las de la Bah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7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 P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6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mp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cotepe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.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lan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9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9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2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a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1.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.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479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33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ANDA DE NUEVOS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31:03Z</dcterms:created>
  <dc:creator>Jorge Fritis</dc:creator>
  <dc:description/>
  <dc:language>en-US</dc:language>
  <cp:lastModifiedBy>Jorge</cp:lastModifiedBy>
  <dcterms:modified xsi:type="dcterms:W3CDTF">2005-09-02T12:59:33Z</dcterms:modified>
  <cp:revision>9</cp:revision>
  <dc:subject/>
  <dc:title>Sin título de diapositiva</dc:title>
</cp:coreProperties>
</file>