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0EDA-F7B5-4590-B18D-609DE1AA7C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volucion de las redes es demasiado dinamico para hacer pronosticos de cual seria el diseño dominante en el futuro, estamos en fase de inestabilidades tecnolog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E49-F63E-4625-B6E0-B3F9E3C0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DDB-90E9-4E51-9B1D-881EBB66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3F7-691D-4659-AE75-FEA139FB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426-4DDD-4CCE-8DBF-1161F88E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8F9-8027-4DED-8632-2078843A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BFE-AFAF-43D5-9279-99CACA1F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BDF-560A-45ED-9F8C-68D9946D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854-F5A6-4500-AEF1-C3B503A8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F70-EAC2-4EAD-8DE4-A704B4C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3F6-90B8-4C15-BDDA-9CD6F41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FEB-019D-48D1-9A04-7A082FA2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289-C806-4BD1-B140-1EDAE9B1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463D-3758-4A68-828A-3DD28E8A1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05880" y="495360"/>
            <a:ext cx="54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DES DE 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3920" y="380880"/>
            <a:ext cx="8715240" cy="5632560"/>
            <a:chOff x="223920" y="380880"/>
            <a:chExt cx="8715240" cy="5632560"/>
          </a:xfrm>
        </p:grpSpPr>
        <p:graphicFrame>
          <p:nvGraphicFramePr>
            <p:cNvPr id="50" name=""/>
            <p:cNvGraphicFramePr/>
            <p:nvPr/>
          </p:nvGraphicFramePr>
          <p:xfrm>
            <a:off x="223920" y="1606680"/>
            <a:ext cx="5248080" cy="4406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920" y="1606680"/>
                      <a:ext cx="5248080" cy="4406760"/>
                    </a:xfrm>
                    <a:prstGeom prst="rect">
                      <a:avLst/>
                    </a:prstGeom>
                    <a:ln w="93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400800" y="2514600"/>
              <a:ext cx="243828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de Red Transporte N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y Conmutación de Larga Distancia</a:t>
              </a:r>
              <a:r>
                <a:rPr b="1" lang="es-ES" sz="1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6400800" y="4038480"/>
              <a:ext cx="1905120" cy="667800"/>
              <a:chOff x="6400800" y="4038480"/>
              <a:chExt cx="1905120" cy="667800"/>
            </a:xfrm>
          </p:grpSpPr>
          <p:sp>
            <p:nvSpPr>
              <p:cNvPr id="54" name=""/>
              <p:cNvSpPr/>
              <p:nvPr/>
            </p:nvSpPr>
            <p:spPr>
              <a:xfrm>
                <a:off x="6401880" y="4038480"/>
                <a:ext cx="19040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Redes de Acceso 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00800" y="4341240"/>
                <a:ext cx="5637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529320" y="3929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24480" y="1752480"/>
              <a:ext cx="2614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 de Transporte Internacional</a:t>
              </a:r>
              <a:r>
                <a:rPr b="1" lang="es-E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867280" y="1828800"/>
              <a:ext cx="441000" cy="142920"/>
              <a:chOff x="5867280" y="1828800"/>
              <a:chExt cx="441000" cy="14292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5982840" y="190008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7280" y="182880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8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867280" y="2971800"/>
              <a:ext cx="441000" cy="141120"/>
              <a:chOff x="5867280" y="2971800"/>
              <a:chExt cx="441000" cy="141120"/>
            </a:xfrm>
          </p:grpSpPr>
          <p:sp>
            <p:nvSpPr>
              <p:cNvPr id="62" name=""/>
              <p:cNvSpPr/>
              <p:nvPr/>
            </p:nvSpPr>
            <p:spPr>
              <a:xfrm flipH="1">
                <a:off x="5982840" y="304344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7280" y="297180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867280" y="4267080"/>
              <a:ext cx="439560" cy="142920"/>
              <a:chOff x="5867280" y="4267080"/>
              <a:chExt cx="439560" cy="142920"/>
            </a:xfrm>
          </p:grpSpPr>
          <p:sp>
            <p:nvSpPr>
              <p:cNvPr id="65" name=""/>
              <p:cNvSpPr/>
              <p:nvPr/>
            </p:nvSpPr>
            <p:spPr>
              <a:xfrm flipH="1">
                <a:off x="5982840" y="4339800"/>
                <a:ext cx="324000" cy="108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280" y="426708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28600" y="380880"/>
              <a:ext cx="55627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2340000" y="1844640"/>
                <a:ext cx="3024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D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T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1403280" y="3425400"/>
            <a:ext cx="93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versión de minutos a Erla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H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centración horar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los días cargados al mes,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T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la razón entre el tráfico tasado y el tráfico curs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18840" y="4762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O DE ERLANGS EN LA HORA CAR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7598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3009960" y="249120"/>
            <a:ext cx="31240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cnologías en las redes de acceso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874880" cy="103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4572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201600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 rot="1218000">
            <a:off x="1005120" y="2004840"/>
            <a:ext cx="489240" cy="19540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6520" y="5715000"/>
            <a:ext cx="1048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HFC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813400">
            <a:off x="530280" y="1722600"/>
            <a:ext cx="2830320" cy="28494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360" y="182880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WLL/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143000"/>
            <a:ext cx="134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Celular/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160" y="27432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4343400"/>
            <a:ext cx="3353040" cy="3049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ocal Loop (xD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4800600"/>
          <a:ext cx="78732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800600"/>
                    <a:ext cx="7873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20813400">
            <a:off x="1395360" y="2734920"/>
            <a:ext cx="3538440" cy="11476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648320"/>
            <a:ext cx="68580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0" cy="12189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280" y="5867280"/>
            <a:ext cx="103788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P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114800"/>
            <a:ext cx="106668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95880" y="2971800"/>
            <a:ext cx="533520" cy="1066680"/>
          </a:xfrm>
          <a:prstGeom prst="line">
            <a:avLst/>
          </a:prstGeom>
          <a:ln w="57240">
            <a:solidFill>
              <a:srgbClr val="66ff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981080"/>
            <a:ext cx="2819520" cy="10670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er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lef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952880"/>
            <a:ext cx="2819160" cy="129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eedor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28880" y="5410080"/>
            <a:ext cx="106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FT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648320"/>
            <a:ext cx="2057400" cy="7617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38862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ble de cob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895480" y="1371600"/>
            <a:ext cx="533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5105520" y="5715000"/>
            <a:ext cx="91440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4120" y="5028840"/>
            <a:ext cx="761760" cy="30492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467480" y="3962160"/>
            <a:ext cx="152640" cy="99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43600" y="6095880"/>
            <a:ext cx="457200" cy="4572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813400">
            <a:off x="558360" y="2165040"/>
            <a:ext cx="855720" cy="25542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1260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3920" y="1606680"/>
          <a:ext cx="5248080" cy="44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606680"/>
                    <a:ext cx="5248080" cy="4406760"/>
                  </a:xfrm>
                  <a:prstGeom prst="rect">
                    <a:avLst/>
                  </a:prstGeom>
                  <a:ln w="93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400800" y="2514600"/>
            <a:ext cx="24382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de Red Transporte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y Conmutación de Larga Distancia</a:t>
            </a:r>
            <a:r>
              <a:rPr b="1" lang="es-E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00800" y="4038480"/>
            <a:ext cx="1905120" cy="667800"/>
            <a:chOff x="6400800" y="4038480"/>
            <a:chExt cx="1905120" cy="667800"/>
          </a:xfrm>
        </p:grpSpPr>
        <p:sp>
          <p:nvSpPr>
            <p:cNvPr id="103" name=""/>
            <p:cNvSpPr/>
            <p:nvPr/>
          </p:nvSpPr>
          <p:spPr>
            <a:xfrm>
              <a:off x="6401880" y="4038480"/>
              <a:ext cx="1904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es de Acceso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4341240"/>
              <a:ext cx="563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529320" y="3929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752480"/>
            <a:ext cx="2614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d de Transporte Internacional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67280" y="1828800"/>
            <a:ext cx="441000" cy="142920"/>
            <a:chOff x="5867280" y="1828800"/>
            <a:chExt cx="441000" cy="142920"/>
          </a:xfrm>
        </p:grpSpPr>
        <p:sp>
          <p:nvSpPr>
            <p:cNvPr id="108" name=""/>
            <p:cNvSpPr/>
            <p:nvPr/>
          </p:nvSpPr>
          <p:spPr>
            <a:xfrm flipH="1">
              <a:off x="5982840" y="190008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182880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7280" y="2971800"/>
            <a:ext cx="441000" cy="141120"/>
            <a:chOff x="5867280" y="2971800"/>
            <a:chExt cx="441000" cy="141120"/>
          </a:xfrm>
        </p:grpSpPr>
        <p:sp>
          <p:nvSpPr>
            <p:cNvPr id="111" name=""/>
            <p:cNvSpPr/>
            <p:nvPr/>
          </p:nvSpPr>
          <p:spPr>
            <a:xfrm flipH="1">
              <a:off x="5982840" y="304344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2971800"/>
              <a:ext cx="119160" cy="1411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67280" y="4267080"/>
            <a:ext cx="439560" cy="142920"/>
            <a:chOff x="5867280" y="4267080"/>
            <a:chExt cx="439560" cy="142920"/>
          </a:xfrm>
        </p:grpSpPr>
        <p:sp>
          <p:nvSpPr>
            <p:cNvPr id="114" name=""/>
            <p:cNvSpPr/>
            <p:nvPr/>
          </p:nvSpPr>
          <p:spPr>
            <a:xfrm flipH="1">
              <a:off x="5982840" y="4339800"/>
              <a:ext cx="324000" cy="108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426708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8600" y="380880"/>
            <a:ext cx="5562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bujo General Red d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comunicaciones por C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657600" y="1600200"/>
            <a:ext cx="1904400" cy="1248480"/>
            <a:chOff x="3657600" y="1600200"/>
            <a:chExt cx="1904400" cy="1248480"/>
          </a:xfrm>
        </p:grpSpPr>
        <p:grpSp>
          <p:nvGrpSpPr>
            <p:cNvPr id="118" name=""/>
            <p:cNvGrpSpPr/>
            <p:nvPr/>
          </p:nvGrpSpPr>
          <p:grpSpPr>
            <a:xfrm>
              <a:off x="3657600" y="1600200"/>
              <a:ext cx="1904400" cy="1248480"/>
              <a:chOff x="3657600" y="1600200"/>
              <a:chExt cx="1904400" cy="1248480"/>
            </a:xfrm>
          </p:grpSpPr>
          <p:sp>
            <p:nvSpPr>
              <p:cNvPr id="119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710520" y="1970280"/>
              <a:ext cx="1831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Públ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746760" y="2143080"/>
            <a:ext cx="1343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1648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607" y="8"/>
                </a:moveTo>
                <a:lnTo>
                  <a:pt x="288" y="95"/>
                </a:lnTo>
                <a:lnTo>
                  <a:pt x="274" y="82"/>
                </a:lnTo>
                <a:lnTo>
                  <a:pt x="0" y="161"/>
                </a:lnTo>
                <a:lnTo>
                  <a:pt x="302" y="60"/>
                </a:lnTo>
                <a:lnTo>
                  <a:pt x="321" y="78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5880" y="5715000"/>
          <a:ext cx="68760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5715000"/>
                    <a:ext cx="687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318360" y="4983120"/>
            <a:ext cx="384120" cy="122400"/>
          </a:xfrm>
          <a:prstGeom prst="rect">
            <a:avLst/>
          </a:prstGeom>
          <a:solidFill>
            <a:srgbClr val="316501"/>
          </a:solidFill>
          <a:ln w="0">
            <a:noFill/>
          </a:ln>
          <a:effectLst>
            <a:outerShdw dist="17819" dir="2700000" blurRad="0" rotWithShape="0">
              <a:srgbClr val="1d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343400"/>
            <a:ext cx="998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514600"/>
            <a:ext cx="838080" cy="11430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4952880"/>
            <a:ext cx="1880280" cy="1066320"/>
            <a:chOff x="3505320" y="4952880"/>
            <a:chExt cx="1880280" cy="1066320"/>
          </a:xfrm>
        </p:grpSpPr>
        <p:grpSp>
          <p:nvGrpSpPr>
            <p:cNvPr id="130" name=""/>
            <p:cNvGrpSpPr/>
            <p:nvPr/>
          </p:nvGrpSpPr>
          <p:grpSpPr>
            <a:xfrm>
              <a:off x="3505320" y="4952880"/>
              <a:ext cx="1880280" cy="1066320"/>
              <a:chOff x="3505320" y="4952880"/>
              <a:chExt cx="1880280" cy="1066320"/>
            </a:xfrm>
          </p:grpSpPr>
          <p:sp>
            <p:nvSpPr>
              <p:cNvPr id="131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557520" y="5268960"/>
              <a:ext cx="180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0" y="601992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96200" y="4781520"/>
            <a:ext cx="2138040" cy="663480"/>
            <a:chOff x="6496200" y="4781520"/>
            <a:chExt cx="2138040" cy="663480"/>
          </a:xfrm>
        </p:grpSpPr>
        <p:graphicFrame>
          <p:nvGraphicFramePr>
            <p:cNvPr id="136" name=""/>
            <p:cNvGraphicFramePr/>
            <p:nvPr/>
          </p:nvGraphicFramePr>
          <p:xfrm>
            <a:off x="8021520" y="4967280"/>
            <a:ext cx="612720" cy="47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2152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6496200" y="4781520"/>
              <a:ext cx="763560" cy="185760"/>
            </a:xfrm>
            <a:custGeom>
              <a:avLst/>
              <a:gdLst/>
              <a:ahLst/>
              <a:rect l="l" t="t" r="r" b="b"/>
              <a:pathLst>
                <a:path w="481" h="117">
                  <a:moveTo>
                    <a:pt x="0" y="116"/>
                  </a:moveTo>
                  <a:lnTo>
                    <a:pt x="0" y="0"/>
                  </a:lnTo>
                  <a:lnTo>
                    <a:pt x="480" y="0"/>
                  </a:lnTo>
                  <a:lnTo>
                    <a:pt x="48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7467480" y="4967280"/>
            <a:ext cx="612720" cy="47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6913440" y="4967280"/>
            <a:ext cx="612720" cy="47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1344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7257960" y="4781520"/>
              <a:ext cx="625680" cy="185760"/>
            </a:xfrm>
            <a:custGeom>
              <a:avLst/>
              <a:gdLst/>
              <a:ahLst/>
              <a:rect l="l" t="t" r="r" b="b"/>
              <a:pathLst>
                <a:path w="394" h="117">
                  <a:moveTo>
                    <a:pt x="0" y="116"/>
                  </a:moveTo>
                  <a:lnTo>
                    <a:pt x="0" y="0"/>
                  </a:lnTo>
                  <a:lnTo>
                    <a:pt x="393" y="0"/>
                  </a:lnTo>
                  <a:lnTo>
                    <a:pt x="393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1840" y="4781520"/>
              <a:ext cx="557280" cy="185760"/>
            </a:xfrm>
            <a:custGeom>
              <a:avLst/>
              <a:gdLst/>
              <a:ahLst/>
              <a:rect l="l" t="t" r="r" b="b"/>
              <a:pathLst>
                <a:path w="351" h="117">
                  <a:moveTo>
                    <a:pt x="0" y="116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089920" y="1955880"/>
            <a:ext cx="349200" cy="309600"/>
            <a:chOff x="8089920" y="1955880"/>
            <a:chExt cx="349200" cy="309600"/>
          </a:xfrm>
        </p:grpSpPr>
        <p:sp>
          <p:nvSpPr>
            <p:cNvPr id="146" name=""/>
            <p:cNvSpPr/>
            <p:nvPr/>
          </p:nvSpPr>
          <p:spPr>
            <a:xfrm>
              <a:off x="808992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1224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31320" y="2062440"/>
              <a:ext cx="26640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808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97920" y="19926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32840" y="1992600"/>
              <a:ext cx="9828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4392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993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44000" y="2108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8684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440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50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11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4400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68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936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422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8684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684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422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9792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026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440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50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8684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44000" y="21085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93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9936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422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684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86840" y="2148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422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9792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52000" y="197352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91360" y="1976760"/>
              <a:ext cx="2412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36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9936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422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8684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93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4400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850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8360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440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026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9936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422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8684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684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9792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422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86840" y="213084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9792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422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684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22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9936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99360" y="20926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44000" y="20926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5040" y="209268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3600" y="2073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44000" y="20736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0260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6294600" y="2017800"/>
          <a:ext cx="51264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4600" y="201780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767560" y="190512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5019840"/>
            <a:ext cx="965160" cy="255600"/>
          </a:xfrm>
          <a:custGeom>
            <a:avLst/>
            <a:gdLst/>
            <a:ahLst/>
            <a:rect l="l" t="t" r="r" b="b"/>
            <a:pathLst>
              <a:path w="608" h="161">
                <a:moveTo>
                  <a:pt x="607" y="8"/>
                </a:moveTo>
                <a:lnTo>
                  <a:pt x="288" y="94"/>
                </a:lnTo>
                <a:lnTo>
                  <a:pt x="274" y="81"/>
                </a:lnTo>
                <a:lnTo>
                  <a:pt x="0" y="160"/>
                </a:lnTo>
                <a:lnTo>
                  <a:pt x="302" y="60"/>
                </a:lnTo>
                <a:lnTo>
                  <a:pt x="321" y="77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1880" y="2143080"/>
            <a:ext cx="695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532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0" y="8"/>
                </a:moveTo>
                <a:lnTo>
                  <a:pt x="319" y="96"/>
                </a:lnTo>
                <a:lnTo>
                  <a:pt x="333" y="83"/>
                </a:lnTo>
                <a:lnTo>
                  <a:pt x="607" y="161"/>
                </a:lnTo>
                <a:lnTo>
                  <a:pt x="304" y="61"/>
                </a:lnTo>
                <a:lnTo>
                  <a:pt x="285" y="78"/>
                </a:lnTo>
                <a:lnTo>
                  <a:pt x="10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19160" y="1955880"/>
            <a:ext cx="349200" cy="309600"/>
            <a:chOff x="1919160" y="1955880"/>
            <a:chExt cx="349200" cy="309600"/>
          </a:xfrm>
        </p:grpSpPr>
        <p:sp>
          <p:nvSpPr>
            <p:cNvPr id="217" name=""/>
            <p:cNvSpPr/>
            <p:nvPr/>
          </p:nvSpPr>
          <p:spPr>
            <a:xfrm>
              <a:off x="191916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148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60560" y="206244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5732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7160" y="199260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62080" y="199260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7316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3240" y="2108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1608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318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32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146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040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32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608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2896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718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1608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1608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718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2716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18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32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46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1608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3240" y="21085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89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8960" y="21276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18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16080" y="2148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18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2716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81240" y="197352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20960" y="197676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432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2896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718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1608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289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732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1464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1284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324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31840" y="20736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289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718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608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1608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716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18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16080" y="21308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2716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718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608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8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8960" y="21117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8960" y="20926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3240" y="20926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14640" y="20926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12840" y="20736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3240" y="20736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184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2828880" y="2017800"/>
          <a:ext cx="51120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2017800"/>
                    <a:ext cx="511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2995560" y="2459160"/>
            <a:ext cx="65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332320"/>
            <a:ext cx="685800" cy="230400"/>
          </a:xfrm>
          <a:custGeom>
            <a:avLst/>
            <a:gdLst/>
            <a:ahLst/>
            <a:rect l="l" t="t" r="r" b="b"/>
            <a:pathLst>
              <a:path w="438" h="161">
                <a:moveTo>
                  <a:pt x="0" y="8"/>
                </a:moveTo>
                <a:lnTo>
                  <a:pt x="229" y="95"/>
                </a:lnTo>
                <a:lnTo>
                  <a:pt x="239" y="82"/>
                </a:lnTo>
                <a:lnTo>
                  <a:pt x="437" y="160"/>
                </a:lnTo>
                <a:lnTo>
                  <a:pt x="219" y="60"/>
                </a:lnTo>
                <a:lnTo>
                  <a:pt x="205" y="77"/>
                </a:lnTo>
                <a:lnTo>
                  <a:pt x="6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09480" y="5029200"/>
            <a:ext cx="2217960" cy="663480"/>
            <a:chOff x="609480" y="5029200"/>
            <a:chExt cx="2217960" cy="663480"/>
          </a:xfrm>
        </p:grpSpPr>
        <p:sp>
          <p:nvSpPr>
            <p:cNvPr id="286" name=""/>
            <p:cNvSpPr/>
            <p:nvPr/>
          </p:nvSpPr>
          <p:spPr>
            <a:xfrm>
              <a:off x="955800" y="5029200"/>
              <a:ext cx="485640" cy="185760"/>
            </a:xfrm>
            <a:custGeom>
              <a:avLst/>
              <a:gdLst/>
              <a:ahLst/>
              <a:rect l="l" t="t" r="r" b="b"/>
              <a:pathLst>
                <a:path w="306" h="117">
                  <a:moveTo>
                    <a:pt x="0" y="116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000" y="5029200"/>
              <a:ext cx="487080" cy="247680"/>
            </a:xfrm>
            <a:custGeom>
              <a:avLst/>
              <a:gdLst/>
              <a:ahLst/>
              <a:rect l="l" t="t" r="r" b="b"/>
              <a:pathLst>
                <a:path w="307" h="156">
                  <a:moveTo>
                    <a:pt x="0" y="155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155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09480" y="5214960"/>
            <a:ext cx="612720" cy="477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1165320" y="5214960"/>
            <a:ext cx="614160" cy="477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65320" y="5214960"/>
                      <a:ext cx="6141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1925640" y="5029200"/>
              <a:ext cx="695160" cy="185760"/>
            </a:xfrm>
            <a:custGeom>
              <a:avLst/>
              <a:gdLst/>
              <a:ahLst/>
              <a:rect l="l" t="t" r="r" b="b"/>
              <a:pathLst>
                <a:path w="438" h="117">
                  <a:moveTo>
                    <a:pt x="0" y="116"/>
                  </a:moveTo>
                  <a:lnTo>
                    <a:pt x="0" y="0"/>
                  </a:lnTo>
                  <a:lnTo>
                    <a:pt x="437" y="0"/>
                  </a:lnTo>
                  <a:lnTo>
                    <a:pt x="437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1720800" y="5214960"/>
            <a:ext cx="612720" cy="477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72080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2443320" y="5230800"/>
              <a:ext cx="384120" cy="122040"/>
            </a:xfrm>
            <a:prstGeom prst="rect">
              <a:avLst/>
            </a:prstGeom>
            <a:solidFill>
              <a:srgbClr val="316501"/>
            </a:solidFill>
            <a:ln w="0">
              <a:noFill/>
            </a:ln>
            <a:effectLst>
              <a:outerShdw dist="17819" dir="2700000" blurRad="0" rotWithShape="0">
                <a:srgbClr val="1d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6" name=""/>
          <p:cNvGraphicFramePr/>
          <p:nvPr/>
        </p:nvGraphicFramePr>
        <p:xfrm>
          <a:off x="7535880" y="2328840"/>
          <a:ext cx="561960" cy="468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5880" y="2328840"/>
                    <a:ext cx="561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V="1">
            <a:off x="778680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0240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125800" y="2328840"/>
          <a:ext cx="563400" cy="468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5800" y="2328840"/>
                    <a:ext cx="5634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V="1">
            <a:off x="237816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232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96200" y="2141640"/>
            <a:ext cx="0" cy="550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188120" y="2693880"/>
            <a:ext cx="349200" cy="307800"/>
            <a:chOff x="7188120" y="2693880"/>
            <a:chExt cx="349200" cy="307800"/>
          </a:xfrm>
        </p:grpSpPr>
        <p:sp>
          <p:nvSpPr>
            <p:cNvPr id="306" name=""/>
            <p:cNvSpPr/>
            <p:nvPr/>
          </p:nvSpPr>
          <p:spPr>
            <a:xfrm>
              <a:off x="7188120" y="269388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10440" y="2727360"/>
              <a:ext cx="303120" cy="27432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29520" y="280008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6280" y="279540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96120" y="273024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31040" y="27302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42120" y="28033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97560" y="284616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42200" y="2846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85040" y="28461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00800" y="282708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22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836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9360" y="28512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4220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8504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756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0760" y="286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8504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8504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4076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9612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00800" y="282708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42200" y="282708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3600" y="2827080"/>
              <a:ext cx="3780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85040" y="2846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42200" y="284616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7560" y="284616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97560" y="286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0760" y="2865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85040" y="286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85040" y="2886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40760" y="28861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96120" y="288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0200" y="2711160"/>
              <a:ext cx="38160" cy="590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9920" y="271440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11880" y="292248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9756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0760" y="284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504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97560" y="282888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2200" y="28288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0" y="28288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1800" y="280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2200" y="28098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00800" y="28098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756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40760" y="2852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8504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8504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9612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4076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85040" y="28670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96120" y="2867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40760" y="2867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85040" y="284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0760" y="28479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97560" y="284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7560" y="28288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42200" y="28288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83600" y="282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81800" y="280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42200" y="2809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00800" y="28098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76042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1200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980400" y="3062160"/>
            <a:ext cx="349200" cy="308160"/>
            <a:chOff x="6980400" y="3062160"/>
            <a:chExt cx="349200" cy="308160"/>
          </a:xfrm>
        </p:grpSpPr>
        <p:sp>
          <p:nvSpPr>
            <p:cNvPr id="373" name=""/>
            <p:cNvSpPr/>
            <p:nvPr/>
          </p:nvSpPr>
          <p:spPr>
            <a:xfrm>
              <a:off x="6980400" y="306216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360" y="3095640"/>
              <a:ext cx="303480" cy="27468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144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8200" y="316368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88040" y="30985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2296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34040" y="317160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984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34120" y="32144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76960" y="321444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9308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4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755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128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34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76960" y="32194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984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3268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76960" y="3233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696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3268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804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9308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3412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55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696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3412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984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984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3268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7696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76960" y="325440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32680" y="32544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8804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42120" y="307980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8184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04160" y="329076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8984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3268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6960" y="321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8984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341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55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74080" y="3178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4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308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8984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3268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76960" y="32209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7696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804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3268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76960" y="32353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8804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32680" y="32353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7696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3268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984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984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34120" y="31971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5520" y="31971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74080" y="31780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34120" y="31780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3080" y="31780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467480" y="3062160"/>
            <a:ext cx="347760" cy="308160"/>
            <a:chOff x="7467480" y="3062160"/>
            <a:chExt cx="347760" cy="308160"/>
          </a:xfrm>
        </p:grpSpPr>
        <p:sp>
          <p:nvSpPr>
            <p:cNvPr id="438" name=""/>
            <p:cNvSpPr/>
            <p:nvPr/>
          </p:nvSpPr>
          <p:spPr>
            <a:xfrm>
              <a:off x="7467480" y="3062160"/>
              <a:ext cx="34776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4" y="52"/>
                  </a:lnTo>
                  <a:lnTo>
                    <a:pt x="165" y="52"/>
                  </a:lnTo>
                  <a:lnTo>
                    <a:pt x="166" y="53"/>
                  </a:lnTo>
                  <a:lnTo>
                    <a:pt x="168" y="53"/>
                  </a:lnTo>
                  <a:lnTo>
                    <a:pt x="169" y="53"/>
                  </a:lnTo>
                  <a:lnTo>
                    <a:pt x="171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8" y="54"/>
                  </a:lnTo>
                  <a:lnTo>
                    <a:pt x="179" y="55"/>
                  </a:lnTo>
                  <a:lnTo>
                    <a:pt x="181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6" y="56"/>
                  </a:lnTo>
                  <a:lnTo>
                    <a:pt x="188" y="56"/>
                  </a:lnTo>
                  <a:lnTo>
                    <a:pt x="190" y="57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4" y="57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1" y="58"/>
                  </a:lnTo>
                  <a:lnTo>
                    <a:pt x="203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7" y="58"/>
                  </a:lnTo>
                  <a:lnTo>
                    <a:pt x="208" y="58"/>
                  </a:lnTo>
                  <a:lnTo>
                    <a:pt x="210" y="58"/>
                  </a:lnTo>
                  <a:lnTo>
                    <a:pt x="211" y="59"/>
                  </a:lnTo>
                  <a:lnTo>
                    <a:pt x="212" y="58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4" y="57"/>
                  </a:lnTo>
                  <a:lnTo>
                    <a:pt x="215" y="56"/>
                  </a:lnTo>
                  <a:lnTo>
                    <a:pt x="215" y="55"/>
                  </a:lnTo>
                  <a:lnTo>
                    <a:pt x="216" y="54"/>
                  </a:lnTo>
                  <a:lnTo>
                    <a:pt x="216" y="53"/>
                  </a:lnTo>
                  <a:lnTo>
                    <a:pt x="217" y="52"/>
                  </a:lnTo>
                  <a:lnTo>
                    <a:pt x="217" y="51"/>
                  </a:lnTo>
                  <a:lnTo>
                    <a:pt x="217" y="50"/>
                  </a:lnTo>
                  <a:lnTo>
                    <a:pt x="218" y="49"/>
                  </a:lnTo>
                  <a:lnTo>
                    <a:pt x="217" y="48"/>
                  </a:lnTo>
                  <a:lnTo>
                    <a:pt x="218" y="46"/>
                  </a:lnTo>
                  <a:lnTo>
                    <a:pt x="218" y="43"/>
                  </a:lnTo>
                  <a:lnTo>
                    <a:pt x="217" y="41"/>
                  </a:lnTo>
                  <a:lnTo>
                    <a:pt x="216" y="38"/>
                  </a:lnTo>
                  <a:lnTo>
                    <a:pt x="216" y="36"/>
                  </a:lnTo>
                  <a:lnTo>
                    <a:pt x="215" y="34"/>
                  </a:lnTo>
                  <a:lnTo>
                    <a:pt x="215" y="31"/>
                  </a:lnTo>
                  <a:lnTo>
                    <a:pt x="214" y="29"/>
                  </a:lnTo>
                  <a:lnTo>
                    <a:pt x="213" y="26"/>
                  </a:lnTo>
                  <a:lnTo>
                    <a:pt x="212" y="24"/>
                  </a:lnTo>
                  <a:lnTo>
                    <a:pt x="211" y="22"/>
                  </a:lnTo>
                  <a:lnTo>
                    <a:pt x="209" y="20"/>
                  </a:lnTo>
                  <a:lnTo>
                    <a:pt x="207" y="18"/>
                  </a:lnTo>
                  <a:lnTo>
                    <a:pt x="205" y="15"/>
                  </a:lnTo>
                  <a:lnTo>
                    <a:pt x="203" y="14"/>
                  </a:lnTo>
                  <a:lnTo>
                    <a:pt x="201" y="11"/>
                  </a:lnTo>
                  <a:lnTo>
                    <a:pt x="194" y="10"/>
                  </a:lnTo>
                  <a:lnTo>
                    <a:pt x="189" y="9"/>
                  </a:lnTo>
                  <a:lnTo>
                    <a:pt x="183" y="7"/>
                  </a:lnTo>
                  <a:lnTo>
                    <a:pt x="177" y="6"/>
                  </a:lnTo>
                  <a:lnTo>
                    <a:pt x="171" y="6"/>
                  </a:lnTo>
                  <a:lnTo>
                    <a:pt x="165" y="5"/>
                  </a:lnTo>
                  <a:lnTo>
                    <a:pt x="159" y="3"/>
                  </a:lnTo>
                  <a:lnTo>
                    <a:pt x="154" y="2"/>
                  </a:lnTo>
                  <a:lnTo>
                    <a:pt x="147" y="2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7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6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8" y="26"/>
                  </a:lnTo>
                  <a:lnTo>
                    <a:pt x="83" y="25"/>
                  </a:lnTo>
                  <a:lnTo>
                    <a:pt x="87" y="24"/>
                  </a:lnTo>
                  <a:lnTo>
                    <a:pt x="92" y="23"/>
                  </a:lnTo>
                  <a:lnTo>
                    <a:pt x="97" y="23"/>
                  </a:lnTo>
                  <a:lnTo>
                    <a:pt x="103" y="23"/>
                  </a:lnTo>
                  <a:lnTo>
                    <a:pt x="108" y="22"/>
                  </a:lnTo>
                  <a:lnTo>
                    <a:pt x="113" y="23"/>
                  </a:lnTo>
                  <a:lnTo>
                    <a:pt x="118" y="23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4" y="25"/>
                  </a:lnTo>
                  <a:lnTo>
                    <a:pt x="138" y="26"/>
                  </a:lnTo>
                  <a:lnTo>
                    <a:pt x="143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4" y="30"/>
                  </a:lnTo>
                  <a:lnTo>
                    <a:pt x="156" y="32"/>
                  </a:lnTo>
                  <a:lnTo>
                    <a:pt x="159" y="33"/>
                  </a:lnTo>
                  <a:lnTo>
                    <a:pt x="161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89800" y="3095640"/>
              <a:ext cx="301680" cy="274680"/>
            </a:xfrm>
            <a:custGeom>
              <a:avLst/>
              <a:gdLst/>
              <a:ahLst/>
              <a:rect l="l" t="t" r="r" b="b"/>
              <a:pathLst>
                <a:path w="190" h="173">
                  <a:moveTo>
                    <a:pt x="112" y="19"/>
                  </a:moveTo>
                  <a:lnTo>
                    <a:pt x="113" y="19"/>
                  </a:lnTo>
                  <a:lnTo>
                    <a:pt x="114" y="19"/>
                  </a:lnTo>
                  <a:lnTo>
                    <a:pt x="115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9" y="14"/>
                  </a:lnTo>
                  <a:lnTo>
                    <a:pt x="140" y="16"/>
                  </a:lnTo>
                  <a:lnTo>
                    <a:pt x="141" y="18"/>
                  </a:lnTo>
                  <a:lnTo>
                    <a:pt x="142" y="19"/>
                  </a:lnTo>
                  <a:lnTo>
                    <a:pt x="143" y="21"/>
                  </a:lnTo>
                  <a:lnTo>
                    <a:pt x="144" y="23"/>
                  </a:lnTo>
                  <a:lnTo>
                    <a:pt x="145" y="23"/>
                  </a:lnTo>
                  <a:lnTo>
                    <a:pt x="147" y="25"/>
                  </a:lnTo>
                  <a:lnTo>
                    <a:pt x="147" y="26"/>
                  </a:lnTo>
                  <a:lnTo>
                    <a:pt x="148" y="27"/>
                  </a:lnTo>
                  <a:lnTo>
                    <a:pt x="150" y="28"/>
                  </a:lnTo>
                  <a:lnTo>
                    <a:pt x="151" y="30"/>
                  </a:lnTo>
                  <a:lnTo>
                    <a:pt x="153" y="31"/>
                  </a:lnTo>
                  <a:lnTo>
                    <a:pt x="154" y="31"/>
                  </a:lnTo>
                  <a:lnTo>
                    <a:pt x="156" y="32"/>
                  </a:lnTo>
                  <a:lnTo>
                    <a:pt x="157" y="33"/>
                  </a:lnTo>
                  <a:lnTo>
                    <a:pt x="158" y="34"/>
                  </a:lnTo>
                  <a:lnTo>
                    <a:pt x="160" y="35"/>
                  </a:lnTo>
                  <a:lnTo>
                    <a:pt x="162" y="35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39"/>
                  </a:lnTo>
                  <a:lnTo>
                    <a:pt x="172" y="39"/>
                  </a:lnTo>
                  <a:lnTo>
                    <a:pt x="173" y="39"/>
                  </a:lnTo>
                  <a:lnTo>
                    <a:pt x="175" y="40"/>
                  </a:lnTo>
                  <a:lnTo>
                    <a:pt x="176" y="41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79" y="43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1" y="46"/>
                  </a:lnTo>
                  <a:lnTo>
                    <a:pt x="182" y="47"/>
                  </a:lnTo>
                  <a:lnTo>
                    <a:pt x="183" y="48"/>
                  </a:lnTo>
                  <a:lnTo>
                    <a:pt x="183" y="49"/>
                  </a:lnTo>
                  <a:lnTo>
                    <a:pt x="184" y="51"/>
                  </a:lnTo>
                  <a:lnTo>
                    <a:pt x="184" y="53"/>
                  </a:lnTo>
                  <a:lnTo>
                    <a:pt x="184" y="55"/>
                  </a:lnTo>
                  <a:lnTo>
                    <a:pt x="185" y="56"/>
                  </a:lnTo>
                  <a:lnTo>
                    <a:pt x="185" y="58"/>
                  </a:lnTo>
                  <a:lnTo>
                    <a:pt x="189" y="150"/>
                  </a:lnTo>
                  <a:lnTo>
                    <a:pt x="189" y="153"/>
                  </a:lnTo>
                  <a:lnTo>
                    <a:pt x="189" y="154"/>
                  </a:lnTo>
                  <a:lnTo>
                    <a:pt x="189" y="157"/>
                  </a:lnTo>
                  <a:lnTo>
                    <a:pt x="188" y="159"/>
                  </a:lnTo>
                  <a:lnTo>
                    <a:pt x="188" y="161"/>
                  </a:lnTo>
                  <a:lnTo>
                    <a:pt x="187" y="163"/>
                  </a:lnTo>
                  <a:lnTo>
                    <a:pt x="187" y="164"/>
                  </a:lnTo>
                  <a:lnTo>
                    <a:pt x="186" y="166"/>
                  </a:lnTo>
                  <a:lnTo>
                    <a:pt x="185" y="167"/>
                  </a:lnTo>
                  <a:lnTo>
                    <a:pt x="185" y="168"/>
                  </a:lnTo>
                  <a:lnTo>
                    <a:pt x="183" y="170"/>
                  </a:lnTo>
                  <a:lnTo>
                    <a:pt x="181" y="171"/>
                  </a:lnTo>
                  <a:lnTo>
                    <a:pt x="180" y="171"/>
                  </a:lnTo>
                  <a:lnTo>
                    <a:pt x="178" y="171"/>
                  </a:lnTo>
                  <a:lnTo>
                    <a:pt x="176" y="172"/>
                  </a:lnTo>
                  <a:lnTo>
                    <a:pt x="173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4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2" y="17"/>
                  </a:lnTo>
                  <a:lnTo>
                    <a:pt x="72" y="18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2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0888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5640" y="3163680"/>
              <a:ext cx="273240" cy="141480"/>
            </a:xfrm>
            <a:custGeom>
              <a:avLst/>
              <a:gdLst/>
              <a:ahLst/>
              <a:rect l="l" t="t" r="r" b="b"/>
              <a:pathLst>
                <a:path w="172" h="89">
                  <a:moveTo>
                    <a:pt x="15" y="0"/>
                  </a:move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60" y="1"/>
                  </a:lnTo>
                  <a:lnTo>
                    <a:pt x="161" y="2"/>
                  </a:lnTo>
                  <a:lnTo>
                    <a:pt x="162" y="2"/>
                  </a:lnTo>
                  <a:lnTo>
                    <a:pt x="164" y="3"/>
                  </a:lnTo>
                  <a:lnTo>
                    <a:pt x="164" y="4"/>
                  </a:lnTo>
                  <a:lnTo>
                    <a:pt x="166" y="5"/>
                  </a:lnTo>
                  <a:lnTo>
                    <a:pt x="166" y="6"/>
                  </a:lnTo>
                  <a:lnTo>
                    <a:pt x="167" y="6"/>
                  </a:lnTo>
                  <a:lnTo>
                    <a:pt x="167" y="8"/>
                  </a:lnTo>
                  <a:lnTo>
                    <a:pt x="168" y="9"/>
                  </a:lnTo>
                  <a:lnTo>
                    <a:pt x="168" y="10"/>
                  </a:lnTo>
                  <a:lnTo>
                    <a:pt x="168" y="11"/>
                  </a:lnTo>
                  <a:lnTo>
                    <a:pt x="168" y="13"/>
                  </a:lnTo>
                  <a:lnTo>
                    <a:pt x="171" y="74"/>
                  </a:lnTo>
                  <a:lnTo>
                    <a:pt x="171" y="75"/>
                  </a:lnTo>
                  <a:lnTo>
                    <a:pt x="171" y="76"/>
                  </a:lnTo>
                  <a:lnTo>
                    <a:pt x="170" y="77"/>
                  </a:lnTo>
                  <a:lnTo>
                    <a:pt x="169" y="79"/>
                  </a:lnTo>
                  <a:lnTo>
                    <a:pt x="168" y="81"/>
                  </a:lnTo>
                  <a:lnTo>
                    <a:pt x="167" y="82"/>
                  </a:lnTo>
                  <a:lnTo>
                    <a:pt x="167" y="83"/>
                  </a:lnTo>
                  <a:lnTo>
                    <a:pt x="166" y="84"/>
                  </a:lnTo>
                  <a:lnTo>
                    <a:pt x="164" y="85"/>
                  </a:lnTo>
                  <a:lnTo>
                    <a:pt x="164" y="86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60" y="87"/>
                  </a:lnTo>
                  <a:lnTo>
                    <a:pt x="158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74040" y="309852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1040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21480" y="3171600"/>
              <a:ext cx="241560" cy="120600"/>
            </a:xfrm>
            <a:custGeom>
              <a:avLst/>
              <a:gdLst/>
              <a:ahLst/>
              <a:rect l="l" t="t" r="r" b="b"/>
              <a:pathLst>
                <a:path w="152" h="76">
                  <a:moveTo>
                    <a:pt x="14" y="0"/>
                  </a:move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5" y="3"/>
                  </a:lnTo>
                  <a:lnTo>
                    <a:pt x="146" y="4"/>
                  </a:lnTo>
                  <a:lnTo>
                    <a:pt x="147" y="5"/>
                  </a:lnTo>
                  <a:lnTo>
                    <a:pt x="147" y="6"/>
                  </a:lnTo>
                  <a:lnTo>
                    <a:pt x="148" y="8"/>
                  </a:lnTo>
                  <a:lnTo>
                    <a:pt x="148" y="9"/>
                  </a:lnTo>
                  <a:lnTo>
                    <a:pt x="148" y="10"/>
                  </a:lnTo>
                  <a:lnTo>
                    <a:pt x="148" y="11"/>
                  </a:lnTo>
                  <a:lnTo>
                    <a:pt x="151" y="63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0" y="67"/>
                  </a:lnTo>
                  <a:lnTo>
                    <a:pt x="150" y="68"/>
                  </a:lnTo>
                  <a:lnTo>
                    <a:pt x="149" y="69"/>
                  </a:lnTo>
                  <a:lnTo>
                    <a:pt x="149" y="70"/>
                  </a:lnTo>
                  <a:lnTo>
                    <a:pt x="148" y="71"/>
                  </a:lnTo>
                  <a:lnTo>
                    <a:pt x="147" y="71"/>
                  </a:lnTo>
                  <a:lnTo>
                    <a:pt x="147" y="73"/>
                  </a:lnTo>
                  <a:lnTo>
                    <a:pt x="146" y="73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4"/>
                  </a:lnTo>
                  <a:lnTo>
                    <a:pt x="142" y="75"/>
                  </a:lnTo>
                  <a:lnTo>
                    <a:pt x="140" y="75"/>
                  </a:lnTo>
                  <a:lnTo>
                    <a:pt x="139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7728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32144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4400" y="32144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319536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0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6296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872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0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6440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728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1832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3233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4400" y="3254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1832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74040" y="32544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016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01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6296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440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012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728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77280" y="32335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1832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6440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64400" y="32544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1832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74040" y="32544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28120" y="307980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6928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1240" y="329076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7728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1832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4400" y="32162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7728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012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296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1160" y="3178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20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80160" y="31780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728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1832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64400" y="32209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64400" y="32353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74040" y="32353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1832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64400" y="32353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74040" y="32353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1832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6440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1832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7280" y="3216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7728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6296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61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012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80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9880" y="3352680"/>
            <a:ext cx="1774440" cy="975960"/>
            <a:chOff x="3809880" y="3352680"/>
            <a:chExt cx="1774440" cy="975960"/>
          </a:xfrm>
        </p:grpSpPr>
        <p:sp>
          <p:nvSpPr>
            <p:cNvPr id="503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5" name=""/>
          <p:cNvGraphicFramePr/>
          <p:nvPr/>
        </p:nvGraphicFramePr>
        <p:xfrm>
          <a:off x="3733920" y="3581280"/>
          <a:ext cx="442800" cy="471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4114800" y="3733920"/>
            <a:ext cx="109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495680" y="3352680"/>
          <a:ext cx="443160" cy="47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3352680"/>
                    <a:ext cx="443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4572000" y="3962520"/>
          <a:ext cx="442800" cy="47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0" y="3962520"/>
                    <a:ext cx="4428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334120" y="3581280"/>
          <a:ext cx="442800" cy="471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41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257800" y="5410080"/>
            <a:ext cx="1077840" cy="4842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486400" y="2362320"/>
            <a:ext cx="990720" cy="12952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571280" y="4343400"/>
            <a:ext cx="228600" cy="6094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588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352680" y="1219320"/>
            <a:ext cx="349200" cy="309600"/>
            <a:chOff x="3352680" y="1219320"/>
            <a:chExt cx="349200" cy="309600"/>
          </a:xfrm>
        </p:grpSpPr>
        <p:sp>
          <p:nvSpPr>
            <p:cNvPr id="520" name=""/>
            <p:cNvSpPr/>
            <p:nvPr/>
          </p:nvSpPr>
          <p:spPr>
            <a:xfrm>
              <a:off x="33526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940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908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606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956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066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624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067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496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653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067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481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639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67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96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624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6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6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53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606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653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067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481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96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67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624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624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496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496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53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06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147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544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768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624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053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496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624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67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481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463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067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653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624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053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96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496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606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053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496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606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496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053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624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624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67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481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463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067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653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81480" y="1219320"/>
            <a:ext cx="349200" cy="309600"/>
            <a:chOff x="5181480" y="1219320"/>
            <a:chExt cx="349200" cy="309600"/>
          </a:xfrm>
        </p:grpSpPr>
        <p:sp>
          <p:nvSpPr>
            <p:cNvPr id="585" name=""/>
            <p:cNvSpPr/>
            <p:nvPr/>
          </p:nvSpPr>
          <p:spPr>
            <a:xfrm>
              <a:off x="51814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38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228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196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894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44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354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912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355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784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941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355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769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927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55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784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912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41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784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84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341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894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941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769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784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5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912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912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41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4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784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41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894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435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832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056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912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341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784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912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355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769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751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355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941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912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341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84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784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894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41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84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894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4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41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912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12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55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69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751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355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941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267080" y="1143000"/>
            <a:ext cx="349200" cy="309600"/>
            <a:chOff x="4267080" y="1143000"/>
            <a:chExt cx="349200" cy="309600"/>
          </a:xfrm>
        </p:grpSpPr>
        <p:sp>
          <p:nvSpPr>
            <p:cNvPr id="650" name=""/>
            <p:cNvSpPr/>
            <p:nvPr/>
          </p:nvSpPr>
          <p:spPr>
            <a:xfrm>
              <a:off x="4267080" y="114300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89400" y="117648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08480" y="124956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5240" y="124488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75080" y="11797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10000" y="11797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21080" y="125424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76880" y="1295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21160" y="1295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64000" y="12956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79760" y="12765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211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625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7832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2116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6400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76880" y="13147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19720" y="13147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64000" y="1314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6400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1972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7508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97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11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2560" y="1276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64000" y="12956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21160" y="12956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76880" y="1295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76880" y="13147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19720" y="1314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64000" y="13147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64000" y="13352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19720" y="133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5080" y="133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29160" y="116064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68880" y="116388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1200" y="137340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76880" y="1297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12970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4000" y="1297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76880" y="12798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21160" y="127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62560" y="12798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60760" y="1260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21160" y="12607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79760" y="126072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76880" y="130176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9720" y="130176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6400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6400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7508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64000" y="13179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75080" y="131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19720" y="131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64000" y="129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1298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76880" y="12988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76880" y="12798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21160" y="12798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62560" y="127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60760" y="12607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21160" y="12607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79760" y="1260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3657600" y="1523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956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341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71640" y="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volución Futura de Servicios de Telefonia Internet,  Públicos y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Telef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914400" y="6172200"/>
            <a:ext cx="323640" cy="248760"/>
            <a:chOff x="914400" y="6172200"/>
            <a:chExt cx="323640" cy="248760"/>
          </a:xfrm>
        </p:grpSpPr>
        <p:grpSp>
          <p:nvGrpSpPr>
            <p:cNvPr id="720" name=""/>
            <p:cNvGrpSpPr/>
            <p:nvPr/>
          </p:nvGrpSpPr>
          <p:grpSpPr>
            <a:xfrm>
              <a:off x="940680" y="6172200"/>
              <a:ext cx="297360" cy="111600"/>
              <a:chOff x="940680" y="6172200"/>
              <a:chExt cx="297360" cy="11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942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40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944640" y="6215040"/>
              <a:ext cx="288000" cy="205920"/>
              <a:chOff x="944640" y="6215040"/>
              <a:chExt cx="288000" cy="20592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944640" y="6215040"/>
                <a:ext cx="288000" cy="205920"/>
                <a:chOff x="944640" y="6215040"/>
                <a:chExt cx="288000" cy="2059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945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944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950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1020600" y="6261120"/>
                <a:ext cx="131760" cy="85680"/>
                <a:chOff x="1020600" y="6261120"/>
                <a:chExt cx="131760" cy="8568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1020600" y="6261120"/>
                  <a:ext cx="130680" cy="83880"/>
                  <a:chOff x="1020600" y="6261120"/>
                  <a:chExt cx="130680" cy="8388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1020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051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077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103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132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051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077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103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051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1077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103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051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077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03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020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020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132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132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1021680" y="6262920"/>
                  <a:ext cx="17640" cy="13680"/>
                  <a:chOff x="1021680" y="6262920"/>
                  <a:chExt cx="17640" cy="1368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1021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022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1052640" y="6262920"/>
                  <a:ext cx="17280" cy="13680"/>
                  <a:chOff x="1052640" y="6262920"/>
                  <a:chExt cx="17280" cy="136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1053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1052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1078920" y="6262920"/>
                  <a:ext cx="17280" cy="13680"/>
                  <a:chOff x="1078920" y="6262920"/>
                  <a:chExt cx="17280" cy="136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079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78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04840" y="6262920"/>
                  <a:ext cx="17640" cy="13680"/>
                  <a:chOff x="1104840" y="6262920"/>
                  <a:chExt cx="17640" cy="1368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104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104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1134720" y="6262920"/>
                  <a:ext cx="17640" cy="13680"/>
                  <a:chOff x="1134720" y="6262920"/>
                  <a:chExt cx="17640" cy="1368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1134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134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1052640" y="6287040"/>
                  <a:ext cx="17280" cy="13680"/>
                  <a:chOff x="1052640" y="6287040"/>
                  <a:chExt cx="17280" cy="136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1053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052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1078920" y="6285600"/>
                  <a:ext cx="17280" cy="14040"/>
                  <a:chOff x="1078920" y="6285600"/>
                  <a:chExt cx="17280" cy="1404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>
                    <a:off x="1079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078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1104840" y="6285600"/>
                  <a:ext cx="17640" cy="14040"/>
                  <a:chOff x="1104840" y="6285600"/>
                  <a:chExt cx="17640" cy="1404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1104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104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1052640" y="6309720"/>
                  <a:ext cx="17280" cy="12960"/>
                  <a:chOff x="1052640" y="6309720"/>
                  <a:chExt cx="17280" cy="1296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1053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052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078920" y="6309720"/>
                  <a:ext cx="17280" cy="12960"/>
                  <a:chOff x="1078920" y="6309720"/>
                  <a:chExt cx="17280" cy="129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079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078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1104840" y="6309720"/>
                  <a:ext cx="17640" cy="12960"/>
                  <a:chOff x="1104840" y="6309720"/>
                  <a:chExt cx="17640" cy="129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1104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104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052640" y="6333120"/>
                  <a:ext cx="17280" cy="13680"/>
                  <a:chOff x="1052640" y="6333120"/>
                  <a:chExt cx="17280" cy="1368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053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052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1078920" y="6333120"/>
                  <a:ext cx="17280" cy="13680"/>
                  <a:chOff x="1078920" y="6333120"/>
                  <a:chExt cx="17280" cy="136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1079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078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1104840" y="6333120"/>
                  <a:ext cx="17640" cy="13680"/>
                  <a:chOff x="1104840" y="6333120"/>
                  <a:chExt cx="17640" cy="1368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1104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1104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1021680" y="6323040"/>
                  <a:ext cx="17640" cy="13680"/>
                  <a:chOff x="1021680" y="6323040"/>
                  <a:chExt cx="17640" cy="1368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1021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022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1021680" y="6287040"/>
                  <a:ext cx="17640" cy="13680"/>
                  <a:chOff x="1021680" y="6287040"/>
                  <a:chExt cx="17640" cy="1368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1021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022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1134720" y="6323040"/>
                  <a:ext cx="17640" cy="13680"/>
                  <a:chOff x="1134720" y="6323040"/>
                  <a:chExt cx="17640" cy="1368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134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134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134720" y="6287040"/>
                  <a:ext cx="17640" cy="13680"/>
                  <a:chOff x="1134720" y="6287040"/>
                  <a:chExt cx="17640" cy="13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134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134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02" name=""/>
            <p:cNvGrpSpPr/>
            <p:nvPr/>
          </p:nvGrpSpPr>
          <p:grpSpPr>
            <a:xfrm>
              <a:off x="914400" y="6221520"/>
              <a:ext cx="31320" cy="111600"/>
              <a:chOff x="914400" y="6221520"/>
              <a:chExt cx="31320" cy="111600"/>
            </a:xfrm>
          </p:grpSpPr>
          <p:sp>
            <p:nvSpPr>
              <p:cNvPr id="803" name=""/>
              <p:cNvSpPr/>
              <p:nvPr/>
            </p:nvSpPr>
            <p:spPr>
              <a:xfrm>
                <a:off x="916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914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15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16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920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921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917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21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27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936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928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936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1676520" y="6172200"/>
            <a:ext cx="323280" cy="248760"/>
            <a:chOff x="1676520" y="6172200"/>
            <a:chExt cx="323280" cy="248760"/>
          </a:xfrm>
        </p:grpSpPr>
        <p:grpSp>
          <p:nvGrpSpPr>
            <p:cNvPr id="816" name=""/>
            <p:cNvGrpSpPr/>
            <p:nvPr/>
          </p:nvGrpSpPr>
          <p:grpSpPr>
            <a:xfrm>
              <a:off x="1702800" y="6172200"/>
              <a:ext cx="297000" cy="111600"/>
              <a:chOff x="1702800" y="6172200"/>
              <a:chExt cx="297000" cy="111600"/>
            </a:xfrm>
          </p:grpSpPr>
          <p:sp>
            <p:nvSpPr>
              <p:cNvPr id="817" name=""/>
              <p:cNvSpPr/>
              <p:nvPr/>
            </p:nvSpPr>
            <p:spPr>
              <a:xfrm>
                <a:off x="1704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702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706760" y="6215040"/>
              <a:ext cx="287640" cy="205920"/>
              <a:chOff x="1706760" y="6215040"/>
              <a:chExt cx="287640" cy="20592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1706760" y="6215040"/>
                <a:ext cx="287640" cy="205920"/>
                <a:chOff x="1706760" y="6215040"/>
                <a:chExt cx="287640" cy="2059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1707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06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712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782720" y="6261120"/>
                <a:ext cx="131760" cy="85680"/>
                <a:chOff x="1782720" y="6261120"/>
                <a:chExt cx="131760" cy="8568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1782720" y="6261120"/>
                  <a:ext cx="130680" cy="83880"/>
                  <a:chOff x="1782720" y="6261120"/>
                  <a:chExt cx="130680" cy="8388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1782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813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83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865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895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813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1839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865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813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839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865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1813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839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865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782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782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95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895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1783800" y="6262920"/>
                  <a:ext cx="17640" cy="13680"/>
                  <a:chOff x="1783800" y="6262920"/>
                  <a:chExt cx="17640" cy="1368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1783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784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1814760" y="6262920"/>
                  <a:ext cx="17280" cy="13680"/>
                  <a:chOff x="1814760" y="6262920"/>
                  <a:chExt cx="17280" cy="1368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1815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814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1841040" y="6262920"/>
                  <a:ext cx="17280" cy="13680"/>
                  <a:chOff x="1841040" y="6262920"/>
                  <a:chExt cx="17280" cy="136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1841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84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1866960" y="6262920"/>
                  <a:ext cx="17640" cy="13680"/>
                  <a:chOff x="1866960" y="6262920"/>
                  <a:chExt cx="17640" cy="136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1866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866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1896840" y="6262920"/>
                  <a:ext cx="17640" cy="13680"/>
                  <a:chOff x="1896840" y="6262920"/>
                  <a:chExt cx="17640" cy="136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1896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89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9" name=""/>
                <p:cNvGrpSpPr/>
                <p:nvPr/>
              </p:nvGrpSpPr>
              <p:grpSpPr>
                <a:xfrm>
                  <a:off x="1814760" y="6287040"/>
                  <a:ext cx="17280" cy="13680"/>
                  <a:chOff x="1814760" y="6287040"/>
                  <a:chExt cx="17280" cy="1368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815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814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1841040" y="6285600"/>
                  <a:ext cx="17280" cy="14040"/>
                  <a:chOff x="1841040" y="6285600"/>
                  <a:chExt cx="17280" cy="1404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1841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841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866960" y="6285600"/>
                  <a:ext cx="17640" cy="14040"/>
                  <a:chOff x="1866960" y="6285600"/>
                  <a:chExt cx="17640" cy="1404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866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866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" name=""/>
                <p:cNvGrpSpPr/>
                <p:nvPr/>
              </p:nvGrpSpPr>
              <p:grpSpPr>
                <a:xfrm>
                  <a:off x="1814760" y="6309720"/>
                  <a:ext cx="17280" cy="12960"/>
                  <a:chOff x="1814760" y="6309720"/>
                  <a:chExt cx="17280" cy="1296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1815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814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841040" y="6309720"/>
                  <a:ext cx="17280" cy="12960"/>
                  <a:chOff x="1841040" y="6309720"/>
                  <a:chExt cx="17280" cy="1296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841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841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1866960" y="6309720"/>
                  <a:ext cx="17640" cy="12960"/>
                  <a:chOff x="1866960" y="6309720"/>
                  <a:chExt cx="17640" cy="1296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1866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866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1814760" y="6333120"/>
                  <a:ext cx="17280" cy="13680"/>
                  <a:chOff x="1814760" y="6333120"/>
                  <a:chExt cx="17280" cy="1368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1815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814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1841040" y="6333120"/>
                  <a:ext cx="17280" cy="13680"/>
                  <a:chOff x="1841040" y="6333120"/>
                  <a:chExt cx="17280" cy="1368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>
                    <a:off x="1841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841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1866960" y="6333120"/>
                  <a:ext cx="17640" cy="13680"/>
                  <a:chOff x="1866960" y="6333120"/>
                  <a:chExt cx="17640" cy="136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866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866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1783800" y="6323040"/>
                  <a:ext cx="17640" cy="13680"/>
                  <a:chOff x="1783800" y="6323040"/>
                  <a:chExt cx="17640" cy="136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1783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784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783800" y="6287040"/>
                  <a:ext cx="17640" cy="13680"/>
                  <a:chOff x="1783800" y="6287040"/>
                  <a:chExt cx="17640" cy="1368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783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784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1896840" y="6323040"/>
                  <a:ext cx="17640" cy="13680"/>
                  <a:chOff x="1896840" y="6323040"/>
                  <a:chExt cx="17640" cy="1368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1896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89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1896840" y="6287040"/>
                  <a:ext cx="17640" cy="13680"/>
                  <a:chOff x="1896840" y="6287040"/>
                  <a:chExt cx="17640" cy="1368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1896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89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8" name=""/>
            <p:cNvGrpSpPr/>
            <p:nvPr/>
          </p:nvGrpSpPr>
          <p:grpSpPr>
            <a:xfrm>
              <a:off x="1676520" y="6221520"/>
              <a:ext cx="31320" cy="111600"/>
              <a:chOff x="1676520" y="6221520"/>
              <a:chExt cx="31320" cy="11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1678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676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77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79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1682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684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679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684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89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698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1690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1698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2438280" y="6172200"/>
            <a:ext cx="323640" cy="248760"/>
            <a:chOff x="2438280" y="6172200"/>
            <a:chExt cx="323640" cy="248760"/>
          </a:xfrm>
        </p:grpSpPr>
        <p:grpSp>
          <p:nvGrpSpPr>
            <p:cNvPr id="912" name=""/>
            <p:cNvGrpSpPr/>
            <p:nvPr/>
          </p:nvGrpSpPr>
          <p:grpSpPr>
            <a:xfrm>
              <a:off x="2464560" y="6172200"/>
              <a:ext cx="297360" cy="111600"/>
              <a:chOff x="2464560" y="6172200"/>
              <a:chExt cx="297360" cy="111600"/>
            </a:xfrm>
          </p:grpSpPr>
          <p:sp>
            <p:nvSpPr>
              <p:cNvPr id="913" name=""/>
              <p:cNvSpPr/>
              <p:nvPr/>
            </p:nvSpPr>
            <p:spPr>
              <a:xfrm>
                <a:off x="24663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4645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2468520" y="6215040"/>
              <a:ext cx="288000" cy="205920"/>
              <a:chOff x="2468520" y="6215040"/>
              <a:chExt cx="288000" cy="20592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2468520" y="6215040"/>
                <a:ext cx="288000" cy="205920"/>
                <a:chOff x="2468520" y="6215040"/>
                <a:chExt cx="288000" cy="205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4696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4685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4739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2544480" y="6261120"/>
                <a:ext cx="131760" cy="85680"/>
                <a:chOff x="2544480" y="6261120"/>
                <a:chExt cx="131760" cy="8568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2544480" y="6261120"/>
                  <a:ext cx="130680" cy="83880"/>
                  <a:chOff x="2544480" y="6261120"/>
                  <a:chExt cx="130680" cy="8388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2544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754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601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6269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568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754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6013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6269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754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601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6269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754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01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6269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444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444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6568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6568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545560" y="6262920"/>
                  <a:ext cx="17640" cy="13680"/>
                  <a:chOff x="2545560" y="6262920"/>
                  <a:chExt cx="17640" cy="1368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25455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45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2576520" y="6262920"/>
                  <a:ext cx="17280" cy="13680"/>
                  <a:chOff x="2576520" y="6262920"/>
                  <a:chExt cx="17280" cy="1368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2576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76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2602800" y="6262920"/>
                  <a:ext cx="17280" cy="13680"/>
                  <a:chOff x="2602800" y="6262920"/>
                  <a:chExt cx="17280" cy="136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26031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028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2628720" y="6262920"/>
                  <a:ext cx="17640" cy="13680"/>
                  <a:chOff x="2628720" y="6262920"/>
                  <a:chExt cx="17640" cy="1368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2628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628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2658600" y="6262920"/>
                  <a:ext cx="17640" cy="13680"/>
                  <a:chOff x="2658600" y="6262920"/>
                  <a:chExt cx="17640" cy="1368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26586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65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2576520" y="6287040"/>
                  <a:ext cx="17280" cy="13680"/>
                  <a:chOff x="2576520" y="6287040"/>
                  <a:chExt cx="17280" cy="1368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>
                    <a:off x="25768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76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2602800" y="6285600"/>
                  <a:ext cx="17280" cy="14040"/>
                  <a:chOff x="2602800" y="6285600"/>
                  <a:chExt cx="17280" cy="1404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26031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6028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2628720" y="6285600"/>
                  <a:ext cx="17640" cy="14040"/>
                  <a:chOff x="2628720" y="6285600"/>
                  <a:chExt cx="17640" cy="140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26287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628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2576520" y="6309720"/>
                  <a:ext cx="17280" cy="12960"/>
                  <a:chOff x="2576520" y="6309720"/>
                  <a:chExt cx="17280" cy="1296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2576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76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2602800" y="6309720"/>
                  <a:ext cx="17280" cy="12960"/>
                  <a:chOff x="2602800" y="6309720"/>
                  <a:chExt cx="17280" cy="1296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26031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028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2628720" y="6309720"/>
                  <a:ext cx="17640" cy="12960"/>
                  <a:chOff x="2628720" y="6309720"/>
                  <a:chExt cx="17640" cy="129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26287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628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2576520" y="6333120"/>
                  <a:ext cx="17280" cy="13680"/>
                  <a:chOff x="2576520" y="6333120"/>
                  <a:chExt cx="17280" cy="13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2576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76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2602800" y="6333120"/>
                  <a:ext cx="17280" cy="13680"/>
                  <a:chOff x="2602800" y="6333120"/>
                  <a:chExt cx="17280" cy="1368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26031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6028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2628720" y="6333120"/>
                  <a:ext cx="17640" cy="13680"/>
                  <a:chOff x="2628720" y="6333120"/>
                  <a:chExt cx="17640" cy="1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26287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628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545560" y="6323040"/>
                  <a:ext cx="17640" cy="13680"/>
                  <a:chOff x="2545560" y="6323040"/>
                  <a:chExt cx="17640" cy="1368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25455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459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2545560" y="6287040"/>
                  <a:ext cx="17640" cy="13680"/>
                  <a:chOff x="2545560" y="6287040"/>
                  <a:chExt cx="17640" cy="1368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25455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45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2658600" y="6323040"/>
                  <a:ext cx="17640" cy="13680"/>
                  <a:chOff x="2658600" y="6323040"/>
                  <a:chExt cx="17640" cy="1368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26586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6586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2658600" y="6287040"/>
                  <a:ext cx="17640" cy="13680"/>
                  <a:chOff x="2658600" y="6287040"/>
                  <a:chExt cx="17640" cy="1368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26586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6586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4" name=""/>
            <p:cNvGrpSpPr/>
            <p:nvPr/>
          </p:nvGrpSpPr>
          <p:grpSpPr>
            <a:xfrm>
              <a:off x="2438280" y="6221520"/>
              <a:ext cx="31320" cy="111600"/>
              <a:chOff x="2438280" y="6221520"/>
              <a:chExt cx="31320" cy="111600"/>
            </a:xfrm>
          </p:grpSpPr>
          <p:sp>
            <p:nvSpPr>
              <p:cNvPr id="995" name=""/>
              <p:cNvSpPr/>
              <p:nvPr/>
            </p:nvSpPr>
            <p:spPr>
              <a:xfrm>
                <a:off x="24400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382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4390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4408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24440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24458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4411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4458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4516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4598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24526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4602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"/>
          <p:cNvGrpSpPr/>
          <p:nvPr/>
        </p:nvGrpSpPr>
        <p:grpSpPr>
          <a:xfrm>
            <a:off x="3733920" y="6172200"/>
            <a:ext cx="323280" cy="248760"/>
            <a:chOff x="3733920" y="6172200"/>
            <a:chExt cx="323280" cy="248760"/>
          </a:xfrm>
        </p:grpSpPr>
        <p:grpSp>
          <p:nvGrpSpPr>
            <p:cNvPr id="1008" name=""/>
            <p:cNvGrpSpPr/>
            <p:nvPr/>
          </p:nvGrpSpPr>
          <p:grpSpPr>
            <a:xfrm>
              <a:off x="3760200" y="6172200"/>
              <a:ext cx="297000" cy="111600"/>
              <a:chOff x="3760200" y="6172200"/>
              <a:chExt cx="297000" cy="111600"/>
            </a:xfrm>
          </p:grpSpPr>
          <p:sp>
            <p:nvSpPr>
              <p:cNvPr id="1009" name=""/>
              <p:cNvSpPr/>
              <p:nvPr/>
            </p:nvSpPr>
            <p:spPr>
              <a:xfrm>
                <a:off x="37620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602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3764160" y="6215040"/>
              <a:ext cx="287640" cy="205920"/>
              <a:chOff x="3764160" y="6215040"/>
              <a:chExt cx="287640" cy="205920"/>
            </a:xfrm>
          </p:grpSpPr>
          <p:grpSp>
            <p:nvGrpSpPr>
              <p:cNvPr id="1012" name=""/>
              <p:cNvGrpSpPr/>
              <p:nvPr/>
            </p:nvGrpSpPr>
            <p:grpSpPr>
              <a:xfrm>
                <a:off x="3764160" y="6215040"/>
                <a:ext cx="287640" cy="205920"/>
                <a:chOff x="3764160" y="6215040"/>
                <a:chExt cx="287640" cy="2059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7652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41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695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3840120" y="6261120"/>
                <a:ext cx="131760" cy="85680"/>
                <a:chOff x="3840120" y="6261120"/>
                <a:chExt cx="131760" cy="85680"/>
              </a:xfrm>
            </p:grpSpPr>
            <p:grpSp>
              <p:nvGrpSpPr>
                <p:cNvPr id="1017" name=""/>
                <p:cNvGrpSpPr/>
                <p:nvPr/>
              </p:nvGrpSpPr>
              <p:grpSpPr>
                <a:xfrm>
                  <a:off x="3840120" y="6261120"/>
                  <a:ext cx="130680" cy="83880"/>
                  <a:chOff x="3840120" y="6261120"/>
                  <a:chExt cx="130680" cy="838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8401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87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8970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9225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9524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8710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8970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9225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87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8970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9225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87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8970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9225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8401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8401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524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524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3841200" y="6262920"/>
                  <a:ext cx="17640" cy="13680"/>
                  <a:chOff x="3841200" y="6262920"/>
                  <a:chExt cx="17640" cy="1368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38412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8415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3872160" y="6262920"/>
                  <a:ext cx="17280" cy="13680"/>
                  <a:chOff x="3872160" y="6262920"/>
                  <a:chExt cx="17280" cy="1368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38725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872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3898440" y="6262920"/>
                  <a:ext cx="17280" cy="13680"/>
                  <a:chOff x="3898440" y="6262920"/>
                  <a:chExt cx="17280" cy="136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3898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89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924360" y="6262920"/>
                  <a:ext cx="17640" cy="13680"/>
                  <a:chOff x="3924360" y="6262920"/>
                  <a:chExt cx="17640" cy="1368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924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9243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3954240" y="6262920"/>
                  <a:ext cx="17640" cy="13680"/>
                  <a:chOff x="3954240" y="6262920"/>
                  <a:chExt cx="17640" cy="136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39542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954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3872160" y="6287040"/>
                  <a:ext cx="17280" cy="13680"/>
                  <a:chOff x="3872160" y="6287040"/>
                  <a:chExt cx="17280" cy="136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38725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872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3898440" y="6285600"/>
                  <a:ext cx="17280" cy="14040"/>
                  <a:chOff x="3898440" y="6285600"/>
                  <a:chExt cx="17280" cy="140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38988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89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3924360" y="6285600"/>
                  <a:ext cx="17640" cy="14040"/>
                  <a:chOff x="3924360" y="6285600"/>
                  <a:chExt cx="17640" cy="1404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39243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9243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3872160" y="6309720"/>
                  <a:ext cx="17280" cy="12960"/>
                  <a:chOff x="3872160" y="6309720"/>
                  <a:chExt cx="17280" cy="129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38725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8721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3898440" y="6309720"/>
                  <a:ext cx="17280" cy="12960"/>
                  <a:chOff x="3898440" y="6309720"/>
                  <a:chExt cx="17280" cy="1296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3898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89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3924360" y="6309720"/>
                  <a:ext cx="17640" cy="12960"/>
                  <a:chOff x="3924360" y="6309720"/>
                  <a:chExt cx="17640" cy="129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39243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9243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3872160" y="6333120"/>
                  <a:ext cx="17280" cy="13680"/>
                  <a:chOff x="3872160" y="6333120"/>
                  <a:chExt cx="17280" cy="1368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38725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8721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3898440" y="6333120"/>
                  <a:ext cx="17280" cy="13680"/>
                  <a:chOff x="3898440" y="6333120"/>
                  <a:chExt cx="17280" cy="1368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3898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89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3924360" y="6333120"/>
                  <a:ext cx="17640" cy="13680"/>
                  <a:chOff x="3924360" y="6333120"/>
                  <a:chExt cx="17640" cy="1368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39243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9243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3841200" y="6323040"/>
                  <a:ext cx="17640" cy="13680"/>
                  <a:chOff x="3841200" y="6323040"/>
                  <a:chExt cx="17640" cy="1368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38412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8415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3841200" y="6287040"/>
                  <a:ext cx="17640" cy="13680"/>
                  <a:chOff x="3841200" y="6287040"/>
                  <a:chExt cx="17640" cy="1368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38412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8415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3954240" y="6323040"/>
                  <a:ext cx="17640" cy="13680"/>
                  <a:chOff x="3954240" y="6323040"/>
                  <a:chExt cx="17640" cy="1368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39542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542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3954240" y="6287040"/>
                  <a:ext cx="17640" cy="13680"/>
                  <a:chOff x="3954240" y="6287040"/>
                  <a:chExt cx="17640" cy="1368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39542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954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0" name=""/>
            <p:cNvGrpSpPr/>
            <p:nvPr/>
          </p:nvGrpSpPr>
          <p:grpSpPr>
            <a:xfrm>
              <a:off x="3733920" y="6221520"/>
              <a:ext cx="31320" cy="111600"/>
              <a:chOff x="3733920" y="6221520"/>
              <a:chExt cx="31320" cy="1116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7357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339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346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364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37396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37414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368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414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472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555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37483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37558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" name=""/>
          <p:cNvGrpSpPr/>
          <p:nvPr/>
        </p:nvGrpSpPr>
        <p:grpSpPr>
          <a:xfrm>
            <a:off x="4343400" y="6172200"/>
            <a:ext cx="323640" cy="248760"/>
            <a:chOff x="4343400" y="6172200"/>
            <a:chExt cx="323640" cy="248760"/>
          </a:xfrm>
        </p:grpSpPr>
        <p:grpSp>
          <p:nvGrpSpPr>
            <p:cNvPr id="1104" name=""/>
            <p:cNvGrpSpPr/>
            <p:nvPr/>
          </p:nvGrpSpPr>
          <p:grpSpPr>
            <a:xfrm>
              <a:off x="4369680" y="6172200"/>
              <a:ext cx="297360" cy="111600"/>
              <a:chOff x="4369680" y="6172200"/>
              <a:chExt cx="297360" cy="111600"/>
            </a:xfrm>
          </p:grpSpPr>
          <p:sp>
            <p:nvSpPr>
              <p:cNvPr id="1105" name=""/>
              <p:cNvSpPr/>
              <p:nvPr/>
            </p:nvSpPr>
            <p:spPr>
              <a:xfrm>
                <a:off x="4371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69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373640" y="6215040"/>
              <a:ext cx="288000" cy="205920"/>
              <a:chOff x="4373640" y="6215040"/>
              <a:chExt cx="288000" cy="205920"/>
            </a:xfrm>
          </p:grpSpPr>
          <p:grpSp>
            <p:nvGrpSpPr>
              <p:cNvPr id="1108" name=""/>
              <p:cNvGrpSpPr/>
              <p:nvPr/>
            </p:nvGrpSpPr>
            <p:grpSpPr>
              <a:xfrm>
                <a:off x="4373640" y="6215040"/>
                <a:ext cx="288000" cy="205920"/>
                <a:chOff x="4373640" y="6215040"/>
                <a:chExt cx="288000" cy="2059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4374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373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379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4449600" y="6261120"/>
                <a:ext cx="131760" cy="85680"/>
                <a:chOff x="4449600" y="6261120"/>
                <a:chExt cx="131760" cy="8568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4449600" y="6261120"/>
                  <a:ext cx="130680" cy="83880"/>
                  <a:chOff x="4449600" y="6261120"/>
                  <a:chExt cx="130680" cy="838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444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480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506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532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561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80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2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480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06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532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480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506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532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449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449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561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561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4450680" y="6262920"/>
                  <a:ext cx="17640" cy="13680"/>
                  <a:chOff x="4450680" y="6262920"/>
                  <a:chExt cx="17640" cy="1368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4450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45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4481640" y="6262920"/>
                  <a:ext cx="17280" cy="13680"/>
                  <a:chOff x="4481640" y="6262920"/>
                  <a:chExt cx="17280" cy="1368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482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481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4507920" y="6262920"/>
                  <a:ext cx="17280" cy="13680"/>
                  <a:chOff x="4507920" y="6262920"/>
                  <a:chExt cx="17280" cy="1368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4508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507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4533840" y="6262920"/>
                  <a:ext cx="17640" cy="13680"/>
                  <a:chOff x="4533840" y="6262920"/>
                  <a:chExt cx="17640" cy="1368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4533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533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4563720" y="6262920"/>
                  <a:ext cx="17640" cy="13680"/>
                  <a:chOff x="4563720" y="6262920"/>
                  <a:chExt cx="17640" cy="136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4563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56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4481640" y="6287040"/>
                  <a:ext cx="17280" cy="13680"/>
                  <a:chOff x="4481640" y="6287040"/>
                  <a:chExt cx="17280" cy="136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4482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4481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4507920" y="6285600"/>
                  <a:ext cx="17280" cy="14040"/>
                  <a:chOff x="4507920" y="6285600"/>
                  <a:chExt cx="17280" cy="1404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4508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507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4533840" y="6285600"/>
                  <a:ext cx="17640" cy="14040"/>
                  <a:chOff x="4533840" y="6285600"/>
                  <a:chExt cx="17640" cy="1404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>
                    <a:off x="4533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533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4481640" y="6309720"/>
                  <a:ext cx="17280" cy="12960"/>
                  <a:chOff x="4481640" y="6309720"/>
                  <a:chExt cx="17280" cy="1296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4482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4481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507920" y="6309720"/>
                  <a:ext cx="17280" cy="12960"/>
                  <a:chOff x="4507920" y="6309720"/>
                  <a:chExt cx="17280" cy="129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508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507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4533840" y="6309720"/>
                  <a:ext cx="17640" cy="12960"/>
                  <a:chOff x="4533840" y="6309720"/>
                  <a:chExt cx="17640" cy="1296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4533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533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4481640" y="6333120"/>
                  <a:ext cx="17280" cy="13680"/>
                  <a:chOff x="4481640" y="6333120"/>
                  <a:chExt cx="17280" cy="1368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4482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481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4507920" y="6333120"/>
                  <a:ext cx="17280" cy="13680"/>
                  <a:chOff x="4507920" y="6333120"/>
                  <a:chExt cx="17280" cy="1368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4508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507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4533840" y="6333120"/>
                  <a:ext cx="17640" cy="13680"/>
                  <a:chOff x="4533840" y="6333120"/>
                  <a:chExt cx="17640" cy="1368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4533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533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4" name=""/>
                <p:cNvGrpSpPr/>
                <p:nvPr/>
              </p:nvGrpSpPr>
              <p:grpSpPr>
                <a:xfrm>
                  <a:off x="4450680" y="6323040"/>
                  <a:ext cx="17640" cy="13680"/>
                  <a:chOff x="4450680" y="6323040"/>
                  <a:chExt cx="17640" cy="1368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4450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451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4450680" y="6287040"/>
                  <a:ext cx="17640" cy="13680"/>
                  <a:chOff x="4450680" y="6287040"/>
                  <a:chExt cx="17640" cy="1368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4450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451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" name=""/>
                <p:cNvGrpSpPr/>
                <p:nvPr/>
              </p:nvGrpSpPr>
              <p:grpSpPr>
                <a:xfrm>
                  <a:off x="4563720" y="6323040"/>
                  <a:ext cx="17640" cy="13680"/>
                  <a:chOff x="4563720" y="6323040"/>
                  <a:chExt cx="17640" cy="1368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4563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563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4563720" y="6287040"/>
                  <a:ext cx="17640" cy="13680"/>
                  <a:chOff x="4563720" y="6287040"/>
                  <a:chExt cx="17640" cy="1368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4563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563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6" name=""/>
            <p:cNvGrpSpPr/>
            <p:nvPr/>
          </p:nvGrpSpPr>
          <p:grpSpPr>
            <a:xfrm>
              <a:off x="4343400" y="6221520"/>
              <a:ext cx="31320" cy="111600"/>
              <a:chOff x="4343400" y="6221520"/>
              <a:chExt cx="31320" cy="11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4345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43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344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345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4349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4350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346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350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356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365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4357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365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9" name=""/>
          <p:cNvGrpSpPr/>
          <p:nvPr/>
        </p:nvGrpSpPr>
        <p:grpSpPr>
          <a:xfrm>
            <a:off x="5029200" y="6172200"/>
            <a:ext cx="323640" cy="248760"/>
            <a:chOff x="5029200" y="6172200"/>
            <a:chExt cx="323640" cy="248760"/>
          </a:xfrm>
        </p:grpSpPr>
        <p:grpSp>
          <p:nvGrpSpPr>
            <p:cNvPr id="1200" name=""/>
            <p:cNvGrpSpPr/>
            <p:nvPr/>
          </p:nvGrpSpPr>
          <p:grpSpPr>
            <a:xfrm>
              <a:off x="5055480" y="6172200"/>
              <a:ext cx="297360" cy="111600"/>
              <a:chOff x="5055480" y="6172200"/>
              <a:chExt cx="297360" cy="11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50572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554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5059440" y="6215040"/>
              <a:ext cx="288000" cy="205920"/>
              <a:chOff x="5059440" y="6215040"/>
              <a:chExt cx="288000" cy="20592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5059440" y="6215040"/>
                <a:ext cx="288000" cy="205920"/>
                <a:chOff x="5059440" y="6215040"/>
                <a:chExt cx="288000" cy="2059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50605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0594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0648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5135400" y="6261120"/>
                <a:ext cx="131760" cy="85680"/>
                <a:chOff x="5135400" y="6261120"/>
                <a:chExt cx="131760" cy="85680"/>
              </a:xfrm>
            </p:grpSpPr>
            <p:grpSp>
              <p:nvGrpSpPr>
                <p:cNvPr id="1209" name=""/>
                <p:cNvGrpSpPr/>
                <p:nvPr/>
              </p:nvGrpSpPr>
              <p:grpSpPr>
                <a:xfrm>
                  <a:off x="5135400" y="6261120"/>
                  <a:ext cx="130680" cy="83880"/>
                  <a:chOff x="5135400" y="6261120"/>
                  <a:chExt cx="130680" cy="838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1354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166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192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2178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2477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1663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922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2178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166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1922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2178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166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1922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2178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1354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51354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2477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2477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5136480" y="6262920"/>
                  <a:ext cx="17640" cy="13680"/>
                  <a:chOff x="5136480" y="6262920"/>
                  <a:chExt cx="17640" cy="1368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51364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13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5167440" y="6262920"/>
                  <a:ext cx="17280" cy="13680"/>
                  <a:chOff x="5167440" y="6262920"/>
                  <a:chExt cx="17280" cy="1368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5167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167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5193720" y="6262920"/>
                  <a:ext cx="17280" cy="13680"/>
                  <a:chOff x="5193720" y="6262920"/>
                  <a:chExt cx="17280" cy="1368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51940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19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5219640" y="6262920"/>
                  <a:ext cx="17640" cy="13680"/>
                  <a:chOff x="5219640" y="6262920"/>
                  <a:chExt cx="17640" cy="1368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>
                    <a:off x="52196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5219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5249520" y="6262920"/>
                  <a:ext cx="17640" cy="13680"/>
                  <a:chOff x="5249520" y="6262920"/>
                  <a:chExt cx="17640" cy="1368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5249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5249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5167440" y="6287040"/>
                  <a:ext cx="17280" cy="13680"/>
                  <a:chOff x="5167440" y="6287040"/>
                  <a:chExt cx="17280" cy="1368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>
                    <a:off x="51678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51674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6" name=""/>
                <p:cNvGrpSpPr/>
                <p:nvPr/>
              </p:nvGrpSpPr>
              <p:grpSpPr>
                <a:xfrm>
                  <a:off x="5193720" y="6285600"/>
                  <a:ext cx="17280" cy="14040"/>
                  <a:chOff x="5193720" y="6285600"/>
                  <a:chExt cx="17280" cy="1404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>
                    <a:off x="51940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5193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5219640" y="6285600"/>
                  <a:ext cx="17640" cy="14040"/>
                  <a:chOff x="5219640" y="6285600"/>
                  <a:chExt cx="17640" cy="1404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52196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2196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5167440" y="6309720"/>
                  <a:ext cx="17280" cy="12960"/>
                  <a:chOff x="5167440" y="6309720"/>
                  <a:chExt cx="17280" cy="12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5167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5167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5193720" y="6309720"/>
                  <a:ext cx="17280" cy="12960"/>
                  <a:chOff x="5193720" y="6309720"/>
                  <a:chExt cx="17280" cy="1296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51940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193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8" name=""/>
                <p:cNvGrpSpPr/>
                <p:nvPr/>
              </p:nvGrpSpPr>
              <p:grpSpPr>
                <a:xfrm>
                  <a:off x="5219640" y="6309720"/>
                  <a:ext cx="17640" cy="12960"/>
                  <a:chOff x="5219640" y="6309720"/>
                  <a:chExt cx="17640" cy="1296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2196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219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5167440" y="6333120"/>
                  <a:ext cx="17280" cy="13680"/>
                  <a:chOff x="5167440" y="6333120"/>
                  <a:chExt cx="17280" cy="1368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5167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5167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5193720" y="6333120"/>
                  <a:ext cx="17280" cy="13680"/>
                  <a:chOff x="5193720" y="6333120"/>
                  <a:chExt cx="17280" cy="1368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51940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5193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7" name=""/>
                <p:cNvGrpSpPr/>
                <p:nvPr/>
              </p:nvGrpSpPr>
              <p:grpSpPr>
                <a:xfrm>
                  <a:off x="5219640" y="6333120"/>
                  <a:ext cx="17640" cy="13680"/>
                  <a:chOff x="5219640" y="6333120"/>
                  <a:chExt cx="17640" cy="1368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2196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19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0" name=""/>
                <p:cNvGrpSpPr/>
                <p:nvPr/>
              </p:nvGrpSpPr>
              <p:grpSpPr>
                <a:xfrm>
                  <a:off x="5136480" y="6323040"/>
                  <a:ext cx="17640" cy="13680"/>
                  <a:chOff x="5136480" y="6323040"/>
                  <a:chExt cx="17640" cy="1368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51364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13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5136480" y="6287040"/>
                  <a:ext cx="17640" cy="13680"/>
                  <a:chOff x="5136480" y="6287040"/>
                  <a:chExt cx="17640" cy="1368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>
                    <a:off x="51364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513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5249520" y="6323040"/>
                  <a:ext cx="17640" cy="13680"/>
                  <a:chOff x="5249520" y="6323040"/>
                  <a:chExt cx="17640" cy="1368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52495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2495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5249520" y="6287040"/>
                  <a:ext cx="17640" cy="13680"/>
                  <a:chOff x="5249520" y="6287040"/>
                  <a:chExt cx="17640" cy="1368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>
                    <a:off x="52495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5249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2" name=""/>
            <p:cNvGrpSpPr/>
            <p:nvPr/>
          </p:nvGrpSpPr>
          <p:grpSpPr>
            <a:xfrm>
              <a:off x="5029200" y="6221520"/>
              <a:ext cx="31320" cy="111600"/>
              <a:chOff x="5029200" y="6221520"/>
              <a:chExt cx="31320" cy="111600"/>
            </a:xfrm>
          </p:grpSpPr>
          <p:sp>
            <p:nvSpPr>
              <p:cNvPr id="1283" name=""/>
              <p:cNvSpPr/>
              <p:nvPr/>
            </p:nvSpPr>
            <p:spPr>
              <a:xfrm>
                <a:off x="50310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0292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299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0317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50349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50367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0320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0367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0425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0508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50436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50511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5638680" y="6172200"/>
            <a:ext cx="323640" cy="248760"/>
            <a:chOff x="5638680" y="6172200"/>
            <a:chExt cx="323640" cy="248760"/>
          </a:xfrm>
        </p:grpSpPr>
        <p:grpSp>
          <p:nvGrpSpPr>
            <p:cNvPr id="1296" name=""/>
            <p:cNvGrpSpPr/>
            <p:nvPr/>
          </p:nvGrpSpPr>
          <p:grpSpPr>
            <a:xfrm>
              <a:off x="5664960" y="6172200"/>
              <a:ext cx="297360" cy="111600"/>
              <a:chOff x="5664960" y="6172200"/>
              <a:chExt cx="297360" cy="111600"/>
            </a:xfrm>
          </p:grpSpPr>
          <p:sp>
            <p:nvSpPr>
              <p:cNvPr id="1297" name=""/>
              <p:cNvSpPr/>
              <p:nvPr/>
            </p:nvSpPr>
            <p:spPr>
              <a:xfrm>
                <a:off x="56667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649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668920" y="6215040"/>
              <a:ext cx="288000" cy="205920"/>
              <a:chOff x="5668920" y="6215040"/>
              <a:chExt cx="288000" cy="20592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5668920" y="6215040"/>
                <a:ext cx="288000" cy="205920"/>
                <a:chOff x="5668920" y="6215040"/>
                <a:chExt cx="288000" cy="20592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56700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6689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6743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5744880" y="6261120"/>
                <a:ext cx="131760" cy="85680"/>
                <a:chOff x="5744880" y="6261120"/>
                <a:chExt cx="131760" cy="85680"/>
              </a:xfrm>
            </p:grpSpPr>
            <p:grpSp>
              <p:nvGrpSpPr>
                <p:cNvPr id="1305" name=""/>
                <p:cNvGrpSpPr/>
                <p:nvPr/>
              </p:nvGrpSpPr>
              <p:grpSpPr>
                <a:xfrm>
                  <a:off x="5744880" y="6261120"/>
                  <a:ext cx="130680" cy="83880"/>
                  <a:chOff x="5744880" y="6261120"/>
                  <a:chExt cx="130680" cy="8388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57448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57758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58017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58273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58572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57758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58017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58273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57758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58017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58273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57758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8017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58273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57448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57448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58572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58572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5745960" y="6262920"/>
                  <a:ext cx="17640" cy="13680"/>
                  <a:chOff x="5745960" y="6262920"/>
                  <a:chExt cx="17640" cy="13680"/>
                </a:xfrm>
              </p:grpSpPr>
              <p:sp>
                <p:nvSpPr>
                  <p:cNvPr id="1325" name=""/>
                  <p:cNvSpPr/>
                  <p:nvPr/>
                </p:nvSpPr>
                <p:spPr>
                  <a:xfrm>
                    <a:off x="5745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5746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5776920" y="6262920"/>
                  <a:ext cx="17280" cy="13680"/>
                  <a:chOff x="5776920" y="6262920"/>
                  <a:chExt cx="17280" cy="136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5777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5776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5803200" y="6262920"/>
                  <a:ext cx="17280" cy="13680"/>
                  <a:chOff x="5803200" y="6262920"/>
                  <a:chExt cx="17280" cy="1368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58035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58032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3" name=""/>
                <p:cNvGrpSpPr/>
                <p:nvPr/>
              </p:nvGrpSpPr>
              <p:grpSpPr>
                <a:xfrm>
                  <a:off x="5829120" y="6262920"/>
                  <a:ext cx="17640" cy="13680"/>
                  <a:chOff x="5829120" y="6262920"/>
                  <a:chExt cx="17640" cy="136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58291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58291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5859000" y="6262920"/>
                  <a:ext cx="17640" cy="13680"/>
                  <a:chOff x="5859000" y="6262920"/>
                  <a:chExt cx="17640" cy="1368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8590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58590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9" name=""/>
                <p:cNvGrpSpPr/>
                <p:nvPr/>
              </p:nvGrpSpPr>
              <p:grpSpPr>
                <a:xfrm>
                  <a:off x="5776920" y="6287040"/>
                  <a:ext cx="17280" cy="13680"/>
                  <a:chOff x="5776920" y="6287040"/>
                  <a:chExt cx="17280" cy="1368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57772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5776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2" name=""/>
                <p:cNvGrpSpPr/>
                <p:nvPr/>
              </p:nvGrpSpPr>
              <p:grpSpPr>
                <a:xfrm>
                  <a:off x="5803200" y="6285600"/>
                  <a:ext cx="17280" cy="14040"/>
                  <a:chOff x="5803200" y="6285600"/>
                  <a:chExt cx="17280" cy="140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58035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58032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5" name=""/>
                <p:cNvGrpSpPr/>
                <p:nvPr/>
              </p:nvGrpSpPr>
              <p:grpSpPr>
                <a:xfrm>
                  <a:off x="5829120" y="6285600"/>
                  <a:ext cx="17640" cy="14040"/>
                  <a:chOff x="5829120" y="6285600"/>
                  <a:chExt cx="17640" cy="1404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58291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8291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8" name=""/>
                <p:cNvGrpSpPr/>
                <p:nvPr/>
              </p:nvGrpSpPr>
              <p:grpSpPr>
                <a:xfrm>
                  <a:off x="5776920" y="6309720"/>
                  <a:ext cx="17280" cy="12960"/>
                  <a:chOff x="5776920" y="6309720"/>
                  <a:chExt cx="17280" cy="12960"/>
                </a:xfrm>
              </p:grpSpPr>
              <p:sp>
                <p:nvSpPr>
                  <p:cNvPr id="1349" name=""/>
                  <p:cNvSpPr/>
                  <p:nvPr/>
                </p:nvSpPr>
                <p:spPr>
                  <a:xfrm>
                    <a:off x="5777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5776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1" name=""/>
                <p:cNvGrpSpPr/>
                <p:nvPr/>
              </p:nvGrpSpPr>
              <p:grpSpPr>
                <a:xfrm>
                  <a:off x="5803200" y="6309720"/>
                  <a:ext cx="17280" cy="12960"/>
                  <a:chOff x="5803200" y="6309720"/>
                  <a:chExt cx="17280" cy="1296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58035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58032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4" name=""/>
                <p:cNvGrpSpPr/>
                <p:nvPr/>
              </p:nvGrpSpPr>
              <p:grpSpPr>
                <a:xfrm>
                  <a:off x="5829120" y="6309720"/>
                  <a:ext cx="17640" cy="12960"/>
                  <a:chOff x="5829120" y="6309720"/>
                  <a:chExt cx="17640" cy="12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>
                    <a:off x="58291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58291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5776920" y="6333120"/>
                  <a:ext cx="17280" cy="13680"/>
                  <a:chOff x="5776920" y="6333120"/>
                  <a:chExt cx="17280" cy="1368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5777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5776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0" name=""/>
                <p:cNvGrpSpPr/>
                <p:nvPr/>
              </p:nvGrpSpPr>
              <p:grpSpPr>
                <a:xfrm>
                  <a:off x="5803200" y="6333120"/>
                  <a:ext cx="17280" cy="13680"/>
                  <a:chOff x="5803200" y="6333120"/>
                  <a:chExt cx="17280" cy="13680"/>
                </a:xfrm>
              </p:grpSpPr>
              <p:sp>
                <p:nvSpPr>
                  <p:cNvPr id="1361" name=""/>
                  <p:cNvSpPr/>
                  <p:nvPr/>
                </p:nvSpPr>
                <p:spPr>
                  <a:xfrm>
                    <a:off x="58035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58032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829120" y="6333120"/>
                  <a:ext cx="17640" cy="13680"/>
                  <a:chOff x="5829120" y="6333120"/>
                  <a:chExt cx="17640" cy="1368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58291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8291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6" name=""/>
                <p:cNvGrpSpPr/>
                <p:nvPr/>
              </p:nvGrpSpPr>
              <p:grpSpPr>
                <a:xfrm>
                  <a:off x="5745960" y="6323040"/>
                  <a:ext cx="17640" cy="13680"/>
                  <a:chOff x="5745960" y="6323040"/>
                  <a:chExt cx="17640" cy="13680"/>
                </a:xfrm>
              </p:grpSpPr>
              <p:sp>
                <p:nvSpPr>
                  <p:cNvPr id="1367" name=""/>
                  <p:cNvSpPr/>
                  <p:nvPr/>
                </p:nvSpPr>
                <p:spPr>
                  <a:xfrm>
                    <a:off x="57459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5746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9" name=""/>
                <p:cNvGrpSpPr/>
                <p:nvPr/>
              </p:nvGrpSpPr>
              <p:grpSpPr>
                <a:xfrm>
                  <a:off x="5745960" y="6287040"/>
                  <a:ext cx="17640" cy="13680"/>
                  <a:chOff x="5745960" y="6287040"/>
                  <a:chExt cx="17640" cy="1368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57459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5746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5859000" y="6323040"/>
                  <a:ext cx="17640" cy="13680"/>
                  <a:chOff x="5859000" y="6323040"/>
                  <a:chExt cx="17640" cy="13680"/>
                </a:xfrm>
              </p:grpSpPr>
              <p:sp>
                <p:nvSpPr>
                  <p:cNvPr id="1373" name=""/>
                  <p:cNvSpPr/>
                  <p:nvPr/>
                </p:nvSpPr>
                <p:spPr>
                  <a:xfrm>
                    <a:off x="58590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8590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5859000" y="6287040"/>
                  <a:ext cx="17640" cy="13680"/>
                  <a:chOff x="5859000" y="6287040"/>
                  <a:chExt cx="17640" cy="1368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58590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58590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8" name=""/>
            <p:cNvGrpSpPr/>
            <p:nvPr/>
          </p:nvGrpSpPr>
          <p:grpSpPr>
            <a:xfrm>
              <a:off x="5638680" y="6221520"/>
              <a:ext cx="31320" cy="111600"/>
              <a:chOff x="5638680" y="6221520"/>
              <a:chExt cx="31320" cy="111600"/>
            </a:xfrm>
          </p:grpSpPr>
          <p:sp>
            <p:nvSpPr>
              <p:cNvPr id="1379" name=""/>
              <p:cNvSpPr/>
              <p:nvPr/>
            </p:nvSpPr>
            <p:spPr>
              <a:xfrm>
                <a:off x="56404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6386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6394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6412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6444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6462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6415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6462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6520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6602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56530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6606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1" name=""/>
          <p:cNvGrpSpPr/>
          <p:nvPr/>
        </p:nvGrpSpPr>
        <p:grpSpPr>
          <a:xfrm>
            <a:off x="6248520" y="6172200"/>
            <a:ext cx="323280" cy="248760"/>
            <a:chOff x="6248520" y="6172200"/>
            <a:chExt cx="323280" cy="248760"/>
          </a:xfrm>
        </p:grpSpPr>
        <p:grpSp>
          <p:nvGrpSpPr>
            <p:cNvPr id="1392" name=""/>
            <p:cNvGrpSpPr/>
            <p:nvPr/>
          </p:nvGrpSpPr>
          <p:grpSpPr>
            <a:xfrm>
              <a:off x="6274800" y="6172200"/>
              <a:ext cx="297000" cy="111600"/>
              <a:chOff x="6274800" y="6172200"/>
              <a:chExt cx="297000" cy="111600"/>
            </a:xfrm>
          </p:grpSpPr>
          <p:sp>
            <p:nvSpPr>
              <p:cNvPr id="1393" name=""/>
              <p:cNvSpPr/>
              <p:nvPr/>
            </p:nvSpPr>
            <p:spPr>
              <a:xfrm>
                <a:off x="6276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74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6278760" y="6215040"/>
              <a:ext cx="287640" cy="205920"/>
              <a:chOff x="6278760" y="6215040"/>
              <a:chExt cx="287640" cy="20592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6278760" y="6215040"/>
                <a:ext cx="287640" cy="205920"/>
                <a:chOff x="6278760" y="6215040"/>
                <a:chExt cx="287640" cy="205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6279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78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284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6354720" y="6261120"/>
                <a:ext cx="131760" cy="85680"/>
                <a:chOff x="6354720" y="6261120"/>
                <a:chExt cx="131760" cy="8568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6354720" y="6261120"/>
                  <a:ext cx="130680" cy="83880"/>
                  <a:chOff x="6354720" y="6261120"/>
                  <a:chExt cx="130680" cy="838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6354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385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411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6437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6467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385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411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437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385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411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437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385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411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437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54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54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467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467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0" name=""/>
                <p:cNvGrpSpPr/>
                <p:nvPr/>
              </p:nvGrpSpPr>
              <p:grpSpPr>
                <a:xfrm>
                  <a:off x="6355800" y="6262920"/>
                  <a:ext cx="17640" cy="13680"/>
                  <a:chOff x="6355800" y="6262920"/>
                  <a:chExt cx="17640" cy="1368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6355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356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6386760" y="6262920"/>
                  <a:ext cx="17280" cy="13680"/>
                  <a:chOff x="6386760" y="6262920"/>
                  <a:chExt cx="17280" cy="1368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6387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386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6" name=""/>
                <p:cNvGrpSpPr/>
                <p:nvPr/>
              </p:nvGrpSpPr>
              <p:grpSpPr>
                <a:xfrm>
                  <a:off x="6413040" y="6262920"/>
                  <a:ext cx="17280" cy="13680"/>
                  <a:chOff x="6413040" y="6262920"/>
                  <a:chExt cx="17280" cy="1368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>
                    <a:off x="6413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413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6438960" y="6262920"/>
                  <a:ext cx="17640" cy="13680"/>
                  <a:chOff x="6438960" y="6262920"/>
                  <a:chExt cx="17640" cy="136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6438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438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6468840" y="6262920"/>
                  <a:ext cx="17640" cy="13680"/>
                  <a:chOff x="6468840" y="6262920"/>
                  <a:chExt cx="17640" cy="1368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>
                    <a:off x="6468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468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5" name=""/>
                <p:cNvGrpSpPr/>
                <p:nvPr/>
              </p:nvGrpSpPr>
              <p:grpSpPr>
                <a:xfrm>
                  <a:off x="6386760" y="6287040"/>
                  <a:ext cx="17280" cy="13680"/>
                  <a:chOff x="6386760" y="6287040"/>
                  <a:chExt cx="17280" cy="136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6387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6386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6413040" y="6285600"/>
                  <a:ext cx="17280" cy="14040"/>
                  <a:chOff x="6413040" y="6285600"/>
                  <a:chExt cx="17280" cy="140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413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413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6438960" y="6285600"/>
                  <a:ext cx="17640" cy="14040"/>
                  <a:chOff x="6438960" y="6285600"/>
                  <a:chExt cx="17640" cy="1404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6438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438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6386760" y="6309720"/>
                  <a:ext cx="17280" cy="12960"/>
                  <a:chOff x="6386760" y="6309720"/>
                  <a:chExt cx="17280" cy="1296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6387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386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6413040" y="6309720"/>
                  <a:ext cx="17280" cy="12960"/>
                  <a:chOff x="6413040" y="6309720"/>
                  <a:chExt cx="17280" cy="129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>
                    <a:off x="6413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413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438960" y="6309720"/>
                  <a:ext cx="17640" cy="12960"/>
                  <a:chOff x="6438960" y="6309720"/>
                  <a:chExt cx="17640" cy="1296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6438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438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6386760" y="6333120"/>
                  <a:ext cx="17280" cy="13680"/>
                  <a:chOff x="6386760" y="6333120"/>
                  <a:chExt cx="17280" cy="1368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>
                    <a:off x="6387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386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6413040" y="6333120"/>
                  <a:ext cx="17280" cy="13680"/>
                  <a:chOff x="6413040" y="6333120"/>
                  <a:chExt cx="17280" cy="1368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>
                    <a:off x="6413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6413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6438960" y="6333120"/>
                  <a:ext cx="17640" cy="13680"/>
                  <a:chOff x="6438960" y="6333120"/>
                  <a:chExt cx="17640" cy="1368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6438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438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355800" y="6323040"/>
                  <a:ext cx="17640" cy="13680"/>
                  <a:chOff x="6355800" y="6323040"/>
                  <a:chExt cx="17640" cy="1368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>
                    <a:off x="6355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356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5" name=""/>
                <p:cNvGrpSpPr/>
                <p:nvPr/>
              </p:nvGrpSpPr>
              <p:grpSpPr>
                <a:xfrm>
                  <a:off x="6355800" y="6287040"/>
                  <a:ext cx="17640" cy="13680"/>
                  <a:chOff x="6355800" y="6287040"/>
                  <a:chExt cx="17640" cy="1368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6355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356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8" name=""/>
                <p:cNvGrpSpPr/>
                <p:nvPr/>
              </p:nvGrpSpPr>
              <p:grpSpPr>
                <a:xfrm>
                  <a:off x="6468840" y="6323040"/>
                  <a:ext cx="17640" cy="13680"/>
                  <a:chOff x="6468840" y="6323040"/>
                  <a:chExt cx="17640" cy="1368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6468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468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6468840" y="6287040"/>
                  <a:ext cx="17640" cy="13680"/>
                  <a:chOff x="6468840" y="6287040"/>
                  <a:chExt cx="17640" cy="1368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6468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468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74" name=""/>
            <p:cNvGrpSpPr/>
            <p:nvPr/>
          </p:nvGrpSpPr>
          <p:grpSpPr>
            <a:xfrm>
              <a:off x="6248520" y="6221520"/>
              <a:ext cx="31320" cy="111600"/>
              <a:chOff x="6248520" y="6221520"/>
              <a:chExt cx="31320" cy="111600"/>
            </a:xfrm>
          </p:grpSpPr>
          <p:sp>
            <p:nvSpPr>
              <p:cNvPr id="1475" name=""/>
              <p:cNvSpPr/>
              <p:nvPr/>
            </p:nvSpPr>
            <p:spPr>
              <a:xfrm>
                <a:off x="6250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248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49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51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6254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256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51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56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61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70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6262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270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7" name=""/>
          <p:cNvGrpSpPr/>
          <p:nvPr/>
        </p:nvGrpSpPr>
        <p:grpSpPr>
          <a:xfrm>
            <a:off x="6858000" y="6172200"/>
            <a:ext cx="323640" cy="248760"/>
            <a:chOff x="6858000" y="6172200"/>
            <a:chExt cx="323640" cy="248760"/>
          </a:xfrm>
        </p:grpSpPr>
        <p:grpSp>
          <p:nvGrpSpPr>
            <p:cNvPr id="1488" name=""/>
            <p:cNvGrpSpPr/>
            <p:nvPr/>
          </p:nvGrpSpPr>
          <p:grpSpPr>
            <a:xfrm>
              <a:off x="6884280" y="6172200"/>
              <a:ext cx="297360" cy="111600"/>
              <a:chOff x="6884280" y="6172200"/>
              <a:chExt cx="297360" cy="111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68860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8842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888240" y="6215040"/>
              <a:ext cx="288000" cy="205920"/>
              <a:chOff x="6888240" y="6215040"/>
              <a:chExt cx="288000" cy="20592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6888240" y="6215040"/>
                <a:ext cx="288000" cy="205920"/>
                <a:chOff x="6888240" y="6215040"/>
                <a:chExt cx="288000" cy="20592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68893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8882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8936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6964200" y="6261120"/>
                <a:ext cx="131760" cy="85680"/>
                <a:chOff x="6964200" y="6261120"/>
                <a:chExt cx="131760" cy="85680"/>
              </a:xfrm>
            </p:grpSpPr>
            <p:grpSp>
              <p:nvGrpSpPr>
                <p:cNvPr id="1497" name=""/>
                <p:cNvGrpSpPr/>
                <p:nvPr/>
              </p:nvGrpSpPr>
              <p:grpSpPr>
                <a:xfrm>
                  <a:off x="6964200" y="6261120"/>
                  <a:ext cx="130680" cy="83880"/>
                  <a:chOff x="6964200" y="6261120"/>
                  <a:chExt cx="130680" cy="8388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69642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995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702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70466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70765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9951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70210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70466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995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702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70466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995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702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70466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69642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9642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70765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70765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6965280" y="6262920"/>
                  <a:ext cx="17640" cy="13680"/>
                  <a:chOff x="6965280" y="6262920"/>
                  <a:chExt cx="17640" cy="136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69652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965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6996240" y="6262920"/>
                  <a:ext cx="17280" cy="13680"/>
                  <a:chOff x="6996240" y="6262920"/>
                  <a:chExt cx="17280" cy="1368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>
                    <a:off x="69966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996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7022520" y="6262920"/>
                  <a:ext cx="17280" cy="13680"/>
                  <a:chOff x="7022520" y="6262920"/>
                  <a:chExt cx="17280" cy="1368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7022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7022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7048440" y="6262920"/>
                  <a:ext cx="17640" cy="13680"/>
                  <a:chOff x="7048440" y="6262920"/>
                  <a:chExt cx="17640" cy="1368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70484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704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7078320" y="6262920"/>
                  <a:ext cx="17640" cy="13680"/>
                  <a:chOff x="7078320" y="6262920"/>
                  <a:chExt cx="17640" cy="1368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70783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078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6996240" y="6287040"/>
                  <a:ext cx="17280" cy="13680"/>
                  <a:chOff x="6996240" y="6287040"/>
                  <a:chExt cx="17280" cy="1368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69966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996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7022520" y="6285600"/>
                  <a:ext cx="17280" cy="14040"/>
                  <a:chOff x="7022520" y="6285600"/>
                  <a:chExt cx="17280" cy="1404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>
                    <a:off x="70228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022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7" name=""/>
                <p:cNvGrpSpPr/>
                <p:nvPr/>
              </p:nvGrpSpPr>
              <p:grpSpPr>
                <a:xfrm>
                  <a:off x="7048440" y="6285600"/>
                  <a:ext cx="17640" cy="14040"/>
                  <a:chOff x="7048440" y="6285600"/>
                  <a:chExt cx="17640" cy="1404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>
                    <a:off x="70484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704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6996240" y="6309720"/>
                  <a:ext cx="17280" cy="12960"/>
                  <a:chOff x="6996240" y="6309720"/>
                  <a:chExt cx="17280" cy="129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69966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9962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3" name=""/>
                <p:cNvGrpSpPr/>
                <p:nvPr/>
              </p:nvGrpSpPr>
              <p:grpSpPr>
                <a:xfrm>
                  <a:off x="7022520" y="6309720"/>
                  <a:ext cx="17280" cy="12960"/>
                  <a:chOff x="7022520" y="6309720"/>
                  <a:chExt cx="17280" cy="129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7022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022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7048440" y="6309720"/>
                  <a:ext cx="17640" cy="12960"/>
                  <a:chOff x="7048440" y="6309720"/>
                  <a:chExt cx="17640" cy="129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0484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704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6996240" y="6333120"/>
                  <a:ext cx="17280" cy="13680"/>
                  <a:chOff x="6996240" y="6333120"/>
                  <a:chExt cx="17280" cy="1368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69966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69962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2" name=""/>
                <p:cNvGrpSpPr/>
                <p:nvPr/>
              </p:nvGrpSpPr>
              <p:grpSpPr>
                <a:xfrm>
                  <a:off x="7022520" y="6333120"/>
                  <a:ext cx="17280" cy="13680"/>
                  <a:chOff x="7022520" y="6333120"/>
                  <a:chExt cx="17280" cy="1368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7022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022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7048440" y="6333120"/>
                  <a:ext cx="17640" cy="13680"/>
                  <a:chOff x="7048440" y="6333120"/>
                  <a:chExt cx="17640" cy="1368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70484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704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8" name=""/>
                <p:cNvGrpSpPr/>
                <p:nvPr/>
              </p:nvGrpSpPr>
              <p:grpSpPr>
                <a:xfrm>
                  <a:off x="6965280" y="6323040"/>
                  <a:ext cx="17640" cy="13680"/>
                  <a:chOff x="6965280" y="6323040"/>
                  <a:chExt cx="17640" cy="13680"/>
                </a:xfrm>
              </p:grpSpPr>
              <p:sp>
                <p:nvSpPr>
                  <p:cNvPr id="1559" name=""/>
                  <p:cNvSpPr/>
                  <p:nvPr/>
                </p:nvSpPr>
                <p:spPr>
                  <a:xfrm>
                    <a:off x="69652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69656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1" name=""/>
                <p:cNvGrpSpPr/>
                <p:nvPr/>
              </p:nvGrpSpPr>
              <p:grpSpPr>
                <a:xfrm>
                  <a:off x="6965280" y="6287040"/>
                  <a:ext cx="17640" cy="13680"/>
                  <a:chOff x="6965280" y="6287040"/>
                  <a:chExt cx="17640" cy="13680"/>
                </a:xfrm>
              </p:grpSpPr>
              <p:sp>
                <p:nvSpPr>
                  <p:cNvPr id="1562" name=""/>
                  <p:cNvSpPr/>
                  <p:nvPr/>
                </p:nvSpPr>
                <p:spPr>
                  <a:xfrm>
                    <a:off x="69652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6965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4" name=""/>
                <p:cNvGrpSpPr/>
                <p:nvPr/>
              </p:nvGrpSpPr>
              <p:grpSpPr>
                <a:xfrm>
                  <a:off x="7078320" y="6323040"/>
                  <a:ext cx="17640" cy="13680"/>
                  <a:chOff x="7078320" y="6323040"/>
                  <a:chExt cx="17640" cy="1368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>
                    <a:off x="70783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078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7" name=""/>
                <p:cNvGrpSpPr/>
                <p:nvPr/>
              </p:nvGrpSpPr>
              <p:grpSpPr>
                <a:xfrm>
                  <a:off x="7078320" y="6287040"/>
                  <a:ext cx="17640" cy="13680"/>
                  <a:chOff x="7078320" y="6287040"/>
                  <a:chExt cx="17640" cy="13680"/>
                </a:xfrm>
              </p:grpSpPr>
              <p:sp>
                <p:nvSpPr>
                  <p:cNvPr id="1568" name=""/>
                  <p:cNvSpPr/>
                  <p:nvPr/>
                </p:nvSpPr>
                <p:spPr>
                  <a:xfrm>
                    <a:off x="70783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7078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70" name=""/>
            <p:cNvGrpSpPr/>
            <p:nvPr/>
          </p:nvGrpSpPr>
          <p:grpSpPr>
            <a:xfrm>
              <a:off x="6858000" y="6221520"/>
              <a:ext cx="31320" cy="111600"/>
              <a:chOff x="6858000" y="6221520"/>
              <a:chExt cx="31320" cy="111600"/>
            </a:xfrm>
          </p:grpSpPr>
          <p:sp>
            <p:nvSpPr>
              <p:cNvPr id="1571" name=""/>
              <p:cNvSpPr/>
              <p:nvPr/>
            </p:nvSpPr>
            <p:spPr>
              <a:xfrm>
                <a:off x="68598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8580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8587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8605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8637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8655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608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655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8713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8796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68724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8799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3124080" y="6172200"/>
            <a:ext cx="323640" cy="248760"/>
            <a:chOff x="3124080" y="6172200"/>
            <a:chExt cx="323640" cy="248760"/>
          </a:xfrm>
        </p:grpSpPr>
        <p:grpSp>
          <p:nvGrpSpPr>
            <p:cNvPr id="1584" name=""/>
            <p:cNvGrpSpPr/>
            <p:nvPr/>
          </p:nvGrpSpPr>
          <p:grpSpPr>
            <a:xfrm>
              <a:off x="3150360" y="6172200"/>
              <a:ext cx="297360" cy="111600"/>
              <a:chOff x="3150360" y="6172200"/>
              <a:chExt cx="297360" cy="111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31521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1503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154320" y="6215040"/>
              <a:ext cx="288000" cy="205920"/>
              <a:chOff x="3154320" y="6215040"/>
              <a:chExt cx="288000" cy="205920"/>
            </a:xfrm>
          </p:grpSpPr>
          <p:grpSp>
            <p:nvGrpSpPr>
              <p:cNvPr id="1588" name=""/>
              <p:cNvGrpSpPr/>
              <p:nvPr/>
            </p:nvGrpSpPr>
            <p:grpSpPr>
              <a:xfrm>
                <a:off x="3154320" y="6215040"/>
                <a:ext cx="288000" cy="205920"/>
                <a:chOff x="3154320" y="6215040"/>
                <a:chExt cx="288000" cy="20592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31554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1543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1597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3230280" y="6261120"/>
                <a:ext cx="131760" cy="85680"/>
                <a:chOff x="3230280" y="6261120"/>
                <a:chExt cx="131760" cy="85680"/>
              </a:xfrm>
            </p:grpSpPr>
            <p:grpSp>
              <p:nvGrpSpPr>
                <p:cNvPr id="1593" name=""/>
                <p:cNvGrpSpPr/>
                <p:nvPr/>
              </p:nvGrpSpPr>
              <p:grpSpPr>
                <a:xfrm>
                  <a:off x="3230280" y="6261120"/>
                  <a:ext cx="130680" cy="83880"/>
                  <a:chOff x="3230280" y="6261120"/>
                  <a:chExt cx="130680" cy="8388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>
                    <a:off x="3230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32612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287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33127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33426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2612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2871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33127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32612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3287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3127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2612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287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3127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2302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2302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3426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33426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3231360" y="6262920"/>
                  <a:ext cx="17640" cy="13680"/>
                  <a:chOff x="3231360" y="6262920"/>
                  <a:chExt cx="17640" cy="1368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3231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231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3262320" y="6262920"/>
                  <a:ext cx="17280" cy="13680"/>
                  <a:chOff x="3262320" y="6262920"/>
                  <a:chExt cx="17280" cy="136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2626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262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3288600" y="6262920"/>
                  <a:ext cx="17280" cy="13680"/>
                  <a:chOff x="3288600" y="6262920"/>
                  <a:chExt cx="17280" cy="1368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32889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328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3314520" y="6262920"/>
                  <a:ext cx="17640" cy="13680"/>
                  <a:chOff x="3314520" y="6262920"/>
                  <a:chExt cx="17640" cy="1368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14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3314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344400" y="6262920"/>
                  <a:ext cx="17640" cy="13680"/>
                  <a:chOff x="3344400" y="6262920"/>
                  <a:chExt cx="17640" cy="1368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33444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3444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7" name=""/>
                <p:cNvGrpSpPr/>
                <p:nvPr/>
              </p:nvGrpSpPr>
              <p:grpSpPr>
                <a:xfrm>
                  <a:off x="3262320" y="6287040"/>
                  <a:ext cx="17280" cy="13680"/>
                  <a:chOff x="3262320" y="6287040"/>
                  <a:chExt cx="17280" cy="1368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>
                    <a:off x="32626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3262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3288600" y="6285600"/>
                  <a:ext cx="17280" cy="14040"/>
                  <a:chOff x="3288600" y="6285600"/>
                  <a:chExt cx="17280" cy="1404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32889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2886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3314520" y="6285600"/>
                  <a:ext cx="17640" cy="14040"/>
                  <a:chOff x="3314520" y="6285600"/>
                  <a:chExt cx="17640" cy="1404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33145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314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262320" y="6309720"/>
                  <a:ext cx="17280" cy="12960"/>
                  <a:chOff x="3262320" y="6309720"/>
                  <a:chExt cx="17280" cy="1296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32626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2623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9" name=""/>
                <p:cNvGrpSpPr/>
                <p:nvPr/>
              </p:nvGrpSpPr>
              <p:grpSpPr>
                <a:xfrm>
                  <a:off x="3288600" y="6309720"/>
                  <a:ext cx="17280" cy="12960"/>
                  <a:chOff x="3288600" y="6309720"/>
                  <a:chExt cx="17280" cy="1296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32889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2886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2" name=""/>
                <p:cNvGrpSpPr/>
                <p:nvPr/>
              </p:nvGrpSpPr>
              <p:grpSpPr>
                <a:xfrm>
                  <a:off x="3314520" y="6309720"/>
                  <a:ext cx="17640" cy="12960"/>
                  <a:chOff x="3314520" y="6309720"/>
                  <a:chExt cx="17640" cy="1296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33145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314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3262320" y="6333120"/>
                  <a:ext cx="17280" cy="13680"/>
                  <a:chOff x="3262320" y="6333120"/>
                  <a:chExt cx="17280" cy="1368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32626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32623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8" name=""/>
                <p:cNvGrpSpPr/>
                <p:nvPr/>
              </p:nvGrpSpPr>
              <p:grpSpPr>
                <a:xfrm>
                  <a:off x="3288600" y="6333120"/>
                  <a:ext cx="17280" cy="13680"/>
                  <a:chOff x="3288600" y="6333120"/>
                  <a:chExt cx="17280" cy="13680"/>
                </a:xfrm>
              </p:grpSpPr>
              <p:sp>
                <p:nvSpPr>
                  <p:cNvPr id="1649" name=""/>
                  <p:cNvSpPr/>
                  <p:nvPr/>
                </p:nvSpPr>
                <p:spPr>
                  <a:xfrm>
                    <a:off x="32889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2886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3314520" y="6333120"/>
                  <a:ext cx="17640" cy="13680"/>
                  <a:chOff x="3314520" y="6333120"/>
                  <a:chExt cx="17640" cy="1368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145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3314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4" name=""/>
                <p:cNvGrpSpPr/>
                <p:nvPr/>
              </p:nvGrpSpPr>
              <p:grpSpPr>
                <a:xfrm>
                  <a:off x="3231360" y="6323040"/>
                  <a:ext cx="17640" cy="13680"/>
                  <a:chOff x="3231360" y="6323040"/>
                  <a:chExt cx="17640" cy="1368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32313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231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7" name=""/>
                <p:cNvGrpSpPr/>
                <p:nvPr/>
              </p:nvGrpSpPr>
              <p:grpSpPr>
                <a:xfrm>
                  <a:off x="3231360" y="6287040"/>
                  <a:ext cx="17640" cy="13680"/>
                  <a:chOff x="3231360" y="6287040"/>
                  <a:chExt cx="17640" cy="13680"/>
                </a:xfrm>
              </p:grpSpPr>
              <p:sp>
                <p:nvSpPr>
                  <p:cNvPr id="1658" name=""/>
                  <p:cNvSpPr/>
                  <p:nvPr/>
                </p:nvSpPr>
                <p:spPr>
                  <a:xfrm>
                    <a:off x="32313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3231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0" name=""/>
                <p:cNvGrpSpPr/>
                <p:nvPr/>
              </p:nvGrpSpPr>
              <p:grpSpPr>
                <a:xfrm>
                  <a:off x="3344400" y="6323040"/>
                  <a:ext cx="17640" cy="13680"/>
                  <a:chOff x="3344400" y="6323040"/>
                  <a:chExt cx="17640" cy="1368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>
                    <a:off x="33444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33444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344400" y="6287040"/>
                  <a:ext cx="17640" cy="13680"/>
                  <a:chOff x="3344400" y="6287040"/>
                  <a:chExt cx="17640" cy="1368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33444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33444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6" name=""/>
            <p:cNvGrpSpPr/>
            <p:nvPr/>
          </p:nvGrpSpPr>
          <p:grpSpPr>
            <a:xfrm>
              <a:off x="3124080" y="6221520"/>
              <a:ext cx="31320" cy="111600"/>
              <a:chOff x="3124080" y="6221520"/>
              <a:chExt cx="31320" cy="111600"/>
            </a:xfrm>
          </p:grpSpPr>
          <p:sp>
            <p:nvSpPr>
              <p:cNvPr id="1667" name=""/>
              <p:cNvSpPr/>
              <p:nvPr/>
            </p:nvSpPr>
            <p:spPr>
              <a:xfrm>
                <a:off x="31258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1240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1248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1266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298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31316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1269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1316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374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1456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31384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31460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 flipV="1">
            <a:off x="1066680" y="548604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1447920" y="54860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1447920" y="5029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 flipV="1">
            <a:off x="2285640" y="502884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228600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2860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860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828800" y="3505320"/>
            <a:ext cx="1752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3352680" y="5715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3048120" y="4038120"/>
            <a:ext cx="9144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 flipV="1">
            <a:off x="3352320" y="3962520"/>
            <a:ext cx="1219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029200" y="3352680"/>
            <a:ext cx="15238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181480" y="54860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 flipV="1">
            <a:off x="5334120" y="3886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5714640" y="3886200"/>
            <a:ext cx="685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5866920" y="3962520"/>
            <a:ext cx="11430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09880" y="2362320"/>
            <a:ext cx="16765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2971800" y="28951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 flipV="1">
            <a:off x="4800600" y="2895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800600" y="190476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7620120" y="5791320"/>
            <a:ext cx="685440" cy="566280"/>
            <a:chOff x="7620120" y="5791320"/>
            <a:chExt cx="685440" cy="566280"/>
          </a:xfrm>
        </p:grpSpPr>
        <p:sp>
          <p:nvSpPr>
            <p:cNvPr id="1700" name=""/>
            <p:cNvSpPr/>
            <p:nvPr/>
          </p:nvSpPr>
          <p:spPr>
            <a:xfrm>
              <a:off x="7620120" y="6223680"/>
              <a:ext cx="67320" cy="4140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2" y="0"/>
                  </a:moveTo>
                  <a:lnTo>
                    <a:pt x="48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3" y="5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9" y="27"/>
                  </a:lnTo>
                  <a:lnTo>
                    <a:pt x="44" y="28"/>
                  </a:lnTo>
                  <a:lnTo>
                    <a:pt x="48" y="30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64" y="39"/>
                  </a:lnTo>
                </a:path>
              </a:pathLst>
            </a:custGeom>
            <a:noFill/>
            <a:ln w="50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7677720" y="6105600"/>
              <a:ext cx="538560" cy="195840"/>
              <a:chOff x="7677720" y="6105600"/>
              <a:chExt cx="538560" cy="195840"/>
            </a:xfrm>
          </p:grpSpPr>
          <p:sp>
            <p:nvSpPr>
              <p:cNvPr id="1702" name=""/>
              <p:cNvSpPr/>
              <p:nvPr/>
            </p:nvSpPr>
            <p:spPr>
              <a:xfrm>
                <a:off x="7681680" y="6203520"/>
                <a:ext cx="534600" cy="97920"/>
              </a:xfrm>
              <a:custGeom>
                <a:avLst/>
                <a:gdLst/>
                <a:ahLst/>
                <a:rect l="l" t="t" r="r" b="b"/>
                <a:pathLst>
                  <a:path w="509" h="92">
                    <a:moveTo>
                      <a:pt x="0" y="6"/>
                    </a:moveTo>
                    <a:lnTo>
                      <a:pt x="0" y="46"/>
                    </a:lnTo>
                    <a:lnTo>
                      <a:pt x="414" y="92"/>
                    </a:lnTo>
                    <a:lnTo>
                      <a:pt x="509" y="36"/>
                    </a:lnTo>
                    <a:lnTo>
                      <a:pt x="509" y="0"/>
                    </a:lnTo>
                    <a:lnTo>
                      <a:pt x="409" y="4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677720" y="6105600"/>
                <a:ext cx="436680" cy="149760"/>
              </a:xfrm>
              <a:custGeom>
                <a:avLst/>
                <a:gdLst/>
                <a:ahLst/>
                <a:rect l="l" t="t" r="r" b="b"/>
                <a:pathLst>
                  <a:path w="416" h="141">
                    <a:moveTo>
                      <a:pt x="0" y="0"/>
                    </a:moveTo>
                    <a:lnTo>
                      <a:pt x="416" y="32"/>
                    </a:lnTo>
                    <a:lnTo>
                      <a:pt x="416" y="141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678440" y="6132240"/>
                <a:ext cx="435600" cy="60120"/>
                <a:chOff x="7678440" y="6132240"/>
                <a:chExt cx="435600" cy="601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678440" y="6132240"/>
                  <a:ext cx="434520" cy="34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998480" y="6160680"/>
                  <a:ext cx="90000" cy="8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890480" y="6152040"/>
                  <a:ext cx="92160" cy="8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678440" y="6152040"/>
                  <a:ext cx="435600" cy="40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7677720" y="6085440"/>
              <a:ext cx="540720" cy="54000"/>
              <a:chOff x="7677720" y="6085440"/>
              <a:chExt cx="540720" cy="54000"/>
            </a:xfrm>
          </p:grpSpPr>
          <p:sp>
            <p:nvSpPr>
              <p:cNvPr id="1710" name=""/>
              <p:cNvSpPr/>
              <p:nvPr/>
            </p:nvSpPr>
            <p:spPr>
              <a:xfrm>
                <a:off x="7677720" y="6085440"/>
                <a:ext cx="540720" cy="54000"/>
              </a:xfrm>
              <a:custGeom>
                <a:avLst/>
                <a:gdLst/>
                <a:ahLst/>
                <a:rect l="l" t="t" r="r" b="b"/>
                <a:pathLst>
                  <a:path w="515" h="51">
                    <a:moveTo>
                      <a:pt x="0" y="19"/>
                    </a:moveTo>
                    <a:lnTo>
                      <a:pt x="415" y="51"/>
                    </a:lnTo>
                    <a:lnTo>
                      <a:pt x="515" y="20"/>
                    </a:lnTo>
                    <a:lnTo>
                      <a:pt x="480" y="17"/>
                    </a:lnTo>
                    <a:lnTo>
                      <a:pt x="15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801200" y="6096960"/>
                <a:ext cx="396000" cy="33840"/>
              </a:xfrm>
              <a:custGeom>
                <a:avLst/>
                <a:gdLst/>
                <a:ahLst/>
                <a:rect l="l" t="t" r="r" b="b"/>
                <a:pathLst>
                  <a:path w="377" h="32">
                    <a:moveTo>
                      <a:pt x="30" y="0"/>
                    </a:moveTo>
                    <a:lnTo>
                      <a:pt x="0" y="11"/>
                    </a:lnTo>
                    <a:lnTo>
                      <a:pt x="304" y="32"/>
                    </a:lnTo>
                    <a:lnTo>
                      <a:pt x="354" y="17"/>
                    </a:lnTo>
                    <a:lnTo>
                      <a:pt x="350" y="16"/>
                    </a:lnTo>
                    <a:lnTo>
                      <a:pt x="377" y="8"/>
                    </a:lnTo>
                    <a:lnTo>
                      <a:pt x="361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117640" y="5796360"/>
              <a:ext cx="98280" cy="326880"/>
              <a:chOff x="8117640" y="5796360"/>
              <a:chExt cx="98280" cy="326880"/>
            </a:xfrm>
          </p:grpSpPr>
          <p:grpSp>
            <p:nvGrpSpPr>
              <p:cNvPr id="1713" name=""/>
              <p:cNvGrpSpPr/>
              <p:nvPr/>
            </p:nvGrpSpPr>
            <p:grpSpPr>
              <a:xfrm>
                <a:off x="8156520" y="5838840"/>
                <a:ext cx="59400" cy="272520"/>
                <a:chOff x="8156520" y="5838840"/>
                <a:chExt cx="59400" cy="2725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8156520" y="5838840"/>
                  <a:ext cx="59400" cy="272520"/>
                </a:xfrm>
                <a:custGeom>
                  <a:avLst/>
                  <a:gdLst/>
                  <a:ahLst/>
                  <a:rect l="l" t="t" r="r" b="b"/>
                  <a:pathLst>
                    <a:path w="57" h="256">
                      <a:moveTo>
                        <a:pt x="6" y="0"/>
                      </a:moveTo>
                      <a:lnTo>
                        <a:pt x="57" y="20"/>
                      </a:lnTo>
                      <a:lnTo>
                        <a:pt x="53" y="122"/>
                      </a:lnTo>
                      <a:lnTo>
                        <a:pt x="47" y="242"/>
                      </a:lnTo>
                      <a:lnTo>
                        <a:pt x="0" y="25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5" name=""/>
                <p:cNvGrpSpPr/>
                <p:nvPr/>
              </p:nvGrpSpPr>
              <p:grpSpPr>
                <a:xfrm>
                  <a:off x="8156520" y="5850360"/>
                  <a:ext cx="59040" cy="227880"/>
                  <a:chOff x="8156520" y="5850360"/>
                  <a:chExt cx="59040" cy="227880"/>
                </a:xfrm>
              </p:grpSpPr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156520" y="5850360"/>
                    <a:ext cx="59040" cy="227880"/>
                    <a:chOff x="8156520" y="5850360"/>
                    <a:chExt cx="59040" cy="22788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156520" y="5850360"/>
                      <a:ext cx="59040" cy="135720"/>
                      <a:chOff x="8156520" y="5850360"/>
                      <a:chExt cx="59040" cy="135720"/>
                    </a:xfrm>
                  </p:grpSpPr>
                  <p:grpSp>
                    <p:nvGrpSpPr>
                      <p:cNvPr id="1718" name=""/>
                      <p:cNvGrpSpPr/>
                      <p:nvPr/>
                    </p:nvGrpSpPr>
                    <p:grpSpPr>
                      <a:xfrm>
                        <a:off x="8160480" y="5850360"/>
                        <a:ext cx="55080" cy="73080"/>
                        <a:chOff x="8160480" y="5850360"/>
                        <a:chExt cx="55080" cy="73080"/>
                      </a:xfrm>
                    </p:grpSpPr>
                    <p:sp>
                      <p:nvSpPr>
                        <p:cNvPr id="1719" name=""/>
                        <p:cNvSpPr/>
                        <p:nvPr/>
                      </p:nvSpPr>
                      <p:spPr>
                        <a:xfrm>
                          <a:off x="8162280" y="5850360"/>
                          <a:ext cx="53280" cy="21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0" name=""/>
                        <p:cNvSpPr/>
                        <p:nvPr/>
                      </p:nvSpPr>
                      <p:spPr>
                        <a:xfrm>
                          <a:off x="8162280" y="5861880"/>
                          <a:ext cx="52200" cy="20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1" name=""/>
                        <p:cNvSpPr/>
                        <p:nvPr/>
                      </p:nvSpPr>
                      <p:spPr>
                        <a:xfrm>
                          <a:off x="8162280" y="5873400"/>
                          <a:ext cx="52200" cy="18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2" name=""/>
                        <p:cNvSpPr/>
                        <p:nvPr/>
                      </p:nvSpPr>
                      <p:spPr>
                        <a:xfrm>
                          <a:off x="8162280" y="5885280"/>
                          <a:ext cx="52200" cy="165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3" name=""/>
                        <p:cNvSpPr/>
                        <p:nvPr/>
                      </p:nvSpPr>
                      <p:spPr>
                        <a:xfrm>
                          <a:off x="8160480" y="5896800"/>
                          <a:ext cx="52200" cy="16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4" name=""/>
                        <p:cNvSpPr/>
                        <p:nvPr/>
                      </p:nvSpPr>
                      <p:spPr>
                        <a:xfrm>
                          <a:off x="8160480" y="5908680"/>
                          <a:ext cx="52200" cy="147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56520" y="5934240"/>
                        <a:ext cx="55080" cy="936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157240" y="5943600"/>
                        <a:ext cx="54000" cy="10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8156520" y="5957640"/>
                        <a:ext cx="53280" cy="82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57240" y="5969160"/>
                        <a:ext cx="52200" cy="72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57240" y="5981040"/>
                        <a:ext cx="5220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0" name=""/>
                    <p:cNvGrpSpPr/>
                    <p:nvPr/>
                  </p:nvGrpSpPr>
                  <p:grpSpPr>
                    <a:xfrm>
                      <a:off x="8157240" y="5995080"/>
                      <a:ext cx="52200" cy="83160"/>
                      <a:chOff x="8157240" y="5995080"/>
                      <a:chExt cx="52200" cy="83160"/>
                    </a:xfrm>
                  </p:grpSpPr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57240" y="5995080"/>
                        <a:ext cx="5220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8157240" y="6006600"/>
                        <a:ext cx="511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57240" y="6018480"/>
                        <a:ext cx="51120" cy="10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57240" y="6030000"/>
                        <a:ext cx="51120" cy="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 flipV="1">
                        <a:off x="8157240" y="6040800"/>
                        <a:ext cx="4896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 flipV="1">
                        <a:off x="8157240" y="6050160"/>
                        <a:ext cx="4896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7" name=""/>
                      <p:cNvSpPr/>
                      <p:nvPr/>
                    </p:nvSpPr>
                    <p:spPr>
                      <a:xfrm flipV="1">
                        <a:off x="8157240" y="6060960"/>
                        <a:ext cx="48960" cy="64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 flipV="1">
                        <a:off x="8157240" y="6072120"/>
                        <a:ext cx="4788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39" name=""/>
                  <p:cNvSpPr/>
                  <p:nvPr/>
                </p:nvSpPr>
                <p:spPr>
                  <a:xfrm>
                    <a:off x="8159400" y="5922720"/>
                    <a:ext cx="53280" cy="1152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8117640" y="5796360"/>
                <a:ext cx="52560" cy="326880"/>
                <a:chOff x="8117640" y="5796360"/>
                <a:chExt cx="52560" cy="3268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117640" y="5796360"/>
                  <a:ext cx="52560" cy="326880"/>
                </a:xfrm>
                <a:custGeom>
                  <a:avLst/>
                  <a:gdLst/>
                  <a:ahLst/>
                  <a:rect l="l" t="t" r="r" b="b"/>
                  <a:pathLst>
                    <a:path w="50" h="307">
                      <a:moveTo>
                        <a:pt x="13" y="0"/>
                      </a:moveTo>
                      <a:lnTo>
                        <a:pt x="47" y="16"/>
                      </a:lnTo>
                      <a:lnTo>
                        <a:pt x="50" y="21"/>
                      </a:lnTo>
                      <a:lnTo>
                        <a:pt x="40" y="295"/>
                      </a:lnTo>
                      <a:lnTo>
                        <a:pt x="35" y="298"/>
                      </a:lnTo>
                      <a:lnTo>
                        <a:pt x="0" y="307"/>
                      </a:lnTo>
                      <a:lnTo>
                        <a:pt x="5" y="303"/>
                      </a:lnTo>
                      <a:lnTo>
                        <a:pt x="5" y="29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164080" y="5813280"/>
                  <a:ext cx="540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7894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789470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3" name=""/>
            <p:cNvGrpSpPr/>
            <p:nvPr/>
          </p:nvGrpSpPr>
          <p:grpSpPr>
            <a:xfrm>
              <a:off x="8138880" y="6289920"/>
              <a:ext cx="166680" cy="67680"/>
              <a:chOff x="8138880" y="6289920"/>
              <a:chExt cx="166680" cy="67680"/>
            </a:xfrm>
          </p:grpSpPr>
          <p:sp>
            <p:nvSpPr>
              <p:cNvPr id="1744" name=""/>
              <p:cNvSpPr/>
              <p:nvPr/>
            </p:nvSpPr>
            <p:spPr>
              <a:xfrm>
                <a:off x="8138880" y="6289920"/>
                <a:ext cx="166680" cy="44640"/>
              </a:xfrm>
              <a:custGeom>
                <a:avLst/>
                <a:gdLst/>
                <a:ahLst/>
                <a:rect l="l" t="t" r="r" b="b"/>
                <a:pathLst>
                  <a:path w="159" h="42">
                    <a:moveTo>
                      <a:pt x="0" y="0"/>
                    </a:moveTo>
                    <a:lnTo>
                      <a:pt x="30" y="1"/>
                    </a:lnTo>
                    <a:lnTo>
                      <a:pt x="52" y="3"/>
                    </a:lnTo>
                    <a:lnTo>
                      <a:pt x="71" y="4"/>
                    </a:lnTo>
                    <a:lnTo>
                      <a:pt x="91" y="7"/>
                    </a:lnTo>
                    <a:lnTo>
                      <a:pt x="105" y="9"/>
                    </a:lnTo>
                    <a:lnTo>
                      <a:pt x="121" y="12"/>
                    </a:lnTo>
                    <a:lnTo>
                      <a:pt x="132" y="14"/>
                    </a:lnTo>
                    <a:lnTo>
                      <a:pt x="138" y="15"/>
                    </a:lnTo>
                    <a:lnTo>
                      <a:pt x="143" y="17"/>
                    </a:lnTo>
                    <a:lnTo>
                      <a:pt x="146" y="17"/>
                    </a:lnTo>
                    <a:lnTo>
                      <a:pt x="150" y="19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59" y="25"/>
                    </a:lnTo>
                    <a:lnTo>
                      <a:pt x="159" y="26"/>
                    </a:lnTo>
                    <a:lnTo>
                      <a:pt x="159" y="30"/>
                    </a:lnTo>
                    <a:lnTo>
                      <a:pt x="158" y="33"/>
                    </a:lnTo>
                    <a:lnTo>
                      <a:pt x="156" y="34"/>
                    </a:lnTo>
                    <a:lnTo>
                      <a:pt x="153" y="36"/>
                    </a:lnTo>
                    <a:lnTo>
                      <a:pt x="150" y="39"/>
                    </a:lnTo>
                    <a:lnTo>
                      <a:pt x="146" y="41"/>
                    </a:lnTo>
                    <a:lnTo>
                      <a:pt x="141" y="41"/>
                    </a:lnTo>
                    <a:lnTo>
                      <a:pt x="137" y="42"/>
                    </a:lnTo>
                    <a:lnTo>
                      <a:pt x="130" y="42"/>
                    </a:lnTo>
                    <a:lnTo>
                      <a:pt x="126" y="42"/>
                    </a:lnTo>
                    <a:lnTo>
                      <a:pt x="117" y="41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5" name=""/>
              <p:cNvGrpSpPr/>
              <p:nvPr/>
            </p:nvGrpSpPr>
            <p:grpSpPr>
              <a:xfrm>
                <a:off x="8145000" y="6311160"/>
                <a:ext cx="117000" cy="46440"/>
                <a:chOff x="8145000" y="6311160"/>
                <a:chExt cx="117000" cy="46440"/>
              </a:xfrm>
            </p:grpSpPr>
            <p:grpSp>
              <p:nvGrpSpPr>
                <p:cNvPr id="1746" name=""/>
                <p:cNvGrpSpPr/>
                <p:nvPr/>
              </p:nvGrpSpPr>
              <p:grpSpPr>
                <a:xfrm>
                  <a:off x="8145000" y="6311160"/>
                  <a:ext cx="117000" cy="46440"/>
                  <a:chOff x="8145000" y="6311160"/>
                  <a:chExt cx="117000" cy="4644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8145000" y="6311160"/>
                    <a:ext cx="73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">
                        <a:moveTo>
                          <a:pt x="0" y="18"/>
                        </a:moveTo>
                        <a:lnTo>
                          <a:pt x="18" y="0"/>
                        </a:lnTo>
                        <a:lnTo>
                          <a:pt x="70" y="10"/>
                        </a:lnTo>
                        <a:lnTo>
                          <a:pt x="50" y="3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8145000" y="6330240"/>
                    <a:ext cx="52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6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2" y="15"/>
                        </a:lnTo>
                        <a:lnTo>
                          <a:pt x="50" y="26"/>
                        </a:lnTo>
                        <a:lnTo>
                          <a:pt x="5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8197200" y="6321600"/>
                    <a:ext cx="648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4">
                        <a:moveTo>
                          <a:pt x="0" y="19"/>
                        </a:moveTo>
                        <a:lnTo>
                          <a:pt x="20" y="0"/>
                        </a:lnTo>
                        <a:lnTo>
                          <a:pt x="62" y="6"/>
                        </a:lnTo>
                        <a:lnTo>
                          <a:pt x="62" y="20"/>
                        </a:lnTo>
                        <a:lnTo>
                          <a:pt x="0" y="3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8163720" y="6311160"/>
                    <a:ext cx="982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4">
                        <a:moveTo>
                          <a:pt x="0" y="0"/>
                        </a:moveTo>
                        <a:lnTo>
                          <a:pt x="47" y="3"/>
                        </a:lnTo>
                        <a:lnTo>
                          <a:pt x="94" y="14"/>
                        </a:lnTo>
                        <a:lnTo>
                          <a:pt x="52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8146800" y="6325920"/>
                  <a:ext cx="114840" cy="20160"/>
                  <a:chOff x="8146800" y="6325920"/>
                  <a:chExt cx="114840" cy="2016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8146800" y="6333120"/>
                    <a:ext cx="50400" cy="1260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V="1">
                    <a:off x="8197200" y="6325920"/>
                    <a:ext cx="21600" cy="2016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8218800" y="6325920"/>
                    <a:ext cx="42840" cy="432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55" name=""/>
            <p:cNvSpPr/>
            <p:nvPr/>
          </p:nvSpPr>
          <p:spPr>
            <a:xfrm>
              <a:off x="8114760" y="6201360"/>
              <a:ext cx="101880" cy="10008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48"/>
                  </a:moveTo>
                  <a:lnTo>
                    <a:pt x="97" y="0"/>
                  </a:lnTo>
                  <a:lnTo>
                    <a:pt x="97" y="38"/>
                  </a:lnTo>
                  <a:lnTo>
                    <a:pt x="0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13680" y="6106680"/>
              <a:ext cx="104760" cy="149040"/>
            </a:xfrm>
            <a:custGeom>
              <a:avLst/>
              <a:gdLst/>
              <a:ahLst/>
              <a:rect l="l" t="t" r="r" b="b"/>
              <a:pathLst>
                <a:path w="100" h="140">
                  <a:moveTo>
                    <a:pt x="0" y="31"/>
                  </a:moveTo>
                  <a:lnTo>
                    <a:pt x="100" y="0"/>
                  </a:lnTo>
                  <a:lnTo>
                    <a:pt x="100" y="92"/>
                  </a:lnTo>
                  <a:lnTo>
                    <a:pt x="1" y="14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830000" y="5842440"/>
              <a:ext cx="259200" cy="227880"/>
            </a:xfrm>
            <a:custGeom>
              <a:avLst/>
              <a:gdLst/>
              <a:ahLst/>
              <a:rect l="l" t="t" r="r" b="b"/>
              <a:pathLst>
                <a:path w="247" h="214">
                  <a:moveTo>
                    <a:pt x="11" y="0"/>
                  </a:moveTo>
                  <a:lnTo>
                    <a:pt x="247" y="0"/>
                  </a:lnTo>
                  <a:lnTo>
                    <a:pt x="238" y="214"/>
                  </a:lnTo>
                  <a:lnTo>
                    <a:pt x="0" y="20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660800" y="6223680"/>
              <a:ext cx="483120" cy="101880"/>
            </a:xfrm>
            <a:custGeom>
              <a:avLst/>
              <a:gdLst/>
              <a:ahLst/>
              <a:rect l="l" t="t" r="r" b="b"/>
              <a:pathLst>
                <a:path w="460" h="96">
                  <a:moveTo>
                    <a:pt x="76" y="0"/>
                  </a:moveTo>
                  <a:lnTo>
                    <a:pt x="460" y="39"/>
                  </a:lnTo>
                  <a:lnTo>
                    <a:pt x="432" y="74"/>
                  </a:lnTo>
                  <a:lnTo>
                    <a:pt x="407" y="96"/>
                  </a:lnTo>
                  <a:lnTo>
                    <a:pt x="0" y="47"/>
                  </a:lnTo>
                  <a:lnTo>
                    <a:pt x="31" y="3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8113680" y="6116760"/>
              <a:ext cx="104760" cy="130320"/>
              <a:chOff x="8113680" y="6116760"/>
              <a:chExt cx="104760" cy="130320"/>
            </a:xfrm>
          </p:grpSpPr>
          <p:sp>
            <p:nvSpPr>
              <p:cNvPr id="1760" name=""/>
              <p:cNvSpPr/>
              <p:nvPr/>
            </p:nvSpPr>
            <p:spPr>
              <a:xfrm flipV="1">
                <a:off x="8113680" y="6152040"/>
                <a:ext cx="10476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8132400" y="6163920"/>
                <a:ext cx="83880" cy="36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8132400" y="6174000"/>
                <a:ext cx="83880" cy="370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8132400" y="6186240"/>
                <a:ext cx="86040" cy="37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8132400" y="6195600"/>
                <a:ext cx="8604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8132400" y="6140520"/>
                <a:ext cx="83880" cy="316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8132400" y="613044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8132400" y="611676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132400" y="6134040"/>
                <a:ext cx="1080" cy="113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7795440" y="5791320"/>
              <a:ext cx="339840" cy="332280"/>
              <a:chOff x="7795440" y="5791320"/>
              <a:chExt cx="339840" cy="332280"/>
            </a:xfrm>
          </p:grpSpPr>
          <p:grpSp>
            <p:nvGrpSpPr>
              <p:cNvPr id="1770" name=""/>
              <p:cNvGrpSpPr/>
              <p:nvPr/>
            </p:nvGrpSpPr>
            <p:grpSpPr>
              <a:xfrm>
                <a:off x="7795440" y="5791320"/>
                <a:ext cx="339840" cy="332280"/>
                <a:chOff x="7795440" y="5791320"/>
                <a:chExt cx="339840" cy="332280"/>
              </a:xfrm>
            </p:grpSpPr>
            <p:grpSp>
              <p:nvGrpSpPr>
                <p:cNvPr id="1771" name=""/>
                <p:cNvGrpSpPr/>
                <p:nvPr/>
              </p:nvGrpSpPr>
              <p:grpSpPr>
                <a:xfrm>
                  <a:off x="7795440" y="5791320"/>
                  <a:ext cx="339840" cy="332280"/>
                  <a:chOff x="7795440" y="5791320"/>
                  <a:chExt cx="339840" cy="332280"/>
                </a:xfrm>
              </p:grpSpPr>
              <p:sp>
                <p:nvSpPr>
                  <p:cNvPr id="1772" name=""/>
                  <p:cNvSpPr/>
                  <p:nvPr/>
                </p:nvSpPr>
                <p:spPr>
                  <a:xfrm>
                    <a:off x="7795440" y="5791320"/>
                    <a:ext cx="339840" cy="33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312">
                        <a:moveTo>
                          <a:pt x="25" y="5"/>
                        </a:moveTo>
                        <a:lnTo>
                          <a:pt x="54" y="4"/>
                        </a:lnTo>
                        <a:lnTo>
                          <a:pt x="91" y="0"/>
                        </a:lnTo>
                        <a:lnTo>
                          <a:pt x="130" y="0"/>
                        </a:lnTo>
                        <a:lnTo>
                          <a:pt x="177" y="0"/>
                        </a:lnTo>
                        <a:lnTo>
                          <a:pt x="209" y="0"/>
                        </a:lnTo>
                        <a:lnTo>
                          <a:pt x="259" y="2"/>
                        </a:lnTo>
                        <a:lnTo>
                          <a:pt x="307" y="5"/>
                        </a:lnTo>
                        <a:lnTo>
                          <a:pt x="318" y="5"/>
                        </a:lnTo>
                        <a:lnTo>
                          <a:pt x="321" y="7"/>
                        </a:lnTo>
                        <a:lnTo>
                          <a:pt x="323" y="8"/>
                        </a:lnTo>
                        <a:lnTo>
                          <a:pt x="324" y="10"/>
                        </a:lnTo>
                        <a:lnTo>
                          <a:pt x="324" y="13"/>
                        </a:lnTo>
                        <a:lnTo>
                          <a:pt x="312" y="306"/>
                        </a:lnTo>
                        <a:lnTo>
                          <a:pt x="310" y="311"/>
                        </a:lnTo>
                        <a:lnTo>
                          <a:pt x="307" y="312"/>
                        </a:lnTo>
                        <a:lnTo>
                          <a:pt x="201" y="304"/>
                        </a:lnTo>
                        <a:lnTo>
                          <a:pt x="100" y="296"/>
                        </a:lnTo>
                        <a:lnTo>
                          <a:pt x="4" y="290"/>
                        </a:lnTo>
                        <a:lnTo>
                          <a:pt x="0" y="282"/>
                        </a:lnTo>
                        <a:lnTo>
                          <a:pt x="15" y="15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8118720" y="5796360"/>
                    <a:ext cx="162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821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82152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7810920" y="5797800"/>
                    <a:ext cx="32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193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19365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7795440" y="6080760"/>
                    <a:ext cx="14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7831800" y="5842440"/>
                  <a:ext cx="256680" cy="225720"/>
                  <a:chOff x="7831800" y="5842440"/>
                  <a:chExt cx="256680" cy="225720"/>
                </a:xfrm>
              </p:grpSpPr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7831800" y="5842440"/>
                    <a:ext cx="256680" cy="225720"/>
                    <a:chOff x="7831800" y="5842440"/>
                    <a:chExt cx="256680" cy="22572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7841160" y="5842440"/>
                      <a:ext cx="2473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5">
                          <a:moveTo>
                            <a:pt x="0" y="0"/>
                          </a:moveTo>
                          <a:lnTo>
                            <a:pt x="236" y="0"/>
                          </a:lnTo>
                          <a:lnTo>
                            <a:pt x="230" y="5"/>
                          </a:lnTo>
                          <a:lnTo>
                            <a:pt x="4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8073000" y="5842440"/>
                      <a:ext cx="1548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12">
                          <a:moveTo>
                            <a:pt x="11" y="5"/>
                          </a:moveTo>
                          <a:lnTo>
                            <a:pt x="15" y="0"/>
                          </a:lnTo>
                          <a:lnTo>
                            <a:pt x="11" y="115"/>
                          </a:lnTo>
                          <a:lnTo>
                            <a:pt x="6" y="212"/>
                          </a:lnTo>
                          <a:lnTo>
                            <a:pt x="0" y="207"/>
                          </a:lnTo>
                          <a:lnTo>
                            <a:pt x="11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7831800" y="6050160"/>
                      <a:ext cx="2476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17">
                          <a:moveTo>
                            <a:pt x="4" y="0"/>
                          </a:moveTo>
                          <a:lnTo>
                            <a:pt x="0" y="6"/>
                          </a:lnTo>
                          <a:lnTo>
                            <a:pt x="236" y="17"/>
                          </a:lnTo>
                          <a:lnTo>
                            <a:pt x="230" y="12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7831800" y="5842440"/>
                      <a:ext cx="1332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01">
                          <a:moveTo>
                            <a:pt x="9" y="0"/>
                          </a:moveTo>
                          <a:lnTo>
                            <a:pt x="13" y="5"/>
                          </a:lnTo>
                          <a:lnTo>
                            <a:pt x="4" y="195"/>
                          </a:lnTo>
                          <a:lnTo>
                            <a:pt x="0" y="201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7835760" y="5847480"/>
                    <a:ext cx="246600" cy="214920"/>
                    <a:chOff x="7835760" y="5847480"/>
                    <a:chExt cx="246600" cy="21492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7835760" y="5847480"/>
                      <a:ext cx="246600" cy="21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" h="202">
                          <a:moveTo>
                            <a:pt x="9" y="0"/>
                          </a:moveTo>
                          <a:lnTo>
                            <a:pt x="235" y="0"/>
                          </a:lnTo>
                          <a:lnTo>
                            <a:pt x="226" y="202"/>
                          </a:lnTo>
                          <a:lnTo>
                            <a:pt x="0" y="190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7844040" y="5855760"/>
                      <a:ext cx="23004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86">
                          <a:moveTo>
                            <a:pt x="9" y="0"/>
                          </a:moveTo>
                          <a:lnTo>
                            <a:pt x="219" y="0"/>
                          </a:lnTo>
                          <a:lnTo>
                            <a:pt x="210" y="186"/>
                          </a:lnTo>
                          <a:lnTo>
                            <a:pt x="0" y="177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7848360" y="5867640"/>
                      <a:ext cx="2160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67">
                          <a:moveTo>
                            <a:pt x="8" y="0"/>
                          </a:moveTo>
                          <a:lnTo>
                            <a:pt x="206" y="0"/>
                          </a:lnTo>
                          <a:lnTo>
                            <a:pt x="199" y="167"/>
                          </a:lnTo>
                          <a:lnTo>
                            <a:pt x="0" y="16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86" name=""/>
              <p:cNvSpPr/>
              <p:nvPr/>
            </p:nvSpPr>
            <p:spPr>
              <a:xfrm>
                <a:off x="8067960" y="609696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7662960" y="6229080"/>
              <a:ext cx="480600" cy="115920"/>
              <a:chOff x="7662960" y="6229080"/>
              <a:chExt cx="480600" cy="115920"/>
            </a:xfrm>
          </p:grpSpPr>
          <p:sp>
            <p:nvSpPr>
              <p:cNvPr id="1788" name=""/>
              <p:cNvSpPr/>
              <p:nvPr/>
            </p:nvSpPr>
            <p:spPr>
              <a:xfrm>
                <a:off x="7993440" y="6264000"/>
                <a:ext cx="116640" cy="50040"/>
              </a:xfrm>
              <a:custGeom>
                <a:avLst/>
                <a:gdLst/>
                <a:ahLst/>
                <a:rect l="l" t="t" r="r" b="b"/>
                <a:pathLst>
                  <a:path w="111" h="47">
                    <a:moveTo>
                      <a:pt x="43" y="0"/>
                    </a:moveTo>
                    <a:lnTo>
                      <a:pt x="17" y="27"/>
                    </a:lnTo>
                    <a:lnTo>
                      <a:pt x="0" y="39"/>
                    </a:lnTo>
                    <a:lnTo>
                      <a:pt x="73" y="47"/>
                    </a:lnTo>
                    <a:lnTo>
                      <a:pt x="90" y="31"/>
                    </a:lnTo>
                    <a:lnTo>
                      <a:pt x="111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9" name=""/>
              <p:cNvGrpSpPr/>
              <p:nvPr/>
            </p:nvGrpSpPr>
            <p:grpSpPr>
              <a:xfrm>
                <a:off x="7662960" y="6229080"/>
                <a:ext cx="480600" cy="115920"/>
                <a:chOff x="7662960" y="6229080"/>
                <a:chExt cx="480600" cy="11592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7662960" y="6273720"/>
                  <a:ext cx="425160" cy="71280"/>
                </a:xfrm>
                <a:custGeom>
                  <a:avLst/>
                  <a:gdLst/>
                  <a:ahLst/>
                  <a:rect l="l" t="t" r="r" b="b"/>
                  <a:pathLst>
                    <a:path w="405" h="6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405" y="67"/>
                      </a:lnTo>
                      <a:lnTo>
                        <a:pt x="405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088120" y="6265080"/>
                  <a:ext cx="55440" cy="79560"/>
                </a:xfrm>
                <a:custGeom>
                  <a:avLst/>
                  <a:gdLst/>
                  <a:ahLst/>
                  <a:rect l="l" t="t" r="r" b="b"/>
                  <a:pathLst>
                    <a:path w="53" h="75">
                      <a:moveTo>
                        <a:pt x="0" y="57"/>
                      </a:moveTo>
                      <a:lnTo>
                        <a:pt x="0" y="75"/>
                      </a:lnTo>
                      <a:lnTo>
                        <a:pt x="22" y="57"/>
                      </a:lnTo>
                      <a:lnTo>
                        <a:pt x="31" y="46"/>
                      </a:lnTo>
                      <a:lnTo>
                        <a:pt x="53" y="21"/>
                      </a:lnTo>
                      <a:lnTo>
                        <a:pt x="53" y="0"/>
                      </a:lnTo>
                      <a:lnTo>
                        <a:pt x="25" y="35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7662960" y="6281280"/>
                  <a:ext cx="425160" cy="50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3" name=""/>
                <p:cNvGrpSpPr/>
                <p:nvPr/>
              </p:nvGrpSpPr>
              <p:grpSpPr>
                <a:xfrm>
                  <a:off x="7690320" y="6229080"/>
                  <a:ext cx="410040" cy="83880"/>
                  <a:chOff x="7690320" y="6229080"/>
                  <a:chExt cx="410040" cy="8388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7690320" y="6231960"/>
                    <a:ext cx="3150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65">
                        <a:moveTo>
                          <a:pt x="51" y="0"/>
                        </a:moveTo>
                        <a:lnTo>
                          <a:pt x="16" y="28"/>
                        </a:lnTo>
                        <a:lnTo>
                          <a:pt x="0" y="38"/>
                        </a:lnTo>
                        <a:lnTo>
                          <a:pt x="254" y="65"/>
                        </a:lnTo>
                        <a:lnTo>
                          <a:pt x="272" y="52"/>
                        </a:lnTo>
                        <a:lnTo>
                          <a:pt x="300" y="27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5" name=""/>
                  <p:cNvGrpSpPr/>
                  <p:nvPr/>
                </p:nvGrpSpPr>
                <p:grpSpPr>
                  <a:xfrm>
                    <a:off x="7697520" y="6229080"/>
                    <a:ext cx="402840" cy="83880"/>
                    <a:chOff x="7697520" y="6229080"/>
                    <a:chExt cx="402840" cy="83880"/>
                  </a:xfrm>
                </p:grpSpPr>
                <p:grpSp>
                  <p:nvGrpSpPr>
                    <p:cNvPr id="1796" name=""/>
                    <p:cNvGrpSpPr/>
                    <p:nvPr/>
                  </p:nvGrpSpPr>
                  <p:grpSpPr>
                    <a:xfrm>
                      <a:off x="7703640" y="6229080"/>
                      <a:ext cx="294120" cy="69840"/>
                      <a:chOff x="7703640" y="6229080"/>
                      <a:chExt cx="294120" cy="69840"/>
                    </a:xfrm>
                  </p:grpSpPr>
                  <p:grpSp>
                    <p:nvGrpSpPr>
                      <p:cNvPr id="1797" name=""/>
                      <p:cNvGrpSpPr/>
                      <p:nvPr/>
                    </p:nvGrpSpPr>
                    <p:grpSpPr>
                      <a:xfrm>
                        <a:off x="7703640" y="6229080"/>
                        <a:ext cx="61200" cy="46080"/>
                        <a:chOff x="7703640" y="6229080"/>
                        <a:chExt cx="61200" cy="46080"/>
                      </a:xfrm>
                    </p:grpSpPr>
                    <p:sp>
                      <p:nvSpPr>
                        <p:cNvPr id="1798" name=""/>
                        <p:cNvSpPr/>
                        <p:nvPr/>
                      </p:nvSpPr>
                      <p:spPr>
                        <a:xfrm flipV="1">
                          <a:off x="7703640" y="6264720"/>
                          <a:ext cx="2052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/>
                        <p:nvPr/>
                      </p:nvSpPr>
                      <p:spPr>
                        <a:xfrm flipV="1">
                          <a:off x="7724160" y="62290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0" name=""/>
                      <p:cNvGrpSpPr/>
                      <p:nvPr/>
                    </p:nvGrpSpPr>
                    <p:grpSpPr>
                      <a:xfrm>
                        <a:off x="7727400" y="6231960"/>
                        <a:ext cx="61560" cy="46800"/>
                        <a:chOff x="7727400" y="6231960"/>
                        <a:chExt cx="61560" cy="46800"/>
                      </a:xfrm>
                    </p:grpSpPr>
                    <p:sp>
                      <p:nvSpPr>
                        <p:cNvPr id="1801" name=""/>
                        <p:cNvSpPr/>
                        <p:nvPr/>
                      </p:nvSpPr>
                      <p:spPr>
                        <a:xfrm flipV="1">
                          <a:off x="7727400" y="626724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2" name=""/>
                        <p:cNvSpPr/>
                        <p:nvPr/>
                      </p:nvSpPr>
                      <p:spPr>
                        <a:xfrm flipV="1">
                          <a:off x="7748280" y="6231960"/>
                          <a:ext cx="4068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3" name=""/>
                      <p:cNvGrpSpPr/>
                      <p:nvPr/>
                    </p:nvGrpSpPr>
                    <p:grpSpPr>
                      <a:xfrm>
                        <a:off x="7752600" y="6233040"/>
                        <a:ext cx="60480" cy="47520"/>
                        <a:chOff x="7752600" y="6233040"/>
                        <a:chExt cx="60480" cy="47520"/>
                      </a:xfrm>
                    </p:grpSpPr>
                    <p:sp>
                      <p:nvSpPr>
                        <p:cNvPr id="1804" name=""/>
                        <p:cNvSpPr/>
                        <p:nvPr/>
                      </p:nvSpPr>
                      <p:spPr>
                        <a:xfrm flipV="1">
                          <a:off x="7752600" y="626904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5" name=""/>
                        <p:cNvSpPr/>
                        <p:nvPr/>
                      </p:nvSpPr>
                      <p:spPr>
                        <a:xfrm flipV="1">
                          <a:off x="7771320" y="6233040"/>
                          <a:ext cx="4176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6" name=""/>
                      <p:cNvGrpSpPr/>
                      <p:nvPr/>
                    </p:nvGrpSpPr>
                    <p:grpSpPr>
                      <a:xfrm>
                        <a:off x="7774920" y="6236280"/>
                        <a:ext cx="60480" cy="47520"/>
                        <a:chOff x="7774920" y="6236280"/>
                        <a:chExt cx="60480" cy="47520"/>
                      </a:xfrm>
                    </p:grpSpPr>
                    <p:sp>
                      <p:nvSpPr>
                        <p:cNvPr id="1807" name=""/>
                        <p:cNvSpPr/>
                        <p:nvPr/>
                      </p:nvSpPr>
                      <p:spPr>
                        <a:xfrm flipV="1">
                          <a:off x="7774920" y="6272280"/>
                          <a:ext cx="1980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8" name=""/>
                        <p:cNvSpPr/>
                        <p:nvPr/>
                      </p:nvSpPr>
                      <p:spPr>
                        <a:xfrm flipV="1">
                          <a:off x="7794720" y="62362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9" name=""/>
                      <p:cNvGrpSpPr/>
                      <p:nvPr/>
                    </p:nvGrpSpPr>
                    <p:grpSpPr>
                      <a:xfrm>
                        <a:off x="7799040" y="6238080"/>
                        <a:ext cx="61560" cy="46800"/>
                        <a:chOff x="7799040" y="6238080"/>
                        <a:chExt cx="61560" cy="46800"/>
                      </a:xfrm>
                    </p:grpSpPr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V="1">
                          <a:off x="7799040" y="627336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V="1">
                          <a:off x="7819920" y="6238080"/>
                          <a:ext cx="40680" cy="34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2" name=""/>
                      <p:cNvGrpSpPr/>
                      <p:nvPr/>
                    </p:nvGrpSpPr>
                    <p:grpSpPr>
                      <a:xfrm>
                        <a:off x="7823160" y="6240600"/>
                        <a:ext cx="60840" cy="46800"/>
                        <a:chOff x="7823160" y="6240600"/>
                        <a:chExt cx="60840" cy="46800"/>
                      </a:xfrm>
                    </p:grpSpPr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V="1">
                          <a:off x="7823160" y="627588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V="1">
                          <a:off x="7841880" y="6240600"/>
                          <a:ext cx="4212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5" name=""/>
                      <p:cNvGrpSpPr/>
                      <p:nvPr/>
                    </p:nvGrpSpPr>
                    <p:grpSpPr>
                      <a:xfrm>
                        <a:off x="7845120" y="6241680"/>
                        <a:ext cx="61560" cy="46800"/>
                        <a:chOff x="7845120" y="6241680"/>
                        <a:chExt cx="61560" cy="46800"/>
                      </a:xfrm>
                    </p:grpSpPr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V="1">
                          <a:off x="7845120" y="6278040"/>
                          <a:ext cx="2088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7866000" y="6241680"/>
                          <a:ext cx="4068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8" name=""/>
                      <p:cNvGrpSpPr/>
                      <p:nvPr/>
                    </p:nvGrpSpPr>
                    <p:grpSpPr>
                      <a:xfrm>
                        <a:off x="7867080" y="6244920"/>
                        <a:ext cx="62640" cy="46800"/>
                        <a:chOff x="7867080" y="6244920"/>
                        <a:chExt cx="62640" cy="46800"/>
                      </a:xfrm>
                    </p:grpSpPr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7867080" y="62812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 flipV="1">
                          <a:off x="7886880" y="6244920"/>
                          <a:ext cx="4284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1" name=""/>
                      <p:cNvGrpSpPr/>
                      <p:nvPr/>
                    </p:nvGrpSpPr>
                    <p:grpSpPr>
                      <a:xfrm>
                        <a:off x="7890480" y="6249240"/>
                        <a:ext cx="61200" cy="46080"/>
                        <a:chOff x="7890480" y="6249240"/>
                        <a:chExt cx="61200" cy="46080"/>
                      </a:xfrm>
                    </p:grpSpPr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 flipV="1">
                          <a:off x="7890480" y="62848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 flipV="1">
                          <a:off x="7910280" y="6249240"/>
                          <a:ext cx="4140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4" name=""/>
                      <p:cNvGrpSpPr/>
                      <p:nvPr/>
                    </p:nvGrpSpPr>
                    <p:grpSpPr>
                      <a:xfrm>
                        <a:off x="7913520" y="6249960"/>
                        <a:ext cx="61200" cy="46800"/>
                        <a:chOff x="7913520" y="6249960"/>
                        <a:chExt cx="61200" cy="46800"/>
                      </a:xfrm>
                    </p:grpSpPr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 flipV="1">
                          <a:off x="7913520" y="6287400"/>
                          <a:ext cx="2052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 flipV="1">
                          <a:off x="7934040" y="6249960"/>
                          <a:ext cx="406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7" name=""/>
                      <p:cNvGrpSpPr/>
                      <p:nvPr/>
                    </p:nvGrpSpPr>
                    <p:grpSpPr>
                      <a:xfrm>
                        <a:off x="7936560" y="6252120"/>
                        <a:ext cx="61200" cy="46800"/>
                        <a:chOff x="7936560" y="6252120"/>
                        <a:chExt cx="61200" cy="46800"/>
                      </a:xfrm>
                    </p:grpSpPr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 flipV="1">
                          <a:off x="7936560" y="6289560"/>
                          <a:ext cx="1980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 flipV="1">
                          <a:off x="7956360" y="6252120"/>
                          <a:ext cx="4140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30" name=""/>
                    <p:cNvGrpSpPr/>
                    <p:nvPr/>
                  </p:nvGrpSpPr>
                  <p:grpSpPr>
                    <a:xfrm>
                      <a:off x="8007840" y="6260760"/>
                      <a:ext cx="88200" cy="52200"/>
                      <a:chOff x="8007840" y="6260760"/>
                      <a:chExt cx="88200" cy="52200"/>
                    </a:xfrm>
                  </p:grpSpPr>
                  <p:grpSp>
                    <p:nvGrpSpPr>
                      <p:cNvPr id="1831" name=""/>
                      <p:cNvGrpSpPr/>
                      <p:nvPr/>
                    </p:nvGrpSpPr>
                    <p:grpSpPr>
                      <a:xfrm>
                        <a:off x="8044200" y="6263280"/>
                        <a:ext cx="51840" cy="49680"/>
                        <a:chOff x="8044200" y="6263280"/>
                        <a:chExt cx="51840" cy="49680"/>
                      </a:xfrm>
                    </p:grpSpPr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 flipV="1">
                          <a:off x="8044200" y="6300360"/>
                          <a:ext cx="1656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 flipV="1">
                          <a:off x="8060760" y="6263280"/>
                          <a:ext cx="352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4" name=""/>
                      <p:cNvGrpSpPr/>
                      <p:nvPr/>
                    </p:nvGrpSpPr>
                    <p:grpSpPr>
                      <a:xfrm>
                        <a:off x="8026560" y="6260760"/>
                        <a:ext cx="52200" cy="51840"/>
                        <a:chOff x="8026560" y="6260760"/>
                        <a:chExt cx="52200" cy="51840"/>
                      </a:xfrm>
                    </p:grpSpPr>
                    <p:sp>
                      <p:nvSpPr>
                        <p:cNvPr id="1835" name=""/>
                        <p:cNvSpPr/>
                        <p:nvPr/>
                      </p:nvSpPr>
                      <p:spPr>
                        <a:xfrm flipV="1">
                          <a:off x="8026560" y="6298920"/>
                          <a:ext cx="1764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 flipV="1">
                          <a:off x="8044200" y="6260760"/>
                          <a:ext cx="34560" cy="38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7" name=""/>
                      <p:cNvGrpSpPr/>
                      <p:nvPr/>
                    </p:nvGrpSpPr>
                    <p:grpSpPr>
                      <a:xfrm>
                        <a:off x="8007840" y="6260760"/>
                        <a:ext cx="50040" cy="49680"/>
                        <a:chOff x="8007840" y="6260760"/>
                        <a:chExt cx="50040" cy="49680"/>
                      </a:xfrm>
                    </p:grpSpPr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 flipV="1">
                          <a:off x="8007840" y="6296760"/>
                          <a:ext cx="1656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9" name=""/>
                        <p:cNvSpPr/>
                        <p:nvPr/>
                      </p:nvSpPr>
                      <p:spPr>
                        <a:xfrm flipV="1">
                          <a:off x="8024400" y="6260760"/>
                          <a:ext cx="334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7726680" y="6243840"/>
                      <a:ext cx="373680" cy="370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711920" y="6253200"/>
                      <a:ext cx="381960" cy="3924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697520" y="6264000"/>
                      <a:ext cx="384840" cy="4140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8088120" y="6270120"/>
                  <a:ext cx="55080" cy="60480"/>
                  <a:chOff x="8088120" y="6270120"/>
                  <a:chExt cx="55080" cy="6048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 flipV="1">
                    <a:off x="8088120" y="6305040"/>
                    <a:ext cx="28080" cy="2556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V="1">
                    <a:off x="8116200" y="6270120"/>
                    <a:ext cx="27000" cy="349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46" name=""/>
          <p:cNvSpPr/>
          <p:nvPr/>
        </p:nvSpPr>
        <p:spPr>
          <a:xfrm flipH="1" flipV="1">
            <a:off x="6934320" y="60958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857640" y="144792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410080" y="259092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086600" y="2743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486400" y="25909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8000" y="479736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276720" y="544500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76720" y="5300640"/>
            <a:ext cx="100800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395280" y="1251000"/>
            <a:ext cx="8353440" cy="445140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1837080" y="3333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49236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575520" y="7128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17080" cy="444168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765440" y="26028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061080" y="9079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FIN DE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343640" cy="5159160"/>
          </a:xfrm>
          <a:prstGeom prst="rect">
            <a:avLst/>
          </a:prstGeom>
          <a:ln w="0">
            <a:noFill/>
          </a:ln>
        </p:spPr>
      </p:pic>
      <p:sp>
        <p:nvSpPr>
          <p:cNvPr id="1862" name=""/>
          <p:cNvSpPr/>
          <p:nvPr/>
        </p:nvSpPr>
        <p:spPr>
          <a:xfrm>
            <a:off x="1409760" y="333360"/>
            <a:ext cx="62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DE CONCENTRACION HOR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" descr=""/>
          <p:cNvPicPr/>
          <p:nvPr/>
        </p:nvPicPr>
        <p:blipFill>
          <a:blip r:embed="rId1"/>
          <a:stretch/>
        </p:blipFill>
        <p:spPr>
          <a:xfrm>
            <a:off x="468360" y="700200"/>
            <a:ext cx="7632720" cy="590220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119600" y="2602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CONVERSION MINUTOS A ERLA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9T02:15:23Z</dcterms:created>
  <dc:creator>Entel</dc:creator>
  <dc:description/>
  <dc:language>en-US</dc:language>
  <cp:lastModifiedBy>Jorge Fritis</cp:lastModifiedBy>
  <cp:lastPrinted>2000-03-19T02:48:19Z</cp:lastPrinted>
  <dcterms:modified xsi:type="dcterms:W3CDTF">2007-04-20T13:09:55Z</dcterms:modified>
  <cp:revision>3</cp:revision>
  <dc:subject/>
  <dc:title>Red Telefónica</dc:title>
</cp:coreProperties>
</file>